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1.jpeg" ContentType="image/jpeg"/>
  <Override PartName="/ppt/media/image4.gif" ContentType="image/gif"/>
  <Override PartName="/ppt/media/image6.jpeg" ContentType="image/jpeg"/>
  <Override PartName="/ppt/media/image7.jpeg" ContentType="image/jpeg"/>
  <Override PartName="/ppt/media/image12.jpeg" ContentType="image/jpeg"/>
  <Override PartName="/ppt/media/image18.gif" ContentType="image/gif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53E4-7411-4DC5-BF57-C07DAA4B7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546B-3870-41FD-A027-F97CCE6FD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7FD8-1F8F-48B0-ABAA-953FE2178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C681-D655-4058-8A5A-257FD3D42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8FCB2A-9AE7-467F-B795-8442E9051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A5C5C1-AB8C-4A23-AE4A-441E912A5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0E9C36-A673-4303-8BC6-EE4147F12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634DE0-CD95-41B7-AFD1-A82CE4F07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68B4B2-B76E-4E3F-8BE9-E84B884C0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9CFE80-9B58-4FC8-A023-C351EBD8E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730018-8F95-4E99-B455-11F4B2936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C896-4B8D-495E-A814-3451520DC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264B44-503F-47E6-82A7-9BACCC18F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6B3CC4-7C1D-4200-881E-BA1B25BA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292210-F032-4FDE-B00F-9E0222D6B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3D580D-E67F-490E-98D6-206B82AE8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08BA75-AD83-4EB1-A9F6-6882A2457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BEB1-199A-4171-B3C9-6ABB63669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FDA0-9336-4DFA-B84D-FC5146BFC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55CA-7DF0-4BCA-BAF1-1EDBA4D92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67D2-224C-496F-AD5E-2C283228F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8B2F-5B3B-491E-AAAD-C9A66CB8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65C6-E455-4658-B0D2-2042BFC20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F7F0-56CE-4B54-BD76-55D70484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04E26-94A5-43B6-96C7-0242F60B12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58853-FF86-4200-89C8-B0D20974360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J0289489"/>
          <p:cNvPicPr/>
          <p:nvPr/>
        </p:nvPicPr>
        <p:blipFill>
          <a:blip r:embed="rId1"/>
          <a:stretch/>
        </p:blipFill>
        <p:spPr>
          <a:xfrm>
            <a:off x="0" y="3571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0d0f5"/>
                </a:solidFill>
                <a:latin typeface="Tahoma"/>
              </a:rPr>
              <a:t>СП «Улыбка» ГБОУ СОШ с.Камышл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9051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bed4ff"/>
                </a:solidFill>
                <a:latin typeface="Tahoma"/>
              </a:rPr>
              <a:t>ВСЕ  О  ВОДЕ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ed4ff"/>
                </a:solidFill>
                <a:latin typeface="Tahoma"/>
              </a:rPr>
              <a:t>Педагогический проек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0d0f5"/>
                </a:solidFill>
                <a:latin typeface="Tahoma"/>
              </a:rPr>
              <a:t>Работу выполнила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0d0f5"/>
                </a:solidFill>
                <a:latin typeface="Tahoma"/>
              </a:rPr>
              <a:t>Воспитатель Кашапова Г.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0d0f5"/>
                </a:solidFill>
                <a:latin typeface="Tahoma"/>
              </a:rPr>
              <a:t>2012 год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information_items_1530"/>
          <p:cNvPicPr/>
          <p:nvPr/>
        </p:nvPicPr>
        <p:blipFill>
          <a:blip r:embed="rId1"/>
          <a:stretch/>
        </p:blipFill>
        <p:spPr>
          <a:xfrm>
            <a:off x="0" y="142920"/>
            <a:ext cx="9144000" cy="67150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ЗАГРЯЗНЕНИЕ ВОД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-642960"/>
            <a:ext cx="4040280" cy="1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1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азалось бы, на такой глобальный процесс, который бесперебойно работает на протяжении всего существования нашей планеты, человек повлиять не в силах, но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5080" y="-500040"/>
            <a:ext cx="4641840" cy="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480" bIns="2448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785840" y="1500120"/>
            <a:ext cx="40417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ожно проделать простой опыт. Если в стакан воды осторожно опустить на поверхность 3-4 капли растительного масла, то с течением времени они расплывутся и покроют всю поверхность воды тонкой пленкой. Молекулам воды трудно пробиться через вязкую пленку масла. Испарение будет происходить значительно медленне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Значение воды для жизни всего живого на Земл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9" descr="C015"/>
          <p:cNvPicPr/>
          <p:nvPr/>
        </p:nvPicPr>
        <p:blipFill>
          <a:blip r:embed="rId1"/>
          <a:stretch/>
        </p:blipFill>
        <p:spPr>
          <a:xfrm>
            <a:off x="0" y="4751280"/>
            <a:ext cx="2589120" cy="210672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14" name="Picture 10" descr="GV029"/>
          <p:cNvPicPr/>
          <p:nvPr/>
        </p:nvPicPr>
        <p:blipFill>
          <a:blip r:embed="rId2"/>
          <a:srcRect l="591" t="837" r="1255" b="837"/>
          <a:stretch/>
        </p:blipFill>
        <p:spPr>
          <a:xfrm>
            <a:off x="2500200" y="4762440"/>
            <a:ext cx="1393920" cy="209556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15" name="Picture 8" descr="FISHING"/>
          <p:cNvPicPr/>
          <p:nvPr/>
        </p:nvPicPr>
        <p:blipFill>
          <a:blip r:embed="rId3"/>
          <a:stretch/>
        </p:blipFill>
        <p:spPr>
          <a:xfrm>
            <a:off x="0" y="2857680"/>
            <a:ext cx="2743200" cy="183348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16" name="Picture 6" descr="013"/>
          <p:cNvPicPr/>
          <p:nvPr/>
        </p:nvPicPr>
        <p:blipFill>
          <a:blip r:embed="rId4"/>
          <a:stretch/>
        </p:blipFill>
        <p:spPr>
          <a:xfrm>
            <a:off x="5962680" y="4452840"/>
            <a:ext cx="3181320" cy="240516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17" name="Picture 7" descr="WALKING2"/>
          <p:cNvPicPr/>
          <p:nvPr/>
        </p:nvPicPr>
        <p:blipFill>
          <a:blip r:embed="rId5"/>
          <a:stretch/>
        </p:blipFill>
        <p:spPr>
          <a:xfrm>
            <a:off x="4000680" y="4286160"/>
            <a:ext cx="1828800" cy="27320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118" name="Прямоугольник 10"/>
          <p:cNvSpPr/>
          <p:nvPr/>
        </p:nvSpPr>
        <p:spPr>
          <a:xfrm>
            <a:off x="2286000" y="1785960"/>
            <a:ext cx="457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Людям , растениям , животным нужна вода 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круговорот"/>
          <p:cNvPicPr/>
          <p:nvPr/>
        </p:nvPicPr>
        <p:blipFill>
          <a:blip r:embed="rId1"/>
          <a:srcRect l="41339" t="38583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ff"/>
                </a:solidFill>
                <a:latin typeface="Tahoma"/>
              </a:rPr>
              <a:t>Три состояния вод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Я и туча и туман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Я ручей и океан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Я летаю и бегу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 стеклянной быть могу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да в природе существует в трёх состояниях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Жидком, твёрдом, газообразно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чего зависит различное состояние воды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(От температуры.)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Берегите вод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 вы думаете, много ли воды на на нашей Земле? Посмотрите на глобус. Голубым цветом изображены моря, океаны нашей планеты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да занимает ¾ поверхности земного шар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6" descr="IMG20086"/>
          <p:cNvPicPr/>
          <p:nvPr/>
        </p:nvPicPr>
        <p:blipFill>
          <a:blip r:embed="rId1"/>
          <a:stretch/>
        </p:blipFill>
        <p:spPr>
          <a:xfrm>
            <a:off x="428760" y="1428840"/>
            <a:ext cx="3203280" cy="43434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25" name="Picture 6" descr="IMG20086"/>
          <p:cNvPicPr/>
          <p:nvPr/>
        </p:nvPicPr>
        <p:blipFill>
          <a:blip r:embed="rId2"/>
          <a:stretch/>
        </p:blipFill>
        <p:spPr>
          <a:xfrm>
            <a:off x="428760" y="1571760"/>
            <a:ext cx="3203280" cy="43434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26" name="Picture 6" descr="IMG20086"/>
          <p:cNvPicPr/>
          <p:nvPr/>
        </p:nvPicPr>
        <p:blipFill>
          <a:blip r:embed="rId3"/>
          <a:stretch/>
        </p:blipFill>
        <p:spPr>
          <a:xfrm>
            <a:off x="5638680" y="1981080"/>
            <a:ext cx="3203640" cy="43434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27" name="Picture 3" descr="Рисунок 1"/>
          <p:cNvPicPr/>
          <p:nvPr/>
        </p:nvPicPr>
        <p:blipFill>
          <a:blip r:embed="rId4"/>
          <a:stretch/>
        </p:blipFill>
        <p:spPr>
          <a:xfrm>
            <a:off x="3591000" y="696960"/>
            <a:ext cx="5079960" cy="50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Tahoma"/>
              </a:rPr>
              <a:t>Это важно!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c5cff"/>
                </a:solidFill>
                <a:latin typeface="Tahoma"/>
              </a:rPr>
              <a:t>Общее количество воды на Земле не уменьшаетс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c5cff"/>
                </a:solidFill>
                <a:latin typeface="Tahoma"/>
              </a:rPr>
              <a:t>Но почему воду надо беречь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c5cff"/>
                </a:solidFill>
                <a:latin typeface="Tahoma"/>
              </a:rPr>
              <a:t>Вода в океанах и морях солёная 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c5cff"/>
                </a:solidFill>
                <a:latin typeface="Tahoma"/>
              </a:rPr>
              <a:t>А людям, растениям, животным нужна пресная вода. Из 100 л воды- 2 л пресн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c5cff"/>
                </a:solidFill>
                <a:latin typeface="Tahoma"/>
              </a:rPr>
              <a:t>Большая часть воды загрязняетс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c5cff"/>
                </a:solidFill>
                <a:latin typeface="Tahoma"/>
              </a:rPr>
              <a:t>Государство создаёт заповедники, заказники, используют очистные сооружени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c5cff"/>
                </a:solidFill>
                <a:latin typeface="Tahoma"/>
              </a:rPr>
              <a:t>А как вы, дети, можете сохранять, беречь воду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ЗАГРЯЗНЕНИЕ ПРИРОДНЫХ ВОД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4720" y="-785880"/>
            <a:ext cx="404172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3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715000" y="1500120"/>
            <a:ext cx="285768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 России ежегодно в воду и под землю уходит более 500 миллионов тонн промышленных стоко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7" descr="697111"/>
          <p:cNvPicPr/>
          <p:nvPr/>
        </p:nvPicPr>
        <p:blipFill>
          <a:blip r:embed="rId1"/>
          <a:stretch/>
        </p:blipFill>
        <p:spPr>
          <a:xfrm>
            <a:off x="0" y="1500120"/>
            <a:ext cx="571500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659ff"/>
                </a:solidFill>
                <a:latin typeface="Tahoma"/>
              </a:rPr>
              <a:t>ПРОВЕРЬ СЕБЯ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каких состояниях бывает вод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 происходит круговорот воды в природе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чему нужно охранять и беречь воду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8" descr="150045B"/>
          <p:cNvPicPr/>
          <p:nvPr/>
        </p:nvPicPr>
        <p:blipFill>
          <a:blip r:embed="rId1"/>
          <a:stretch/>
        </p:blipFill>
        <p:spPr>
          <a:xfrm>
            <a:off x="0" y="4038480"/>
            <a:ext cx="4500720" cy="281952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38" name="Picture 9" descr="018084B"/>
          <p:cNvPicPr/>
          <p:nvPr/>
        </p:nvPicPr>
        <p:blipFill>
          <a:blip r:embed="rId2"/>
          <a:stretch/>
        </p:blipFill>
        <p:spPr>
          <a:xfrm>
            <a:off x="4714920" y="4114800"/>
            <a:ext cx="4429080" cy="27432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a0aff"/>
                </a:solidFill>
                <a:latin typeface="Tahoma"/>
              </a:rPr>
              <a:t>СПАСИБО ЗА ВНИМАНИЕ!!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5" descr="09"/>
          <p:cNvPicPr/>
          <p:nvPr/>
        </p:nvPicPr>
        <p:blipFill>
          <a:blip r:embed="rId1"/>
          <a:stretch/>
        </p:blipFill>
        <p:spPr>
          <a:xfrm>
            <a:off x="1214280" y="1571760"/>
            <a:ext cx="635796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5"/>
          <p:cNvSpPr/>
          <p:nvPr/>
        </p:nvSpPr>
        <p:spPr>
          <a:xfrm>
            <a:off x="714240" y="214200"/>
            <a:ext cx="81439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Вода – первый любимый всеми детьми объект для исследования. С водой соприкасаются с первых дней жизни. И как только начинают хоть что –то понимать, принимаются за игры с вод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http://www.ng.ru/images/2009-02-11/27-11-2-copy.jpg"/>
          <p:cNvPicPr/>
          <p:nvPr/>
        </p:nvPicPr>
        <p:blipFill>
          <a:blip r:embed="rId1"/>
          <a:stretch/>
        </p:blipFill>
        <p:spPr>
          <a:xfrm>
            <a:off x="0" y="1000080"/>
            <a:ext cx="9144000" cy="585792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МИРОВОЙ ЗАПАС ВОД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7071840"/>
            <a:ext cx="8229600" cy="1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a0aff"/>
                </a:solidFill>
                <a:latin typeface="Tahoma"/>
              </a:rPr>
              <a:t>Цель проекта</a:t>
            </a:r>
            <a:r>
              <a:rPr b="0" lang="ru-RU" sz="6000" spc="-1" strike="noStrike">
                <a:solidFill>
                  <a:srgbClr val="0a0aff"/>
                </a:solidFill>
                <a:latin typeface="Tahoma"/>
              </a:rPr>
              <a:t>: 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d0dff"/>
                </a:solidFill>
                <a:latin typeface="Tahoma"/>
              </a:rPr>
              <a:t>Развитие у детей интереса к познанию и личностного стремления к практическому исследованию важнейшего составляющего среды обитания – воды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8" descr="08"/>
          <p:cNvPicPr/>
          <p:nvPr/>
        </p:nvPicPr>
        <p:blipFill>
          <a:blip r:embed="rId1"/>
          <a:stretch/>
        </p:blipFill>
        <p:spPr>
          <a:xfrm>
            <a:off x="7020000" y="5286240"/>
            <a:ext cx="1584360" cy="10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ff"/>
                </a:solidFill>
                <a:latin typeface="Tahoma"/>
              </a:rPr>
              <a:t>Обоснование: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cc"/>
                </a:solidFill>
                <a:latin typeface="Tahoma"/>
              </a:rPr>
              <a:t>В ходе проведений опытов со снегом, с градом, с водой и т.д. беседуя, и рассматривая иллюстраций, наблюдая, за погодой ,у детей возникли самые разнообразные вопросы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10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ff"/>
                </a:solidFill>
                <a:latin typeface="Tahoma"/>
              </a:rPr>
              <a:t>Основополагающие вопрос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904760"/>
            <a:ext cx="822960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659ff"/>
                </a:solidFill>
                <a:latin typeface="Tahoma"/>
              </a:rPr>
              <a:t>Что произойдет, есл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659ff"/>
                </a:solidFill>
                <a:latin typeface="Tahoma"/>
              </a:rPr>
              <a:t>Океаны и моря выйдут из берегов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659ff"/>
                </a:solidFill>
                <a:latin typeface="Tahoma"/>
              </a:rPr>
              <a:t>На Земле закончится вод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659ff"/>
                </a:solidFill>
                <a:latin typeface="Tahoma"/>
              </a:rPr>
              <a:t>Человек останется на 3 дня без воды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659ff"/>
                </a:solidFill>
                <a:latin typeface="Tahoma"/>
              </a:rPr>
              <a:t>Что такое пар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659ff"/>
                </a:solidFill>
                <a:latin typeface="Tahoma"/>
              </a:rPr>
              <a:t>Можно ли изменить цвет воды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659ff"/>
                </a:solidFill>
                <a:latin typeface="Tahoma"/>
              </a:rPr>
              <a:t>Есть ли у воды запах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ahoma"/>
              </a:rPr>
              <a:t>Проблема: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Tahoma"/>
              </a:rPr>
              <a:t>Вода играет огромную роль в нашей жизни, она постоянная наша спутница. Очень важно научить людей, и особенно детей, наше будущее поколение бережному отношению к воде. И в то же время не можем заставить себя соблюдать в своем доме, на работе, в детском саду, в школе элементарные правила рационального природопользова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659ff"/>
                </a:solidFill>
                <a:latin typeface="Tahoma"/>
              </a:rPr>
              <a:t>Задачи проекта: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2d050"/>
                </a:solidFill>
                <a:latin typeface="Tahoma"/>
              </a:rPr>
              <a:t>В процессе создания музея воды, поощрять детей к самостоятельному выявлению свойств вод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2d050"/>
                </a:solidFill>
                <a:latin typeface="Tahoma"/>
              </a:rPr>
              <a:t>Способствовать накоплению у детей конкретных представлений о свойствах вод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2d050"/>
                </a:solidFill>
                <a:latin typeface="Tahoma"/>
              </a:rPr>
              <a:t>Развивать познавательный интерес ребенка в процессе экспериментирования с жидкостями, умения выдвигать гипотезы и  предлагать способы их разреш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2d050"/>
                </a:solidFill>
                <a:latin typeface="Tahoma"/>
              </a:rPr>
              <a:t>Развивать речь детей, активизировать их словар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2d050"/>
                </a:solidFill>
                <a:latin typeface="Tahoma"/>
              </a:rPr>
              <a:t>Воспитывать аккуратность при работе с вод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РЕДСТАВЬТЕ СЕБ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00400" y="-500040"/>
            <a:ext cx="368604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5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44720" y="2143080"/>
            <a:ext cx="404172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сли представить земные запасы в виде полного стакана воды, то пресная вода составит всего лишь несколько капелек на дне этого стакан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3" descr="вода в стакане"/>
          <p:cNvPicPr/>
          <p:nvPr/>
        </p:nvPicPr>
        <p:blipFill>
          <a:blip r:embed="rId1"/>
          <a:stretch/>
        </p:blipFill>
        <p:spPr>
          <a:xfrm>
            <a:off x="500040" y="1500120"/>
            <a:ext cx="400068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5T16:06:11Z</dcterms:created>
  <dc:creator>Соловьёвы</dc:creator>
  <dc:description/>
  <dc:language>en-US</dc:language>
  <cp:lastModifiedBy>Админ</cp:lastModifiedBy>
  <dcterms:modified xsi:type="dcterms:W3CDTF">2012-01-12T00:41:14Z</dcterms:modified>
  <cp:revision>42</cp:revision>
  <dc:subject/>
  <dc:title>Слайд 1</dc:title>
</cp:coreProperties>
</file>