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285-7F0E-494E-ADBD-C4C92EEF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978-4F4E-432A-B04F-ADB4087E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C0F-631E-47E6-B0F1-ADE1635F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7FE-E531-41AF-ABAF-8397BBBB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5C8ED-6ECC-427E-9AA3-09812370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68470-DBDA-41D1-840B-E5900FF6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29969-D1EB-42EA-B0D4-2696D17A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B5408-786F-4AC8-9F9C-357EC7D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B401E-37F1-413B-8F2C-F7D69136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7A0DE-210E-4ABD-B894-A0CD1B28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4D6CF-A19C-410C-8965-985F537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09F-08BF-47CE-8F28-CFA60E26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AFE6A-5F27-4982-8766-D6C3D14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BF9DA-A269-401C-B58A-3A761F6F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76682-F521-42E5-9CC8-105A0A1B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7E3A3-C39D-483C-BD34-9F16D502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C515D-49F6-4BBF-BF8D-669766CC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3BE-C2E9-45D5-97D4-29D5DC07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22E-AAE7-47ED-AD5D-C2CF4800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8C0-46D4-46F5-84D8-B651BAD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DC4-88C6-4175-ADC7-B8DDEA6F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883-54EE-4E93-8787-0774CF8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CCC-7273-4C54-8F36-D4A688D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4B3-F0F0-4F48-BE6B-18A028A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6102-975F-4E00-9678-657183007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9151-40BB-43A8-9EFD-EA5C1854FD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J0289489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0d0f5"/>
                </a:solidFill>
                <a:latin typeface="Tahoma"/>
              </a:rPr>
              <a:t>СП «Улыбка» ГБОУ СОШ с.Камыш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ed4ff"/>
                </a:solidFill>
                <a:latin typeface="Tahoma"/>
              </a:rPr>
              <a:t>ВСЕ  О  ВОДЕ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ed4ff"/>
                </a:solidFill>
                <a:latin typeface="Tahoma"/>
              </a:rPr>
              <a:t>Педагогический проек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0d0f5"/>
                </a:solidFill>
                <a:latin typeface="Tahoma"/>
              </a:rPr>
              <a:t>Работу 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0d0f5"/>
                </a:solidFill>
                <a:latin typeface="Tahoma"/>
              </a:rPr>
              <a:t>Воспитатель Кашапова Г.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0d0f5"/>
                </a:solidFill>
                <a:latin typeface="Tahoma"/>
              </a:rPr>
              <a:t>2012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nformation_items_1530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ГРЯЗНЕНИЕ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-642960"/>
            <a:ext cx="404028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залось бы, на такой глобальный процесс, который бесперебойно работает на протяжении всего существования нашей планеты, человек повлиять не в силах, н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5080" y="-500040"/>
            <a:ext cx="46418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85840" y="1500120"/>
            <a:ext cx="40417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жно проделать простой опыт. Если в стакан воды осторожно опустить на поверхность 3-4 капли растительного масла, то с течением времени они расплывутся и покроют всю поверхность воды тонкой пленкой. Молекулам воды трудно пробиться через вязкую пленку масла. Испарение будет происходить значительно медленн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начение воды для жизни всего живого на Зем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9" descr="C015"/>
          <p:cNvPicPr/>
          <p:nvPr/>
        </p:nvPicPr>
        <p:blipFill>
          <a:blip r:embed="rId1"/>
          <a:stretch/>
        </p:blipFill>
        <p:spPr>
          <a:xfrm>
            <a:off x="0" y="4751280"/>
            <a:ext cx="2589120" cy="2106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10" descr="GV029"/>
          <p:cNvPicPr/>
          <p:nvPr/>
        </p:nvPicPr>
        <p:blipFill>
          <a:blip r:embed="rId2"/>
          <a:srcRect l="591" t="837" r="1255" b="837"/>
          <a:stretch/>
        </p:blipFill>
        <p:spPr>
          <a:xfrm>
            <a:off x="2500200" y="4762440"/>
            <a:ext cx="1393920" cy="20955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5" name="Picture 8" descr="FISHING"/>
          <p:cNvPicPr/>
          <p:nvPr/>
        </p:nvPicPr>
        <p:blipFill>
          <a:blip r:embed="rId3"/>
          <a:stretch/>
        </p:blipFill>
        <p:spPr>
          <a:xfrm>
            <a:off x="0" y="2857680"/>
            <a:ext cx="2743200" cy="18334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6" name="Picture 6" descr="013"/>
          <p:cNvPicPr/>
          <p:nvPr/>
        </p:nvPicPr>
        <p:blipFill>
          <a:blip r:embed="rId4"/>
          <a:stretch/>
        </p:blipFill>
        <p:spPr>
          <a:xfrm>
            <a:off x="5962680" y="4452840"/>
            <a:ext cx="3181320" cy="2405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7" name="Picture 7" descr="WALKING2"/>
          <p:cNvPicPr/>
          <p:nvPr/>
        </p:nvPicPr>
        <p:blipFill>
          <a:blip r:embed="rId5"/>
          <a:stretch/>
        </p:blipFill>
        <p:spPr>
          <a:xfrm>
            <a:off x="4000680" y="4286160"/>
            <a:ext cx="1828800" cy="2732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8" name="Прямоугольник 10"/>
          <p:cNvSpPr/>
          <p:nvPr/>
        </p:nvSpPr>
        <p:spPr>
          <a:xfrm>
            <a:off x="2286000" y="17859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дям , растениям , животным нужна вода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круговорот"/>
          <p:cNvPicPr/>
          <p:nvPr/>
        </p:nvPicPr>
        <p:blipFill>
          <a:blip r:embed="rId1"/>
          <a:srcRect l="41339" t="385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Три состояния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и туча и тума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ручей и океа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летаю и бег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теклянной быть мог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а в природе существует в трёх состояниях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дком, твёрдом, газообразн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го зависит различное состояние воды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От температуры.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Берегите в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думаете, много ли воды на на нашей Земле? Посмотрите на глобус. Голубым цветом изображены моря, океаны нашей плане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а занимает ¾ поверхности земного ша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IMG20086"/>
          <p:cNvPicPr/>
          <p:nvPr/>
        </p:nvPicPr>
        <p:blipFill>
          <a:blip r:embed="rId1"/>
          <a:stretch/>
        </p:blipFill>
        <p:spPr>
          <a:xfrm>
            <a:off x="428760" y="1428840"/>
            <a:ext cx="3203280" cy="434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5" name="Picture 6" descr="IMG20086"/>
          <p:cNvPicPr/>
          <p:nvPr/>
        </p:nvPicPr>
        <p:blipFill>
          <a:blip r:embed="rId2"/>
          <a:stretch/>
        </p:blipFill>
        <p:spPr>
          <a:xfrm>
            <a:off x="428760" y="1571760"/>
            <a:ext cx="3203280" cy="434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6" name="Picture 6" descr="IMG20086"/>
          <p:cNvPicPr/>
          <p:nvPr/>
        </p:nvPicPr>
        <p:blipFill>
          <a:blip r:embed="rId3"/>
          <a:stretch/>
        </p:blipFill>
        <p:spPr>
          <a:xfrm>
            <a:off x="5638680" y="1981080"/>
            <a:ext cx="3203640" cy="434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7" name="Picture 3" descr="Рисунок 1"/>
          <p:cNvPicPr/>
          <p:nvPr/>
        </p:nvPicPr>
        <p:blipFill>
          <a:blip r:embed="rId4"/>
          <a:stretch/>
        </p:blipFill>
        <p:spPr>
          <a:xfrm>
            <a:off x="3591000" y="696960"/>
            <a:ext cx="50799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Это важно!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Общее количество воды на Земле не уменьш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Но почему воду надо береч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Вода в океанах и морях солёная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А людям, растениям, животным нужна пресная вода. Из 100 л воды- 2 л прес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Большая часть воды загрязня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Государство создаёт заповедники, заказники, используют очистные соору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А как вы, дети, можете сохранять, беречь вод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ГРЯЗНЕНИЕ ПРИРОДНЫХ В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-785880"/>
            <a:ext cx="404172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5000" y="1500120"/>
            <a:ext cx="28576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России ежегодно в воду и под землю уходит более 500 миллионов тонн промышленных сто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697111"/>
          <p:cNvPicPr/>
          <p:nvPr/>
        </p:nvPicPr>
        <p:blipFill>
          <a:blip r:embed="rId1"/>
          <a:stretch/>
        </p:blipFill>
        <p:spPr>
          <a:xfrm>
            <a:off x="0" y="1500120"/>
            <a:ext cx="5715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659ff"/>
                </a:solidFill>
                <a:latin typeface="Tahoma"/>
              </a:rPr>
              <a:t>ПРОВЕРЬ СЕБ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аких состояниях бывает в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происходит круговорот воды в природ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нужно охранять и беречь в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8" descr="150045B"/>
          <p:cNvPicPr/>
          <p:nvPr/>
        </p:nvPicPr>
        <p:blipFill>
          <a:blip r:embed="rId1"/>
          <a:stretch/>
        </p:blipFill>
        <p:spPr>
          <a:xfrm>
            <a:off x="0" y="4038480"/>
            <a:ext cx="4500720" cy="28195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8" name="Picture 9" descr="018084B"/>
          <p:cNvPicPr/>
          <p:nvPr/>
        </p:nvPicPr>
        <p:blipFill>
          <a:blip r:embed="rId2"/>
          <a:stretch/>
        </p:blipFill>
        <p:spPr>
          <a:xfrm>
            <a:off x="4714920" y="4114800"/>
            <a:ext cx="4429080" cy="2743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0aff"/>
                </a:solidFill>
                <a:latin typeface="Tahoma"/>
              </a:rPr>
              <a:t>СПАСИБО ЗА ВНИМАНИЕ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09"/>
          <p:cNvPicPr/>
          <p:nvPr/>
        </p:nvPicPr>
        <p:blipFill>
          <a:blip r:embed="rId1"/>
          <a:stretch/>
        </p:blipFill>
        <p:spPr>
          <a:xfrm>
            <a:off x="1214280" y="1571760"/>
            <a:ext cx="6357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714240" y="214200"/>
            <a:ext cx="8143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да – первый любимый всеми детьми объект для исследования. С водой соприкасаются с первых дней жизни. И как только начинают хоть что –то понимать, принимаются за игры с во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www.ng.ru/images/2009-02-11/27-11-2-copy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ОВОЙ ЗАПАС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707184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Цель проекта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: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ff"/>
                </a:solidFill>
                <a:latin typeface="Tahoma"/>
              </a:rPr>
              <a:t>Развитие у детей интереса к познанию и личностного стремления к практическому исследованию важнейшего составляющего среды обитания – вод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08"/>
          <p:cNvPicPr/>
          <p:nvPr/>
        </p:nvPicPr>
        <p:blipFill>
          <a:blip r:embed="rId1"/>
          <a:stretch/>
        </p:blipFill>
        <p:spPr>
          <a:xfrm>
            <a:off x="7020000" y="5286240"/>
            <a:ext cx="1584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ff"/>
                </a:solidFill>
                <a:latin typeface="Tahoma"/>
              </a:rPr>
              <a:t>Обоснование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В ходе проведений опытов со снегом, с градом, с водой и т.д. беседуя, и рассматривая иллюстраций, наблюдая, за погодой ,у детей возникли самые разнообразные вопрос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Основополагающие вопро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Что произойдет, ес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Океаны и моря выйдут из берег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На Земле закончится в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Человек останется на 3 дня без во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Что такое п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Можно ли изменить цвет во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Есть ли у воды зап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Проблема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Вода играет огромную роль в нашей жизни, она постоянная наша спутница. Очень важно научить людей, и особенно детей, наше будущее поколение бережному отношению к воде. И в то же время не можем заставить себя соблюдать в своем доме, на работе, в детском саду, в школе элементарные правила рационального природо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659ff"/>
                </a:solidFill>
                <a:latin typeface="Tahoma"/>
              </a:rPr>
              <a:t>Задачи проекта: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В процессе создания музея воды, поощрять детей к самостоятельному выявлению свойств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Способствовать накоплению у детей конкретных представлений о свойствах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Развивать познавательный интерес ребенка в процессе экспериментирования с жидкостями, умения выдвигать гипотезы и  предлагать способы их разре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Развивать речь детей, активизировать их словар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Воспитывать аккуратность при работе с в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ДСТАВЬТЕ СЕБ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0400" y="-500040"/>
            <a:ext cx="368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4720" y="2143080"/>
            <a:ext cx="40417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редставить земные запасы в виде полного стакана воды, то пресная вода составит всего лишь несколько капелек на дне этого стак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3" descr="вода в стакане"/>
          <p:cNvPicPr/>
          <p:nvPr/>
        </p:nvPicPr>
        <p:blipFill>
          <a:blip r:embed="rId1"/>
          <a:stretch/>
        </p:blipFill>
        <p:spPr>
          <a:xfrm>
            <a:off x="500040" y="1500120"/>
            <a:ext cx="40006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6:06:11Z</dcterms:created>
  <dc:creator>Соловьёвы</dc:creator>
  <dc:description/>
  <dc:language>en-US</dc:language>
  <cp:lastModifiedBy>Админ</cp:lastModifiedBy>
  <dcterms:modified xsi:type="dcterms:W3CDTF">2012-01-12T00:41:14Z</dcterms:modified>
  <cp:revision>42</cp:revision>
  <dc:subject/>
  <dc:title>Слайд 1</dc:title>
</cp:coreProperties>
</file>