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jpeg" ContentType="image/jpeg"/>
  <Override PartName="/ppt/media/image7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DEB-A39E-4E4C-B86F-DF569625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37D-CE64-4B75-BE1E-096C00F2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BB8-D24F-4D69-A58E-E2066A0B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71D-394D-45E3-8DB0-6E545894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8CCD-A838-4C39-9DD9-FF977259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F191-60BD-498F-958D-33F547FD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7A7A-3623-49AF-B7BE-08792485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F019-D752-4219-9644-22B07337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4D9F-4C2F-46A3-A269-4DC63227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B421-671C-4CDE-B36B-F9BC5FE8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4885-36D2-4202-85D2-6E860A86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0EF-4149-4F48-A3FD-E5DD9818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57DB-5701-4F32-88CF-E9A5260D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8012-E1F0-445F-8943-0ED45F3A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014F-AAB5-4509-AA2F-0448710F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2DB5-CA98-4158-B21C-4C6A443E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72DE-E859-4FC2-8012-B3D133B5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5F4-B8C3-4558-8492-5363D70A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D79-74D6-4114-A8DA-54A0751E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28C-E71B-437C-B3AF-34AEB908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686-11DC-4246-B49F-6BCAC2E2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0C5-A8FC-4BF0-9B63-58514673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57E-4EA8-4C1B-A0BC-69909C19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90D-3014-44C4-8DAB-D2EA1E50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D994-FE70-4657-9D9C-1023CD1C2A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E120-3AFB-41AD-9EE7-7DEC8F286FAB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18028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Verdana"/>
              </a:rPr>
              <a:t>Обозначение натуральных чисел.</a:t>
            </a:r>
            <a:br>
              <a:rPr sz="4800"/>
            </a:br>
            <a:r>
              <a:rPr b="1" i="1" lang="ru-RU" sz="4800" spc="-1" strike="noStrike">
                <a:solidFill>
                  <a:srgbClr val="006666"/>
                </a:solidFill>
                <a:latin typeface="Verdana"/>
              </a:rPr>
              <a:t>Чтение и запись натуральных чисел.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ANTN027"/>
          <p:cNvPicPr/>
          <p:nvPr/>
        </p:nvPicPr>
        <p:blipFill>
          <a:blip r:embed="rId1"/>
          <a:stretch/>
        </p:blipFill>
        <p:spPr>
          <a:xfrm>
            <a:off x="179280" y="4083120"/>
            <a:ext cx="3313080" cy="2774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Домашнее</a:t>
            </a:r>
            <a:br>
              <a:rPr sz="4400"/>
            </a:b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задание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7" descr="KNIGH076"/>
          <p:cNvPicPr/>
          <p:nvPr/>
        </p:nvPicPr>
        <p:blipFill>
          <a:blip r:embed="rId1"/>
          <a:stretch/>
        </p:blipFill>
        <p:spPr>
          <a:xfrm>
            <a:off x="0" y="3184560"/>
            <a:ext cx="3071880" cy="3673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KNIGH066"/>
          <p:cNvPicPr/>
          <p:nvPr/>
        </p:nvPicPr>
        <p:blipFill>
          <a:blip r:embed="rId2"/>
          <a:stretch/>
        </p:blipFill>
        <p:spPr>
          <a:xfrm>
            <a:off x="6595920" y="4059360"/>
            <a:ext cx="2548080" cy="279864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9"/>
          <p:cNvSpPr/>
          <p:nvPr/>
        </p:nvSpPr>
        <p:spPr>
          <a:xfrm>
            <a:off x="395280" y="1628640"/>
            <a:ext cx="8424720" cy="1584360"/>
          </a:xfrm>
          <a:custGeom>
            <a:avLst/>
            <a:gdLst>
              <a:gd name="textAreaLeft" fmla="*/ 2106000 w 8424720"/>
              <a:gd name="textAreaRight" fmla="*/ 6318720 w 8424720"/>
              <a:gd name="textAreaTop" fmla="*/ 19800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.1, №4; №18(б,в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20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300"/>
                            </p:stCondLst>
                            <p:childTnLst>
                              <p:par>
                                <p:cTn id="59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3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CBIZ158"/>
          <p:cNvPicPr/>
          <p:nvPr/>
        </p:nvPicPr>
        <p:blipFill>
          <a:blip r:embed="rId1"/>
          <a:stretch/>
        </p:blipFill>
        <p:spPr>
          <a:xfrm>
            <a:off x="468360" y="0"/>
            <a:ext cx="370836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BIZ117"/>
          <p:cNvPicPr/>
          <p:nvPr/>
        </p:nvPicPr>
        <p:blipFill>
          <a:blip r:embed="rId2"/>
          <a:stretch/>
        </p:blipFill>
        <p:spPr>
          <a:xfrm>
            <a:off x="4602240" y="1413000"/>
            <a:ext cx="4333680" cy="5445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1332000" y="404640"/>
            <a:ext cx="1971720" cy="2276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"/>
          <p:cNvPicPr/>
          <p:nvPr/>
        </p:nvPicPr>
        <p:blipFill>
          <a:blip r:embed="rId4"/>
          <a:stretch/>
        </p:blipFill>
        <p:spPr>
          <a:xfrm>
            <a:off x="4859280" y="1700280"/>
            <a:ext cx="2230560" cy="2592360"/>
          </a:xfrm>
          <a:prstGeom prst="rect">
            <a:avLst/>
          </a:prstGeom>
          <a:ln w="0">
            <a:noFill/>
          </a:ln>
        </p:spPr>
      </p:pic>
      <p:sp>
        <p:nvSpPr>
          <p:cNvPr id="254" name="WordArt 8"/>
          <p:cNvSpPr txBox="1"/>
          <p:nvPr/>
        </p:nvSpPr>
        <p:spPr>
          <a:xfrm>
            <a:off x="468360" y="476280"/>
            <a:ext cx="8172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Попробуй  сам нарисовать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чьи - либо  портреты из цифр.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Добро  пожаловать  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в  счётное  королевство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6" descr="CASTLMAN"/>
          <p:cNvPicPr/>
          <p:nvPr/>
        </p:nvPicPr>
        <p:blipFill>
          <a:blip r:embed="rId1"/>
          <a:stretch/>
        </p:blipFill>
        <p:spPr>
          <a:xfrm>
            <a:off x="2771640" y="1268280"/>
            <a:ext cx="4248360" cy="3813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KNIGH076"/>
          <p:cNvPicPr/>
          <p:nvPr/>
        </p:nvPicPr>
        <p:blipFill>
          <a:blip r:embed="rId2"/>
          <a:stretch/>
        </p:blipFill>
        <p:spPr>
          <a:xfrm>
            <a:off x="0" y="2060640"/>
            <a:ext cx="3071880" cy="3673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KNIGH066"/>
          <p:cNvPicPr/>
          <p:nvPr/>
        </p:nvPicPr>
        <p:blipFill>
          <a:blip r:embed="rId3"/>
          <a:stretch/>
        </p:blipFill>
        <p:spPr>
          <a:xfrm>
            <a:off x="6595920" y="2708280"/>
            <a:ext cx="2548080" cy="2798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756720" y="5734080"/>
            <a:ext cx="25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Его величеств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Король </a:t>
            </a: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Числ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202800" y="5661000"/>
            <a:ext cx="286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Её величеств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Королева  </a:t>
            </a: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Цифр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25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250"/>
                            </p:stCondLst>
                            <p:childTnLst>
                              <p:par>
                                <p:cTn id="3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колько  карандашей  на  рисунке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колько  книг  на  полке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колько  парт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в классе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колько  кирпичей  на  рисунке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колько  страниц  в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чебнике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4" descr="PENS"/>
          <p:cNvPicPr/>
          <p:nvPr/>
        </p:nvPicPr>
        <p:blipFill>
          <a:blip r:embed="rId1"/>
          <a:stretch/>
        </p:blipFill>
        <p:spPr>
          <a:xfrm>
            <a:off x="684360" y="2179800"/>
            <a:ext cx="5724360" cy="46782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/>
          <p:cNvSpPr/>
          <p:nvPr/>
        </p:nvSpPr>
        <p:spPr>
          <a:xfrm>
            <a:off x="6500880" y="549360"/>
            <a:ext cx="2643120" cy="863640"/>
          </a:xfrm>
          <a:prstGeom prst="irregularSeal1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6" descr="BOOKSHLF"/>
          <p:cNvPicPr/>
          <p:nvPr/>
        </p:nvPicPr>
        <p:blipFill>
          <a:blip r:embed="rId2"/>
          <a:stretch/>
        </p:blipFill>
        <p:spPr>
          <a:xfrm>
            <a:off x="250920" y="3635280"/>
            <a:ext cx="5833800" cy="292896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7"/>
          <p:cNvSpPr/>
          <p:nvPr/>
        </p:nvSpPr>
        <p:spPr>
          <a:xfrm>
            <a:off x="4932360" y="1052640"/>
            <a:ext cx="2643120" cy="8636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14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76720" y="1557360"/>
            <a:ext cx="2643120" cy="863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9" descr="SCHOOL2"/>
          <p:cNvPicPr/>
          <p:nvPr/>
        </p:nvPicPr>
        <p:blipFill>
          <a:blip r:embed="rId3"/>
          <a:stretch/>
        </p:blipFill>
        <p:spPr>
          <a:xfrm>
            <a:off x="468360" y="2328840"/>
            <a:ext cx="6119640" cy="400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TN078"/>
          <p:cNvPicPr/>
          <p:nvPr/>
        </p:nvPicPr>
        <p:blipFill>
          <a:blip r:embed="rId4"/>
          <a:stretch/>
        </p:blipFill>
        <p:spPr>
          <a:xfrm>
            <a:off x="4284720" y="2781360"/>
            <a:ext cx="3522600" cy="38894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1"/>
          <p:cNvSpPr/>
          <p:nvPr/>
        </p:nvSpPr>
        <p:spPr>
          <a:xfrm>
            <a:off x="6500880" y="2708280"/>
            <a:ext cx="2643120" cy="86364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14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2" descr="ANTN063"/>
          <p:cNvPicPr/>
          <p:nvPr/>
        </p:nvPicPr>
        <p:blipFill>
          <a:blip r:embed="rId5"/>
          <a:stretch/>
        </p:blipFill>
        <p:spPr>
          <a:xfrm>
            <a:off x="4500720" y="3486240"/>
            <a:ext cx="4392360" cy="32385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3"/>
          <p:cNvSpPr/>
          <p:nvPr/>
        </p:nvSpPr>
        <p:spPr>
          <a:xfrm>
            <a:off x="2771640" y="3716280"/>
            <a:ext cx="2643480" cy="863640"/>
          </a:xfrm>
          <a:prstGeom prst="irregularSeal1">
            <a:avLst/>
          </a:prstGeom>
          <a:solidFill>
            <a:srgbClr val="ccff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28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755640" y="5013360"/>
            <a:ext cx="7920000" cy="1368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Натуральные  числа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729792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Какие  цифры  вы  знаете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4" descr="CRTN054"/>
          <p:cNvPicPr/>
          <p:nvPr/>
        </p:nvPicPr>
        <p:blipFill>
          <a:blip r:embed="rId1"/>
          <a:stretch/>
        </p:blipFill>
        <p:spPr>
          <a:xfrm>
            <a:off x="2700360" y="907920"/>
            <a:ext cx="3529080" cy="31863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5"/>
          <p:cNvSpPr/>
          <p:nvPr/>
        </p:nvSpPr>
        <p:spPr>
          <a:xfrm>
            <a:off x="755640" y="198900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4f89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179280" y="342900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971640" y="508464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916360" y="465300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4716360" y="501336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4f89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Verdana"/>
              </a:rPr>
              <a:t>5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6588000" y="134136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7308720" y="270828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7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5867280" y="393372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7164360" y="522936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Verdana"/>
              </a:rPr>
              <a:t>9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3348000" y="3213000"/>
            <a:ext cx="2016000" cy="105912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241560 h 1059120"/>
              <a:gd name="textAreaBottom" fmla="*/ 817560 h 105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Freeform 15"/>
          <p:cNvSpPr/>
          <p:nvPr/>
        </p:nvSpPr>
        <p:spPr>
          <a:xfrm>
            <a:off x="3078000" y="3094200"/>
            <a:ext cx="2500560" cy="1385640"/>
          </a:xfrm>
          <a:custGeom>
            <a:avLst/>
            <a:gdLst>
              <a:gd name="textAreaLeft" fmla="*/ 0 w 2500560"/>
              <a:gd name="textAreaRight" fmla="*/ 2500920 w 2500560"/>
              <a:gd name="textAreaTop" fmla="*/ 0 h 1385640"/>
              <a:gd name="textAreaBottom" fmla="*/ 1386000 h 1385640"/>
            </a:gdLst>
            <a:ahLst/>
            <a:rect l="textAreaLeft" t="textAreaTop" r="textAreaRight" b="textAreaBottom"/>
            <a:pathLst>
              <a:path w="1575" h="873">
                <a:moveTo>
                  <a:pt x="0" y="873"/>
                </a:moveTo>
                <a:lnTo>
                  <a:pt x="1575" y="0"/>
                </a:lnTo>
              </a:path>
            </a:pathLst>
          </a:custGeom>
          <a:noFill/>
          <a:ln w="177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Freeform 16"/>
          <p:cNvSpPr/>
          <p:nvPr/>
        </p:nvSpPr>
        <p:spPr>
          <a:xfrm>
            <a:off x="3184560" y="3094200"/>
            <a:ext cx="2484360" cy="1355400"/>
          </a:xfrm>
          <a:custGeom>
            <a:avLst/>
            <a:gdLst>
              <a:gd name="textAreaLeft" fmla="*/ 0 w 2484360"/>
              <a:gd name="textAreaRight" fmla="*/ 2484720 w 2484360"/>
              <a:gd name="textAreaTop" fmla="*/ 0 h 1355400"/>
              <a:gd name="textAreaBottom" fmla="*/ 1355760 h 1355400"/>
            </a:gdLst>
            <a:ahLst/>
            <a:rect l="textAreaLeft" t="textAreaTop" r="textAreaRight" b="textAreaBottom"/>
            <a:pathLst>
              <a:path w="1565" h="854">
                <a:moveTo>
                  <a:pt x="0" y="0"/>
                </a:moveTo>
                <a:lnTo>
                  <a:pt x="1565" y="854"/>
                </a:lnTo>
              </a:path>
            </a:pathLst>
          </a:custGeom>
          <a:noFill/>
          <a:ln w="177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794880" y="6165720"/>
            <a:ext cx="76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Все ли цифры относятся к натуральному ряду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WordArt 19"/>
          <p:cNvSpPr txBox="1"/>
          <p:nvPr/>
        </p:nvSpPr>
        <p:spPr>
          <a:xfrm>
            <a:off x="468360" y="3068640"/>
            <a:ext cx="82803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Однозначные числа.</a:t>
            </a:r>
            <a:endParaRPr b="1" i="1" lang="en-US" sz="2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204" name="Picture 20" descr="KNIGH066"/>
          <p:cNvPicPr/>
          <p:nvPr/>
        </p:nvPicPr>
        <p:blipFill>
          <a:blip r:embed="rId2"/>
          <a:stretch/>
        </p:blipFill>
        <p:spPr>
          <a:xfrm>
            <a:off x="7711920" y="0"/>
            <a:ext cx="14320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Определи  неизвестное  число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4176720" cy="4083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KNIGH076"/>
          <p:cNvPicPr/>
          <p:nvPr/>
        </p:nvPicPr>
        <p:blipFill>
          <a:blip r:embed="rId2"/>
          <a:stretch/>
        </p:blipFill>
        <p:spPr>
          <a:xfrm>
            <a:off x="0" y="3184560"/>
            <a:ext cx="3071880" cy="3673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KNIGH066"/>
          <p:cNvPicPr/>
          <p:nvPr/>
        </p:nvPicPr>
        <p:blipFill>
          <a:blip r:embed="rId3"/>
          <a:stretch/>
        </p:blipFill>
        <p:spPr>
          <a:xfrm>
            <a:off x="6595920" y="4059360"/>
            <a:ext cx="2548080" cy="279864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8"/>
          <p:cNvSpPr/>
          <p:nvPr/>
        </p:nvSpPr>
        <p:spPr>
          <a:xfrm>
            <a:off x="5292720" y="2708280"/>
            <a:ext cx="2087640" cy="1214280"/>
          </a:xfrm>
          <a:prstGeom prst="diamond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21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00"/>
                            </p:stCondLst>
                            <p:childTnLst>
                              <p:par>
                                <p:cTn id="3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70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Определи  неизвестное  число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569080" cy="4130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8"/>
          <p:cNvSpPr/>
          <p:nvPr/>
        </p:nvSpPr>
        <p:spPr>
          <a:xfrm>
            <a:off x="1042920" y="1125360"/>
            <a:ext cx="6840720" cy="719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Найди  закономерность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7236000" y="2421000"/>
            <a:ext cx="914400" cy="914400"/>
          </a:xfrm>
          <a:prstGeom prst="ellipse">
            <a:avLst/>
          </a:prstGeom>
          <a:solidFill>
            <a:srgbClr val="fecfce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KNIGH076"/>
          <p:cNvPicPr/>
          <p:nvPr/>
        </p:nvPicPr>
        <p:blipFill>
          <a:blip r:embed="rId1"/>
          <a:stretch/>
        </p:blipFill>
        <p:spPr>
          <a:xfrm>
            <a:off x="0" y="2781360"/>
            <a:ext cx="3071880" cy="367344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6"/>
          <p:cNvSpPr/>
          <p:nvPr/>
        </p:nvSpPr>
        <p:spPr>
          <a:xfrm>
            <a:off x="3059280" y="0"/>
            <a:ext cx="1223640" cy="2590920"/>
          </a:xfrm>
          <a:prstGeom prst="cloudCallout">
            <a:avLst>
              <a:gd name="adj1" fmla="val -68675"/>
              <a:gd name="adj2" fmla="val 11672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2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3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75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4500720" y="0"/>
            <a:ext cx="288720" cy="2158920"/>
          </a:xfrm>
          <a:custGeom>
            <a:avLst/>
            <a:gdLst>
              <a:gd name="textAreaLeft" fmla="*/ 0 w 288720"/>
              <a:gd name="textAreaRight" fmla="*/ 104040 w 28872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5088960" y="83664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Двузначные чис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2916360" y="1916280"/>
            <a:ext cx="1584360" cy="2590560"/>
          </a:xfrm>
          <a:prstGeom prst="cloudCallout">
            <a:avLst>
              <a:gd name="adj1" fmla="val -51402"/>
              <a:gd name="adj2" fmla="val 39337"/>
            </a:avLst>
          </a:prstGeom>
          <a:solidFill>
            <a:srgbClr val="fecfce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14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49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93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4500720" y="2133720"/>
            <a:ext cx="288720" cy="2158920"/>
          </a:xfrm>
          <a:custGeom>
            <a:avLst/>
            <a:gdLst>
              <a:gd name="textAreaLeft" fmla="*/ 0 w 288720"/>
              <a:gd name="textAreaRight" fmla="*/ 104040 w 28872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5097240" y="2924280"/>
            <a:ext cx="37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Трехзначные чис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2556000" y="4365720"/>
            <a:ext cx="2305080" cy="2303280"/>
          </a:xfrm>
          <a:prstGeom prst="cloudCallout">
            <a:avLst>
              <a:gd name="adj1" fmla="val -36916"/>
              <a:gd name="adj2" fmla="val -42486"/>
            </a:avLst>
          </a:pr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123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539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861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4500720" y="4292640"/>
            <a:ext cx="288720" cy="2158920"/>
          </a:xfrm>
          <a:custGeom>
            <a:avLst/>
            <a:gdLst>
              <a:gd name="textAreaLeft" fmla="*/ 0 w 288720"/>
              <a:gd name="textAreaRight" fmla="*/ 104040 w 28872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5056920" y="4941720"/>
            <a:ext cx="34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Четырехзначны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чис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KNIGH076"/>
          <p:cNvPicPr/>
          <p:nvPr/>
        </p:nvPicPr>
        <p:blipFill>
          <a:blip r:embed="rId1"/>
          <a:stretch/>
        </p:blipFill>
        <p:spPr>
          <a:xfrm>
            <a:off x="0" y="3068640"/>
            <a:ext cx="3174840" cy="37893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5"/>
          <p:cNvSpPr/>
          <p:nvPr/>
        </p:nvSpPr>
        <p:spPr>
          <a:xfrm>
            <a:off x="324000" y="476280"/>
            <a:ext cx="8569080" cy="609480"/>
          </a:xfrm>
          <a:prstGeom prst="wedgeRectCallout">
            <a:avLst>
              <a:gd name="adj1" fmla="val -19824"/>
              <a:gd name="adj2" fmla="val 63958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Многозначные  чис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8785440" cy="3259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4067280" y="1341360"/>
            <a:ext cx="482580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900.584.24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4067280" y="2133720"/>
            <a:ext cx="4825800" cy="647640"/>
          </a:xfrm>
          <a:prstGeom prst="rect">
            <a:avLst/>
          </a:prstGeom>
          <a:solidFill>
            <a:srgbClr val="fecfce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27.335.090.48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Запись  числа  в  виде  суммы  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разрядных  слагаемых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Запишите  число  в  виде  суммы  разрядных  слагаемых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7"/>
              <p:cNvSpPr txBox="1"/>
              <p:nvPr/>
            </p:nvSpPr>
            <p:spPr>
              <a:xfrm>
                <a:off x="3203640" y="4365720"/>
                <a:ext cx="2448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500080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3" name="Picture 4" descr="ANTN069"/>
          <p:cNvPicPr/>
          <p:nvPr/>
        </p:nvPicPr>
        <p:blipFill>
          <a:blip r:embed="rId1"/>
          <a:stretch/>
        </p:blipFill>
        <p:spPr>
          <a:xfrm>
            <a:off x="0" y="4505400"/>
            <a:ext cx="2514600" cy="23526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52200" y="2708280"/>
            <a:ext cx="5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а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8"/>
              <p:cNvSpPr txBox="1"/>
              <p:nvPr/>
            </p:nvSpPr>
            <p:spPr>
              <a:xfrm>
                <a:off x="2556000" y="2708280"/>
                <a:ext cx="6395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0000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00000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2543040" y="3573360"/>
            <a:ext cx="5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б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2541240" y="4437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в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2531520" y="530064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г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5"/>
              <p:cNvSpPr txBox="1"/>
              <p:nvPr/>
            </p:nvSpPr>
            <p:spPr>
              <a:xfrm>
                <a:off x="3203640" y="3535200"/>
                <a:ext cx="28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400306100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9"/>
              <p:cNvSpPr txBox="1"/>
              <p:nvPr/>
            </p:nvSpPr>
            <p:spPr>
              <a:xfrm>
                <a:off x="3132000" y="5300640"/>
                <a:ext cx="2880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60702140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21"/>
          <p:cNvSpPr/>
          <p:nvPr/>
        </p:nvSpPr>
        <p:spPr>
          <a:xfrm>
            <a:off x="4500720" y="5877000"/>
            <a:ext cx="4321080" cy="765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Verdana"/>
              </a:rPr>
              <a:t>№</a:t>
            </a:r>
            <a:r>
              <a:rPr b="1" i="1" lang="ru-RU" sz="3200" spc="-1" strike="noStrike">
                <a:solidFill>
                  <a:srgbClr val="cc3300"/>
                </a:solidFill>
                <a:latin typeface="Verdana"/>
              </a:rPr>
              <a:t>2, №3, №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2"/>
              <p:cNvSpPr txBox="1"/>
              <p:nvPr/>
            </p:nvSpPr>
            <p:spPr>
              <a:xfrm>
                <a:off x="611280" y="2708280"/>
                <a:ext cx="2016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700038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3:40:14Z</dcterms:created>
  <dc:creator>Марина</dc:creator>
  <dc:description/>
  <dc:language>en-US</dc:language>
  <cp:lastModifiedBy>User</cp:lastModifiedBy>
  <dcterms:modified xsi:type="dcterms:W3CDTF">2015-02-04T09:10:39Z</dcterms:modified>
  <cp:revision>10</cp:revision>
  <dc:subject/>
  <dc:title>Обозначение натуральных чисел. Чтение и запись натуральных чисел.</dc:title>
</cp:coreProperties>
</file>