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4.gif" ContentType="image/gif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299-80DC-4B89-843A-983AEDA4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0BF-3DFD-4EAE-B2D5-983C3BD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C8A-77A8-462E-897D-81427E48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8D8-6784-4ABA-8AB9-6D1B02C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713-0120-4014-B3EC-EE4DDA7C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B343-04A7-4C05-880C-ACA1BDD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FF0-E6EA-4AD9-8BE5-1567300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B0B-EAD9-4787-86EF-2B46BAE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B9B1-131D-4871-B62E-52617723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BD10-5E70-4C69-8813-27C07FA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922-080F-4F1C-B0D5-1B1DAB0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BC5-26A0-42FC-8EF6-0E70FDD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15B8-6B87-4974-969C-2FFA1BC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DD53-A7C2-4D23-BBEB-9767CBD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507-8A89-4810-AD81-4F7B215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F7BD-F908-47F7-8024-ECFC033C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94F-1D4E-45BE-8C87-2A90686C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951E-1419-48DF-A3DD-FFFE546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3C53-E3AF-417D-B228-2AF071B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6129-44F5-409E-AEA3-0AB1B4F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7D99-25F0-453E-981C-B058B7DA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4F8B-059E-4504-9AF8-9B132FE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37A-F6DC-4716-9C94-D0981DB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AA5A-9646-48F9-AA70-10DEDE5C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0D46-4CD0-4BAE-B26A-A357637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C4EA-F37E-4339-9DFB-890D283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3B71-4746-4F4F-A716-F6D49021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D5AA-675C-477C-A952-565950B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44D8-DED3-4CE4-B5C5-9CE7A3F5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F549-5515-4E3E-9516-525BCAAA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181-F650-4721-807D-9EBC32A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074-5334-4AA1-9570-F13A3D0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01D-1B3A-4F80-99D0-7923F4E2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F16-7A31-459C-A79C-746FEAB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2E7-2CA8-44A2-B770-7A58128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B24-AB60-489F-981A-25E0C9E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3927-6FC4-4888-9BF6-10BFB551085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125-2B22-412B-92FC-1CECF44D4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B573-03F0-4E06-B460-76A8A6A1DE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the action happ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ld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22560" y="1628640"/>
            <a:ext cx="432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the action is happ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4068720" y="1700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do w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2050920" y="836640"/>
            <a:ext cx="543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ir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0_a04e_4217e652_L"/>
          <p:cNvPicPr/>
          <p:nvPr/>
        </p:nvPicPr>
        <p:blipFill>
          <a:blip r:embed="rId1"/>
          <a:stretch/>
        </p:blipFill>
        <p:spPr>
          <a:xfrm>
            <a:off x="252360" y="4076640"/>
            <a:ext cx="2165400" cy="1603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42-15522243"/>
          <p:cNvPicPr/>
          <p:nvPr/>
        </p:nvPicPr>
        <p:blipFill>
          <a:blip r:embed="rId2"/>
          <a:stretch/>
        </p:blipFill>
        <p:spPr>
          <a:xfrm>
            <a:off x="6373800" y="1197000"/>
            <a:ext cx="1584360" cy="240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1186364766_d175big"/>
          <p:cNvPicPr/>
          <p:nvPr/>
        </p:nvPicPr>
        <p:blipFill>
          <a:blip r:embed="rId3"/>
          <a:stretch/>
        </p:blipFill>
        <p:spPr>
          <a:xfrm>
            <a:off x="1116000" y="1268280"/>
            <a:ext cx="1625760" cy="2016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1213697528_skuka"/>
          <p:cNvPicPr/>
          <p:nvPr/>
        </p:nvPicPr>
        <p:blipFill>
          <a:blip r:embed="rId4"/>
          <a:stretch/>
        </p:blipFill>
        <p:spPr>
          <a:xfrm>
            <a:off x="5942160" y="4221000"/>
            <a:ext cx="2617560" cy="1866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chud_mesh"/>
          <p:cNvPicPr/>
          <p:nvPr/>
        </p:nvPicPr>
        <p:blipFill>
          <a:blip r:embed="rId5"/>
          <a:stretch/>
        </p:blipFill>
        <p:spPr>
          <a:xfrm>
            <a:off x="2916360" y="4076640"/>
            <a:ext cx="2314440" cy="20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8"/>
          <p:cNvSpPr/>
          <p:nvPr/>
        </p:nvSpPr>
        <p:spPr>
          <a:xfrm>
            <a:off x="539640" y="328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lk with her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826920" y="5661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708360" y="609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5726160" y="35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e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6084720" y="6021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3" descr="1"/>
          <p:cNvPicPr/>
          <p:nvPr/>
        </p:nvPicPr>
        <p:blipFill>
          <a:blip r:embed="rId6"/>
          <a:stretch/>
        </p:blipFill>
        <p:spPr>
          <a:xfrm>
            <a:off x="3924360" y="1484280"/>
            <a:ext cx="1173240" cy="266544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26"/>
          <p:cNvSpPr/>
          <p:nvPr/>
        </p:nvSpPr>
        <p:spPr>
          <a:xfrm>
            <a:off x="3492360" y="1341360"/>
            <a:ext cx="2017800" cy="3024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17"/>
          <p:cNvSpPr/>
          <p:nvPr/>
        </p:nvSpPr>
        <p:spPr>
          <a:xfrm>
            <a:off x="179280" y="5402160"/>
            <a:ext cx="3745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8773"/>
              <a:gd name="adj5" fmla="val 89842"/>
              <a:gd name="adj6" fmla="val 115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835280" y="836640"/>
            <a:ext cx="543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05"/>
          <p:cNvPicPr/>
          <p:nvPr/>
        </p:nvPicPr>
        <p:blipFill>
          <a:blip r:embed="rId1"/>
          <a:stretch/>
        </p:blipFill>
        <p:spPr>
          <a:xfrm>
            <a:off x="4427640" y="2836800"/>
            <a:ext cx="4500360" cy="3813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25747205_1211722968_136"/>
          <p:cNvPicPr/>
          <p:nvPr/>
        </p:nvPicPr>
        <p:blipFill>
          <a:blip r:embed="rId2"/>
          <a:stretch/>
        </p:blipFill>
        <p:spPr>
          <a:xfrm>
            <a:off x="179280" y="1268280"/>
            <a:ext cx="4105440" cy="38293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252360" y="5373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y comput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5435640" y="1484280"/>
            <a:ext cx="25923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3513"/>
              <a:gd name="adj5" fmla="val 129949"/>
              <a:gd name="adj6" fmla="val -44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227640" y="1484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50592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116000" y="836640"/>
            <a:ext cx="684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nice kitte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12"/>
          <p:cNvPicPr/>
          <p:nvPr/>
        </p:nvPicPr>
        <p:blipFill>
          <a:blip r:embed="rId1"/>
          <a:stretch/>
        </p:blipFill>
        <p:spPr>
          <a:xfrm>
            <a:off x="468360" y="1268280"/>
            <a:ext cx="3616200" cy="482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z29"/>
          <p:cNvPicPr/>
          <p:nvPr/>
        </p:nvPicPr>
        <p:blipFill>
          <a:blip r:embed="rId2"/>
          <a:stretch/>
        </p:blipFill>
        <p:spPr>
          <a:xfrm>
            <a:off x="5219640" y="1341360"/>
            <a:ext cx="2646360" cy="3527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5327640" y="5157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 the questions and the answer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go to school every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eat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often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ny sleep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64320" y="1600200"/>
            <a:ext cx="29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they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 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 s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s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es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I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3995640" y="1916280"/>
            <a:ext cx="1800360" cy="12967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6"/>
          <p:cNvSpPr/>
          <p:nvPr/>
        </p:nvSpPr>
        <p:spPr>
          <a:xfrm>
            <a:off x="3564000" y="2781360"/>
            <a:ext cx="2232000" cy="19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4500720" y="2852640"/>
            <a:ext cx="1295280" cy="432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4284720" y="1988640"/>
            <a:ext cx="1511280" cy="18716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4716360" y="4365720"/>
            <a:ext cx="10796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 flipV="1">
            <a:off x="4284720" y="3860280"/>
            <a:ext cx="1511280" cy="1008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up gener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1640" y="1196640"/>
            <a:ext cx="4249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oft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in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in the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WRVAeLIzqCXVe7ihDyptuA"/>
          <p:cNvPicPr/>
          <p:nvPr/>
        </p:nvPicPr>
        <p:blipFill>
          <a:blip r:embed="rId1"/>
          <a:stretch/>
        </p:blipFill>
        <p:spPr>
          <a:xfrm>
            <a:off x="5867280" y="3357720"/>
            <a:ext cx="2597400" cy="3289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peresl_3"/>
          <p:cNvPicPr/>
          <p:nvPr/>
        </p:nvPicPr>
        <p:blipFill>
          <a:blip r:embed="rId2"/>
          <a:stretch/>
        </p:blipFill>
        <p:spPr>
          <a:xfrm>
            <a:off x="250920" y="1125360"/>
            <a:ext cx="3529080" cy="31672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3745080" y="2133720"/>
            <a:ext cx="5398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oft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v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24000" y="5229360"/>
            <a:ext cx="576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chool every 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50920" y="45086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5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9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up gener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132000" y="1268280"/>
            <a:ext cx="6012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lee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916360" y="1989000"/>
            <a:ext cx="64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lee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50920" y="4724280"/>
            <a:ext cx="583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at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st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324000" y="3789360"/>
            <a:ext cx="57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st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12"/>
          <p:cNvPicPr/>
          <p:nvPr/>
        </p:nvPicPr>
        <p:blipFill>
          <a:blip r:embed="rId1"/>
          <a:stretch/>
        </p:blipFill>
        <p:spPr>
          <a:xfrm>
            <a:off x="5940360" y="306864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Deti_1"/>
          <p:cNvPicPr/>
          <p:nvPr/>
        </p:nvPicPr>
        <p:blipFill>
          <a:blip r:embed="rId2"/>
          <a:stretch/>
        </p:blipFill>
        <p:spPr>
          <a:xfrm>
            <a:off x="250920" y="1197000"/>
            <a:ext cx="36003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we form question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40388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(he, she, i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6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hel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,  are,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7" descr="Cartoon-Clipart-Free-04"/>
          <p:cNvPicPr/>
          <p:nvPr/>
        </p:nvPicPr>
        <p:blipFill>
          <a:blip r:embed="rId1"/>
          <a:stretch/>
        </p:blipFill>
        <p:spPr>
          <a:xfrm>
            <a:off x="826920" y="3860640"/>
            <a:ext cx="3025800" cy="2808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1"/>
          <p:cNvSpPr/>
          <p:nvPr/>
        </p:nvSpPr>
        <p:spPr>
          <a:xfrm>
            <a:off x="468360" y="2133720"/>
            <a:ext cx="3816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5292720" y="2060640"/>
            <a:ext cx="3024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4572000" y="98100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5" descr="25747205_1211722968_136"/>
          <p:cNvPicPr/>
          <p:nvPr/>
        </p:nvPicPr>
        <p:blipFill>
          <a:blip r:embed="rId2"/>
          <a:stretch/>
        </p:blipFill>
        <p:spPr>
          <a:xfrm>
            <a:off x="5435640" y="3500280"/>
            <a:ext cx="32335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28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(1), V+ s (he,she,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 wr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, she writ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22560" y="1628640"/>
            <a:ext cx="432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+ V + 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, s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rit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067280" y="1700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763640" y="2708280"/>
            <a:ext cx="2890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443640" y="256536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50920" y="2492280"/>
            <a:ext cx="36734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588000" y="3789360"/>
            <a:ext cx="71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877080" y="422100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7093080" y="4724280"/>
            <a:ext cx="720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76720" y="4941720"/>
            <a:ext cx="36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572000" y="2492280"/>
            <a:ext cx="324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list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920" y="4365360"/>
            <a:ext cx="2881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n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24360" y="1628280"/>
            <a:ext cx="417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usu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67" descr="59"/>
          <p:cNvPicPr/>
          <p:nvPr/>
        </p:nvPicPr>
        <p:blipFill>
          <a:blip r:embed="rId1"/>
          <a:stretch/>
        </p:blipFill>
        <p:spPr>
          <a:xfrm>
            <a:off x="4572000" y="3860640"/>
            <a:ext cx="4037040" cy="2500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3"/>
          <p:cNvSpPr/>
          <p:nvPr/>
        </p:nvSpPr>
        <p:spPr>
          <a:xfrm>
            <a:off x="4984920" y="2589120"/>
            <a:ext cx="30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4"/>
          <p:cNvSpPr/>
          <p:nvPr/>
        </p:nvSpPr>
        <p:spPr>
          <a:xfrm>
            <a:off x="3780000" y="2205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5"/>
          <p:cNvSpPr/>
          <p:nvPr/>
        </p:nvSpPr>
        <p:spPr>
          <a:xfrm>
            <a:off x="248040" y="4869000"/>
            <a:ext cx="43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ste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6"/>
          <p:cNvSpPr/>
          <p:nvPr/>
        </p:nvSpPr>
        <p:spPr>
          <a:xfrm>
            <a:off x="1332000" y="4941720"/>
            <a:ext cx="287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8" descr="image004"/>
          <p:cNvPicPr/>
          <p:nvPr/>
        </p:nvPicPr>
        <p:blipFill>
          <a:blip r:embed="rId2"/>
          <a:stretch/>
        </p:blipFill>
        <p:spPr>
          <a:xfrm>
            <a:off x="826920" y="98100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write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77800" y="4292280"/>
            <a:ext cx="244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n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usu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ucheba4"/>
          <p:cNvPicPr/>
          <p:nvPr/>
        </p:nvPicPr>
        <p:blipFill>
          <a:blip r:embed="rId1"/>
          <a:stretch/>
        </p:blipFill>
        <p:spPr>
          <a:xfrm>
            <a:off x="324000" y="1125360"/>
            <a:ext cx="4176720" cy="2838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59"/>
          <p:cNvPicPr/>
          <p:nvPr/>
        </p:nvPicPr>
        <p:blipFill>
          <a:blip r:embed="rId2"/>
          <a:stretch/>
        </p:blipFill>
        <p:spPr>
          <a:xfrm>
            <a:off x="4572000" y="3933720"/>
            <a:ext cx="4037040" cy="2500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4716360" y="2205000"/>
            <a:ext cx="405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0920" y="4797360"/>
            <a:ext cx="47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t th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332000" y="4941720"/>
            <a:ext cx="21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get mark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4221000"/>
            <a:ext cx="309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y of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0360" y="1196640"/>
            <a:ext cx="410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 of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7" descr="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48455269_0_3ad3b_3723564_L"/>
          <p:cNvPicPr/>
          <p:nvPr/>
        </p:nvPicPr>
        <p:blipFill>
          <a:blip r:embed="rId2"/>
          <a:stretch/>
        </p:blipFill>
        <p:spPr>
          <a:xfrm>
            <a:off x="5418000" y="2924280"/>
            <a:ext cx="2644920" cy="3535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4716360" y="1844640"/>
            <a:ext cx="32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o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1187280" y="486900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e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a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908000" y="4941720"/>
            <a:ext cx="21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do homewor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4221000"/>
            <a:ext cx="331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y seld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360" y="1196640"/>
            <a:ext cx="273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26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48455269_0_3ad3b_3723564_L"/>
          <p:cNvPicPr/>
          <p:nvPr/>
        </p:nvPicPr>
        <p:blipFill>
          <a:blip r:embed="rId2"/>
          <a:stretch/>
        </p:blipFill>
        <p:spPr>
          <a:xfrm>
            <a:off x="5418000" y="2924280"/>
            <a:ext cx="2644920" cy="3535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4500720" y="1628640"/>
            <a:ext cx="381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home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very 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042920" y="4869000"/>
            <a:ext cx="403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embers of the family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the mo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000" y="5157720"/>
            <a:ext cx="3771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n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wat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0000" y="1196640"/>
            <a:ext cx="5040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ook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nner now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_019"/>
          <p:cNvPicPr/>
          <p:nvPr/>
        </p:nvPicPr>
        <p:blipFill>
          <a:blip r:embed="rId1"/>
          <a:stretch/>
        </p:blipFill>
        <p:spPr>
          <a:xfrm>
            <a:off x="395280" y="1268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1449"/>
          <p:cNvPicPr/>
          <p:nvPr/>
        </p:nvPicPr>
        <p:blipFill>
          <a:blip r:embed="rId2"/>
          <a:stretch/>
        </p:blipFill>
        <p:spPr>
          <a:xfrm>
            <a:off x="3780000" y="2349360"/>
            <a:ext cx="1903320" cy="2536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_39233585_pensioners_tv_203"/>
          <p:cNvPicPr/>
          <p:nvPr/>
        </p:nvPicPr>
        <p:blipFill>
          <a:blip r:embed="rId3"/>
          <a:stretch/>
        </p:blipFill>
        <p:spPr>
          <a:xfrm>
            <a:off x="684360" y="4076640"/>
            <a:ext cx="2911320" cy="2179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5796000" y="2781360"/>
            <a:ext cx="309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rai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embers of the family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the mom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3640" y="2923920"/>
            <a:ext cx="30528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le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58920" y="1125000"/>
            <a:ext cx="288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br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7" descr="031"/>
          <p:cNvPicPr/>
          <p:nvPr/>
        </p:nvPicPr>
        <p:blipFill>
          <a:blip r:embed="rId1"/>
          <a:stretch/>
        </p:blipFill>
        <p:spPr>
          <a:xfrm>
            <a:off x="5435640" y="1125360"/>
            <a:ext cx="2160720" cy="1738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93_book1"/>
          <p:cNvPicPr/>
          <p:nvPr/>
        </p:nvPicPr>
        <p:blipFill>
          <a:blip r:embed="rId2"/>
          <a:stretch/>
        </p:blipFill>
        <p:spPr>
          <a:xfrm>
            <a:off x="5796000" y="4221000"/>
            <a:ext cx="2257560" cy="2257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158"/>
          <p:cNvPicPr/>
          <p:nvPr/>
        </p:nvPicPr>
        <p:blipFill>
          <a:blip r:embed="rId3"/>
          <a:stretch/>
        </p:blipFill>
        <p:spPr>
          <a:xfrm>
            <a:off x="468360" y="2276640"/>
            <a:ext cx="3995640" cy="2827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1"/>
          <p:cNvSpPr/>
          <p:nvPr/>
        </p:nvSpPr>
        <p:spPr>
          <a:xfrm>
            <a:off x="2195640" y="5445000"/>
            <a:ext cx="30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4859280" y="3429000"/>
            <a:ext cx="3889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int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755640" y="155736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wat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 no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116000" y="5950080"/>
            <a:ext cx="53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ook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17"/>
          <p:cNvSpPr/>
          <p:nvPr/>
        </p:nvSpPr>
        <p:spPr>
          <a:xfrm>
            <a:off x="468360" y="4552920"/>
            <a:ext cx="417816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77440" y="333000"/>
            <a:ext cx="65055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2050920" y="836640"/>
            <a:ext cx="543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WRVAeLIzqCXVe7ihDyptuA"/>
          <p:cNvPicPr/>
          <p:nvPr/>
        </p:nvPicPr>
        <p:blipFill>
          <a:blip r:embed="rId1"/>
          <a:stretch/>
        </p:blipFill>
        <p:spPr>
          <a:xfrm>
            <a:off x="3924360" y="2060640"/>
            <a:ext cx="1893960" cy="2786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pic03"/>
          <p:cNvPicPr/>
          <p:nvPr/>
        </p:nvPicPr>
        <p:blipFill>
          <a:blip r:embed="rId2"/>
          <a:stretch/>
        </p:blipFill>
        <p:spPr>
          <a:xfrm>
            <a:off x="6227640" y="4508640"/>
            <a:ext cx="1762200" cy="18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313064"/>
          <p:cNvPicPr/>
          <p:nvPr/>
        </p:nvPicPr>
        <p:blipFill>
          <a:blip r:embed="rId3"/>
          <a:stretch/>
        </p:blipFill>
        <p:spPr>
          <a:xfrm>
            <a:off x="6877080" y="148428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health1"/>
          <p:cNvPicPr/>
          <p:nvPr/>
        </p:nvPicPr>
        <p:blipFill>
          <a:blip r:embed="rId4"/>
          <a:stretch/>
        </p:blipFill>
        <p:spPr>
          <a:xfrm>
            <a:off x="539640" y="3429000"/>
            <a:ext cx="2160720" cy="148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DSCN0948(2)"/>
          <p:cNvPicPr/>
          <p:nvPr/>
        </p:nvPicPr>
        <p:blipFill>
          <a:blip r:embed="rId5"/>
          <a:stretch/>
        </p:blipFill>
        <p:spPr>
          <a:xfrm>
            <a:off x="1909800" y="1484280"/>
            <a:ext cx="2014560" cy="1513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684360" y="1989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2843280" y="3860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5726160" y="21337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971640" y="551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078520" y="522936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468360" y="1125360"/>
            <a:ext cx="417816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5472000" y="1197000"/>
            <a:ext cx="3672000" cy="252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0" y="2997360"/>
            <a:ext cx="4176720" cy="23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4716360" y="4292640"/>
            <a:ext cx="4178520" cy="23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128244_01"/>
          <p:cNvPicPr/>
          <p:nvPr/>
        </p:nvPicPr>
        <p:blipFill>
          <a:blip r:embed="rId6"/>
          <a:stretch/>
        </p:blipFill>
        <p:spPr>
          <a:xfrm>
            <a:off x="2050920" y="4941720"/>
            <a:ext cx="2017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0:22:05Z</dcterms:created>
  <dc:creator>Dezmond</dc:creator>
  <dc:description/>
  <dc:language>en-US</dc:language>
  <cp:lastModifiedBy>Home</cp:lastModifiedBy>
  <dcterms:modified xsi:type="dcterms:W3CDTF">2015-02-04T15:42:10Z</dcterms:modified>
  <cp:revision>47</cp:revision>
  <dc:subject/>
  <dc:title>Слайд 1</dc:title>
</cp:coreProperties>
</file>