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2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4.gif" ContentType="image/gif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CA4-0580-4A1F-B79F-AC1865E6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976-EB64-4E7B-909C-3CC05CF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83B-93DD-4F07-B452-B5C48EEB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C91-4EA6-47CB-BE79-7BB3CB13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56F3-BC48-4F0A-A18F-961D77B8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CB62-C584-4CC7-A005-38F948EA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39F7-67AC-4E71-B6E6-F4F89A4B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FD9-2CD5-4D5B-AA20-77C68402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FE24-F8C2-4BC6-88C4-1A97055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DA36-22FB-42B7-AB12-03605AD1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ADE5-A0F3-4FA9-9D39-4E4DBF4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940-A8DA-4A68-B20C-55205D9D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F676-DEA4-449F-8BF7-6B926D4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589B-93D1-4D14-BC98-838F641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3138-7043-4B65-8692-668FCE5F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5F16-9D67-4734-A028-BCEC9D31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7465-707A-490A-810E-B63C2092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A60E-AA1A-46CB-9C63-2C268E75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D342-E3EC-45F7-AAC7-40BA84E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706B-7A8C-42AC-A86F-F6A3301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5B4B-5791-4A51-9FBB-93F7986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A0FE-D464-4E15-8330-C8A2E9F6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0D0-9A3F-4E16-A265-F721D96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7FAC-35EE-4C54-B299-6F65C99E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E2BB-4674-4ADE-9F52-5A67F4D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16EC-54E3-426C-AABD-BE90AA48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7BFD-6EE1-4742-89BF-D807A7E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F8F6-2687-4EC4-AF45-9255A4D4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A0975-3092-416F-A865-AE5D9795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D4EC-DDF9-469F-BFD9-1A4AC7D8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1AF-A9F5-4C47-900B-4C4C648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034-C3CF-49A5-83EE-26649DF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C82-B015-4E87-B0DE-2D7BF56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0CE-D987-4AFB-8A41-190EFDF4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CA0-5358-4654-A386-E553094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636-F9FB-4D69-BC0E-CC623832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9FD-30EF-4450-8759-655BAED6A0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7E5F-7579-4894-99EB-6AA69FD5D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04BD-F71E-41D2-A52E-14F708A12C3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the action happ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ld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22560" y="1628640"/>
            <a:ext cx="432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the action is happe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4068720" y="1700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do we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77440" y="333000"/>
            <a:ext cx="65055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2050920" y="836640"/>
            <a:ext cx="5434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ir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0_a04e_4217e652_L"/>
          <p:cNvPicPr/>
          <p:nvPr/>
        </p:nvPicPr>
        <p:blipFill>
          <a:blip r:embed="rId1"/>
          <a:stretch/>
        </p:blipFill>
        <p:spPr>
          <a:xfrm>
            <a:off x="252360" y="4076640"/>
            <a:ext cx="2165400" cy="1603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42-15522243"/>
          <p:cNvPicPr/>
          <p:nvPr/>
        </p:nvPicPr>
        <p:blipFill>
          <a:blip r:embed="rId2"/>
          <a:stretch/>
        </p:blipFill>
        <p:spPr>
          <a:xfrm>
            <a:off x="6373800" y="1197000"/>
            <a:ext cx="1584360" cy="240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1186364766_d175big"/>
          <p:cNvPicPr/>
          <p:nvPr/>
        </p:nvPicPr>
        <p:blipFill>
          <a:blip r:embed="rId3"/>
          <a:stretch/>
        </p:blipFill>
        <p:spPr>
          <a:xfrm>
            <a:off x="1116000" y="1268280"/>
            <a:ext cx="1625760" cy="2016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1213697528_skuka"/>
          <p:cNvPicPr/>
          <p:nvPr/>
        </p:nvPicPr>
        <p:blipFill>
          <a:blip r:embed="rId4"/>
          <a:stretch/>
        </p:blipFill>
        <p:spPr>
          <a:xfrm>
            <a:off x="5942160" y="4221000"/>
            <a:ext cx="2617560" cy="1866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chud_mesh"/>
          <p:cNvPicPr/>
          <p:nvPr/>
        </p:nvPicPr>
        <p:blipFill>
          <a:blip r:embed="rId5"/>
          <a:stretch/>
        </p:blipFill>
        <p:spPr>
          <a:xfrm>
            <a:off x="2916360" y="4076640"/>
            <a:ext cx="2314440" cy="20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8"/>
          <p:cNvSpPr/>
          <p:nvPr/>
        </p:nvSpPr>
        <p:spPr>
          <a:xfrm>
            <a:off x="539640" y="328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lk with her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826920" y="5661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70836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5726160" y="350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e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6084720" y="602136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3" descr="1"/>
          <p:cNvPicPr/>
          <p:nvPr/>
        </p:nvPicPr>
        <p:blipFill>
          <a:blip r:embed="rId6"/>
          <a:stretch/>
        </p:blipFill>
        <p:spPr>
          <a:xfrm>
            <a:off x="3924360" y="1484280"/>
            <a:ext cx="1173240" cy="266544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26"/>
          <p:cNvSpPr/>
          <p:nvPr/>
        </p:nvSpPr>
        <p:spPr>
          <a:xfrm>
            <a:off x="3492360" y="1341360"/>
            <a:ext cx="2017800" cy="3024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17"/>
          <p:cNvSpPr/>
          <p:nvPr/>
        </p:nvSpPr>
        <p:spPr>
          <a:xfrm>
            <a:off x="179280" y="5402160"/>
            <a:ext cx="3745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8773"/>
              <a:gd name="adj5" fmla="val 89842"/>
              <a:gd name="adj6" fmla="val 115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77440" y="333000"/>
            <a:ext cx="65055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835280" y="836640"/>
            <a:ext cx="543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05"/>
          <p:cNvPicPr/>
          <p:nvPr/>
        </p:nvPicPr>
        <p:blipFill>
          <a:blip r:embed="rId1"/>
          <a:stretch/>
        </p:blipFill>
        <p:spPr>
          <a:xfrm>
            <a:off x="4427640" y="2836800"/>
            <a:ext cx="4500360" cy="3813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25747205_1211722968_136"/>
          <p:cNvPicPr/>
          <p:nvPr/>
        </p:nvPicPr>
        <p:blipFill>
          <a:blip r:embed="rId2"/>
          <a:stretch/>
        </p:blipFill>
        <p:spPr>
          <a:xfrm>
            <a:off x="179280" y="1268280"/>
            <a:ext cx="4105440" cy="38293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252360" y="5373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y comput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5435640" y="148428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3513"/>
              <a:gd name="adj5" fmla="val 129949"/>
              <a:gd name="adj6" fmla="val -44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227640" y="14842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50592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116000" y="836640"/>
            <a:ext cx="684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nice kitte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12"/>
          <p:cNvPicPr/>
          <p:nvPr/>
        </p:nvPicPr>
        <p:blipFill>
          <a:blip r:embed="rId1"/>
          <a:stretch/>
        </p:blipFill>
        <p:spPr>
          <a:xfrm>
            <a:off x="468360" y="1268280"/>
            <a:ext cx="3616200" cy="482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z29"/>
          <p:cNvPicPr/>
          <p:nvPr/>
        </p:nvPicPr>
        <p:blipFill>
          <a:blip r:embed="rId2"/>
          <a:stretch/>
        </p:blipFill>
        <p:spPr>
          <a:xfrm>
            <a:off x="5219640" y="1341360"/>
            <a:ext cx="2646360" cy="35276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2"/>
          <p:cNvSpPr/>
          <p:nvPr/>
        </p:nvSpPr>
        <p:spPr>
          <a:xfrm>
            <a:off x="5327640" y="5157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 the questions and the answer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go to school every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eat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often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ny sleep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64320" y="1600200"/>
            <a:ext cx="29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the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es, i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es, s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s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es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I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3995640" y="1916280"/>
            <a:ext cx="1800360" cy="12967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3564000" y="2781360"/>
            <a:ext cx="2232000" cy="1942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4500720" y="2852640"/>
            <a:ext cx="1295280" cy="4320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4284720" y="1988640"/>
            <a:ext cx="1511280" cy="18716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1"/>
          <p:cNvSpPr/>
          <p:nvPr/>
        </p:nvSpPr>
        <p:spPr>
          <a:xfrm>
            <a:off x="4716360" y="4365720"/>
            <a:ext cx="107964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2"/>
          <p:cNvSpPr/>
          <p:nvPr/>
        </p:nvSpPr>
        <p:spPr>
          <a:xfrm flipV="1">
            <a:off x="4284720" y="3860280"/>
            <a:ext cx="1511280" cy="1008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up gener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1640" y="1196640"/>
            <a:ext cx="4249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often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int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in the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WRVAeLIzqCXVe7ihDyptuA"/>
          <p:cNvPicPr/>
          <p:nvPr/>
        </p:nvPicPr>
        <p:blipFill>
          <a:blip r:embed="rId1"/>
          <a:stretch/>
        </p:blipFill>
        <p:spPr>
          <a:xfrm>
            <a:off x="5867280" y="3357720"/>
            <a:ext cx="2597400" cy="3289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peresl_3"/>
          <p:cNvPicPr/>
          <p:nvPr/>
        </p:nvPicPr>
        <p:blipFill>
          <a:blip r:embed="rId2"/>
          <a:stretch/>
        </p:blipFill>
        <p:spPr>
          <a:xfrm>
            <a:off x="250920" y="1125360"/>
            <a:ext cx="3529080" cy="31672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3745080" y="2133720"/>
            <a:ext cx="5398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often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ev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24000" y="5229360"/>
            <a:ext cx="576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chool every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50920" y="450864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5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9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up gener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132000" y="1268280"/>
            <a:ext cx="6012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lee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916360" y="1989000"/>
            <a:ext cx="64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lee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250920" y="4724280"/>
            <a:ext cx="583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at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st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324000" y="3789360"/>
            <a:ext cx="57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st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12"/>
          <p:cNvPicPr/>
          <p:nvPr/>
        </p:nvPicPr>
        <p:blipFill>
          <a:blip r:embed="rId1"/>
          <a:stretch/>
        </p:blipFill>
        <p:spPr>
          <a:xfrm>
            <a:off x="5940360" y="306864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Deti_1"/>
          <p:cNvPicPr/>
          <p:nvPr/>
        </p:nvPicPr>
        <p:blipFill>
          <a:blip r:embed="rId2"/>
          <a:stretch/>
        </p:blipFill>
        <p:spPr>
          <a:xfrm>
            <a:off x="250920" y="1197000"/>
            <a:ext cx="36003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we form question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40388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(he, she, i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6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hel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,  are,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7" descr="Cartoon-Clipart-Free-04"/>
          <p:cNvPicPr/>
          <p:nvPr/>
        </p:nvPicPr>
        <p:blipFill>
          <a:blip r:embed="rId1"/>
          <a:stretch/>
        </p:blipFill>
        <p:spPr>
          <a:xfrm>
            <a:off x="826920" y="3860640"/>
            <a:ext cx="3025800" cy="28083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1"/>
          <p:cNvSpPr/>
          <p:nvPr/>
        </p:nvSpPr>
        <p:spPr>
          <a:xfrm>
            <a:off x="468360" y="2133720"/>
            <a:ext cx="3816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5292720" y="2060640"/>
            <a:ext cx="3024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4572000" y="98100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5" descr="25747205_1211722968_136"/>
          <p:cNvPicPr/>
          <p:nvPr/>
        </p:nvPicPr>
        <p:blipFill>
          <a:blip r:embed="rId2"/>
          <a:stretch/>
        </p:blipFill>
        <p:spPr>
          <a:xfrm>
            <a:off x="5435640" y="3500280"/>
            <a:ext cx="32335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28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(1), V+ s (he,she,i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 wr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, she writ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22560" y="1628640"/>
            <a:ext cx="432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+ V +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writ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writ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, s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rit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067280" y="1700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fo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763640" y="2708280"/>
            <a:ext cx="2890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6443640" y="2565360"/>
            <a:ext cx="720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50920" y="2492280"/>
            <a:ext cx="367344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588000" y="3789360"/>
            <a:ext cx="71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6877080" y="4221000"/>
            <a:ext cx="720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7093080" y="4724280"/>
            <a:ext cx="720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276720" y="4941720"/>
            <a:ext cx="36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4572000" y="2492280"/>
            <a:ext cx="324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liste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2881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ne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24360" y="162828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 usu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67" descr="59"/>
          <p:cNvPicPr/>
          <p:nvPr/>
        </p:nvPicPr>
        <p:blipFill>
          <a:blip r:embed="rId1"/>
          <a:stretch/>
        </p:blipFill>
        <p:spPr>
          <a:xfrm>
            <a:off x="4572000" y="3860640"/>
            <a:ext cx="4037040" cy="2500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3"/>
          <p:cNvSpPr/>
          <p:nvPr/>
        </p:nvSpPr>
        <p:spPr>
          <a:xfrm>
            <a:off x="4984920" y="2589120"/>
            <a:ext cx="30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4"/>
          <p:cNvSpPr/>
          <p:nvPr/>
        </p:nvSpPr>
        <p:spPr>
          <a:xfrm>
            <a:off x="3780000" y="2205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5"/>
          <p:cNvSpPr/>
          <p:nvPr/>
        </p:nvSpPr>
        <p:spPr>
          <a:xfrm>
            <a:off x="248040" y="4869000"/>
            <a:ext cx="43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ste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6"/>
          <p:cNvSpPr/>
          <p:nvPr/>
        </p:nvSpPr>
        <p:spPr>
          <a:xfrm>
            <a:off x="1332000" y="4941720"/>
            <a:ext cx="287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8" descr="image004"/>
          <p:cNvPicPr/>
          <p:nvPr/>
        </p:nvPicPr>
        <p:blipFill>
          <a:blip r:embed="rId2"/>
          <a:stretch/>
        </p:blipFill>
        <p:spPr>
          <a:xfrm>
            <a:off x="826920" y="981000"/>
            <a:ext cx="2448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write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77800" y="4292280"/>
            <a:ext cx="244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ne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 usu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ucheba4"/>
          <p:cNvPicPr/>
          <p:nvPr/>
        </p:nvPicPr>
        <p:blipFill>
          <a:blip r:embed="rId1"/>
          <a:stretch/>
        </p:blipFill>
        <p:spPr>
          <a:xfrm>
            <a:off x="324000" y="1125360"/>
            <a:ext cx="4176720" cy="2838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59"/>
          <p:cNvPicPr/>
          <p:nvPr/>
        </p:nvPicPr>
        <p:blipFill>
          <a:blip r:embed="rId2"/>
          <a:stretch/>
        </p:blipFill>
        <p:spPr>
          <a:xfrm>
            <a:off x="4572000" y="3933720"/>
            <a:ext cx="4037040" cy="2500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716360" y="2205000"/>
            <a:ext cx="405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t the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50920" y="4797360"/>
            <a:ext cx="47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t the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332000" y="4941720"/>
            <a:ext cx="21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get mark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4221000"/>
            <a:ext cx="309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y of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00360" y="1196640"/>
            <a:ext cx="410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 of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7" descr="10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268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48455269_0_3ad3b_3723564_L"/>
          <p:cNvPicPr/>
          <p:nvPr/>
        </p:nvPicPr>
        <p:blipFill>
          <a:blip r:embed="rId2"/>
          <a:stretch/>
        </p:blipFill>
        <p:spPr>
          <a:xfrm>
            <a:off x="5418000" y="2924280"/>
            <a:ext cx="2644920" cy="35352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9"/>
          <p:cNvSpPr/>
          <p:nvPr/>
        </p:nvSpPr>
        <p:spPr>
          <a:xfrm>
            <a:off x="4716360" y="1844640"/>
            <a:ext cx="32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o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1187280" y="486900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e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a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908000" y="4941720"/>
            <a:ext cx="21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do homework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9640" y="4221000"/>
            <a:ext cx="331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y seld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32360" y="1196640"/>
            <a:ext cx="2736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10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26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48455269_0_3ad3b_3723564_L"/>
          <p:cNvPicPr/>
          <p:nvPr/>
        </p:nvPicPr>
        <p:blipFill>
          <a:blip r:embed="rId2"/>
          <a:stretch/>
        </p:blipFill>
        <p:spPr>
          <a:xfrm>
            <a:off x="5418000" y="2924280"/>
            <a:ext cx="2644920" cy="35352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4500720" y="1628640"/>
            <a:ext cx="3816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homewo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very da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1042920" y="4869000"/>
            <a:ext cx="4033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embers of the family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the mom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24000" y="5157720"/>
            <a:ext cx="3771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nn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watc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V n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780000" y="1196640"/>
            <a:ext cx="5040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ook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inner now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5" descr="_019"/>
          <p:cNvPicPr/>
          <p:nvPr/>
        </p:nvPicPr>
        <p:blipFill>
          <a:blip r:embed="rId1"/>
          <a:stretch/>
        </p:blipFill>
        <p:spPr>
          <a:xfrm>
            <a:off x="39528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1449"/>
          <p:cNvPicPr/>
          <p:nvPr/>
        </p:nvPicPr>
        <p:blipFill>
          <a:blip r:embed="rId2"/>
          <a:stretch/>
        </p:blipFill>
        <p:spPr>
          <a:xfrm>
            <a:off x="3780000" y="2349360"/>
            <a:ext cx="1903320" cy="2536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_39233585_pensioners_tv_203"/>
          <p:cNvPicPr/>
          <p:nvPr/>
        </p:nvPicPr>
        <p:blipFill>
          <a:blip r:embed="rId3"/>
          <a:stretch/>
        </p:blipFill>
        <p:spPr>
          <a:xfrm>
            <a:off x="684360" y="4076640"/>
            <a:ext cx="2911320" cy="2179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5796000" y="2781360"/>
            <a:ext cx="309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rai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o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embers of the family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the mom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03640" y="2923920"/>
            <a:ext cx="30528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tle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58920" y="1125000"/>
            <a:ext cx="2881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broth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7" descr="031"/>
          <p:cNvPicPr/>
          <p:nvPr/>
        </p:nvPicPr>
        <p:blipFill>
          <a:blip r:embed="rId1"/>
          <a:stretch/>
        </p:blipFill>
        <p:spPr>
          <a:xfrm>
            <a:off x="5435640" y="1125360"/>
            <a:ext cx="2160720" cy="1738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93_book1"/>
          <p:cNvPicPr/>
          <p:nvPr/>
        </p:nvPicPr>
        <p:blipFill>
          <a:blip r:embed="rId2"/>
          <a:stretch/>
        </p:blipFill>
        <p:spPr>
          <a:xfrm>
            <a:off x="5796000" y="4221000"/>
            <a:ext cx="2257560" cy="2257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158"/>
          <p:cNvPicPr/>
          <p:nvPr/>
        </p:nvPicPr>
        <p:blipFill>
          <a:blip r:embed="rId3"/>
          <a:stretch/>
        </p:blipFill>
        <p:spPr>
          <a:xfrm>
            <a:off x="468360" y="2276640"/>
            <a:ext cx="3995640" cy="28270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1"/>
          <p:cNvSpPr/>
          <p:nvPr/>
        </p:nvSpPr>
        <p:spPr>
          <a:xfrm>
            <a:off x="2195640" y="544500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4859280" y="3429000"/>
            <a:ext cx="3889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int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755640" y="155736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watc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V no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116000" y="5950080"/>
            <a:ext cx="532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ad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ook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17"/>
          <p:cNvSpPr/>
          <p:nvPr/>
        </p:nvSpPr>
        <p:spPr>
          <a:xfrm>
            <a:off x="468360" y="4552920"/>
            <a:ext cx="4178160" cy="23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77440" y="333000"/>
            <a:ext cx="65055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2050920" y="836640"/>
            <a:ext cx="5434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o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WRVAeLIzqCXVe7ihDyptuA"/>
          <p:cNvPicPr/>
          <p:nvPr/>
        </p:nvPicPr>
        <p:blipFill>
          <a:blip r:embed="rId1"/>
          <a:stretch/>
        </p:blipFill>
        <p:spPr>
          <a:xfrm>
            <a:off x="3924360" y="2060640"/>
            <a:ext cx="1893960" cy="2786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pic03"/>
          <p:cNvPicPr/>
          <p:nvPr/>
        </p:nvPicPr>
        <p:blipFill>
          <a:blip r:embed="rId2"/>
          <a:stretch/>
        </p:blipFill>
        <p:spPr>
          <a:xfrm>
            <a:off x="6227640" y="4508640"/>
            <a:ext cx="1762200" cy="1800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313064"/>
          <p:cNvPicPr/>
          <p:nvPr/>
        </p:nvPicPr>
        <p:blipFill>
          <a:blip r:embed="rId3"/>
          <a:stretch/>
        </p:blipFill>
        <p:spPr>
          <a:xfrm>
            <a:off x="6877080" y="1484280"/>
            <a:ext cx="1458720" cy="1944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health1"/>
          <p:cNvPicPr/>
          <p:nvPr/>
        </p:nvPicPr>
        <p:blipFill>
          <a:blip r:embed="rId4"/>
          <a:stretch/>
        </p:blipFill>
        <p:spPr>
          <a:xfrm>
            <a:off x="539640" y="3429000"/>
            <a:ext cx="2160720" cy="148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DSCN0948(2)"/>
          <p:cNvPicPr/>
          <p:nvPr/>
        </p:nvPicPr>
        <p:blipFill>
          <a:blip r:embed="rId5"/>
          <a:stretch/>
        </p:blipFill>
        <p:spPr>
          <a:xfrm>
            <a:off x="1909800" y="1484280"/>
            <a:ext cx="2014560" cy="15130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684360" y="1989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2843280" y="38606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5726160" y="21337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971640" y="5516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5078520" y="522936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468360" y="1125360"/>
            <a:ext cx="4178160" cy="23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5472000" y="1197000"/>
            <a:ext cx="3672000" cy="252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0" y="2997360"/>
            <a:ext cx="4176720" cy="23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4716360" y="4292640"/>
            <a:ext cx="4178520" cy="23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128244_01"/>
          <p:cNvPicPr/>
          <p:nvPr/>
        </p:nvPicPr>
        <p:blipFill>
          <a:blip r:embed="rId6"/>
          <a:stretch/>
        </p:blipFill>
        <p:spPr>
          <a:xfrm>
            <a:off x="2050920" y="4941720"/>
            <a:ext cx="2017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0:22:05Z</dcterms:created>
  <dc:creator>Dezmond</dc:creator>
  <dc:description/>
  <dc:language>en-US</dc:language>
  <cp:lastModifiedBy>Home</cp:lastModifiedBy>
  <dcterms:modified xsi:type="dcterms:W3CDTF">2015-02-04T15:42:10Z</dcterms:modified>
  <cp:revision>47</cp:revision>
  <dc:subject/>
  <dc:title>Слайд 1</dc:title>
</cp:coreProperties>
</file>