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32C-BE50-482B-84E4-6F6DAD1D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88E-A4A1-46B8-A97B-3483CF83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9C0-3888-4F5A-A054-F1A96CAE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490-2431-4A5A-9175-5A9A60C0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2622-5775-439D-8AC5-6AA32C60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7CE0-91F2-4F35-870B-37D133E4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B270-D3C1-4568-9B96-75B0A79A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7C75-A0F1-43F3-86AB-CDE6A09B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040F-2684-4064-9391-82A0515A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8C99-DC5F-4F8C-9155-AE8E4AFB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E02C-D267-4F0A-B9BC-B7F6FC8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178-1AF7-4E72-A946-4A71D6DC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C103-47A7-4FC9-BF2C-100BFE85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557C-F8B5-4EFB-872A-3B929F2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039C-112F-45F6-962C-32271A46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AB8B-7C06-46B9-AD93-89D3F19F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4E46-BA5A-48A3-AFD8-AC330AC8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FEC-9E39-476E-9CB1-98FE2AC0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A6E-B297-46B9-8716-5CBC4704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C0D-039B-426E-8AE5-D01C8276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37F-E693-45EC-855C-733B84D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8DF-D2AC-4457-8AA9-5436056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8EC-25AC-43F7-8061-93B97D01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8BE-D0D6-4DDA-ACA8-D55D189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9D4D-3587-4AA3-93F8-F8D16658682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BF3-E2F8-4070-8EBC-1CDF78A3365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 Black"/>
              </a:rPr>
              <a:t>Государственное бюджетное образовательное учреждение среднего профессионального образования «Губернский колледж г. Сызрани»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47920" y="114264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972720"/>
            <a:ext cx="80773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пасибо деду за Победу в Великой Отечественной войн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Автор: Крончева Анастасия Александровна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учащаяся 201.01-3 группы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  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ГБОУ СПО  «ГК г. Сызрани»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Преподаватель, социальный педагог: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Карнаухова Вера Александровна              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ГБОУ СПО «ГК г. Сызрани»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Сызрань 2014г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Гильза с землёй с братской могил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496040" cy="48006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002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Его последнее сражение было под Прохоровкой. Он был участником этой битвы, там и погиб. Его мать Марина Терентьевна умерла, так и не узнав, где похоронен её сын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Мемориальное кладбище в с. Крапивенские Дворы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 только благодаря газете «Красный Октябрь» и членам клуба «Поиск» Белгородской области, спустя десятки лет, родственники узнали о месте захоронения сержанта Горланова  Петра Аркадьевича. Они, в том числе и Вера Александровна посетили мемориальное кладбище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96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143000" y="118764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А ведь ему было всего девятнадцать лет. Много это или мало? Конечно, мало! Ведь в жизни он ещё ничего не видел, а мог бы, но он погиб защищая родную землю от фашизма. Защитил и нас, сегодня живущих в свободной стране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 больно смотреть, как в Польше, Украине, Латвии сносят памятники советским солдатам, называя их оккупантами. Нам обидно и больно за своих соотечественников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3429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809880" cy="56386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4267080" y="45720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Военный фронт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19112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Горланов Михаил Аркадьеви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1927-1996гг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 годы войны служил на Черноморском флот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Они «ковали» Победу над фашизмом, в тылу на трудовом фронте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Родител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Горланов Аркадий Евсеевич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(1882-1943гг.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 военные годы работал в Москве в Водоканалтресте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76560" y="15238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Горланова Марина Терентьевн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(1902-1985гг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 военные годы работала в колхозе «Рассвет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Трудовой фронт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орланова Варвара Аркадье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(1918-1991гг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годы войны работала в г. Хотьково на военном парашютном завод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Трудовой фронт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орланова Анна Аркадьев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1921-1998гг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годы ВОВ работала в Москве, а также в Геолого-разведочной парт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годы войны было открыто новое месторождение нефти в Каспийском мор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88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Трудовой фронт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орланова Людмила Аркадьевна 1931г.р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ботала в колхозе «Рассвет», труженик тыл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962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оды войны 1941-1945гг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Наши потери в ВОВ  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26,6 млн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челове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охорово поле. Великое танковое сражение: принимали участие 1200 танков с обеих сторо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пасибо деду за Победу: пример семьи Горлановых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оенный фрон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Трудовой фрон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2284200"/>
            <a:ext cx="7467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 начале мая с первой сиренью и нежным сиянием распустившейся листвы в суетную нашу жизнь входит торжественная, высокая и щемящая нота: встреча фронтовиков. Они встречаются у  обелисков, в музеях боевой славы. Блестят  орденами наглаженные пиджаки, тихо позвякивают многочисленные медали. И объятия, и слёзы, и больно видеть, что на этих встречах они не досчитываются кого-то. Время идёт, стирая в памяти имена погибших и ветеранов. Я считаю, что это было правильное решение создать бессмертный полк. Он должен жить вечно, передавая эти имена нам и нашим потомкам, что помнили и чтил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 рассвете 22 июня 1941 г. гитлеровская Германия напала на Советский Союз. На стороне Германии выступили Румыния, Венгрия, Италия и Финляндия. Группировка войск агрессора на-считывала 5,5 млн. человек, 190 дивизий, 5 тыс. самолетов, около 4 тыс. танков и самоходных ар-тиллерийских установок (САУ), 47 тыс. орудий и минометов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Людские потери СССР —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6,3 млн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военнослужащих убитыми и умерших от ранений,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555 тыс.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умерших от болезней, погибших в результате происшествий, осужденных к расстрелу (по донесениям войск, лечебных учреждений, военных трибуналов) и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4,5 млн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попавшими в плен и пропавшими без вести. Общие демографические потери (включающие погибшее мирное население на оккупированной территории и повышенную смертность на остальной территории СССР от невзгод войны) —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26,6 млн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человек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1802880"/>
            <a:ext cx="746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ри сборе и изучении материалов, посвящённых 70-летию со дня Великой Победы, я узнала, что в боях под Прохоровкой участвовал Горланов Пётр Аркадьевич, родственник нашего социального педагога Карнауховой Веры Александровны. Он родился в селе Рамено в 1924 году в многодетной семье. Рос подвижным и озорным ребёнком, но в школе учился хорошо.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Каждый из нас сделал на Прохоровском поле всё, что было в его человеческих силах» - так вспоминал  Герой Советского Союза Г. Пэнэжк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хоровское сражение – это танковое сражение, в котором принимало участие до 1200 танков с обеих сторон. 12.07.1943 года был сломан «бронированный хребет» немецко-фашистским войскам. Больше на нашу землю фашисты не наступал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267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оенный фрон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90760" y="159984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орлан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ётр Аркадьеви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(1924-1943гг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ержант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гиб на Курской Дуге, похоронен в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. Крапивенские Дворы, Белгородской обла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733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«Военный треугольник»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исьмо с фрон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276720" cy="44197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495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охоронк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4-12-11T10:27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