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9B75-81EC-4432-B3E6-CD55891E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4772-17AE-4695-8EF2-1AA9CFBD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9E61-AF80-466F-B43F-51813680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7A81-0A01-428C-A0EE-05C2BDF2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73BD-4CAD-447B-B15D-6FF50AF3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AC16-6A91-4C9D-BC0D-6A151A7D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FAEB-7936-433C-B33B-940A3E98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7E41-3ABE-46D6-B023-DF6DA74C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4A65-AAF7-4D0A-B329-176D8DAF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5DDA-4298-438D-9DF8-B2F92924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BC6B-EF7B-4544-BA61-C5E3CB9E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F68-5218-41F1-8293-2B82031A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F77D-79AF-466F-B432-DA8276A2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4E8F-BB4C-4268-AAD4-5AC11591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B6A9-B486-4EB9-97AF-40D02BDD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80E3-0619-4E8C-AE19-7B1B2312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5F1E-F243-4A4C-831C-FF36D94B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80A7-41E6-4030-ACB2-C382D641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CBD-4F7F-433F-9AFC-E7D72C41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091C-79B3-4192-894B-F8486733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FD5-A613-4D03-AD3B-32CFE986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DBA5-3D63-4551-8776-880B3BE3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D4B-2F96-480F-8066-EAB257FA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D1E-9869-4883-A765-4A741493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5B62-BEE4-4CD3-B748-123B13E1C1F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238F-A1B9-40AD-8D6B-5EB1613E859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 Black"/>
              </a:rPr>
              <a:t>Государственное бюджетное образовательное учреждение среднего профессионального образования «Губернский колледж г. Сызрани»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447920" y="1142640"/>
            <a:ext cx="6400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972720"/>
            <a:ext cx="80773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Спасибо деду за Победу в Великой Отечественной войн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                                                            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                                                            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Автор: Крончева Анастасия Александровна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                                              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учащаяся 201.01-3 группы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                                                  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ГБОУ СПО  «ГК г. Сызрани»</a:t>
            </a: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                                                           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                                                           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                                                         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Преподаватель, социальный педагог: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                                        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Карнаухова Вера Александровна              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                             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ГБОУ СПО «ГК г. Сызрани»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                                                                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Сызрань 2014г.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Гильза с землёй с братской могил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4496040" cy="48006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800240" y="15235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Его последнее сражение было под Прохоровкой. Он был участником этой битвы, там и погиб. Его мать Марина Терентьевна умерла, так и не узнав, где похоронен её сын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Мемориальное кладбище в с. Крапивенские Дворы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И только благодаря газете «Красный Октябрь» и членам клуба «Поиск» Белгородской области, спустя десятки лет, родственники узнали о месте захоронения сержанта Горланова  Петра Аркадьевича. Они, в том числе и Вера Александровна посетили мемориальное кладбище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962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143000" y="1187640"/>
            <a:ext cx="6781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А ведь ему было всего девятнадцать лет. Много это или мало? Конечно, мало! Ведь в жизни он ещё ничего не видел, а мог бы, но он погиб защищая родную землю от фашизма. Защитил и нас, сегодня живущих в свободной стране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И больно смотреть, как в Польше, Украине, Латвии сносят памятники советским солдатам, называя их оккупантами. Нам обидно и больно за своих соотечественников.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3429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3809880" cy="56386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4267080" y="457200"/>
            <a:ext cx="4572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Военный фронт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191120" y="19810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Горланов Михаил Аркадьевич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(1927-1996гг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В годы войны служил на Черноморском флоте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50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Они «ковали» Победу над фашизмом, в тылу на трудовом фронте!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Родител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Горланов Аркадий Евсеевич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(1882-1943гг.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В военные годы работал в Москве в Водоканалтресте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76560" y="152388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Горланова Марина Терентьевна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(1902-1985гг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В военные годы работала в колхозе «Рассвет»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3810240" cy="38862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505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Трудовой фронт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Горланова Варвара Аркадьевн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(1918-1991гг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годы войны работала в г. Хотьково на военном парашютном заводе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581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Трудовой фронт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Горланова Анна Аркадьевн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(1921-1998гг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годы ВОВ работала в Москве, а также в Геолого-разведочной партии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годы войны было открыто новое месторождение нефти в Каспийском море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3886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Трудовой фронт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Горланова Людмила Аркадьевна 1931г.р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аботала в колхозе «Рассвет», труженик тыл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9625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оды войны 1941-1945гг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Наши потери в ВОВ  </a:t>
            </a: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26,6 млн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человек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рохорово поле. Великое танковое сражение: принимали участие 1200 танков с обеих сторон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Спасибо деду за Победу: пример семьи Горлановых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оенный фронт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Трудовой фронт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2284200"/>
            <a:ext cx="7467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В начале мая с первой сиренью и нежным сиянием распустившейся листвы в суетную нашу жизнь входит торжественная, высокая и щемящая нота: встреча фронтовиков. Они встречаются у  обелисков, в музеях боевой славы. Блестят  орденами наглаженные пиджаки, тихо позвякивают многочисленные медали. И объятия, и слёзы, и больно видеть, что на этих встречах они не досчитываются кого-то. Время идёт, стирая в памяти имена погибших и ветеранов. Я считаю, что это было правильное решение создать бессмертный полк. Он должен жить вечно, передавая эти имена нам и нашим потомкам, что помнили и чтили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 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На рассвете 22 июня 1941 г. гитлеровская Германия напала на Советский Союз. На стороне Германии выступили Румыния, Венгрия, Италия и Финляндия. Группировка войск агрессора на-считывала 5,5 млн. человек, 190 дивизий, 5 тыс. самолетов, около 4 тыс. танков и самоходных ар-тиллерийских установок (САУ), 47 тыс. орудий и минометов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267080" y="1142640"/>
            <a:ext cx="4724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Людские потери СССР — 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6,3 млн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военнослужащих убитыми и умерших от ранений, 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555 тыс.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умерших от болезней, погибших в результате происшествий, осужденных к расстрелу (по донесениям войск, лечебных учреждений, военных трибуналов) и 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4,5 млн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попавшими в плен и пропавшими без вести. Общие демографические потери (включающие погибшее мирное население на оккупированной территории и повышенную смертность на остальной территории СССР от невзгод войны) — 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26,6 млн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человек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3886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219320" y="1802880"/>
            <a:ext cx="7467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При сборе и изучении материалов, посвящённых 70-летию со дня Великой Победы, я узнала, что в боях под Прохоровкой участвовал Горланов Пётр Аркадьевич, родственник нашего социального педагога Карнауховой Веры Александровны. Он родился в селе Рамено в 1924 году в многодетной семье. Рос подвижным и озорным ребёнком, но в школе учился хорошо.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«Каждый из нас сделал на Прохоровском поле всё, что было в его человеческих силах» - так вспоминал  Герой Советского Союза Г. Пэнэжко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26672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охоровское сражение – это танковое сражение, в котором принимало участие до 1200 танков с обеих сторон. 12.07.1943 года был сломан «бронированный хребет» немецко-фашистским войскам. Больше на нашу землю фашисты не наступали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2670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Военный фронт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190760" y="1599840"/>
            <a:ext cx="4647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орланов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ётр Аркадьевич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(1924-1943гг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ержант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огиб на Курской Дуге, похоронен в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. Крапивенские Дворы, Белгородской област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7339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«Военный треугольник»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письмо с фронт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276720" cy="44197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4495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Похоронк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4-12-11T10:27:4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