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615-0C44-4DF5-BC3E-B3D93E87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D17-59D8-41F2-A230-DB80776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45F69-08F3-4B38-BD75-7AD6B560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69777-E18E-4147-8F03-DCF77675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6D74-431B-4B40-BBBB-6E4F96B7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BF74E-CD0F-4458-8869-76B249B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F3F2F-23B6-4A2C-A49D-36058D1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F8A1-75BC-492A-94F1-DACD1133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15CA8-039F-4542-B8A9-FD35A34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ECCB-D42C-4D62-8B17-8AB086A8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34D3E-62F3-4EED-8B67-060A2726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369-1CAC-4CA5-B0E6-554E1494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363-CA10-43A4-9FD3-A61F7E6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ECC-B4D8-4D84-B20A-3FFD020B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31F0-4DB6-42C6-BAA6-0CC2B3C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A59-D7DA-46F0-B0EF-8366EAD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D761-22DA-4550-BD53-DC3FF50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71B4-14AC-485A-9D36-650A233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B512-B390-4EB8-A4FA-6A772541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4CC-91E8-40F9-8A0C-DE450A5B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648-3CC0-4254-A83B-407C4724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E85-02C3-4EE7-AA7B-CE2DCBA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9A4-32B3-4921-811F-3699FC0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5CF2-787C-4A1D-9738-30C9431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C59C-C249-46FD-8E01-D11FE08B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122B-AB25-4345-95AE-77E3DB6D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0390-1E3D-47A6-A9B2-C3EFA699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1CAC-6FEE-48E5-8FA5-CCA076E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C188-7444-4CE9-BC4E-CECD99D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FB8F-ACDD-407E-B917-9AC9078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0125-4CED-47BF-89FB-5267F85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878-5027-4072-AB2C-66F24F1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2373-6D36-4F43-A387-0306256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548F-E8B4-4C85-BCDA-A889591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5943-14C5-43FA-91A4-0BAACF50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79FE-1DF5-4741-B95A-002005C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B9A1-34F1-49F0-905A-480A5EF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8055-2984-44F0-8550-CCE37588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1DEF-B799-42E6-B56D-A3637D06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D823-E4A5-4273-9C9D-068083FA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B90E-FA0C-49EE-8CD0-DC9B3BC8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845C-3775-4B0F-BA6E-36FE4220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11A-F9A7-4615-8168-DAABE07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5DA7-5FCD-4F4F-82BC-429A649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6392-DE31-47E7-8F2C-FF3BDD9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AED5-0A55-478F-A90C-252EA7D7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2070-BBB9-4F78-8E8E-8F7CBDF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EFD1-8957-4459-BD3A-02DA7EA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0C94-66E0-41BE-92CB-6F2EC55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B874-256A-4C71-BBA9-F2F98C6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2496-55D4-412C-8F5E-DC44768E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4B39-9699-44DB-AF11-00A9DBC4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A6CB2-706A-4889-9303-F1B956D2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00D-342C-4003-969C-7079F3E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C455F-EB3B-459B-BC71-2EC07A0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31E6-2B0A-411B-B876-4CFCC9A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B4EA-7DCC-4EF0-B7F0-6302A31A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C9E9-06E7-4C47-936C-12BB5516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0A48-1602-4F07-A871-80BC909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AB4F-7C17-4084-9A20-F4A5DAB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D514-49EE-4D07-B923-312D7E3C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66B5-4B51-4638-9752-AD6CA41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7451-5288-48AD-AFA7-6060746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C777-64EE-466D-9DD1-6A2CA349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6D8-BC19-4701-83D1-27E2596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73BB-867C-4B6F-AEEF-DEEB2164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C22C-9288-40D7-A857-81556974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476A-0726-45D8-B869-54E9B6A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802B-ED52-499B-A67C-7D93F24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864C-BE64-4F73-83C1-6F4D5FE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17A8-CCF0-40F0-86D3-FE60943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21BA-A9C8-4A16-B70E-A14A049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206C-587E-4EC0-9956-FE519D6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5F83-5456-47D2-BF91-42F44191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0053-F5BB-457E-BA5B-DDAFB91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AAE-5328-4B38-BFA2-1A2ED8D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4838-92F3-47D6-84D6-A85378FB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B7CE-EA78-4121-8733-8E8AF917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CD20B-1459-476F-A9DE-48ACD76A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F337-7DA5-47C2-A523-FB85AA57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B0B54-783D-483F-9C88-EEAEB71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D6864-69B9-409F-868F-5F79FF9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6AAF-5DD3-4C24-BA58-7438C10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74DF-46D3-4C9C-9B0B-7861FFD2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A9FC-C90C-4A3E-9FEC-DD805AD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0537-156B-42DD-AA18-7D833EA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DFE-B34C-4A48-8C32-06B7C29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7B2C-9F64-44B1-9AEC-B2A1FBD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0CB4-A284-48FD-91E9-10ED20D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0DE3-F4C6-44C1-8D26-77D752F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01F6-2591-42F8-9EDD-A8F116FF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2127-5D7D-42B5-A873-C00C307D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49FD-C119-4F9E-845E-B82F2B24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E9191-FF38-4F96-ABC7-1DAFEAC8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2927-2875-4883-81A6-466CABF4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39F64-5D9A-4B2B-A481-76CC101F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20FE-390B-469A-9021-CCCDBCD3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82E-9ECB-4E83-BAE8-70AF5FB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B3EA-5E62-46A7-BD02-91AC74D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E071-D141-49B1-85E2-1F9832F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4EF0-A0CE-407E-BF54-FEA14A0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D505-5E8D-42C2-B08F-1367B09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1476-E6CC-4CB2-B059-439B21C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7886-AA5F-43BC-B14C-81CBFACA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443B-F0AB-42F1-A376-73E9975E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8587F-3D43-48FC-B1EB-2FBEFE0E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9152D-2C6C-4693-BC50-BB4722A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1DDBC-C538-4691-AD29-6F01C0E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77D-468C-4E02-B25A-532958FBDA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CC07-E601-488E-93A9-2D99F6A959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480-3668-4638-AF84-AB8D8BB816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8F2-31EC-4487-A668-11C02F8B9A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0238-2464-4BCA-A39C-11AC52EFB2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756-5BE7-460C-A478-10F249E8C1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AB5-9A6E-439A-8006-882C8C1916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F16-1E93-4CC7-8F8F-26F7DFB3A0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E93-84A7-4ED4-9691-A64016AED6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C:\Users\ОЛЕСЯ\Desktop\олеся\1257087927_10274173169c.jpg"/>
          <p:cNvPicPr/>
          <p:nvPr/>
        </p:nvPicPr>
        <p:blipFill>
          <a:blip r:embed="rId1"/>
          <a:stretch/>
        </p:blipFill>
        <p:spPr>
          <a:xfrm>
            <a:off x="-214200" y="-390600"/>
            <a:ext cx="9682200" cy="7248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856800" y="1213920"/>
            <a:ext cx="7358040" cy="371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ЖДЕНИЕ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ЛИ.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-360"/>
            <a:ext cx="86868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ермин «биосфера»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л введен в 1875 г. австрийским геологом и зоологом Э.Зюссом. Учение о биосфере было создано в 1926 г. В. И. Вернадски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сфера (греч.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bios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жизнь и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sphaira —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ар) — это область живого вещества, жизни на нашей   планете. Общая толщина слоя биосферы составляет 17 к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560" y="285480"/>
            <a:ext cx="4338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биосферу, п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. И. Вернадскому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входя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ив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сн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генн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косное   веществ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3" descr="C:\Users\ОЛЕСЯ\Desktop\i.jpg"/>
          <p:cNvPicPr/>
          <p:nvPr/>
        </p:nvPicPr>
        <p:blipFill>
          <a:blip r:embed="rId1"/>
          <a:stretch/>
        </p:blipFill>
        <p:spPr>
          <a:xfrm>
            <a:off x="4802040" y="1071720"/>
            <a:ext cx="4341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Антропосфера.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фер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еятельност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ловек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историческом   времени. Сегодня   человечество   оказывает   большое   воздействие   на   биосферу   Земли. Ежегодно  в  атмосферу  выбрасывается  более  200  млн  τ  углеводорода,  146  млн  τ диоксида серы, более 250 млн τ пыли. В водоемы ежегодно поступает 32 млрд м3 неочищенных стоков и около 10 млн τ нефти. К сожалению, этот список можно продолжи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гнитосфера  Земли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это  область  околопланетного  пространства  Зем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гнитна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е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ем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дневной сторон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обращенной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лнцу) распространяется  от  6  до  14  радиусов  Земли,  с  ночной  стороны  она  образует нечто  подобное  «хвосту»  кометы  в  несколько  сот  земных  радиус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0"/>
            <a:ext cx="4071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ейсмология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изучает   такие   явления,   как   землеФтрясения   и   деятельность вулканов. Сейсмологические наблюдения за поверхностью Земли имеют глубокие исторические  корн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2" descr="C:\Users\ОЛЕСЯ\Desktop\i (1)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C:\Users\ОЛЕСЯ\Desktop\олеся\zemly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-360"/>
            <a:ext cx="86868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ПРОИСХОЖДЕНИЕ 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ЗЕМЛИ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143160" y="0"/>
            <a:ext cx="5786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вые гипотезы относительно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исхождения Земл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, имеющие под собой научную основу, появились в ХVІІ веке. Одну из теорий сформулировал немецкий философ Иммануил Кант в 1755 г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C:\Users\ОЛЕСЯ\Desktop\i (1)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2" descr="http://www.zemljabeztain.narod.ru/aat059h-m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-360"/>
            <a:ext cx="8686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гласно современным представлениям, Земля образовалась из газопылевого облака около 4 с половиной миллиардов лет тому наза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142640"/>
            <a:ext cx="86868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а связана с именами французского математика Пьера Лапласа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мецкого философ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Иммануила Канта, работавших в конце XVIII 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2" descr="C:\Users\ОЛЕСЯ\Desktop\philo-kant.jpg"/>
          <p:cNvPicPr/>
          <p:nvPr/>
        </p:nvPicPr>
        <p:blipFill>
          <a:blip r:embed="rId2"/>
          <a:stretch/>
        </p:blipFill>
        <p:spPr>
          <a:xfrm>
            <a:off x="0" y="3002040"/>
            <a:ext cx="3357720" cy="3855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ОЛЕСЯ\Desktop\i (2).jpg"/>
          <p:cNvPicPr/>
          <p:nvPr/>
        </p:nvPicPr>
        <p:blipFill>
          <a:blip r:embed="rId3"/>
          <a:stretch/>
        </p:blipFill>
        <p:spPr>
          <a:xfrm>
            <a:off x="5357880" y="2571840"/>
            <a:ext cx="3786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560" y="1142640"/>
            <a:ext cx="4338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гласно его гипотезе, Солнце, путешествуя по Галактике, проходило сквозь газопылевое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облако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и увлекло часть его за собой. Впоследствии твердые частицы облака подверглись слипанию и превратились в планеты,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2" descr="C:\Users\ОЛЕСЯ\Desktop\i (3).jpg"/>
          <p:cNvPicPr/>
          <p:nvPr/>
        </p:nvPicPr>
        <p:blipFill>
          <a:blip r:embed="rId2"/>
          <a:stretch/>
        </p:blipFill>
        <p:spPr>
          <a:xfrm>
            <a:off x="4714920" y="1000080"/>
            <a:ext cx="4429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Сколько сфер Земли выделяют исследовател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Кто предложил разделить Землю на 3 области( ядро, мантию, земную кору) 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Сколько % поверхности Земли занимает гидросфера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. В каком году и кем было создано учения о биосфер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5. В каком веке появились первые гипотезы о происхождение Земл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6. Согласно какой гипотезе у Солнца была звезда- близнец, которая взорвалась и образовались планеты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785760" y="1000080"/>
            <a:ext cx="5357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окрестностях Солнца пронеслась другая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везд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 Ее притяжение вызвало на Солнце огромную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ливную волну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вытянувшуюся в пространстве на сотни миллионов километров. Оторвавшись, эта волна стала закручиваться вокруг Солнца и распадаться на сгустки, каждый из которых сформировал свою планет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2" descr="C:\Users\ОЛЕСЯ\Desktop\i (4).jpg"/>
          <p:cNvPicPr/>
          <p:nvPr/>
        </p:nvPicPr>
        <p:blipFill>
          <a:blip r:embed="rId2"/>
          <a:stretch/>
        </p:blipFill>
        <p:spPr>
          <a:xfrm>
            <a:off x="0" y="1071720"/>
            <a:ext cx="3929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0" y="1071360"/>
            <a:ext cx="4572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гласно ей у Солнца была звезда-близнец, которая взорвалась. Большая часть осколков унеслась в космическое пространство, меньшая — осталась на орбите Солнца и образовала план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2" descr="C:\Users\ОЛЕСЯ\Desktop\i.jpg"/>
          <p:cNvPicPr/>
          <p:nvPr/>
        </p:nvPicPr>
        <p:blipFill>
          <a:blip r:embed="rId2"/>
          <a:stretch/>
        </p:blipFill>
        <p:spPr>
          <a:xfrm>
            <a:off x="0" y="857160"/>
            <a:ext cx="4929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ОЛЕСЯ\Desktop\олеся\EarthIMAGE201.jpg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250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-429120"/>
            <a:ext cx="86868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ЕМЛИ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9540720" cy="1658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71360" y="1357200"/>
            <a:ext cx="8972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ее расстояние от Земли до Солнца=149,6 млн к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асса Земли — 6 · 1024 кг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яя плотность — 5,5 г/см3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ий радиус Земли=6371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скорение свободного падения на Земле = 9,8 м/с2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бъем Земли =1,083 · 1012  км3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лощадь поверхности = 510,2 млн. км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285480"/>
            <a:ext cx="86868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сследователи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ыделяют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ед. сферы Зем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ологическа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внутреннее   строение   Земли),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идросфера,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тмосфера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ляциосфера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лат.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glacios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 лед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иосфера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фера  жизни),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тропосфера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жизнедеятельность человек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гнитосфера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йсмологи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греч.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eismos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землетрясение,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ogos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наук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00400" y="1000080"/>
            <a:ext cx="4143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стралийский сейсмолог К. Буллен на основани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мерения скорости сейсмических  волн  предложил  разделить  строение  Земли  на  три  области  или сферы: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дро,  мантия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 земная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Users\ОЛЕСЯ\Desktop\олеся\earth in.jpg"/>
          <p:cNvPicPr/>
          <p:nvPr/>
        </p:nvPicPr>
        <p:blipFill>
          <a:blip r:embed="rId2"/>
          <a:stretch/>
        </p:blipFill>
        <p:spPr>
          <a:xfrm>
            <a:off x="0" y="1143000"/>
            <a:ext cx="5003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0" y="1071360"/>
            <a:ext cx="5338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оря  и  океаны  занимают  приблизительно  70,8% поверхности   Земли.   Масса   воды   на   Земле   почти   в   266   раз   больше   массы атмосферы (масса атмосферы составляет одну миллионную часть массы Земли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ие  запасы  воды  на  Земле  в  не  связанном  физическом  и  химическом состоянии составляют 1,4 млрд км3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C:\Users\ОЛЕСЯ\Desktop\a75e727ad4ae.jpg"/>
          <p:cNvPicPr/>
          <p:nvPr/>
        </p:nvPicPr>
        <p:blipFill>
          <a:blip r:embed="rId2"/>
          <a:stretch/>
        </p:blipFill>
        <p:spPr>
          <a:xfrm>
            <a:off x="5143680" y="1071720"/>
            <a:ext cx="41796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-360"/>
            <a:ext cx="5357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Атмосфера  Земли состоит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азот  —  78,1%, кислород — 20,95%, остальное- это водяные пары, СO2  и инертные газ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едставляет  слоистую  сферу: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ропосфера  —  до  12  к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тратосфера — до 45 к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езосфера — до 80 км,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ермосфера — от 100 до 300 к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кзосфера — от 320 до 1000 км и выш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3" descr="C:\Users\ОЛЕСЯ\Desktop\atmosphere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нежный   покров   и   ледники выполняют важную роль на Земле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  Они   отражают   значительную   часть   солнечной   радиации   и   тем   самым охлаждают воздух атмосфер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 В  них  содержится  огромный  запас  холода  (втрое  превышает  поступление тепла от Солнца и самой Земли), идущего из ее недр в течение год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 В  них  содержится  2/3   запасов  пресной  воды  Земл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6:17Z</dcterms:created>
  <dc:creator>ОЛЕСЯ</dc:creator>
  <dc:description/>
  <dc:language>en-US</dc:language>
  <cp:lastModifiedBy>User</cp:lastModifiedBy>
  <dcterms:modified xsi:type="dcterms:W3CDTF">2015-02-04T17:14:22Z</dcterms:modified>
  <cp:revision>34</cp:revision>
  <dc:subject/>
  <dc:title>Слайд 1</dc:title>
</cp:coreProperties>
</file>