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27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FF9-4638-41C0-A494-1B599C96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297-5AB8-4F1E-8AF2-8788EE5F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1EA27-FE42-49E5-A31E-BA6683E5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564A9-49FC-40B2-9816-A05EA7AC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73599-70C7-4A54-85C9-73C68D82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469C2-5EF8-4D31-B0D5-013D6C12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3822C-5091-49DE-B081-01A6F4A1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3FACA-80B2-41D3-9BA6-457E4FA1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88761-0FE6-4B73-9AE0-37521B0A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4A978-781E-4D57-81C8-55C4C7DA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6A95B-7EEF-4C9E-9ED6-7A56031F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332-2E71-492B-8D30-0643BD90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FA7-152C-4CC3-9D01-7E7C9D29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BD2C-C6DD-4264-B889-8895D9EE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909F-201B-4997-9F05-AC619660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E17E-E215-4609-B9F0-FE84737F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F182-A077-462F-ABD2-47DEA2E2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2204-8A9D-4EBB-92B2-17213E8C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9812-042B-492D-9239-97F228E8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FABD-04D2-4F25-8405-C5AB958E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0CA-9DBC-4243-9780-A463521C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1206-692B-4661-9196-A9A354A1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7987-3B5D-4307-921F-830E83A9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5761-E27B-4D4C-9D1E-6240F82D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50B1-6EEE-4CA4-97AB-8C362A7D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AC40-D0B0-455F-8544-A46AE7CF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4CAEC-F9C8-4358-8723-71D1D5F9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F0B13-4D2B-491E-BA5D-B17FB541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F3B3E-87C9-4DBC-BAD2-C4EFA1A2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B7E3E-F905-44A7-8DAF-24740300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D4DCF-949C-4404-AFDC-19F90C7B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3CA-6177-4FE2-BDF0-DBFBC36C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BBEC3-CFFE-4ACE-9356-82A958C8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D091-E74C-45C0-8733-8A8E59D6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869B9-0C86-47F6-830E-6EEBB725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BE811-C02F-4A1C-88A9-E76B3544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C95EB-BB8F-4F48-A9F8-0D8222B7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5DAB6-4FBA-4E29-8C6C-930D0017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32BB9-69A4-4063-A54A-5BF4CA71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02EE8-39F2-4950-8AD3-A0F18CFD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EA1EC-0A90-480E-B9E4-7E1BD0B7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1CA86-D386-4284-B34E-2CAE1346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765-2521-4E40-B424-43B9BB56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2FA9A-0B55-44DE-B8A5-4E849845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07844-9C3B-45E9-B0C4-02520F4E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CFB45-3C0E-44BE-956A-11B8AB4D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0E8C6-A595-44EF-9E71-037961AC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2FB8E-EDA8-4C8F-A8A5-3C043D0F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BED0F-3694-4343-AF9B-01441890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76555-4DAC-4C97-9259-377A162B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06647-40D3-4DC9-B391-4543A6F8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E0251-239A-4FC9-80D2-16ACADBD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14CAF-A77A-47CE-8D79-CF42EF92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A15-CFDF-4D88-8950-ED5C7BA0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CC517-2843-4FE5-9FBF-B05D5A9C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D865F-7278-443E-875D-2A98F32F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94517-2A5E-4128-B783-48C07B38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2A444-20B6-404C-95B3-30367C28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DE4D2-1D0D-4568-9247-F233F57D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4CA82-04F8-4535-8CB5-E8FF49D2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A5E3E-0319-4B78-A61C-53E18B0E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B59BF-049A-4539-AF10-F0CC5CF7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31E7-BA66-4E22-A987-4A12CA04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8FA26-C6A4-43D6-9FAD-6404C717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7CA-FD21-4553-821E-CC7EF0C8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3BC3B-FD38-4C7E-9BA0-CF04352E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AB2F2-0B13-44FE-AF0C-3FAAF368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2D323-E9F3-4E9C-8BA5-9904C25E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A337A-9E1C-4E6C-A066-81FE7AFE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FC4AD-C939-4BF9-9F8A-4AC04CED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751B2-A5BF-488F-978F-45990582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D897C-2090-4187-BE15-A6A6ECF8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0E6C8-D01B-4B49-AFB1-158BCF83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842E5-644D-47BD-A5B5-7BF42823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1EE94-A6EF-494C-B013-4A035328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71A-689F-4CCD-B2B4-9959E3A3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80BF0-5A4B-442F-A0E7-865E1356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C5856-C8A4-4C2B-9D5C-C01632F0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C771F-4A78-45AE-A698-E126113C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1109B-0EF7-4FD5-9665-F22F1459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37492-0A78-4636-B3A7-3E661852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AAED9-85A0-423C-842F-C86D3E5D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07477-075D-4AD5-BD5E-AE0D58B3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BEFA6-7093-462D-BF15-6BC52288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6EC4A-E152-4944-8B6B-1D2BC308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84795-C8E9-4159-B730-041F235F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3BF-27CA-43C4-A743-06E851AA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BDBEA-CDA6-4668-999A-DACA4A80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F478F-F8E9-4F0A-91DC-F1DC9D27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A6954-211A-4476-8EC9-6DF43F77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C1024-19FE-4D0D-9BA1-BDE6137E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0B04A-08EF-449E-BB55-E2926E94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8AAA5-D722-40D2-9DFA-D52F3D89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45132-DEB7-4E21-A7E9-6D541F48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19B2E-1CE3-4F53-BE20-6CF7E6EA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314FD-8CF3-423A-A0C2-46029A02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A36F4-29B3-4D77-9630-79C14235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DDFF-88D6-4A53-A66F-0AF2D1C1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BC7A9-EFFF-4BB3-99A4-5D923D4E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08486-E8A9-4902-9F1F-ED821916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81F90-72E4-488A-A8AC-D7939F8E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35EDD-9751-44EC-8757-477DEE1A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54E37-0D92-48B1-AE5B-B162F391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E3F7C-C2E5-43D1-8AAF-90A71F43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6B63D-F924-4089-85FA-AD364599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19520-3B54-4929-B469-C6A1B2F8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EF0AC-795D-48B8-9A39-3CFA8509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B9F18-E272-48B1-B07C-3C9FCD3F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A5E9-7335-4D05-A37A-D32F6B49B60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F8BD-6C99-4FC1-AA48-147E06F8A5F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3269-95C0-40D9-ACC6-DFDE70B6D0A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14A1-2D7D-4387-BCF2-35777B98C6B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3D5E-C270-40FB-B9AF-AFF81A84863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C629-90E1-47C3-AB49-DA2D92BEDB0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F993-D882-4149-92CC-636B04F163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F027-0EC8-4F3E-AB35-82D55647BD5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33D7-F75F-44DF-8CE5-6C11846B400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C:\Users\ОЛЕСЯ\Desktop\олеся\1257087927_10274173169c.jpg"/>
          <p:cNvPicPr/>
          <p:nvPr/>
        </p:nvPicPr>
        <p:blipFill>
          <a:blip r:embed="rId1"/>
          <a:stretch/>
        </p:blipFill>
        <p:spPr>
          <a:xfrm>
            <a:off x="-214200" y="-390600"/>
            <a:ext cx="9682200" cy="72486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856800" y="1213920"/>
            <a:ext cx="7358040" cy="371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СХОЖДЕНИЕ 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ЕНИЕ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ЛИ.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920" y="-360"/>
            <a:ext cx="86868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Термин «биосфера»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ыл введен в 1875 г. австрийским геологом и зоологом Э.Зюссом. Учение о биосфере было создано в 1926 г. В. И. Вернадским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иосфера (греч.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bios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— жизнь и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sphaira —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шар) — это область живого вещества, жизни на нашей   планете. Общая толщина слоя биосферы составляет 17 к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04560" y="285480"/>
            <a:ext cx="433836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биосферу, по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. И. Вернадскому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, входят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—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живое  веществ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—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осное  веществ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—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иогенное  веществ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—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иокосное   вещество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3" descr="C:\Users\ОЛЕСЯ\Desktop\i.jpg"/>
          <p:cNvPicPr/>
          <p:nvPr/>
        </p:nvPicPr>
        <p:blipFill>
          <a:blip r:embed="rId1"/>
          <a:stretch/>
        </p:blipFill>
        <p:spPr>
          <a:xfrm>
            <a:off x="4802040" y="1071720"/>
            <a:ext cx="43419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21420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Антропосфера.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фера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деятельности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человека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историческом   времени. Сегодня   человечество   оказывает   большое   воздействие   на   биосферу   Земли. Ежегодно  в  атмосферу  выбрасывается  более  200  млн  τ  углеводорода,  146  млн  τ диоксида серы, более 250 млн τ пыли. В водоемы ежегодно поступает 32 млрд м3 неочищенных стоков и около 10 млн τ нефти. К сожалению, этот список можно продолжить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04920" y="21420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агнитосфера  Земли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—  это  область  околопланетного  пространства  Зем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агнитная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фер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емли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 дневной стороны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обращенной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лнцу) распространяется  от  6  до  14  радиусов  Земли,  с  ночной  стороны  она  образует нечто  подобное  «хвосту»  кометы  в  несколько  сот  земных  радиус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-360" y="0"/>
            <a:ext cx="4071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ейсмология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изучает   такие   явления,   как   землеФтрясения   и   деятельность вулканов. Сейсмологические наблюдения за поверхностью Земли имеют глубокие исторические  корн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Picture 2" descr="C:\Users\ОЛЕСЯ\Desktop\i (1).jpg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C:\Users\ОЛЕСЯ\Desktop\олеся\zemly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-360"/>
            <a:ext cx="86868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ПРОИСХОЖДЕНИЕ </a:t>
            </a: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ЗЕМЛИ.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143160" y="0"/>
            <a:ext cx="5786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ервые гипотезы относительно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оисхождения Земли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, имеющие под собой научную основу, появились в ХVІІ веке. Одну из теорий сформулировал немецкий философ Иммануил Кант в 1755 год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8" name="Picture 2" descr="C:\Users\ОЛЕСЯ\Desktop\i (1).jpg"/>
          <p:cNvPicPr/>
          <p:nvPr/>
        </p:nvPicPr>
        <p:blipFill>
          <a:blip r:embed="rId1"/>
          <a:stretch/>
        </p:blipFill>
        <p:spPr>
          <a:xfrm>
            <a:off x="0" y="0"/>
            <a:ext cx="492912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2" descr="http://www.zemljabeztain.narod.ru/aat059h-m.jpg"/>
          <p:cNvPicPr/>
          <p:nvPr/>
        </p:nvPicPr>
        <p:blipFill>
          <a:blip r:embed="rId1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-360"/>
            <a:ext cx="8686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Согласно современным представлениям, Земля образовалась из газопылевого облака около 4 с половиной миллиардов лет тому назад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142640"/>
            <a:ext cx="868680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на связана с именами французского математика Пьера Лапласа и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мецкого философ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 Иммануила Канта, работавших в конце XVIII ве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Picture 2" descr="C:\Users\ОЛЕСЯ\Desktop\philo-kant.jpg"/>
          <p:cNvPicPr/>
          <p:nvPr/>
        </p:nvPicPr>
        <p:blipFill>
          <a:blip r:embed="rId2"/>
          <a:stretch/>
        </p:blipFill>
        <p:spPr>
          <a:xfrm>
            <a:off x="0" y="3002040"/>
            <a:ext cx="3357720" cy="3855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Users\ОЛЕСЯ\Desktop\i (2).jpg"/>
          <p:cNvPicPr/>
          <p:nvPr/>
        </p:nvPicPr>
        <p:blipFill>
          <a:blip r:embed="rId3"/>
          <a:stretch/>
        </p:blipFill>
        <p:spPr>
          <a:xfrm>
            <a:off x="5357880" y="2571840"/>
            <a:ext cx="37861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304560" y="1142640"/>
            <a:ext cx="4338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огласно его гипотезе, Солнце, путешествуя по Галактике, проходило сквозь газопылевое </a:t>
            </a:r>
            <a:r>
              <a:rPr b="0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облако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 и увлекло часть его за собой. Впоследствии твердые частицы облака подверглись слипанию и превратились в планеты,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7" name="Picture 2" descr="C:\Users\ОЛЕСЯ\Desktop\i (3).jpg"/>
          <p:cNvPicPr/>
          <p:nvPr/>
        </p:nvPicPr>
        <p:blipFill>
          <a:blip r:embed="rId2"/>
          <a:stretch/>
        </p:blipFill>
        <p:spPr>
          <a:xfrm>
            <a:off x="4714920" y="1000080"/>
            <a:ext cx="44290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697960" cy="11509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928800"/>
            <a:ext cx="8686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1. Сколько сфер Земли выделяют исследовател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2. Кто предложил разделить Землю на 3 области( ядро, мантию, земную кору) 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3. Сколько % поверхности Земли занимает гидросфера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4. В каком году и кем было создано учения о биосфере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5. В каком веке появились первые гипотезы о происхождение Земл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6. Согласно какой гипотезе у Солнца была звезда- близнец, которая взорвалась и образовались планеты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785760" y="1000080"/>
            <a:ext cx="5357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окрестностях Солнца пронеслась другая </a:t>
            </a:r>
            <a:r>
              <a:rPr b="0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звезда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. Ее притяжение вызвало на Солнце огромную </a:t>
            </a:r>
            <a:r>
              <a:rPr b="0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иливную волну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, вытянувшуюся в пространстве на сотни миллионов километров. Оторвавшись, эта волна стала закручиваться вокруг Солнца и распадаться на сгустки, каждый из которых сформировал свою планету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0" name="Picture 2" descr="C:\Users\ОЛЕСЯ\Desktop\i (4).jpg"/>
          <p:cNvPicPr/>
          <p:nvPr/>
        </p:nvPicPr>
        <p:blipFill>
          <a:blip r:embed="rId2"/>
          <a:stretch/>
        </p:blipFill>
        <p:spPr>
          <a:xfrm>
            <a:off x="0" y="1071720"/>
            <a:ext cx="39290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4572000" y="1071360"/>
            <a:ext cx="4572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гласно ей у Солнца была звезда-близнец, которая взорвалась. Большая часть осколков унеслась в космическое пространство, меньшая — осталась на орбите Солнца и образовала планет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3" name="Picture 2" descr="C:\Users\ОЛЕСЯ\Desktop\i.jpg"/>
          <p:cNvPicPr/>
          <p:nvPr/>
        </p:nvPicPr>
        <p:blipFill>
          <a:blip r:embed="rId2"/>
          <a:stretch/>
        </p:blipFill>
        <p:spPr>
          <a:xfrm>
            <a:off x="0" y="857160"/>
            <a:ext cx="4929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Users\ОЛЕСЯ\Desktop\олеся\EarthIMAGE201.jpg"/>
          <p:cNvPicPr/>
          <p:nvPr/>
        </p:nvPicPr>
        <p:blipFill>
          <a:blip r:embed="rId1"/>
          <a:stretch/>
        </p:blipFill>
        <p:spPr>
          <a:xfrm>
            <a:off x="0" y="-392040"/>
            <a:ext cx="9144000" cy="72500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-429120"/>
            <a:ext cx="86868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72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72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1" i="1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ЕНИЕ </a:t>
            </a:r>
            <a:r>
              <a:rPr b="1" i="1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ЕМЛИ</a:t>
            </a:r>
            <a:r>
              <a:rPr b="0" lang="ru-RU" sz="7200" spc="-1" strike="noStrike">
                <a:solidFill>
                  <a:srgbClr val="ffffff"/>
                </a:solidFill>
                <a:latin typeface="Franklin Gothic Book"/>
              </a:rPr>
              <a:t>.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9540720" cy="1658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171360" y="1357200"/>
            <a:ext cx="8972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Среднее расстояние от Земли до Солнца=149,6 млн к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Масса Земли — 6 · 1024 кг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Средняя плотность — 5,5 г/см3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Средний радиус Земли=6371.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Ускорение свободного падения на Земле = 9,8 м/с2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бъем Земли =1,083 · 1012  км3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лощадь поверхности = 510,2 млн. км2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04920" y="285480"/>
            <a:ext cx="86868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сследователи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ыделяют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лед. сферы Земли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еологическая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внутреннее   строение   Земли),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идросфера,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тмосфера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ляциосфера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лат. </a:t>
            </a:r>
            <a:r>
              <a:rPr b="0" i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glacios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—  лед)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иосфера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сфера  жизни),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нтропосфера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жизнедеятельность человека)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агнитосфера.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ейсмология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греч. </a:t>
            </a:r>
            <a:r>
              <a:rPr b="0" i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seismos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— землетрясение, </a:t>
            </a:r>
            <a:r>
              <a:rPr b="0" i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logos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— наук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8697960" cy="11509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5000400" y="1000080"/>
            <a:ext cx="41432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встралийский сейсмолог К. Буллен на основании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змерения скорости сейсмических  волн  предложил  разделить  строение  Земли  на  три  области  или сферы: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ядро,  мантия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  земная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ор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C:\Users\ОЛЕСЯ\Desktop\олеся\earth in.jpg"/>
          <p:cNvPicPr/>
          <p:nvPr/>
        </p:nvPicPr>
        <p:blipFill>
          <a:blip r:embed="rId2"/>
          <a:stretch/>
        </p:blipFill>
        <p:spPr>
          <a:xfrm>
            <a:off x="0" y="1143000"/>
            <a:ext cx="5003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699760" cy="10602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0" y="1071360"/>
            <a:ext cx="5338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Моря  и  океаны  занимают  приблизительно  70,8% поверхности   Земли.   Масса   воды   на   Земле   почти   в   266   раз   больше   массы атмосферы (масса атмосферы составляет одну миллионную часть массы Земли)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бщие  запасы  воды  на  Земле  в  не  связанном  физическом  и  химическом состоянии составляют 1,4 млрд км3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2" descr="C:\Users\ОЛЕСЯ\Desktop\a75e727ad4ae.jpg"/>
          <p:cNvPicPr/>
          <p:nvPr/>
        </p:nvPicPr>
        <p:blipFill>
          <a:blip r:embed="rId2"/>
          <a:stretch/>
        </p:blipFill>
        <p:spPr>
          <a:xfrm>
            <a:off x="5143680" y="1071720"/>
            <a:ext cx="41796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-360" y="-360"/>
            <a:ext cx="53578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Атмосфера  Земли состоит: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азот  —  78,1%, кислород — 20,95%, остальное- это водяные пары, СO2  и инертные газ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ы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представляет  слоистую  сферу: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тропосфера  —  до  12  км,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тратосфера — до 45 км,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мезосфера — до 80 км,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термосфера — от 100 до 300 км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экзосфера — от 320 до 1000 км и выше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3" descr="C:\Users\ОЛЕСЯ\Desktop\atmosphere.jpg"/>
          <p:cNvPicPr/>
          <p:nvPr/>
        </p:nvPicPr>
        <p:blipFill>
          <a:blip r:embed="rId1"/>
          <a:stretch/>
        </p:blipFill>
        <p:spPr>
          <a:xfrm>
            <a:off x="5143680" y="0"/>
            <a:ext cx="400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697600" cy="11509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нежный   покров   и   ледники выполняют важную роль на Земле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1.   Они   отражают   значительную   часть   солнечной   радиации   и   тем   самым охлаждают воздух атмосферы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2.  В  них  содержится  огромный  запас  холода  (втрое  превышает  поступление тепла от Солнца и самой Земли), идущего из ее недр в течение год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3.  В  них  содержится  2/3   запасов  пресной  воды  Земли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5:56:17Z</dcterms:created>
  <dc:creator>ОЛЕСЯ</dc:creator>
  <dc:description/>
  <dc:language>en-US</dc:language>
  <cp:lastModifiedBy>User</cp:lastModifiedBy>
  <dcterms:modified xsi:type="dcterms:W3CDTF">2015-02-04T17:14:22Z</dcterms:modified>
  <cp:revision>34</cp:revision>
  <dc:subject/>
  <dc:title>Слайд 1</dc:title>
</cp:coreProperties>
</file>