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9009-AA8E-4962-AA49-3A4287584C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CABC-3BF3-4B05-BFAB-AD8B2B6DCA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7E97-BD57-47EC-961D-47472DB0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2669-1FED-4E35-B693-BD18CECD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0FD1-1DA8-4660-AAEA-A93235B3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7B3A-71AC-4C08-85EE-48D5C09A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E9D6-D170-4406-B71B-8AD193D0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7387-43D2-404A-9FE2-F4D8A027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8E4F-E3A1-4C79-BE41-14E2994E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813D-2449-4DDB-9A12-73C7CA23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59AE-F05D-403E-ADA6-763153FE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8799-C0B0-41CB-BC77-D8B6F16F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A3D0-A959-4CDB-9D71-E2FCEAA7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6CBC-D7EA-4784-9C3F-2D394FCA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25DD-80C1-4214-AFF3-2EB0D8A4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94BF-1A9E-4579-82CC-37C313AE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2304-8074-4FA2-9BF3-87323230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5CE6-37EB-46B0-9615-4D61B4FD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A42B-6D24-4BB3-BB9D-40C9D8FB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DFDF-8ECD-46E8-A721-0F2195CA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2F40-3E79-45BC-8F50-1272FF68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5768-AC62-4783-83AF-D181E5A9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3D8-08A6-44FE-B2EE-DC67CB52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306F-6A9D-4D97-9185-66CE43C5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8FB9-1D8F-43CD-B9F5-EECFBD1F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8697-E7F5-4694-BC30-08A8DED3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bf3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D00D-7A60-46B5-90F4-B6D0ABAB90C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bf3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DF3A-6C88-46A7-A87F-DAD228135DB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560" y="981000"/>
            <a:ext cx="8929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Garamond"/>
              </a:rPr>
              <a:t>Как помочь ребёнку в учёбе</a:t>
            </a:r>
            <a:br>
              <a:rPr sz="4400"/>
            </a:b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560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1258920" y="26028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p10_childsoul2"/>
          <p:cNvPicPr/>
          <p:nvPr/>
        </p:nvPicPr>
        <p:blipFill>
          <a:blip r:embed="rId1"/>
          <a:srcRect l="0" t="0" r="0" b="29080"/>
          <a:stretch/>
        </p:blipFill>
        <p:spPr>
          <a:xfrm>
            <a:off x="969840" y="2276640"/>
            <a:ext cx="6972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1116000" y="907920"/>
            <a:ext cx="712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Навык самостоятельной деятельности необходим как для успешного обучения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школе, так и для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Развитие самостоятельности – это забота 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будущем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Самостоятельность редко появл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сама по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Самостоятельность детей – это 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ряда последовательных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4624560" y="323208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041640" y="48895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744560" y="48895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826920" y="404640"/>
            <a:ext cx="70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Правило для родителей</a:t>
            </a: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971640" y="1628640"/>
            <a:ext cx="74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Если ребёнку трудно, и он готов прин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шу помощь, обязательно помогите е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этом возьмите на себя только то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не может выполнить сам, оста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оставьте  делать ему самому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7030a0"/>
                </a:solidFill>
                <a:latin typeface="Garamond"/>
              </a:rPr>
              <a:t>3. Направление помощи — контроль за </a:t>
            </a:r>
            <a:br>
              <a:rPr sz="3400"/>
            </a:br>
            <a:r>
              <a:rPr b="1" lang="ru-RU" sz="3400" spc="-1" strike="noStrike">
                <a:solidFill>
                  <a:srgbClr val="7030a0"/>
                </a:solidFill>
                <a:latin typeface="Garamond"/>
              </a:rPr>
              <a:t>      выполнением домашних заданий.</a:t>
            </a:r>
            <a:r>
              <a:rPr b="0" lang="ru-RU" sz="3800" spc="-1" strike="noStrike">
                <a:solidFill>
                  <a:srgbClr val="7030a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контроль должен быть систематическим, а не от случая к случаю и не должен ограничиваться вопросами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                </a:t>
            </a: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- какие отметки?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                </a:t>
            </a: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- выполнил ли уроки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помощь детям должна оказываться своевременно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как можно больше требовательности к детям и как можно больше уважения, контроль должен быть ненавязчивым и тактичным, проявляйте терпимость и уважение к лично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своего ребён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не сравнивайте его умения с умениями других дете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684360" y="836640"/>
            <a:ext cx="816444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 кричите, лучше определите причину отсутствия у ребё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я выполнить заданное упраж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яйте упорство и проявление характера в достижении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йте его внимание при выполнении домашнего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уйте привычку доводить начатое дело до конц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же если придётся чем-то жертв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хвалите ребёнка за своевременное и качественное выпол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ашнего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отмахивайтесь от вопросов ребёнка, этим вы усугубите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того чтобы облегчить выполнение домашних заданий покупай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енку энциклопедии, словари, справочную литерату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4624560" y="323208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041640" y="48895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744560" y="48895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468360" y="1268280"/>
            <a:ext cx="1345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Радуйтесь тому, что у вас е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такое счастье - с  кем-то дел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             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уроки, кому-то помог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                       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взросле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686800" cy="12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7030a0"/>
                </a:solidFill>
                <a:latin typeface="Garamond"/>
              </a:rPr>
              <a:t>       </a:t>
            </a:r>
            <a:r>
              <a:rPr b="1" lang="ru-RU" sz="4200" spc="-1" strike="noStrike">
                <a:solidFill>
                  <a:srgbClr val="7030a0"/>
                </a:solidFill>
                <a:latin typeface="Garamond"/>
              </a:rPr>
              <a:t>Помощь детям включает три</a:t>
            </a:r>
            <a:br>
              <a:rPr sz="4200"/>
            </a:br>
            <a:r>
              <a:rPr b="1" lang="ru-RU" sz="4200" spc="-1" strike="noStrike">
                <a:solidFill>
                  <a:srgbClr val="7030a0"/>
                </a:solidFill>
                <a:latin typeface="Garamond"/>
              </a:rPr>
              <a:t>                   направлен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07800" y="4652640"/>
            <a:ext cx="5175000" cy="10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i"/>
          <p:cNvPicPr/>
          <p:nvPr/>
        </p:nvPicPr>
        <p:blipFill>
          <a:blip r:embed="rId1"/>
          <a:stretch/>
        </p:blipFill>
        <p:spPr>
          <a:xfrm>
            <a:off x="6732720" y="4292640"/>
            <a:ext cx="2119320" cy="2232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"/>
          <p:cNvSpPr/>
          <p:nvPr/>
        </p:nvSpPr>
        <p:spPr>
          <a:xfrm>
            <a:off x="684360" y="1844640"/>
            <a:ext cx="72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домашнего труда шк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1332000" y="2349360"/>
            <a:ext cx="59040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рганизация режима д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f0"/>
                </a:solidFill>
                <a:latin typeface="Arial"/>
              </a:rPr>
              <a:t>•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ме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f0"/>
                </a:solidFill>
                <a:latin typeface="Arial"/>
              </a:rPr>
              <a:t>•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работка привычки обяза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полнения домашнего зад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250920" y="3917880"/>
            <a:ext cx="64818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учение детей к самосто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троль за выполнением домашн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 </a:t>
            </a:r>
            <a:r>
              <a:rPr b="1" lang="ru-RU" sz="4200" spc="-1" strike="noStrike">
                <a:solidFill>
                  <a:srgbClr val="7030a0"/>
                </a:solidFill>
                <a:latin typeface="Garamond"/>
              </a:rPr>
              <a:t>Организация режима дн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6633"/>
                </a:solidFill>
                <a:latin typeface="Arial"/>
              </a:rPr>
              <a:t>      </a:t>
            </a:r>
            <a:r>
              <a:rPr b="1" i="1" lang="ru-RU" sz="2200" spc="-1" strike="noStrike">
                <a:solidFill>
                  <a:srgbClr val="002060"/>
                </a:solidFill>
                <a:latin typeface="Arial"/>
              </a:rPr>
              <a:t>Организация режима дня позволяет ребенк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33"/>
                </a:solidFill>
                <a:latin typeface="Arial"/>
              </a:rPr>
              <a:t>          •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легче справиться с учебной нагрузко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33"/>
                </a:solidFill>
                <a:latin typeface="Arial"/>
              </a:rPr>
              <a:t>     •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защищает нервную систему от переутомления, т.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                         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укрепляет здоровь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6633"/>
                </a:solidFill>
                <a:latin typeface="Arial"/>
              </a:rPr>
              <a:t>         </a:t>
            </a:r>
            <a:r>
              <a:rPr b="1" i="1" lang="ru-RU" sz="2200" spc="-1" strike="noStrike">
                <a:solidFill>
                  <a:srgbClr val="7030a0"/>
                </a:solidFill>
                <a:latin typeface="Arial"/>
              </a:rPr>
              <a:t>У 20% школьников плохое здоровье – прич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Arial"/>
              </a:rPr>
              <a:t>                                 </a:t>
            </a:r>
            <a:r>
              <a:rPr b="1" i="1" lang="ru-RU" sz="2200" spc="-1" strike="noStrike">
                <a:solidFill>
                  <a:srgbClr val="7030a0"/>
                </a:solidFill>
                <a:latin typeface="Arial"/>
              </a:rPr>
              <a:t>неуспеваемости. 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18832091_6546"/>
          <p:cNvPicPr/>
          <p:nvPr/>
        </p:nvPicPr>
        <p:blipFill>
          <a:blip r:embed="rId1"/>
          <a:stretch/>
        </p:blipFill>
        <p:spPr>
          <a:xfrm>
            <a:off x="7236000" y="333360"/>
            <a:ext cx="10378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539640" y="1197000"/>
            <a:ext cx="13341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чень важно, чтобы ребёнок садился 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уроки в одно и то же время, это исключ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ериод втягивания в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Если нет постоянного времени занят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 формируется представление 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готовление занятий дело не обязательн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торостепен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7030a0"/>
                </a:solidFill>
                <a:latin typeface="Garamond"/>
              </a:rPr>
              <a:t>   </a:t>
            </a:r>
            <a:r>
              <a:rPr b="1" lang="ru-RU" sz="3800" spc="-1" strike="noStrike">
                <a:solidFill>
                  <a:srgbClr val="7030a0"/>
                </a:solidFill>
                <a:latin typeface="Garamond"/>
              </a:rPr>
              <a:t>Точный распорядок занятий – это</a:t>
            </a:r>
            <a:br>
              <a:rPr sz="3800"/>
            </a:br>
            <a:r>
              <a:rPr b="1" lang="ru-RU" sz="3800" spc="-1" strike="noStrike">
                <a:solidFill>
                  <a:srgbClr val="7030a0"/>
                </a:solidFill>
                <a:latin typeface="Garamond"/>
              </a:rPr>
              <a:t>               основа любого труда</a:t>
            </a:r>
            <a:r>
              <a:rPr b="0" lang="ru-RU" sz="3800" spc="-1" strike="noStrike">
                <a:solidFill>
                  <a:srgbClr val="7030a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3284640"/>
            <a:ext cx="8748720" cy="28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ежедневное выполнение домашних обязанносте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ежедневное чтение кни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организация досуг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прогулки на свежем воздух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              </a:t>
            </a: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до 3 час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правильно организованный сон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antn071"/>
          <p:cNvPicPr/>
          <p:nvPr/>
        </p:nvPicPr>
        <p:blipFill>
          <a:blip r:embed="rId1"/>
          <a:stretch/>
        </p:blipFill>
        <p:spPr>
          <a:xfrm>
            <a:off x="5867280" y="4292640"/>
            <a:ext cx="3140280" cy="2376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1073160" y="2060640"/>
            <a:ext cx="70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режим дня должно быть включе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2"/>
          <p:cNvSpPr/>
          <p:nvPr/>
        </p:nvSpPr>
        <p:spPr>
          <a:xfrm>
            <a:off x="1258920" y="333360"/>
            <a:ext cx="72597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7030a0"/>
                </a:solidFill>
                <a:latin typeface="Garamond"/>
              </a:rPr>
              <a:t>Организация рабочего мест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1409040" y="1844640"/>
            <a:ext cx="5786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●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чее место должно быть постоян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●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статочно освещён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●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ё должно находиться на своих ме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быть под ру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●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кто не должен мешать учен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395280" y="4724280"/>
            <a:ext cx="871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Специалист по научной организации труда  К. Гастев утвержд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« Если рабочее место находится в порядке, это уже половина де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1"/>
          <a:stretch/>
        </p:blipFill>
        <p:spPr>
          <a:xfrm>
            <a:off x="7345440" y="1587600"/>
            <a:ext cx="17096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0" y="404640"/>
            <a:ext cx="1021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Продолжительность работы ребёнка 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выполнению домашних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1659600" y="2708280"/>
            <a:ext cx="627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6 класс      2 – 2,5 ча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2610000" y="3890880"/>
            <a:ext cx="340200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96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Очень важным моментом является выработка привычки к обязательному  выполнению домашних заданий:</a:t>
            </a:r>
            <a:r>
              <a:rPr b="0" lang="ru-RU" sz="4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123640" y="2133360"/>
            <a:ext cx="6769080" cy="16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акая бы погода ни бы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акие бы ни шли телепередачи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ей бы день рождения ни отмечал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Уроки должны быть                    </a:t>
            </a: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     выполнены, и </a:t>
            </a: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     выполнены хорошо. 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2613_NpAdvHover"/>
          <p:cNvPicPr/>
          <p:nvPr/>
        </p:nvPicPr>
        <p:blipFill>
          <a:blip r:embed="rId1"/>
          <a:stretch/>
        </p:blipFill>
        <p:spPr>
          <a:xfrm>
            <a:off x="250920" y="387828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7030a0"/>
                </a:solidFill>
                <a:latin typeface="Garamond"/>
              </a:rPr>
              <a:t>2. Направление помощи — приучение к </a:t>
            </a:r>
            <a:br>
              <a:rPr sz="3400"/>
            </a:br>
            <a:r>
              <a:rPr b="1" lang="ru-RU" sz="3400" spc="-1" strike="noStrike">
                <a:solidFill>
                  <a:srgbClr val="7030a0"/>
                </a:solidFill>
                <a:latin typeface="Garamond"/>
              </a:rPr>
              <a:t>                   самостоятельности</a:t>
            </a:r>
            <a:r>
              <a:rPr b="0" lang="ru-RU" sz="3800" spc="-1" strike="noStrike">
                <a:solidFill>
                  <a:srgbClr val="7030a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33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6633"/>
                </a:solidFill>
                <a:latin typeface="Arial"/>
              </a:rPr>
              <a:t>Две крайности родите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1) чрезмерная оп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2) полное отсутствие помощи и конт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Во всём хороша «золотая серед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89707"/>
          <p:cNvPicPr/>
          <p:nvPr/>
        </p:nvPicPr>
        <p:blipFill>
          <a:blip r:embed="rId1"/>
          <a:stretch/>
        </p:blipFill>
        <p:spPr>
          <a:xfrm>
            <a:off x="5605560" y="1960560"/>
            <a:ext cx="212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3:39:39Z</dcterms:created>
  <dc:creator>ЕГОР</dc:creator>
  <dc:description/>
  <dc:language>en-US</dc:language>
  <cp:lastModifiedBy>Olga</cp:lastModifiedBy>
  <dcterms:modified xsi:type="dcterms:W3CDTF">2014-11-12T21:29:07Z</dcterms:modified>
  <cp:revision>23</cp:revision>
  <dc:subject/>
  <dc:title>Родительское собрание «Нравственные законы семьи - законы жизни»</dc:title>
</cp:coreProperties>
</file>