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D577-644C-4FB3-9000-C0369633AC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B64-FD73-44B4-A288-883229573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D7C-F794-414E-912E-D03A5C6C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D21-A8BA-4178-A8E1-72911043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675-9679-4AAA-B2F8-34A6E293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AE4-FC44-4361-8E20-C0F6CFF7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69F-3FDD-48D0-934C-7E62398E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11E9-143F-4917-8635-668A8BE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C51-356A-412D-956E-2060A3E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9A95-F38B-4F5E-95FF-EB364BF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A6B-DEE3-405E-B6FE-F00B0D4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A3EB-9845-4502-B682-C89788C5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11E8-1E31-41EE-85D8-95B5E13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D62-C7A6-4591-B2DE-0D542351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5EC6-2DCE-4E81-A5FF-1F64D53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8F5-BA08-4EC2-80A6-A1D1C83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8EB-04E3-4E96-BEB2-63F338FE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6C14-D15F-4B11-A5C6-44DBD4D3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549-3116-4568-A5CC-C77DEDD2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EB6-CFCE-4082-81C3-8701B6E3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A27-72B9-4909-B535-E087094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799-D040-4418-B90E-67AF7D82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D87-FA57-4FA6-B140-9CD6FF2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C1F-5F02-42CA-BAD1-FC6CBF8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CB5-BAEE-43A2-ABCE-E908706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827-1D77-4BF0-98B5-F181E43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B4A-72A9-46DA-9656-1B07034E7C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bf39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EC15-A287-4CBD-90CF-E05823DE7C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981000"/>
            <a:ext cx="8929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Garamond"/>
              </a:rPr>
              <a:t>Как помочь ребёнку в учёбе</a:t>
            </a:r>
            <a:br>
              <a:rPr sz="4400"/>
            </a:b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58920" y="260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p10_childsoul2"/>
          <p:cNvPicPr/>
          <p:nvPr/>
        </p:nvPicPr>
        <p:blipFill>
          <a:blip r:embed="rId1"/>
          <a:srcRect l="0" t="0" r="0" b="29080"/>
          <a:stretch/>
        </p:blipFill>
        <p:spPr>
          <a:xfrm>
            <a:off x="969840" y="2276640"/>
            <a:ext cx="6972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16000" y="907920"/>
            <a:ext cx="71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вык самостоятельной деятельности необходим как для успешного обучени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школе, так и дл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азвитие самостоятельности – это забота 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будущем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оятельность редко по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а п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оятельность детей – это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яда последователь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624560" y="323208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164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4456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826920" y="404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равило для родителей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71640" y="1628640"/>
            <a:ext cx="74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Если ребёнку трудно, и он готов при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шу помощь, обязательно помогите 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возьмите на себя только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может выполнить сам, оста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ьте  делать ему самому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3. Направление помощи — контроль за </a:t>
            </a:r>
            <a:br>
              <a:rPr sz="3400"/>
            </a:b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      выполнением домашних заданий.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контроль должен быть систематическим, а не от случая к случаю и не должен ограничиваться вопросам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- какие отметки?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- выполнил ли урок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ощь детям должна оказываться своевремен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как можно больше требовательности к детям и как можно больше уважения, контроль должен быть ненавязчивым и тактичным, проявляйте терпимость и уважение к лич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воего ребён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не сравнивайте его умения с умениями других дет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84360" y="836640"/>
            <a:ext cx="8164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кричите, лучше определите причину отсутствия у ребё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выполнить заданное упраж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йте упорство и проявление характера в достижени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те его внимание при выполнении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йте привычку доводить начатое дело до кон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если придётся чем-то жер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хвалите ребёнка за своевременное и качественное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тмахивайтесь от вопросов ребёнка, этим вы усугубит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облегчить выполнение домашних заданий покуп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у энциклопедии, словари, справочную литера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4624560" y="323208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164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44560" y="48895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468360" y="1268280"/>
            <a:ext cx="1345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Радуйтесь тому, что у вас е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кое счастье - с  кем-то 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уроки, кому-то помог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зросл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       </a:t>
            </a: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Помощь детям включает три</a:t>
            </a:r>
            <a:br>
              <a:rPr sz="4200"/>
            </a:b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                   направл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7800" y="4652640"/>
            <a:ext cx="5175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i"/>
          <p:cNvPicPr/>
          <p:nvPr/>
        </p:nvPicPr>
        <p:blipFill>
          <a:blip r:embed="rId1"/>
          <a:stretch/>
        </p:blipFill>
        <p:spPr>
          <a:xfrm>
            <a:off x="6732720" y="4292640"/>
            <a:ext cx="211932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684360" y="184464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домашнего труда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332000" y="2349360"/>
            <a:ext cx="590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режима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м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"/>
              </a:rPr>
              <a:t>•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работка привычки обяз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ения домашнего за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50920" y="3917880"/>
            <a:ext cx="6481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ение детей к самосто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 за выполнением домаш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Организация режима д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Организация режима дня позволяет ребен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     •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легче справиться с учебной нагрузк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•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защищает нервную систему от переутомления, т.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крепляет здоровь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У 20% школьников плохое здоровье – при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                                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неуспеваемости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539640" y="1197000"/>
            <a:ext cx="1334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чень важно, чтобы ребёнок садился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роки в одно и то же время, это исклю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ериод втягивания в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ли нет постоянного времени занят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 формируется представление 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готовление занятий дело не обязатель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торостепе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Точный распорядок занятий – это</a:t>
            </a:r>
            <a:br>
              <a:rPr sz="3800"/>
            </a:br>
            <a:r>
              <a:rPr b="1" lang="ru-RU" sz="3800" spc="-1" strike="noStrike">
                <a:solidFill>
                  <a:srgbClr val="7030a0"/>
                </a:solidFill>
                <a:latin typeface="Garamond"/>
              </a:rPr>
              <a:t>               основа любого труда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74872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ежедневное чтение кни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организация досу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огулки на свежем воздух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до 3 ча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правильно организованный со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ntn071"/>
          <p:cNvPicPr/>
          <p:nvPr/>
        </p:nvPicPr>
        <p:blipFill>
          <a:blip r:embed="rId1"/>
          <a:stretch/>
        </p:blipFill>
        <p:spPr>
          <a:xfrm>
            <a:off x="5867280" y="4292640"/>
            <a:ext cx="314028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1073160" y="206064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режим дня должно быть вклю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1258920" y="333360"/>
            <a:ext cx="7259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Garamond"/>
              </a:rPr>
              <a:t>Организация рабочего мес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409040" y="1844640"/>
            <a:ext cx="578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ее место должно быть постоя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●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точно освещё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должно находиться на своих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быть под ру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●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кто не должен мешать уче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95280" y="4724280"/>
            <a:ext cx="87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пециалист по научной организации труда  К. Гастев утвержд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« Если рабочее место находится в порядке, это уже половина д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45440" y="1587600"/>
            <a:ext cx="1709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404640"/>
            <a:ext cx="102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тельность работы ребёнка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ыполнению домашни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659600" y="2708280"/>
            <a:ext cx="62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6 класс      2 – 2,5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610000" y="3890880"/>
            <a:ext cx="3402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чень важным моментом является выработка привычки к обязательному  выполнению домашних заданий: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23640" y="2133360"/>
            <a:ext cx="676908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ая бы погода ни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бы ни шли телепередач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й бы день рождения ни отмеч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    выполнены, и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     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3878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2. Направление помощи — приучение к </a:t>
            </a:r>
            <a:br>
              <a:rPr sz="3400"/>
            </a:br>
            <a:r>
              <a:rPr b="1" lang="ru-RU" sz="3400" spc="-1" strike="noStrike">
                <a:solidFill>
                  <a:srgbClr val="7030a0"/>
                </a:solidFill>
                <a:latin typeface="Garamond"/>
              </a:rPr>
              <a:t>                   самостоятельности</a:t>
            </a:r>
            <a:r>
              <a:rPr b="0" lang="ru-RU" sz="3800" spc="-1" strike="noStrike">
                <a:solidFill>
                  <a:srgbClr val="7030a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Две крайности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1) чрезмерная оп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2) полное отсутствие помощи и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о всём хороша «золотая сере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89707"/>
          <p:cNvPicPr/>
          <p:nvPr/>
        </p:nvPicPr>
        <p:blipFill>
          <a:blip r:embed="rId1"/>
          <a:stretch/>
        </p:blipFill>
        <p:spPr>
          <a:xfrm>
            <a:off x="5605560" y="1960560"/>
            <a:ext cx="212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Olga</cp:lastModifiedBy>
  <dcterms:modified xsi:type="dcterms:W3CDTF">2014-11-12T21:29:07Z</dcterms:modified>
  <cp:revision>23</cp:revision>
  <dc:subject/>
  <dc:title>Родительское собрание «Нравственные законы семьи - законы жизни»</dc:title>
</cp:coreProperties>
</file>