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B3B-D7C8-4561-A153-B8224177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000-F6CC-46F6-9454-729A634A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CF6-2269-4B85-9A21-9C243189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A2A-BDD4-4ABD-B4BE-85E6DF54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0738-5429-4E77-B565-090BFE3D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7E82-D27F-4DE7-A60D-4C3FE89E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6E1C-CC41-4624-981D-3309A077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B295-5ACF-4027-BC26-7380672C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6926-2D0C-431C-8335-9ED40E8B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EF13-D548-44BA-8BFC-77B19211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688B-4ADE-4F3B-B5BD-BED3B88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0AD-42FA-4BE7-A928-7F1603B7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1A97-2084-47ED-B047-4E14A9A2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07FD-A518-4028-AFCB-4B47B9EC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DFC1-4CC9-443C-AFED-E086B7A9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0A3F-510D-4591-BD19-1D61090C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8B7F-8AAF-4FB8-8A77-4479CDE4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E15-AE6B-4DA4-99AB-E541B32F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545-46A1-4350-B96B-E48AE0B7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76E-E28E-47E1-B894-F3B3206B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2D7-2B13-4B60-A6D8-4F58042C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6DE-43A2-40B0-9E39-212A8DB2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4EB-E178-4279-9D58-41DE3F0B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BAC-1559-4890-91DE-2373E1C9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B250-299F-4331-8BAE-6E9B29C055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E5B8-30D3-4161-9D39-DF56B05F8D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Возрастные особенности учащихся 2 – 3 классов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Самое главное при изучении иностранного языка – освоение лексики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Важно, чтобы письменные задания выполнялись не механически, чтобы одновременно с написанием ребенок повторял вслух то, что он пише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Если навык выполнения домашнего задания сформировался, то можете некоторое время не контролировать ребенка. Но сформированный навык может  дать сбой, тогда терпеливо начинайте сначал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Знайте, что всегда нужна ваша поддержка, терпение, благожелательнос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Помните: приучить к самостоятельности очень трудно, но необходимо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се познавательные процессы  становят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оизвольны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одуктивны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стойчивым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Ведущая деятельност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 это время – </a:t>
            </a:r>
            <a:r>
              <a:rPr b="0" i="1" lang="en-US" sz="4000" spc="-1" strike="noStrike">
                <a:solidFill>
                  <a:srgbClr val="ffffff"/>
                </a:solidFill>
                <a:latin typeface="Verdana"/>
              </a:rPr>
              <a:t>учеб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Задача родителей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здать условия для того, чтобы в домашней трудовой деятельности находили отражение, применялись те знания, умения и навыки, которые приобретаются в школ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Доминиру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наглядно-действенно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наглядно-образное мыш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Развиваютс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се логические операци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сравнение, обобщение, анализ, синтез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Абстрактное мыш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развито слабо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Verdana"/>
              </a:rPr>
              <a:t>Ребенок в этом возрасте во всем ориентируется на оценку взрослого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Verdana"/>
              </a:rPr>
              <a:t>Ребенок</a:t>
            </a: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 воспринимает школьную оценку как оценку всего себя как личности или как отношение к себ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Как приучить ребенка самостоятельно выполнять домашнее зада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Задания даются не вам, а ребенку. Выполняя работу за него, вы лишаете его возможности развиваться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омогите своему ребенку в организации рабочего места, посоветуйте начинать с более легких предметов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. Не спешите на помощь, дождитесь, когда он выполнит задание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Избегайте слова «ошибка»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 этом нужна ваша поддержка, терпение, благожелатель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Не ругайте ребенка за промахи, не высмеивайте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Поверьте: ребенок сделал их не специально, он тоже пережива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Таблицу умножения повесьте над сто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Старайтесь  опережать задания в школе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Учите задачи по математике представлять как события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7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Задание по чтению попросите прочитать вслух, а потом попросите пересказа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8. При выполнении упражнения по русскому языку не следует выполнять упражнение на черновике или вставлять буквы в текст учебника, это утомляет ребенка, делает его невнимательным. Лучше выполнить упражнение сначала устно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9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ри подготовке уроков по курсу «Окружающий мир» используйте  энциклопедии, справочники, журналы. Это расширит кругозор и научит ориентироваться в море информа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2</cp:lastModifiedBy>
  <dcterms:modified xsi:type="dcterms:W3CDTF">2010-02-17T13:44:4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