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B38-CBBB-49D3-B2BA-152F7407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869-5CE4-4313-99C8-EA8F4FB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1F0-E70E-4638-967E-319B0EF4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FD4-4E10-4E93-85B1-0BAEA480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B648-278E-4DD5-B238-812F68CF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B414-311E-4FA8-B324-3B2D2ACF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1BF9-7A80-42FC-9387-93C35B1D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82BB-68FF-466F-B245-8708F9A2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0498-F30B-456A-ACE0-F7490421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2343-4411-4C02-AEE5-F4FDD644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A93B-53E6-466E-807C-1858003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763-B80A-479E-ACEB-88B70FFB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1BC-506E-42C7-ACE0-9FA224F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B16-E42F-46B0-B7DE-F08F2335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3C2D-99EF-404F-A6E1-17F845AC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BE4-36EA-40CB-A4C4-8556931A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F6D-3C1B-4397-93C2-CDD82E59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C3E-7571-466E-A5BD-21DE24D8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45F-B907-4DBC-A97F-D0EB21A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EC4-406A-49D2-B67E-357A9A8D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532-B317-4A65-950F-4A19CB0C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EA4-B430-4E35-AEEE-37FF8A6F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E89-285A-45B1-8C3F-7C82CF7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C01-800E-4A51-BBB5-47D3677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A536-A191-4B8E-8269-6D2BA29839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C38-ACE9-4B89-8C19-4FEF32CE20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Возрастные особенности учащихся 2 – 3 классов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Самое главное при изучении иностранного языка – освоение лексики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ажно, чтобы письменные задания выполнялись не механически, чтобы одновременно с написанием ребенок повторял вслух то, что он пиш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Если навык выполнения домашнего задания сформировался, то можете некоторое время не контролировать ребенка. Но сформированный навык может  дать сбой, тогда терпеливо начинайте сначал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Знайте, что всегда нужна ваша поддержка, терпение, благожелатель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омните: приучить к самостоятельности очень трудно, но необходим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се познавательные процессы  становя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изволь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дуктив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стойчивы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едущая деятельност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 это время – </a:t>
            </a: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учеб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Задача родителе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здать условия для того, чтобы в домашней трудовой деятельности находили отражение, применялись те знания, умения и навыки, которые приобретаются в школ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Доминиру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наглядно-действен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наглядно-образ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Развиваютс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се логические операци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сравнение, обобщение, анализ, синтез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Абстракт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развито слаб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Ребенок в этом возрасте во всем ориентируется на оценку взрослог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Ребенок</a:t>
            </a: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 воспринимает школьную оценку как оценку всего себя как личности или как отношение к себ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Как приучить ребенка самостоятельно выполнять 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Задания даются не вам, а ребенку. Выполняя работу за него, вы лишаете его возможности развиваться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омогите своему ребенку в организации рабочего места, посоветуйте начинать с более легких предметов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. Не спешите на помощь, дождитесь, когда он выполнит задание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Избегайте слова «ошибка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 этом нужна ваша поддержка, терпение, благожела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Не ругайте ребенка за промахи, не высмеивайте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Поверьте: ребенок сделал их не специально, он тоже пережив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аблицу умножения повесьте над сто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арайтесь  опережать задания в школе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чите задачи по математике представлять как события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Задание по чтению попросите прочитать вслух, а потом попросите пересказ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8. При выполнении упражнения по русскому языку не следует выполнять упражнение на черновике или вставлять буквы в текст учебника, это утомляет ребенка, делает его невнимательным. Лучше выполнить упражнение сначала устно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9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и подготовке уроков по курсу «Окружающий мир» используйте  энциклопедии, справочники, журналы. Это расширит кругозор и научит ориентироваться в море информ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2</cp:lastModifiedBy>
  <dcterms:modified xsi:type="dcterms:W3CDTF">2010-02-17T13:44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