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3F5B-58F9-49EB-870A-A76114EEA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818C-D783-41D4-ACBD-7FFCA921B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495B-AB4B-425D-A2A6-B3A41E797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7551-076E-4A64-BF6D-5B0D3C3CC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A44976-8E51-471F-B0E3-0AA9AF8DA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AC3858-485C-4308-A790-A9EE4CF9E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237DCF-881B-45CF-9297-5ECADACEC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F97304-9791-424C-87AC-E8E3F8665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6B3731-8AA6-4A37-B6C1-7C4099BCF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813936-3711-4FC7-9902-C5CAF63CA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75552C-E477-420E-AE2F-615700274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5443-266E-41C5-81C6-AD8EDDDDF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3C8A1B-8E8D-41ED-96C1-82F8935D9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CA422B-D984-46DD-BC96-C3B6A3DB3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AE2794-6108-40A1-88B3-76205EC56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13B223-B80E-4934-ADA3-903606C49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8CA61D-799D-469B-9C8B-0357F8556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D2A0-40EF-480C-8C6B-0F3AFDBE6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74F4-AFC8-4C66-B844-9CF414779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37F2-1119-4E52-B61F-4B6023210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017D-AE34-43F3-B6B4-7D6324C12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3DAB-0F79-4AC8-8934-FC12E7BF1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8038-A73E-4514-AE07-29159D3A6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3E9F-6A51-4DD3-A1CA-673D74965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A9216-8127-465C-AEDE-E85703BB85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DCF17-F478-47EC-A538-2C65BE2A02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ahoma"/>
              </a:rPr>
              <a:t>«Слово не воробей…»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763120" cy="66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76312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6868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«С языком, с человеческим словом, с речью безнаказанно шутить нельзя; словесная речь человека – это невидимая, осязаемая связь, союзное звено между телом и духом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ладимир Дал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ahoma"/>
              </a:rPr>
              <a:t>Благодарим за внимание!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омп2</cp:lastModifiedBy>
  <dcterms:modified xsi:type="dcterms:W3CDTF">2010-03-19T07:50:32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