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128-3F88-4DBE-8B3D-0DCA44D1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CF3-56AF-4CA9-9EA4-39C39B0E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BC5-AFFC-4453-AA82-5D7AFB57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055-4A5C-48EE-AA99-7FFD2C6C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DE56-1CEC-4758-9C17-36645B32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F472D-0DEE-4EB5-8DC8-293241B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32DF2-A5D4-41AB-896C-14B060C5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D26FB-F20B-4D73-A7FE-5226F38B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8A200-6E35-4965-9FA9-60E9664E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5C9E7-4E93-4A94-960D-A9CDF242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0E03C-30AF-4213-85DF-E4045C1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09E-1266-4544-B5B0-BBC68C2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9784-5590-4C23-8196-A9DC1CE4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4DD07-10D6-4BD7-9C36-19AD983F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37FE3-C122-4E61-8CC3-AAE0B6D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EBC5B-A7FE-4CB7-9DBB-1B5AEA5E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E57C-39DB-4574-9996-EDEA9DE3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6C1-89BD-4F55-8864-09AFDD45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5CC-3CF5-4EAF-B7B6-E4C38DE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BD4-5893-4BF7-9CBB-A7CC1434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144-CE58-448F-952F-FDFB3A5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37F-E5AB-4EE4-A7EA-F765424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8C1-7976-4FE1-86D8-F13A44AF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A8B-406C-4684-804E-A058C51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5A5-9ADF-46A6-AF90-4576C9777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AE3B-0B09-47F3-B8E9-E691D3AD9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«Слово не воробей…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С языком, с человеческим словом, с речью безнаказанно шутить нельзя; словесная речь человека – это невидимая, осязаемая связь, союзное звено между телом и духом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адимир Д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Благодарим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2</cp:lastModifiedBy>
  <dcterms:modified xsi:type="dcterms:W3CDTF">2010-03-19T07:50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