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43C-C5CD-41D2-8E54-E62F5024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87A-31CB-4FCA-BF30-27A8B9F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547-B66A-4989-8664-11E3C3D7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94A-04F9-4F64-AB12-8675CBF1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E758-CC5C-44A2-81E9-A2FAAC6B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36A5-0C9F-430C-8730-9823B989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AF4B-9A5E-419B-812D-1BDDF463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3438-CF97-4DB6-BA9B-49485970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70E7-F295-4011-95AC-C6FB9824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CA9A-58AB-4C04-9C76-2E7AB302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7856-0720-41C2-B7D5-6F74ABAC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EB3-128D-48E1-89AE-7C42CF1E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1AE0-C821-4AC2-8634-A4552F0E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BEAD-5034-4BEF-84A9-A474AB2B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52EF-AF75-462D-8376-B341B3DB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F2D3-6EDB-4B3E-B10E-B0BEA6CD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906C-BED9-476A-9CCB-C304D9DE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C73-FCF4-4CCF-82B2-FB82D962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789-613B-4278-AD01-74362AF2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3A9-229A-4742-A641-3E421EE1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C72-35CB-4D42-8AE9-16D90D97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36E-2793-4E0D-AA4B-0BE8D1E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A58-D6F9-481A-A37E-CCE31E6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D08-E0A5-4CA2-AB6E-14827A7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5852-D222-4337-9375-3DC8BA9C5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9A38-1C6A-44E5-BDCA-C3AA605568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№6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ни Маршала Советского Союза Г.К. Жукова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ТРОЕНИЕ ТЕЛА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КРУЖАЮЩИЙ МИР, 2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КОЗЛ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РИНА КОНСТАНТИ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кишечни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олст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и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он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и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rcRect l="24350" t="11140" r="24350" b="37133"/>
          <a:stretch/>
        </p:blipFill>
        <p:spPr>
          <a:xfrm>
            <a:off x="250920" y="981000"/>
            <a:ext cx="1895400" cy="250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5651640" y="1197000"/>
            <a:ext cx="3085920" cy="167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3"/>
          <a:srcRect l="24350" t="11140" r="24350" b="37133"/>
          <a:stretch/>
        </p:blipFill>
        <p:spPr>
          <a:xfrm>
            <a:off x="250920" y="3933720"/>
            <a:ext cx="1895400" cy="2508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4"/>
          <a:srcRect l="0" t="0" r="0" b="30120"/>
          <a:stretch/>
        </p:blipFill>
        <p:spPr>
          <a:xfrm>
            <a:off x="5651640" y="4292640"/>
            <a:ext cx="3085920" cy="1670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печен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rcRect l="14610" t="11140" r="19480" b="37133"/>
          <a:stretch/>
        </p:blipFill>
        <p:spPr>
          <a:xfrm>
            <a:off x="108000" y="1628640"/>
            <a:ext cx="3844800" cy="3961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4284720" y="2205000"/>
            <a:ext cx="464328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мочевой пузыр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rcRect l="19480" t="14853" r="19480" b="37133"/>
          <a:stretch/>
        </p:blipFill>
        <p:spPr>
          <a:xfrm>
            <a:off x="250920" y="2133720"/>
            <a:ext cx="3279600" cy="3384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4067280" y="2421000"/>
            <a:ext cx="482580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россворд    «Части  тел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50920" y="1268280"/>
          <a:ext cx="8424720" cy="5256360"/>
        </p:xfrm>
        <a:graphic>
          <a:graphicData uri="http://schemas.openxmlformats.org/drawingml/2006/table">
            <a:tbl>
              <a:tblPr/>
              <a:tblGrid>
                <a:gridCol w="766800"/>
                <a:gridCol w="765000"/>
                <a:gridCol w="765360"/>
                <a:gridCol w="6127560"/>
              </a:tblGrid>
              <a:tr h="752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050920" y="1052640"/>
          <a:ext cx="720720" cy="64764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68360" y="907920"/>
          <a:ext cx="8280360" cy="5759640"/>
        </p:xfrm>
        <a:graphic>
          <a:graphicData uri="http://schemas.openxmlformats.org/drawingml/2006/table">
            <a:tbl>
              <a:tblPr/>
              <a:tblGrid>
                <a:gridCol w="762120"/>
                <a:gridCol w="760320"/>
                <a:gridCol w="761760"/>
                <a:gridCol w="762120"/>
                <a:gridCol w="760320"/>
                <a:gridCol w="763560"/>
                <a:gridCol w="760680"/>
                <a:gridCol w="761760"/>
                <a:gridCol w="763560"/>
                <a:gridCol w="758880"/>
                <a:gridCol w="665280"/>
              </a:tblGrid>
              <a:tr h="72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щ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россворд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Внутренние орган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24000" y="1268280"/>
          <a:ext cx="8135640" cy="5256360"/>
        </p:xfrm>
        <a:graphic>
          <a:graphicData uri="http://schemas.openxmlformats.org/drawingml/2006/table">
            <a:tbl>
              <a:tblPr/>
              <a:tblGrid>
                <a:gridCol w="739800"/>
                <a:gridCol w="739440"/>
                <a:gridCol w="738360"/>
                <a:gridCol w="739800"/>
                <a:gridCol w="739800"/>
                <a:gridCol w="741240"/>
                <a:gridCol w="739800"/>
                <a:gridCol w="739800"/>
                <a:gridCol w="738360"/>
                <a:gridCol w="739440"/>
                <a:gridCol w="739800"/>
              </a:tblGrid>
              <a:tr h="750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«СТРОЕНИЕ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ТЕЛА ЧЕЛОВЕК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Цель урок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сти понятие «внешнее» и «внутреннее»                        строение тела человека; познакомить с частями и внутренними органами человека; дать первоначальное представление о работе внутренних орг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333000"/>
            <a:ext cx="9036000" cy="60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троение тела чело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нешнее             внутренне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 flipH="1">
            <a:off x="2050920" y="1844640"/>
            <a:ext cx="1727280" cy="1440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5003640" y="1844640"/>
            <a:ext cx="1656000" cy="144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1" descr=""/>
          <p:cNvPicPr/>
          <p:nvPr/>
        </p:nvPicPr>
        <p:blipFill>
          <a:blip r:embed="rId1"/>
          <a:srcRect l="50361" t="5620" r="25477" b="24586"/>
          <a:stretch/>
        </p:blipFill>
        <p:spPr>
          <a:xfrm>
            <a:off x="3492360" y="2205000"/>
            <a:ext cx="18320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"/>
              </a:rPr>
              <a:t>Внешнее  строение  (части  тела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rcRect l="50361" t="5620" r="25477" b="24586"/>
          <a:stretch/>
        </p:blipFill>
        <p:spPr>
          <a:xfrm>
            <a:off x="250920" y="1557360"/>
            <a:ext cx="2098440" cy="5111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4070880" y="1576440"/>
            <a:ext cx="14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4069440" y="227664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069440" y="306864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065480" y="364500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уловищ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грудь, живот, спи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4143600" y="4581360"/>
            <a:ext cx="1018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1331640" y="1844640"/>
            <a:ext cx="2808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1258920" y="2565360"/>
            <a:ext cx="2881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 flipH="1" flipV="1">
            <a:off x="2050920" y="3213000"/>
            <a:ext cx="2089440" cy="14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 flipH="1" flipV="1">
            <a:off x="1618920" y="3429000"/>
            <a:ext cx="252108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 flipH="1">
            <a:off x="1692360" y="4797360"/>
            <a:ext cx="2519280" cy="71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"/>
              </a:rPr>
              <a:t>Внутреннее  строение  (орган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з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ёг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елуд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ч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ишечник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толстая ки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нкая киш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чевой пузыр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rcRect l="44437" t="10537" r="36734" b="20371"/>
          <a:stretch/>
        </p:blipFill>
        <p:spPr>
          <a:xfrm>
            <a:off x="324000" y="907920"/>
            <a:ext cx="1871640" cy="595008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 flipV="1">
            <a:off x="1403280" y="1196640"/>
            <a:ext cx="266400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 flipH="1">
            <a:off x="1116000" y="2421000"/>
            <a:ext cx="2951280" cy="7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H="1" flipV="1">
            <a:off x="1476360" y="2565360"/>
            <a:ext cx="251928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1547640" y="3068640"/>
            <a:ext cx="244800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 flipH="1" flipV="1">
            <a:off x="1331640" y="3499920"/>
            <a:ext cx="2663640" cy="151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 flipH="1" flipV="1">
            <a:off x="1186920" y="2997000"/>
            <a:ext cx="280836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2"/>
          <p:cNvSpPr/>
          <p:nvPr/>
        </p:nvSpPr>
        <p:spPr>
          <a:xfrm flipH="1" flipV="1">
            <a:off x="1402920" y="3789000"/>
            <a:ext cx="2592360" cy="2376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головной моз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08000" y="115920"/>
            <a:ext cx="903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rcRect l="38512" t="14049" r="26662" b="38634"/>
          <a:stretch/>
        </p:blipFill>
        <p:spPr>
          <a:xfrm>
            <a:off x="179280" y="2492280"/>
            <a:ext cx="3318120" cy="3641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3780000" y="2565360"/>
            <a:ext cx="518472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лёгки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19480" t="14853" r="24350" b="37133"/>
          <a:stretch/>
        </p:blipFill>
        <p:spPr>
          <a:xfrm>
            <a:off x="179280" y="1916280"/>
            <a:ext cx="4076640" cy="4392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4427640" y="2565360"/>
            <a:ext cx="4537080" cy="3175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сердц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Arial"/>
              </a:rPr>
              <a:t>             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rcRect l="24350" t="11140" r="24350" b="37133"/>
          <a:stretch/>
        </p:blipFill>
        <p:spPr>
          <a:xfrm>
            <a:off x="179280" y="1413000"/>
            <a:ext cx="3754440" cy="496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4103640" y="2276640"/>
            <a:ext cx="4932360" cy="2727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желудо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rcRect l="24350" t="11140" r="24350" b="37133"/>
          <a:stretch/>
        </p:blipFill>
        <p:spPr>
          <a:xfrm>
            <a:off x="395280" y="1989000"/>
            <a:ext cx="2992320" cy="3959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rcRect l="0" t="0" r="0" b="30120"/>
          <a:stretch/>
        </p:blipFill>
        <p:spPr>
          <a:xfrm>
            <a:off x="3995640" y="2565360"/>
            <a:ext cx="4969080" cy="2689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2:57:35Z</dcterms:created>
  <dc:creator>user</dc:creator>
  <dc:description/>
  <dc:language>en-US</dc:language>
  <cp:lastModifiedBy>Ирина</cp:lastModifiedBy>
  <dcterms:modified xsi:type="dcterms:W3CDTF">2015-01-28T07:03:48Z</dcterms:modified>
  <cp:revision>13</cp:revision>
  <dc:subject/>
  <dc:title>СТРОЕНИЕ ТЕЛА ЧЕЛОВЕКА</dc:title>
</cp:coreProperties>
</file>