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636-127F-473E-B120-61EDDF1B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17F-C28C-48A5-BB78-4EA90E0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355-0307-49D8-8B8D-FCF6926B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ECC-E45A-436C-81E7-9D5D2308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E3EC-C9E1-4F11-8447-AC478CCA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3A55-E6B7-4E15-9C30-8DD0399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7375-9116-4607-8669-79AE741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82E9-7599-46C4-822C-83DC9D72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2F0-C2BB-4D8E-949C-A08745D3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5555-05A3-46B2-BB91-B20255DF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C406-D46B-4E6E-9244-6A72534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9B4-324A-4DF8-AA7F-6EED6AB9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F80-1466-4200-A364-5F194B7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26A7-69FF-4941-A4F8-C175B81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2C6-18FF-4042-A71A-2C7F9E38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8E22-4EB5-4CB7-855B-E9E5F317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C43-EDE8-49E5-8949-0AFD99B2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BE2-076A-4CC9-8AFC-E437AA08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D52-FE7D-4B50-BF6B-EFC34A36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6DE-D25B-4B13-9910-4572550F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D5A-1164-41F4-9572-057599C7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944-4E70-437B-9E8F-1945CF65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39B-9FBF-4D78-B371-4E876C8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BC8-85E4-428D-AEF8-37CF5E4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768-6672-418C-90D3-E8F2CCFA1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2D19-66F2-43B7-A5A8-C499187053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№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и Маршала Советского Союза Г.К. Жуков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ОЕНИЕ ТЕЛА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КРУЖАЮЩИЙ МИР, 2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КОЗ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РИНА КОНСТАНТИ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кишечни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лст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и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н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и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rcRect l="24350" t="11140" r="24350" b="37133"/>
          <a:stretch/>
        </p:blipFill>
        <p:spPr>
          <a:xfrm>
            <a:off x="250920" y="981000"/>
            <a:ext cx="1895400" cy="250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5651640" y="1197000"/>
            <a:ext cx="3085920" cy="167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3"/>
          <a:srcRect l="24350" t="11140" r="24350" b="37133"/>
          <a:stretch/>
        </p:blipFill>
        <p:spPr>
          <a:xfrm>
            <a:off x="250920" y="3933720"/>
            <a:ext cx="1895400" cy="2508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rcRect l="0" t="0" r="0" b="30120"/>
          <a:stretch/>
        </p:blipFill>
        <p:spPr>
          <a:xfrm>
            <a:off x="5651640" y="4292640"/>
            <a:ext cx="308592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печен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14610" t="11140" r="19480" b="37133"/>
          <a:stretch/>
        </p:blipFill>
        <p:spPr>
          <a:xfrm>
            <a:off x="108000" y="1628640"/>
            <a:ext cx="3844800" cy="3961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284720" y="2205000"/>
            <a:ext cx="464328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мочевой пузыр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rcRect l="19480" t="14853" r="19480" b="37133"/>
          <a:stretch/>
        </p:blipFill>
        <p:spPr>
          <a:xfrm>
            <a:off x="250920" y="2133720"/>
            <a:ext cx="3279600" cy="3384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067280" y="2421000"/>
            <a:ext cx="48258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россворд    «Части  тел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50920" y="1268280"/>
          <a:ext cx="8424720" cy="5256360"/>
        </p:xfrm>
        <a:graphic>
          <a:graphicData uri="http://schemas.openxmlformats.org/drawingml/2006/table">
            <a:tbl>
              <a:tblPr/>
              <a:tblGrid>
                <a:gridCol w="766800"/>
                <a:gridCol w="765000"/>
                <a:gridCol w="765360"/>
                <a:gridCol w="6127560"/>
              </a:tblGrid>
              <a:tr h="75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050920" y="1052640"/>
          <a:ext cx="720720" cy="6476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68360" y="907920"/>
          <a:ext cx="8280360" cy="575964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  <a:gridCol w="761760"/>
                <a:gridCol w="762120"/>
                <a:gridCol w="760320"/>
                <a:gridCol w="763560"/>
                <a:gridCol w="760680"/>
                <a:gridCol w="761760"/>
                <a:gridCol w="763560"/>
                <a:gridCol w="758880"/>
                <a:gridCol w="665280"/>
              </a:tblGrid>
              <a:tr h="72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щ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россворд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Внутренние орган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4000" y="1268280"/>
          <a:ext cx="8135640" cy="5256360"/>
        </p:xfrm>
        <a:graphic>
          <a:graphicData uri="http://schemas.openxmlformats.org/drawingml/2006/table">
            <a:tbl>
              <a:tblPr/>
              <a:tblGrid>
                <a:gridCol w="739800"/>
                <a:gridCol w="739440"/>
                <a:gridCol w="738360"/>
                <a:gridCol w="739800"/>
                <a:gridCol w="739800"/>
                <a:gridCol w="741240"/>
                <a:gridCol w="739800"/>
                <a:gridCol w="739800"/>
                <a:gridCol w="738360"/>
                <a:gridCol w="739440"/>
                <a:gridCol w="739800"/>
              </a:tblGrid>
              <a:tr h="75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«СТРОЕНИЕ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ТЕЛА ЧЕЛОВЕ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ель урок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сти понятие «внешнее» и «внутреннее»                        строение тела человека; познакомить с частями и внутренними органами человека; дать первоначальное представление о работе внутренних орг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333000"/>
            <a:ext cx="9036000" cy="60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троение тела чело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нешнее             внутренне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>
            <a:off x="2050920" y="1844640"/>
            <a:ext cx="1727280" cy="1440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5003640" y="1844640"/>
            <a:ext cx="1656000" cy="144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1"/>
          <a:srcRect l="50361" t="5620" r="25477" b="24586"/>
          <a:stretch/>
        </p:blipFill>
        <p:spPr>
          <a:xfrm>
            <a:off x="3492360" y="2205000"/>
            <a:ext cx="18320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</a:rPr>
              <a:t>Внешнее  строение  (части  тела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50361" t="5620" r="25477" b="24586"/>
          <a:stretch/>
        </p:blipFill>
        <p:spPr>
          <a:xfrm>
            <a:off x="250920" y="1557360"/>
            <a:ext cx="2098440" cy="5111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4070880" y="1576440"/>
            <a:ext cx="14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069440" y="227664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069440" y="306864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65480" y="364500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ловищ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грудь, живот, спи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143600" y="4581360"/>
            <a:ext cx="101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1331640" y="1844640"/>
            <a:ext cx="2808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1258920" y="2565360"/>
            <a:ext cx="2881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H="1" flipV="1">
            <a:off x="2050920" y="3213000"/>
            <a:ext cx="2089440" cy="1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 flipH="1" flipV="1">
            <a:off x="1618920" y="3429000"/>
            <a:ext cx="25210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 flipH="1">
            <a:off x="1692360" y="4797360"/>
            <a:ext cx="2519280" cy="7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</a:rPr>
              <a:t>Внутреннее  строение  (орган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з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ёг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елу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ишечни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толстая ки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кая ки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чевой пузыр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rcRect l="44437" t="10537" r="36734" b="20371"/>
          <a:stretch/>
        </p:blipFill>
        <p:spPr>
          <a:xfrm>
            <a:off x="324000" y="907920"/>
            <a:ext cx="1871640" cy="595008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 flipV="1">
            <a:off x="1403280" y="1196640"/>
            <a:ext cx="266400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 flipH="1">
            <a:off x="1116000" y="2421000"/>
            <a:ext cx="2951280" cy="7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 flipV="1">
            <a:off x="1476360" y="2565360"/>
            <a:ext cx="251928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1547640" y="3068640"/>
            <a:ext cx="244800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H="1" flipV="1">
            <a:off x="1331640" y="3499920"/>
            <a:ext cx="2663640" cy="151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 flipV="1">
            <a:off x="1186920" y="2997000"/>
            <a:ext cx="280836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 flipV="1">
            <a:off x="1402920" y="3789000"/>
            <a:ext cx="2592360" cy="2376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головной моз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08000" y="115920"/>
            <a:ext cx="90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rcRect l="38512" t="14049" r="26662" b="38634"/>
          <a:stretch/>
        </p:blipFill>
        <p:spPr>
          <a:xfrm>
            <a:off x="179280" y="2492280"/>
            <a:ext cx="3318120" cy="3641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3780000" y="2565360"/>
            <a:ext cx="518472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лёгки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19480" t="14853" r="24350" b="37133"/>
          <a:stretch/>
        </p:blipFill>
        <p:spPr>
          <a:xfrm>
            <a:off x="179280" y="1916280"/>
            <a:ext cx="4076640" cy="439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427640" y="2565360"/>
            <a:ext cx="4537080" cy="3175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сердц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             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rcRect l="24350" t="11140" r="24350" b="37133"/>
          <a:stretch/>
        </p:blipFill>
        <p:spPr>
          <a:xfrm>
            <a:off x="179280" y="1413000"/>
            <a:ext cx="3754440" cy="496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103640" y="2276640"/>
            <a:ext cx="4932360" cy="272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желудо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24350" t="11140" r="24350" b="37133"/>
          <a:stretch/>
        </p:blipFill>
        <p:spPr>
          <a:xfrm>
            <a:off x="395280" y="1989000"/>
            <a:ext cx="2992320" cy="3959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3995640" y="2565360"/>
            <a:ext cx="4969080" cy="2689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2:57:35Z</dcterms:created>
  <dc:creator>user</dc:creator>
  <dc:description/>
  <dc:language>en-US</dc:language>
  <cp:lastModifiedBy>Ирина</cp:lastModifiedBy>
  <dcterms:modified xsi:type="dcterms:W3CDTF">2015-01-28T07:03:48Z</dcterms:modified>
  <cp:revision>13</cp:revision>
  <dc:subject/>
  <dc:title>СТРОЕНИЕ ТЕЛА ЧЕЛОВЕКА</dc:title>
</cp:coreProperties>
</file>