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69A-1248-470E-8FBF-11C2CB6B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6D7-4156-4CA7-8C3D-1072107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1F3-4FDE-46A1-8BC0-765037A4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D82-873D-41F3-97E4-5DAC4E8B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512-989A-4946-843B-CCC550E4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B2B-4B57-48DD-A9E4-84E8659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904C-F9D2-4622-B29B-B1842C0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4E95-7007-4B9F-829E-46A65AA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6C76-BCDE-45C2-AEC0-F7F7CF37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653-CD47-40C7-98A1-9DCC8A79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D44-96D3-4A50-96F0-BEF5FFF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C1D-566B-4042-92F0-2FBB573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2F5-92B6-4DF8-8214-FA4142D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169-3A86-4F57-B4C2-3AA0688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9D6C-5D6D-4391-996C-2F250D4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924-AB93-469F-BEE1-2A17B362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6DB-0729-4FE5-85C1-BEA38FBB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5BC-4608-435B-B696-92877AE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ED6-C333-4BC0-9D4F-5C6EEC2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212-7E9B-4B0E-AC09-B8A8299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716-4A40-40F9-A48D-4504E2C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FE2-9773-431D-BE19-1B861C6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849-3F21-4090-BDDA-9AF95A7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A0F-57CB-46A1-ADDC-A0B8C72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70C-18BA-4CD7-8B37-CADD8853F0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A2D-24C9-48E6-BBFE-0070A6E8AC7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1" descr=""/>
          <p:cNvPicPr/>
          <p:nvPr/>
        </p:nvPicPr>
        <p:blipFill>
          <a:blip r:embed="rId1"/>
          <a:stretch/>
        </p:blipFill>
        <p:spPr>
          <a:xfrm>
            <a:off x="4443480" y="4376880"/>
            <a:ext cx="4833720" cy="23097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079640"/>
            <a:ext cx="896760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osnovanie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199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8cff"/>
                </a:solidFill>
                <a:latin typeface="Tahoma"/>
              </a:rPr>
              <a:t>Плитный фунда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3" descr="28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Монолитный (плитный) фундамент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т фундамент наиболее дорог. Обычно его устанавливают под тяжелые каменные дома. Такой фундамент заливается цельным армированным монолитом на глубину промерзания - 1,5-1,7м. Его рекомендуется применять под каменные (кирпичные, блочные) дома, где на фундамент оказываются большие нагрузки, и перекос конструкции может привести к трещинам в стенах и угрозе последующего разрушения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5346_i03_b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19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plita_f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plitni"/>
          <p:cNvPicPr/>
          <p:nvPr/>
        </p:nvPicPr>
        <p:blipFill>
          <a:blip r:embed="rId1"/>
          <a:stretch/>
        </p:blipFill>
        <p:spPr>
          <a:xfrm>
            <a:off x="-571680" y="0"/>
            <a:ext cx="107586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t0038_i01"/>
          <p:cNvPicPr/>
          <p:nvPr/>
        </p:nvPicPr>
        <p:blipFill>
          <a:blip r:embed="rId1"/>
          <a:stretch/>
        </p:blipFill>
        <p:spPr>
          <a:xfrm>
            <a:off x="-430200" y="0"/>
            <a:ext cx="1032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ahoma"/>
              </a:rPr>
              <a:t>Свайный фундамент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 армированным железобетонным ростверком. Фундамент данного типа изготавливается из буронабивных свай, которые объединяются в единую конструкцию посредством ростверка (специальной балки). Традиционно считают, что свайный фундамент представляет собой более экономичное решение по сравнению ленточным. Но это отнюдь не означает, что его целесообразнее использовать в тех случаях, когда вы хотите сэкономить на строитель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svai_2"/>
          <p:cNvPicPr/>
          <p:nvPr/>
        </p:nvPicPr>
        <p:blipFill>
          <a:blip r:embed="rId1"/>
          <a:stretch/>
        </p:blipFill>
        <p:spPr>
          <a:xfrm>
            <a:off x="0" y="714240"/>
            <a:ext cx="9029880" cy="5658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517680"/>
            <a:ext cx="5713560" cy="8175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" descr=""/>
          <p:cNvPicPr/>
          <p:nvPr/>
        </p:nvPicPr>
        <p:blipFill>
          <a:blip r:embed="rId2"/>
          <a:stretch/>
        </p:blipFill>
        <p:spPr>
          <a:xfrm>
            <a:off x="195120" y="1573200"/>
            <a:ext cx="8485200" cy="133524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3" descr=""/>
          <p:cNvPicPr/>
          <p:nvPr/>
        </p:nvPicPr>
        <p:blipFill>
          <a:blip r:embed="rId3"/>
          <a:stretch/>
        </p:blipFill>
        <p:spPr>
          <a:xfrm>
            <a:off x="353880" y="3121200"/>
            <a:ext cx="5516640" cy="74448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5" descr=""/>
          <p:cNvPicPr/>
          <p:nvPr/>
        </p:nvPicPr>
        <p:blipFill>
          <a:blip r:embed="rId4"/>
          <a:stretch/>
        </p:blipFill>
        <p:spPr>
          <a:xfrm>
            <a:off x="274680" y="3816360"/>
            <a:ext cx="838188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Picture 5" descr="15"/>
          <p:cNvPicPr/>
          <p:nvPr/>
        </p:nvPicPr>
        <p:blipFill>
          <a:blip r:embed="rId1"/>
          <a:stretch/>
        </p:blipFill>
        <p:spPr>
          <a:xfrm>
            <a:off x="250920" y="0"/>
            <a:ext cx="4606920" cy="6873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Picture 12" descr="svaya_ground450"/>
          <p:cNvPicPr/>
          <p:nvPr/>
        </p:nvPicPr>
        <p:blipFill>
          <a:blip r:embed="rId2"/>
          <a:stretch/>
        </p:blipFill>
        <p:spPr>
          <a:xfrm>
            <a:off x="4857840" y="0"/>
            <a:ext cx="407196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svai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вайный фундамент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рационально использовать только при возведении домов и зданий на слабых, насыщенных водой грунтах. Другими словами, там, где невозможно установить фундамент ленточный, там, где слабый грунт находится ниже допустимой глубины – мы устанавливаем свайный фунда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t5"/>
          <p:cNvPicPr/>
          <p:nvPr/>
        </p:nvPicPr>
        <p:blipFill>
          <a:blip r:embed="rId1"/>
          <a:stretch/>
        </p:blipFill>
        <p:spPr>
          <a:xfrm>
            <a:off x="-642960" y="0"/>
            <a:ext cx="10842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Фундамент столбчатый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анный тип фундамента состоит из каменных, кирпичных и других опор. Столбчатый фундамент целесообразно возводить только под домами с легкими стенами. Главным достоинством этого типа фундамента, бесспорно, является высокая экономия на материалах и относительная несложность устр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d181d182d0bed0bbd0b1d187d0b0d182d18bd0b9-d184d183d0bdd0b4d0b0d0bcd0b5d0bdd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" descr="image2"/>
          <p:cNvPicPr/>
          <p:nvPr/>
        </p:nvPicPr>
        <p:blipFill>
          <a:blip r:embed="rId1"/>
          <a:stretch/>
        </p:blipFill>
        <p:spPr>
          <a:xfrm>
            <a:off x="-500040" y="0"/>
            <a:ext cx="11295000" cy="714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fnd3"/>
          <p:cNvPicPr/>
          <p:nvPr/>
        </p:nvPicPr>
        <p:blipFill>
          <a:blip r:embed="rId1"/>
          <a:stretch/>
        </p:blipFill>
        <p:spPr>
          <a:xfrm>
            <a:off x="1214280" y="-74520"/>
            <a:ext cx="6715440" cy="698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t8"/>
          <p:cNvPicPr/>
          <p:nvPr/>
        </p:nvPicPr>
        <p:blipFill>
          <a:blip r:embed="rId1"/>
          <a:stretch/>
        </p:blipFill>
        <p:spPr>
          <a:xfrm>
            <a:off x="-500040" y="0"/>
            <a:ext cx="1052820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t6"/>
          <p:cNvPicPr/>
          <p:nvPr/>
        </p:nvPicPr>
        <p:blipFill>
          <a:blip r:embed="rId1"/>
          <a:stretch/>
        </p:blipFill>
        <p:spPr>
          <a:xfrm>
            <a:off x="-946080" y="0"/>
            <a:ext cx="10842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 algn="ctr">
              <a:spcBef>
                <a:spcPts val="901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Фундамент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4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7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подзем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7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снование для домов, зданий и сооружений, которое изготовлено, как правило, из бетона, камня или дерева. Служит неотъемлемой частью здания и является основной несущей конструкцией, основная функция которой заключается в передаче нагрузки от стен и крыши на осн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250920" y="126828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Классифицируйте фундаменты</a:t>
            </a:r>
            <a:r>
              <a:rPr b="0" lang="en-US" sz="3200" spc="-1" strike="noStrike">
                <a:solidFill>
                  <a:srgbClr val="c00000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onotype Corsiva"/>
              </a:rPr>
              <a:t>Какие материалы используется для возведения фундамент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Цель применения свайного фундамент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Где целесообразнее использовать свайный фундамен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Что представляет собой плитный фундамен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611280" y="11592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7667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лассификация фундамен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точ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ит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ай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бчат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4" descr="6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370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Фундамент ленточный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нный фундамент представляет собой монолитную бетонную конструкцию, которая заливается по периметру будущего стро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строительстве домов и зданий из так называемых «тяжелых» материалов (кирпич, бетон и т.д.) создают заглубленный фунда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возведении «легких» построек (из бревна, бруса и т.д.) – мелкозаглублен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глубленный ленточный фундамент закладывается в основу строения ниже глубины промерзания грунта. За счет чего позволяет уберечь «тяжелые» дома от образования трещин на стенах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4293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Ленточный фундамен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11" descr="5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294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8" descr="t4"/>
          <p:cNvPicPr/>
          <p:nvPr/>
        </p:nvPicPr>
        <p:blipFill>
          <a:blip r:embed="rId1"/>
          <a:stretch/>
        </p:blipFill>
        <p:spPr>
          <a:xfrm>
            <a:off x="-285840" y="214200"/>
            <a:ext cx="1050444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d0bbd0b5d0bdd182d0bed187d0bdd18bd0b9-d184d183d0bdd0b4d0b0d0bcd0b5d0bdd182"/>
          <p:cNvPicPr/>
          <p:nvPr/>
        </p:nvPicPr>
        <p:blipFill>
          <a:blip r:embed="rId1"/>
          <a:stretch/>
        </p:blipFill>
        <p:spPr>
          <a:xfrm>
            <a:off x="285840" y="0"/>
            <a:ext cx="8604000" cy="7142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lent_fund_small"/>
          <p:cNvPicPr/>
          <p:nvPr/>
        </p:nvPicPr>
        <p:blipFill>
          <a:blip r:embed="rId1"/>
          <a:stretch/>
        </p:blipFill>
        <p:spPr>
          <a:xfrm>
            <a:off x="0" y="-60480"/>
            <a:ext cx="921528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8:19:13Z</dcterms:created>
  <dc:creator>oem</dc:creator>
  <dc:description/>
  <dc:language>en-US</dc:language>
  <cp:lastModifiedBy>sokolskaya</cp:lastModifiedBy>
  <dcterms:modified xsi:type="dcterms:W3CDTF">2015-02-04T14:52:53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