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99C-9111-4628-B3DF-02F350EF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492-0805-40FC-A6B9-9C02B41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BB8-4669-4EB0-A7C6-3AAA2D7B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438-A9CB-4A32-BB18-2AA583B5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E05-1EAE-4B59-BAD1-15E9C0A2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8D1-D47A-49A2-872E-607A3DA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CD0F-D418-49C9-A434-1FC9914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804D-641A-4019-9203-15DC83C0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F28-800C-411C-BE83-97315E61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3E6-109A-4BAB-91EC-6428D8B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9CA-BB9F-48A1-AB26-2DB9D2E9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A48-7AA1-4068-93DF-AE02622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D1C-3A57-48BC-980E-04810F4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27D0-FC38-418B-ADCC-3446664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ADC-5006-4630-8BAD-773EE86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8E3F-4D66-4F76-9173-5DAD3E9D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715B-A083-4FEB-A5D0-752BB8CE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9CE-9D4F-43CA-890F-482E262F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0B7-1927-420C-A37C-3C7F1EDC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EC0-41B7-434E-8D37-FAC82DB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C5C-D517-4C4D-BC05-D1DB7858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13A-BA96-4DF4-8D8F-CC1305F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2BE-F835-4E54-84F9-0D5A81B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CA5-A837-4C52-83D4-FF119C0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FD9-54E6-4197-A15B-156092190D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A1F-40B6-4C20-9BAB-DFE85F2C837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1" descr=""/>
          <p:cNvPicPr/>
          <p:nvPr/>
        </p:nvPicPr>
        <p:blipFill>
          <a:blip r:embed="rId1"/>
          <a:stretch/>
        </p:blipFill>
        <p:spPr>
          <a:xfrm>
            <a:off x="4443480" y="4376880"/>
            <a:ext cx="4833720" cy="23097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079640"/>
            <a:ext cx="896760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osnovanie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199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8cff"/>
                </a:solidFill>
                <a:latin typeface="Tahoma"/>
              </a:rPr>
              <a:t>Плитный фунда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3" descr="28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Монолитный (плитный) фундамент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т фундамент наиболее дорог. Обычно его устанавливают под тяжелые каменные дома. Такой фундамент заливается цельным армированным монолитом на глубину промерзания - 1,5-1,7м. Его рекомендуется применять под каменные (кирпичные, блочные) дома, где на фундамент оказываются большие нагрузки, и перекос конструкции может привести к трещинам в стенах и угрозе последующего разрушения стро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5346_i03_b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19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plita_f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plitni"/>
          <p:cNvPicPr/>
          <p:nvPr/>
        </p:nvPicPr>
        <p:blipFill>
          <a:blip r:embed="rId1"/>
          <a:stretch/>
        </p:blipFill>
        <p:spPr>
          <a:xfrm>
            <a:off x="-571680" y="0"/>
            <a:ext cx="107586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t0038_i01"/>
          <p:cNvPicPr/>
          <p:nvPr/>
        </p:nvPicPr>
        <p:blipFill>
          <a:blip r:embed="rId1"/>
          <a:stretch/>
        </p:blipFill>
        <p:spPr>
          <a:xfrm>
            <a:off x="-430200" y="0"/>
            <a:ext cx="1032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ahoma"/>
              </a:rPr>
              <a:t>Свайный фундамент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 армированным железобетонным ростверком. Фундамент данного типа изготавливается из буронабивных свай, которые объединяются в единую конструкцию посредством ростверка (специальной балки). Традиционно считают, что свайный фундамент представляет собой более экономичное решение по сравнению ленточным. Но это отнюдь не означает, что его целесообразнее использовать в тех случаях, когда вы хотите сэкономить на строитель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svai_2"/>
          <p:cNvPicPr/>
          <p:nvPr/>
        </p:nvPicPr>
        <p:blipFill>
          <a:blip r:embed="rId1"/>
          <a:stretch/>
        </p:blipFill>
        <p:spPr>
          <a:xfrm>
            <a:off x="0" y="714240"/>
            <a:ext cx="9029880" cy="5658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517680"/>
            <a:ext cx="5713560" cy="8175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" descr=""/>
          <p:cNvPicPr/>
          <p:nvPr/>
        </p:nvPicPr>
        <p:blipFill>
          <a:blip r:embed="rId2"/>
          <a:stretch/>
        </p:blipFill>
        <p:spPr>
          <a:xfrm>
            <a:off x="195120" y="1573200"/>
            <a:ext cx="8485200" cy="133524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3" descr=""/>
          <p:cNvPicPr/>
          <p:nvPr/>
        </p:nvPicPr>
        <p:blipFill>
          <a:blip r:embed="rId3"/>
          <a:stretch/>
        </p:blipFill>
        <p:spPr>
          <a:xfrm>
            <a:off x="353880" y="3121200"/>
            <a:ext cx="5516640" cy="74448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5" descr=""/>
          <p:cNvPicPr/>
          <p:nvPr/>
        </p:nvPicPr>
        <p:blipFill>
          <a:blip r:embed="rId4"/>
          <a:stretch/>
        </p:blipFill>
        <p:spPr>
          <a:xfrm>
            <a:off x="274680" y="3816360"/>
            <a:ext cx="838188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Picture 5" descr="15"/>
          <p:cNvPicPr/>
          <p:nvPr/>
        </p:nvPicPr>
        <p:blipFill>
          <a:blip r:embed="rId1"/>
          <a:stretch/>
        </p:blipFill>
        <p:spPr>
          <a:xfrm>
            <a:off x="250920" y="0"/>
            <a:ext cx="4606920" cy="6873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Picture 12" descr="svaya_ground450"/>
          <p:cNvPicPr/>
          <p:nvPr/>
        </p:nvPicPr>
        <p:blipFill>
          <a:blip r:embed="rId2"/>
          <a:stretch/>
        </p:blipFill>
        <p:spPr>
          <a:xfrm>
            <a:off x="4857840" y="0"/>
            <a:ext cx="407196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svai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вайный фундамент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рационально использовать только при возведении домов и зданий на слабых, насыщенных водой грунтах. Другими словами, там, где невозможно установить фундамент ленточный, там, где слабый грунт находится ниже допустимой глубины – мы устанавливаем свайный фунда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t5"/>
          <p:cNvPicPr/>
          <p:nvPr/>
        </p:nvPicPr>
        <p:blipFill>
          <a:blip r:embed="rId1"/>
          <a:stretch/>
        </p:blipFill>
        <p:spPr>
          <a:xfrm>
            <a:off x="-642960" y="0"/>
            <a:ext cx="10842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Фундамент столбчатый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анный тип фундамента состоит из каменных, кирпичных и других опор. Столбчатый фундамент целесообразно возводить только под домами с легкими стенами. Главным достоинством этого типа фундамента, бесспорно, является высокая экономия на материалах и относительная несложность устр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d181d182d0bed0bbd0b1d187d0b0d182d18bd0b9-d184d183d0bdd0b4d0b0d0bcd0b5d0bdd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" descr="image2"/>
          <p:cNvPicPr/>
          <p:nvPr/>
        </p:nvPicPr>
        <p:blipFill>
          <a:blip r:embed="rId1"/>
          <a:stretch/>
        </p:blipFill>
        <p:spPr>
          <a:xfrm>
            <a:off x="-500040" y="0"/>
            <a:ext cx="11295000" cy="714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fnd3"/>
          <p:cNvPicPr/>
          <p:nvPr/>
        </p:nvPicPr>
        <p:blipFill>
          <a:blip r:embed="rId1"/>
          <a:stretch/>
        </p:blipFill>
        <p:spPr>
          <a:xfrm>
            <a:off x="1214280" y="-74520"/>
            <a:ext cx="6715440" cy="698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t8"/>
          <p:cNvPicPr/>
          <p:nvPr/>
        </p:nvPicPr>
        <p:blipFill>
          <a:blip r:embed="rId1"/>
          <a:stretch/>
        </p:blipFill>
        <p:spPr>
          <a:xfrm>
            <a:off x="-500040" y="0"/>
            <a:ext cx="1052820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t6"/>
          <p:cNvPicPr/>
          <p:nvPr/>
        </p:nvPicPr>
        <p:blipFill>
          <a:blip r:embed="rId1"/>
          <a:stretch/>
        </p:blipFill>
        <p:spPr>
          <a:xfrm>
            <a:off x="-946080" y="0"/>
            <a:ext cx="10842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 algn="ctr">
              <a:spcBef>
                <a:spcPts val="901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Фундамент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4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7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подзем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92520" indent="0" algn="ctr">
              <a:spcBef>
                <a:spcPts val="799"/>
              </a:spcBef>
              <a:buNone/>
              <a:tabLst>
                <a:tab algn="l" pos="0"/>
                <a:tab algn="l" pos="6900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снование для домов, зданий и сооружений, которое изготовлено, как правило, из бетона, камня или дерева. Служит неотъемлемой частью здания и является основной несущей конструкцией, основная функция которой заключается в передаче нагрузки от стен и крыши на осн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250920" y="126828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Классифицируйте фундаменты</a:t>
            </a:r>
            <a:r>
              <a:rPr b="0" lang="en-US" sz="3200" spc="-1" strike="noStrike">
                <a:solidFill>
                  <a:srgbClr val="c00000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onotype Corsiva"/>
              </a:rPr>
              <a:t>Какие материалы используется для возведения фундамент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Цель применения свайного фундамент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Где целесообразнее использовать свайный фундамен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Monotype Corsiv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Что представляет собой плитный фундамен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-47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611280" y="11592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Вопрос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7667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лассификация фундамен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точ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ит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айн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бчатый фунда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4" descr="6"/>
          <p:cNvPicPr/>
          <p:nvPr/>
        </p:nvPicPr>
        <p:blipFill>
          <a:blip r:embed="rId1"/>
          <a:stretch/>
        </p:blipFill>
        <p:spPr>
          <a:xfrm>
            <a:off x="4427640" y="1916280"/>
            <a:ext cx="4716360" cy="370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Фундамент ленточный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нный фундамент представляет собой монолитную бетонную конструкцию, которая заливается по периметру будущего стро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строительстве домов и зданий из так называемых «тяжелых» материалов (кирпич, бетон и т.д.) создают заглубленный фунда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 возведении «легких» построек (из бревна, бруса и т.д.) – мелкозаглублен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глубленный ленточный фундамент закладывается в основу строения ниже глубины промерзания грунта. За счет чего позволяет уберечь «тяжелые» дома от образования трещин на стенах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4293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Ленточный фундамен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11" descr="5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9294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8" descr="t4"/>
          <p:cNvPicPr/>
          <p:nvPr/>
        </p:nvPicPr>
        <p:blipFill>
          <a:blip r:embed="rId1"/>
          <a:stretch/>
        </p:blipFill>
        <p:spPr>
          <a:xfrm>
            <a:off x="-285840" y="214200"/>
            <a:ext cx="1050444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d0bbd0b5d0bdd182d0bed187d0bdd18bd0b9-d184d183d0bdd0b4d0b0d0bcd0b5d0bdd182"/>
          <p:cNvPicPr/>
          <p:nvPr/>
        </p:nvPicPr>
        <p:blipFill>
          <a:blip r:embed="rId1"/>
          <a:stretch/>
        </p:blipFill>
        <p:spPr>
          <a:xfrm>
            <a:off x="285840" y="0"/>
            <a:ext cx="8604000" cy="7142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lent_fund_small"/>
          <p:cNvPicPr/>
          <p:nvPr/>
        </p:nvPicPr>
        <p:blipFill>
          <a:blip r:embed="rId1"/>
          <a:stretch/>
        </p:blipFill>
        <p:spPr>
          <a:xfrm>
            <a:off x="0" y="-60480"/>
            <a:ext cx="9215280" cy="691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8:19:13Z</dcterms:created>
  <dc:creator>oem</dc:creator>
  <dc:description/>
  <dc:language>en-US</dc:language>
  <cp:lastModifiedBy>sokolskaya</cp:lastModifiedBy>
  <dcterms:modified xsi:type="dcterms:W3CDTF">2015-02-04T14:52:53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