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8.gif" ContentType="image/gif"/>
  <Override PartName="/ppt/media/image18.jpeg" ContentType="image/jpeg"/>
  <Override PartName="/ppt/media/image7.gif" ContentType="image/gif"/>
  <Override PartName="/ppt/media/image26.jpeg" ContentType="image/jpeg"/>
  <Override PartName="/ppt/media/image10.jpeg" ContentType="image/jpeg"/>
  <Override PartName="/ppt/media/image6.gif" ContentType="image/gif"/>
  <Override PartName="/ppt/media/image5.gif" ContentType="image/gif"/>
  <Override PartName="/ppt/media/image14.jpeg" ContentType="image/jpeg"/>
  <Override PartName="/ppt/media/image11.jpeg" ContentType="image/jpeg"/>
  <Override PartName="/ppt/media/image9.jpeg" ContentType="image/jpeg"/>
  <Override PartName="/ppt/media/image4.gif" ContentType="image/gif"/>
  <Override PartName="/ppt/media/image22.jpeg" ContentType="image/jpeg"/>
  <Override PartName="/ppt/media/image27.jpeg" ContentType="image/jpeg"/>
  <Override PartName="/ppt/media/image17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3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2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973E-04D9-48E1-9EDD-D6ACFA3F1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F2EE-642B-4C4B-9CC2-77A6F4F6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9561-F3C8-4F43-96A5-97D18C003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570C-BF4F-4E6F-A408-B0B6919E2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F3327-6196-4327-8623-C52F47BBF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5909-8825-43DA-94EC-C0EE87F7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56A9-298B-4CF8-9EB1-87897A50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9EB7-53CE-465B-B498-06B8F156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8E177-15F4-4DD0-986F-A617D1CC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65927-8DD6-4EAF-A7D9-3F46BFA1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70E6C-4508-44A5-8F0A-34A2EDA1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C3E8-63B2-4B99-A659-2BA22003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53B75-FB9A-4A9C-B153-C0F5FDB6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6751-515D-44C2-A03A-D0F52A9D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624F-6914-4E5B-84E5-4B268BE8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142E-ACE1-48C2-8017-15BD146CC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1E20-2C15-4801-A9E2-41E41FDEE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F32F-01B1-4DE0-B93E-8DA547F0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AE69-2D70-4A11-B5A1-C626EE78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CA82-5431-47CF-853E-BE561E6E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94E7-8C2B-4599-843F-EE2787E2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6336-BB4F-4C89-AF9D-5EB2C7DD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183E-08B3-4038-81A5-7042EA0B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5663-9672-4CA4-A42F-34A7414D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461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0B89-EDCF-403B-ACC8-F7D4318123BD}" type="slidenum"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461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4432-19CE-42CE-97FC-D1AC08971924}" type="slidenum"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85880" y="1643040"/>
            <a:ext cx="7772400" cy="30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4617b"/>
                </a:solidFill>
                <a:uFillTx/>
                <a:latin typeface="Tahoma"/>
              </a:rPr>
              <a:t>Тренинг</a:t>
            </a:r>
            <a:br>
              <a:rPr sz="5400"/>
            </a:br>
            <a:r>
              <a:rPr b="1" lang="ru-RU" sz="5400" spc="-1" strike="noStrike" u="sng">
                <a:solidFill>
                  <a:srgbClr val="04617b"/>
                </a:solidFill>
                <a:uFillTx/>
                <a:latin typeface="Tahoma"/>
              </a:rPr>
              <a:t> "Я и моя безопасность".</a:t>
            </a:r>
            <a:br>
              <a:rPr sz="5400"/>
            </a:br>
            <a:endParaRPr b="0" lang="en-US" sz="54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85" name="Рисунок 4" descr="children_0120.gif"/>
          <p:cNvPicPr/>
          <p:nvPr/>
        </p:nvPicPr>
        <p:blipFill>
          <a:blip r:embed="rId1"/>
          <a:stretch/>
        </p:blipFill>
        <p:spPr>
          <a:xfrm>
            <a:off x="7596360" y="5300640"/>
            <a:ext cx="1222200" cy="13683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5" descr="children_0170.gif"/>
          <p:cNvPicPr/>
          <p:nvPr/>
        </p:nvPicPr>
        <p:blipFill>
          <a:blip r:embed="rId2"/>
          <a:stretch/>
        </p:blipFill>
        <p:spPr>
          <a:xfrm>
            <a:off x="6804000" y="2924280"/>
            <a:ext cx="1224000" cy="19587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6" descr="children_0133.gif"/>
          <p:cNvPicPr/>
          <p:nvPr/>
        </p:nvPicPr>
        <p:blipFill>
          <a:blip r:embed="rId3"/>
          <a:stretch/>
        </p:blipFill>
        <p:spPr>
          <a:xfrm>
            <a:off x="1042920" y="5153040"/>
            <a:ext cx="3810240" cy="17049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7" descr="children_0127.gif"/>
          <p:cNvPicPr/>
          <p:nvPr/>
        </p:nvPicPr>
        <p:blipFill>
          <a:blip r:embed="rId4"/>
          <a:stretch/>
        </p:blipFill>
        <p:spPr>
          <a:xfrm>
            <a:off x="7524720" y="189000"/>
            <a:ext cx="1368360" cy="16747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8" descr="children_0166.gif"/>
          <p:cNvPicPr/>
          <p:nvPr/>
        </p:nvPicPr>
        <p:blipFill>
          <a:blip r:embed="rId5"/>
          <a:stretch/>
        </p:blipFill>
        <p:spPr>
          <a:xfrm>
            <a:off x="250920" y="2708280"/>
            <a:ext cx="12571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928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ahoma"/>
              </a:rPr>
              <a:t>Есть особые исключительные и редкие ситуации, когда люди жертвуют собственной жизнью во имя других людей или ценностей.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848720" cy="4145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Чудо спасение в городе Ровно www.krasfun.ru"/>
          <p:cNvPicPr/>
          <p:nvPr/>
        </p:nvPicPr>
        <p:blipFill>
          <a:blip r:embed="rId2"/>
          <a:stretch/>
        </p:blipFill>
        <p:spPr>
          <a:xfrm>
            <a:off x="1571760" y="1785960"/>
            <a:ext cx="56131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Tahoma"/>
              </a:rPr>
              <a:t>Взрослые сильные люди, которые несут большую ответственность, могут жертвовать своей жизнью для спасения детей или более слабых.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848720" cy="4145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Лента новостей :: Новости - RuFox"/>
          <p:cNvPicPr/>
          <p:nvPr/>
        </p:nvPicPr>
        <p:blipFill>
          <a:blip r:embed="rId2"/>
          <a:stretch/>
        </p:blipFill>
        <p:spPr>
          <a:xfrm>
            <a:off x="1285920" y="1928880"/>
            <a:ext cx="671508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ahoma"/>
              </a:rPr>
              <a:t>В большинстве ситуаций, связанных с опасностью, дети и подростки должны спасать свою жизнь и здоровье, учитывая, по возможности, безопасность других людей.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848720" cy="4145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В Новосибирске ребенок едва не сжег квартиру, играя с зажигалкой - Рамблер-Новости"/>
          <p:cNvPicPr/>
          <p:nvPr/>
        </p:nvPicPr>
        <p:blipFill>
          <a:blip r:embed="rId2"/>
          <a:stretch/>
        </p:blipFill>
        <p:spPr>
          <a:xfrm>
            <a:off x="1643040" y="1857240"/>
            <a:ext cx="550080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ahoma"/>
              </a:rPr>
              <a:t>«Мозговой штурм".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428840"/>
            <a:ext cx="784872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Что удалось придумать людям для сведения к минимуму опасностей?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27" name="Picture 4" descr="Официальный сайт городского округа город Кумертау &quot; Наступили холода: проверьте тягу в дымоходе!"/>
          <p:cNvPicPr/>
          <p:nvPr/>
        </p:nvPicPr>
        <p:blipFill>
          <a:blip r:embed="rId1"/>
          <a:stretch/>
        </p:blipFill>
        <p:spPr>
          <a:xfrm>
            <a:off x="1571760" y="2071800"/>
            <a:ext cx="60958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Tahoma"/>
              </a:rPr>
              <a:t>Ответьте на вопросы:</a:t>
            </a:r>
            <a:endParaRPr b="0" lang="en-US" sz="3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ahoma"/>
              </a:rPr>
              <a:t>Где, когда и почему в школе предусмотрены особые правила поведения?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30" name="Picture 2" descr="Купить книгу &quot;Правила поведения в школе&quot; в книжном интернет-магазине Read.ru"/>
          <p:cNvPicPr/>
          <p:nvPr/>
        </p:nvPicPr>
        <p:blipFill>
          <a:blip r:embed="rId1"/>
          <a:stretch/>
        </p:blipFill>
        <p:spPr>
          <a:xfrm>
            <a:off x="5024520" y="271476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Школьные правила - Картинка 17407/60"/>
          <p:cNvPicPr/>
          <p:nvPr/>
        </p:nvPicPr>
        <p:blipFill>
          <a:blip r:embed="rId2"/>
          <a:stretch/>
        </p:blipFill>
        <p:spPr>
          <a:xfrm>
            <a:off x="285840" y="3000240"/>
            <a:ext cx="464328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ahoma"/>
              </a:rPr>
              <a:t>Какие бытовые приборы и почему снабжаются особыми инструкциями по применению?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848720" cy="4145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Потребительский экстремизм: как защита прав клиента переходит в нападение. - Первый канал"/>
          <p:cNvPicPr/>
          <p:nvPr/>
        </p:nvPicPr>
        <p:blipFill>
          <a:blip r:embed="rId2"/>
          <a:stretch/>
        </p:blipFill>
        <p:spPr>
          <a:xfrm>
            <a:off x="357120" y="1357200"/>
            <a:ext cx="5086440" cy="2857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Гороскоп бытовых приборов - Наш Дом"/>
          <p:cNvPicPr/>
          <p:nvPr/>
        </p:nvPicPr>
        <p:blipFill>
          <a:blip r:embed="rId3"/>
          <a:stretch/>
        </p:blipFill>
        <p:spPr>
          <a:xfrm>
            <a:off x="4786200" y="328608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Почему существуют особые правила дорожного движения и поведения в транспорте?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38" name="Picture 2" descr="Красногорск сегодня. Новости, события, происшествия"/>
          <p:cNvPicPr/>
          <p:nvPr/>
        </p:nvPicPr>
        <p:blipFill>
          <a:blip r:embed="rId1"/>
          <a:srcRect l="0" t="0" r="0" b="16475"/>
          <a:stretch/>
        </p:blipFill>
        <p:spPr>
          <a:xfrm>
            <a:off x="857160" y="2000160"/>
            <a:ext cx="746460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ahoma"/>
              </a:rPr>
              <a:t>"Аукцион идей"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ahoma"/>
              </a:rPr>
              <a:t>Остановись!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c00000"/>
                </a:solidFill>
                <a:latin typeface="Tahoma"/>
              </a:rPr>
              <a:t>Подумай!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c00000"/>
                </a:solidFill>
                <a:latin typeface="Tahoma"/>
              </a:rPr>
              <a:t>Действуй!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Ваши действия, если…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незнакомый человек предлагает тебе пойти с ним куда-либо.</a:t>
            </a:r>
            <a:endParaRPr b="0" lang="en-US" sz="44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Ваши действия, если…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ahoma"/>
              </a:rPr>
              <a:t>старшие ребята предлагают спиртное или наркотики…</a:t>
            </a:r>
            <a:endParaRPr b="0" lang="en-US" sz="48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            </a:t>
            </a: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Цели: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91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692280"/>
            <a:ext cx="2139840" cy="2350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2428560" y="2286000"/>
            <a:ext cx="600084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4617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Tahoma"/>
              </a:rPr>
              <a:t>актуализация знаний об опасных жизненных ситуациях; </a:t>
            </a:r>
            <a:endParaRPr b="0" lang="en-US" sz="3200" spc="-1" strike="noStrike">
              <a:solidFill>
                <a:srgbClr val="04617b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4617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Tahoma"/>
              </a:rPr>
              <a:t>развитие представлений о тактических действиях                               в опасной ситуации</a:t>
            </a:r>
            <a:endParaRPr b="0" lang="en-US" sz="32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Ваши действия, если…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приятели нашли во дворе какой-то сверток и зовут тебя посмотреть, что там внутри…</a:t>
            </a:r>
            <a:endParaRPr b="0" lang="en-US" sz="44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Передай другому…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Как себя вести, чтобы не попадать в ситуацию опасности ?</a:t>
            </a:r>
            <a:endParaRPr b="0" lang="en-US" sz="44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Домашнее задание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.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ahoma"/>
              </a:rPr>
              <a:t>Обсудить с родителями алгоритм поведения в опасной ситуации.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51" name="Picture 5" descr="Университетская клиника - Эпилепсия у ребёнка: советы воспитателям и учителям"/>
          <p:cNvPicPr/>
          <p:nvPr/>
        </p:nvPicPr>
        <p:blipFill>
          <a:blip r:embed="rId1"/>
          <a:stretch/>
        </p:blipFill>
        <p:spPr>
          <a:xfrm>
            <a:off x="2643120" y="2714760"/>
            <a:ext cx="37861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Вводная часть.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Назовите ассоциации, которые возникают у вас  при слове 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0000"/>
                </a:solidFill>
                <a:uFillTx/>
                <a:latin typeface="Tahoma"/>
              </a:rPr>
              <a:t>"опасность"</a:t>
            </a:r>
            <a:endParaRPr b="0" lang="en-US" sz="4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95" name="Picture 2" descr="К огда ребенок окажется на дороге, он поступит так же, как родители. Давайте понаблюдаем за тем, как родители вместе со своими д"/>
          <p:cNvPicPr/>
          <p:nvPr/>
        </p:nvPicPr>
        <p:blipFill>
          <a:blip r:embed="rId1"/>
          <a:stretch/>
        </p:blipFill>
        <p:spPr>
          <a:xfrm>
            <a:off x="2857680" y="3857760"/>
            <a:ext cx="364320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Опасность!!!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Большинство людей остерегаются опасностей!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Как обычно ведут себя люди при их возникновении?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Что они испытывают? 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98" name="Picture 2" descr="Опасный экстрим по пути в школу (14 фото) - Mypleer"/>
          <p:cNvPicPr/>
          <p:nvPr/>
        </p:nvPicPr>
        <p:blipFill>
          <a:blip r:embed="rId1"/>
          <a:stretch/>
        </p:blipFill>
        <p:spPr>
          <a:xfrm>
            <a:off x="5143680" y="3571920"/>
            <a:ext cx="3214440" cy="24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Страх…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Что такое страх? 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Для чего природа наделила человека способностью испытывать страх?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О чём сигнализирует страх?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01" name="Picture 2" descr="Сказка о непослушном зайчонке"/>
          <p:cNvPicPr/>
          <p:nvPr/>
        </p:nvPicPr>
        <p:blipFill>
          <a:blip r:embed="rId1"/>
          <a:stretch/>
        </p:blipFill>
        <p:spPr>
          <a:xfrm>
            <a:off x="5857920" y="3429000"/>
            <a:ext cx="2428920" cy="3178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Mirties takas Bolivijoje Lol.lt"/>
          <p:cNvPicPr/>
          <p:nvPr/>
        </p:nvPicPr>
        <p:blipFill>
          <a:blip r:embed="rId2"/>
          <a:stretch/>
        </p:blipFill>
        <p:spPr>
          <a:xfrm>
            <a:off x="1214280" y="4071960"/>
            <a:ext cx="37148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00000"/>
                </a:solidFill>
                <a:uFillTx/>
                <a:latin typeface="Tahoma"/>
              </a:rPr>
              <a:t>Что такое страх?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Страх – это предупреждение, сигнал, который может парализовать человеческую волю, а может мобилизовать ресурсы человека.</a:t>
            </a:r>
            <a:endParaRPr b="0" lang="en-US" sz="36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05" name="Picture 2" descr="Самые опасные дороги мира &quot; SFW - приколы, юмор, девки, дтп, машины, фото знаменитостей и многое другое."/>
          <p:cNvPicPr/>
          <p:nvPr/>
        </p:nvPicPr>
        <p:blipFill>
          <a:blip r:embed="rId1"/>
          <a:stretch/>
        </p:blipFill>
        <p:spPr>
          <a:xfrm>
            <a:off x="5286240" y="4164120"/>
            <a:ext cx="328644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ahoma"/>
              </a:rPr>
              <a:t>Статистика.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ahoma"/>
              </a:rPr>
              <a:t>Около половины серьезных травм, получаемых подростками, связано с их собственными </a:t>
            </a:r>
            <a:r>
              <a:rPr b="1" lang="ru-RU" sz="2800" spc="-1" strike="noStrike">
                <a:solidFill>
                  <a:srgbClr val="c00000"/>
                </a:solidFill>
                <a:latin typeface="Tahoma"/>
              </a:rPr>
              <a:t>ошибками (рисками) </a:t>
            </a:r>
            <a:r>
              <a:rPr b="1" lang="ru-RU" sz="2800" spc="-1" strike="noStrike">
                <a:solidFill>
                  <a:srgbClr val="04617b"/>
                </a:solidFill>
                <a:latin typeface="Tahoma"/>
              </a:rPr>
              <a:t>или </a:t>
            </a:r>
            <a:r>
              <a:rPr b="1" lang="ru-RU" sz="2800" spc="-1" strike="noStrike">
                <a:solidFill>
                  <a:srgbClr val="c00000"/>
                </a:solidFill>
                <a:latin typeface="Tahoma"/>
              </a:rPr>
              <a:t>нарушением ими принятых правил поведения в быту, школе и на транспорте. 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c00000"/>
                </a:solidFill>
                <a:latin typeface="Mistral"/>
              </a:rPr>
              <a:t>Приведите свои примеры 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08" name="Picture 2" descr="Февраль 2013 Мозырь Погода в Мозыре Новости Мозыря Работа в Мозыре Город Мозырь Жыцце Палесся Газета Мозыря Page 5"/>
          <p:cNvPicPr/>
          <p:nvPr/>
        </p:nvPicPr>
        <p:blipFill>
          <a:blip r:embed="rId1"/>
          <a:stretch/>
        </p:blipFill>
        <p:spPr>
          <a:xfrm>
            <a:off x="4929120" y="4357800"/>
            <a:ext cx="30718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83763"/>
                </a:solidFill>
                <a:latin typeface="Tahoma"/>
              </a:rPr>
              <a:t>Давайте обсудим.</a:t>
            </a:r>
            <a:endParaRPr b="0" lang="en-US" sz="36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44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바탕"/>
                <a:ea typeface="바탕"/>
              </a:rPr>
              <a:t>-</a:t>
            </a:r>
            <a:r>
              <a:rPr b="1" lang="ru-RU" sz="2400" spc="-1" strike="noStrike">
                <a:solidFill>
                  <a:srgbClr val="04617b"/>
                </a:solidFill>
                <a:latin typeface="바탕"/>
                <a:ea typeface="바탕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바탕"/>
                <a:ea typeface="바탕"/>
              </a:rPr>
              <a:t>Можно ли полностью избежать опасных жизненных ситуаций?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바탕"/>
                <a:ea typeface="바탕"/>
              </a:rPr>
              <a:t>-Можно ли свести к минимуму опасности?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바탕"/>
                <a:ea typeface="바탕"/>
              </a:rPr>
              <a:t>Есть ли правила поведения в опасных </a:t>
            </a:r>
            <a:r>
              <a:rPr b="1" lang="ru-RU" sz="2800" spc="-1" strike="noStrike">
                <a:solidFill>
                  <a:srgbClr val="c00000"/>
                </a:solidFill>
                <a:latin typeface="바탕"/>
                <a:ea typeface="바탕"/>
              </a:rPr>
              <a:t>ситуациях?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12" name="Picture 4" descr="Московский район г.Чебоксары &quot; Новости &quot; Безопасность использования газа в быту - наша общая задача"/>
          <p:cNvPicPr/>
          <p:nvPr/>
        </p:nvPicPr>
        <p:blipFill>
          <a:blip r:embed="rId1"/>
          <a:stretch/>
        </p:blipFill>
        <p:spPr>
          <a:xfrm>
            <a:off x="4643280" y="2357280"/>
            <a:ext cx="400068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Первое, что необходимо спасать, – </a:t>
            </a:r>
            <a:r>
              <a:rPr b="0" lang="ru-RU" sz="4000" spc="-1" strike="noStrike">
                <a:solidFill>
                  <a:srgbClr val="c00000"/>
                </a:solidFill>
                <a:latin typeface="Tahoma"/>
              </a:rPr>
              <a:t>это жизнь и здоровье.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15" name="Picture 4" descr="RUcompany.RU :: ГУ Центр гражданской защиты и пожарной безопасности :: Спасение людей, пострадавших в ДТП"/>
          <p:cNvPicPr/>
          <p:nvPr/>
        </p:nvPicPr>
        <p:blipFill>
          <a:blip r:embed="rId1"/>
          <a:stretch/>
        </p:blipFill>
        <p:spPr>
          <a:xfrm>
            <a:off x="1357200" y="1857240"/>
            <a:ext cx="612324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8T13:52:20Z</dcterms:created>
  <dc:creator>user</dc:creator>
  <dc:description/>
  <dc:language>en-US</dc:language>
  <cp:lastModifiedBy>Сергей</cp:lastModifiedBy>
  <dcterms:modified xsi:type="dcterms:W3CDTF">2015-02-01T15:58:56Z</dcterms:modified>
  <cp:revision>4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61049</vt:lpwstr>
  </property>
</Properties>
</file>