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26.jpeg" ContentType="image/jpeg"/>
  <Override PartName="/ppt/media/image10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22.jpeg" ContentType="image/jpe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059-E3DF-4854-B3DE-2C82139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F4B-8506-4E29-A1CF-A53050FB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AD9-5954-4758-B99C-1D1E8834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916-FF64-4AB7-8609-45A8C7CE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1B29-A805-4220-BF51-D7FDECFC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6B23-0F39-4D13-9B36-3D579D2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85B7-8354-4899-9628-9E7A5AD2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D96D-8C11-4F78-9DB5-10492B3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59D-E1C5-470E-B992-D1CEC1D5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7D3-2AD3-426E-9187-A954BA2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8B9-D988-4114-BBA7-183DC29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9EF-8823-4808-883A-68D3E0A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0871-4318-4943-8ED0-80C00D5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4494-207B-4546-8C76-BCBA964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D26-48CC-4311-A163-B07D8EA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5A1C-AEB2-4A86-A0D2-C9202F85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923-4B83-4FE1-9431-C7AB0636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FC3-3945-456D-8214-BDD6A19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F67-7945-4600-8510-E1AAC3C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066-BD8D-41F3-8988-5643923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C78-F8FB-45C4-966B-189B96CB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ED1-692A-47ED-A693-EE73121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9A5-16AB-48D2-9831-E715FC9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242-AC49-4061-A4E8-3309F63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347-0E46-44F3-BFF3-C1ED1F30E835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FB6-86F0-481C-A7EB-68FF010666E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304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4617b"/>
                </a:solidFill>
                <a:uFillTx/>
                <a:latin typeface="Tahoma"/>
              </a:rPr>
              <a:t>Тренинг</a:t>
            </a:r>
            <a:br>
              <a:rPr sz="5400"/>
            </a:br>
            <a:r>
              <a:rPr b="1" lang="ru-RU" sz="5400" spc="-1" strike="noStrike" u="sng">
                <a:solidFill>
                  <a:srgbClr val="04617b"/>
                </a:solidFill>
                <a:uFillTx/>
                <a:latin typeface="Tahoma"/>
              </a:rPr>
              <a:t> "Я и моя безопасность".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5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Есть особые исключительные и редкие ситуации, когда люди жертвуют собственной жизнью во имя других людей или ценностей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Чудо спасение в городе Ровно www.krasfun.ru"/>
          <p:cNvPicPr/>
          <p:nvPr/>
        </p:nvPicPr>
        <p:blipFill>
          <a:blip r:embed="rId2"/>
          <a:stretch/>
        </p:blipFill>
        <p:spPr>
          <a:xfrm>
            <a:off x="1571760" y="1785960"/>
            <a:ext cx="5613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зрослые сильные люди, которые несут большую ответственность, могут жертвовать своей жизнью для спасения детей или более слабых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Лента новостей :: Новости - RuFox"/>
          <p:cNvPicPr/>
          <p:nvPr/>
        </p:nvPicPr>
        <p:blipFill>
          <a:blip r:embed="rId2"/>
          <a:stretch/>
        </p:blipFill>
        <p:spPr>
          <a:xfrm>
            <a:off x="1285920" y="1928880"/>
            <a:ext cx="6715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 большинстве ситуаций, связанных с опасностью, дети и подростки должны спасать свою жизнь и здоровье, учитывая, по возможности, безопасность других людей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В Новосибирске ребенок едва не сжег квартиру, играя с зажигалкой - Рамблер-Новости"/>
          <p:cNvPicPr/>
          <p:nvPr/>
        </p:nvPicPr>
        <p:blipFill>
          <a:blip r:embed="rId2"/>
          <a:stretch/>
        </p:blipFill>
        <p:spPr>
          <a:xfrm>
            <a:off x="1643040" y="185724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ahoma"/>
              </a:rPr>
              <a:t>«Мозговой штурм"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428840"/>
            <a:ext cx="7848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Что удалось придумать людям для сведения к минимуму опасностей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7" name="Picture 4" descr="Официальный сайт городского округа город Кумертау &quot; Наступили холода: проверьте тягу в дымоходе!"/>
          <p:cNvPicPr/>
          <p:nvPr/>
        </p:nvPicPr>
        <p:blipFill>
          <a:blip r:embed="rId1"/>
          <a:stretch/>
        </p:blipFill>
        <p:spPr>
          <a:xfrm>
            <a:off x="1571760" y="207180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Ответьте на вопросы: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Где, когда и почему в школе предусмотрены особые правила поведения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0" name="Picture 2" descr="Купить книгу &quot;Правила поведения в школе&quot; в книжном интернет-магазине Read.ru"/>
          <p:cNvPicPr/>
          <p:nvPr/>
        </p:nvPicPr>
        <p:blipFill>
          <a:blip r:embed="rId1"/>
          <a:stretch/>
        </p:blipFill>
        <p:spPr>
          <a:xfrm>
            <a:off x="5024520" y="2714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Школьные правила - Картинка 17407/60"/>
          <p:cNvPicPr/>
          <p:nvPr/>
        </p:nvPicPr>
        <p:blipFill>
          <a:blip r:embed="rId2"/>
          <a:stretch/>
        </p:blipFill>
        <p:spPr>
          <a:xfrm>
            <a:off x="285840" y="30002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Какие бытовые приборы и почему снабжаются особыми инструкциями по применению?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4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Потребительский экстремизм: как защита прав клиента переходит в нападение. - Первый канал"/>
          <p:cNvPicPr/>
          <p:nvPr/>
        </p:nvPicPr>
        <p:blipFill>
          <a:blip r:embed="rId2"/>
          <a:stretch/>
        </p:blipFill>
        <p:spPr>
          <a:xfrm>
            <a:off x="357120" y="1357200"/>
            <a:ext cx="508644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Гороскоп бытовых приборов - Наш Дом"/>
          <p:cNvPicPr/>
          <p:nvPr/>
        </p:nvPicPr>
        <p:blipFill>
          <a:blip r:embed="rId3"/>
          <a:stretch/>
        </p:blipFill>
        <p:spPr>
          <a:xfrm>
            <a:off x="4786200" y="32860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Почему существуют особые правила дорожного движения и поведения в транспорте?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8" name="Picture 2" descr="Красногорск сегодня. Новости, события, происшествия"/>
          <p:cNvPicPr/>
          <p:nvPr/>
        </p:nvPicPr>
        <p:blipFill>
          <a:blip r:embed="rId1"/>
          <a:srcRect l="0" t="0" r="0" b="16475"/>
          <a:stretch/>
        </p:blipFill>
        <p:spPr>
          <a:xfrm>
            <a:off x="857160" y="2000160"/>
            <a:ext cx="7464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"Аукцион идей"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Остановись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одумай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Действуй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незнакомый человек предлагает тебе пойти с ним куда-либо.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старшие ребята предлагают спиртное или наркотики…</a:t>
            </a:r>
            <a:endParaRPr b="0" lang="en-US" sz="4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Цели: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1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28560" y="2286000"/>
            <a:ext cx="6000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4617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актуализация знаний об опасных жизненных ситуациях; 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4617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развитие представлений о тактических действиях                               в опасной ситуации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аши действия, если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приятели нашли во дворе какой-то сверток и зовут тебя посмотреть, что там внутри…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ередай другому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ак себя вести, чтобы не попадать в ситуацию опасности ?</a:t>
            </a:r>
            <a:endParaRPr b="0" lang="en-US" sz="4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Домашнее задание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Обсудить с родителями алгоритм поведения в опасной ситуаци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1" name="Picture 5" descr="Университетская клиника - Эпилепсия у ребёнка: советы воспитателям и учителям"/>
          <p:cNvPicPr/>
          <p:nvPr/>
        </p:nvPicPr>
        <p:blipFill>
          <a:blip r:embed="rId1"/>
          <a:stretch/>
        </p:blipFill>
        <p:spPr>
          <a:xfrm>
            <a:off x="2643120" y="271476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Вводная часть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Назовите ассоциации, которые возникают у вас  при слове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"опасность"</a:t>
            </a:r>
            <a:endParaRPr b="0" lang="en-US" sz="4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5" name="Picture 2" descr="К огда ребенок окажется на дороге, он поступит так же, как родители. Давайте понаблюдаем за тем, как родители вместе со своими д"/>
          <p:cNvPicPr/>
          <p:nvPr/>
        </p:nvPicPr>
        <p:blipFill>
          <a:blip r:embed="rId1"/>
          <a:stretch/>
        </p:blipFill>
        <p:spPr>
          <a:xfrm>
            <a:off x="2857680" y="38577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Опасность!!!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Большинство людей остерегаются опасностей!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 обычно ведут себя люди при их возникновении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они испытывают?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8" name="Picture 2" descr="Опасный экстрим по пути в школу (14 фото) - Mypleer"/>
          <p:cNvPicPr/>
          <p:nvPr/>
        </p:nvPicPr>
        <p:blipFill>
          <a:blip r:embed="rId1"/>
          <a:stretch/>
        </p:blipFill>
        <p:spPr>
          <a:xfrm>
            <a:off x="5143680" y="3571920"/>
            <a:ext cx="32144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рах…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Что такое страх?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Для чего природа наделила человека способностью испытывать стра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О чём сигнализирует стра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1" name="Picture 2" descr="Сказка о непослушном зайчонке"/>
          <p:cNvPicPr/>
          <p:nvPr/>
        </p:nvPicPr>
        <p:blipFill>
          <a:blip r:embed="rId1"/>
          <a:stretch/>
        </p:blipFill>
        <p:spPr>
          <a:xfrm>
            <a:off x="5857920" y="3429000"/>
            <a:ext cx="2428920" cy="317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irties takas Bolivijoje Lol.lt"/>
          <p:cNvPicPr/>
          <p:nvPr/>
        </p:nvPicPr>
        <p:blipFill>
          <a:blip r:embed="rId2"/>
          <a:stretch/>
        </p:blipFill>
        <p:spPr>
          <a:xfrm>
            <a:off x="1214280" y="407196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00000"/>
                </a:solidFill>
                <a:uFillTx/>
                <a:latin typeface="Tahoma"/>
              </a:rPr>
              <a:t>Что такое страх?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Страх – это предупреждение, сигнал, который может парализовать человеческую волю, а может мобилизовать ресурсы человека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5" name="Picture 2" descr="Самые опасные дороги мира &quot; SFW - приколы, юмор, девки, дтп, машины, фото знаменитостей и многое другое."/>
          <p:cNvPicPr/>
          <p:nvPr/>
        </p:nvPicPr>
        <p:blipFill>
          <a:blip r:embed="rId1"/>
          <a:stretch/>
        </p:blipFill>
        <p:spPr>
          <a:xfrm>
            <a:off x="5286240" y="4164120"/>
            <a:ext cx="3286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Статистика.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коло половины серьезных травм, получаемых подростками, связано с их собственным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ошибками (рисками)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нарушением ими принятых правил поведения в быту, школе и на транспорте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Mistral"/>
              </a:rPr>
              <a:t>Приведите свои примеры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Picture 2" descr="Февраль 2013 Мозырь Погода в Мозыре Новости Мозыря Работа в Мозыре Город Мозырь Жыцце Палесся Газета Мозыря Page 5"/>
          <p:cNvPicPr/>
          <p:nvPr/>
        </p:nvPicPr>
        <p:blipFill>
          <a:blip r:embed="rId1"/>
          <a:stretch/>
        </p:blipFill>
        <p:spPr>
          <a:xfrm>
            <a:off x="4929120" y="4357800"/>
            <a:ext cx="30718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3763"/>
                </a:solidFill>
                <a:latin typeface="Tahoma"/>
              </a:rPr>
              <a:t>Давайте обсудим.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-</a:t>
            </a:r>
            <a:r>
              <a:rPr b="1" lang="ru-RU" sz="2400" spc="-1" strike="noStrike">
                <a:solidFill>
                  <a:srgbClr val="04617b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ожно ли полностью избежать опасных жизненных ситуаций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-Можно ли свести к минимуму опасности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Есть ли правила поведения в опасных </a:t>
            </a: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ситуациях?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2" name="Picture 4" descr="Московский район г.Чебоксары &quot; Новости &quot; Безопасность использования газа в быту - наша общая задача"/>
          <p:cNvPicPr/>
          <p:nvPr/>
        </p:nvPicPr>
        <p:blipFill>
          <a:blip r:embed="rId1"/>
          <a:stretch/>
        </p:blipFill>
        <p:spPr>
          <a:xfrm>
            <a:off x="4643280" y="2357280"/>
            <a:ext cx="40006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Первое, что необходимо спасать, –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это жизнь и здоровье.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5" name="Picture 4" descr="RUcompany.RU :: ГУ Центр гражданской защиты и пожарной безопасности :: Спасение людей, пострадавших в ДТП"/>
          <p:cNvPicPr/>
          <p:nvPr/>
        </p:nvPicPr>
        <p:blipFill>
          <a:blip r:embed="rId1"/>
          <a:stretch/>
        </p:blipFill>
        <p:spPr>
          <a:xfrm>
            <a:off x="1357200" y="1857240"/>
            <a:ext cx="6123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Сергей</cp:lastModifiedBy>
  <dcterms:modified xsi:type="dcterms:W3CDTF">2015-02-01T15:58:56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