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FD1-32BE-44B1-B334-400DA87A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D85-0333-4284-910F-5DCD206D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394-1EC2-4A43-B314-F93827F0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B9C-68D3-4ADA-BD4E-4DC9A189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8DF5-8083-454D-BB9D-EFDD1C4A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B66F-FE8F-44C5-9DDE-33387575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8C6E-2480-485E-929C-FEF77945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3CBF-63B4-43F1-BFCD-D2890BD0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37E4-1E45-49DA-BCC1-F8D74F57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F60A-C29C-4F82-A1A8-1E4CF0E3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A3B8-768E-4DFB-88C1-440591A6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C9F-A80B-477F-B05C-E041CEFE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EA76-4651-4841-9B07-B2C2E787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1AB8-8F17-4B71-8FD7-C22FA255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26DB-117F-45F5-9086-D7442409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47C8-048F-4954-9D26-5610C48F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A7A4-3072-49AF-BF69-DEE197A9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7B4-2BED-4491-BE3A-82656F56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EA3-34E8-4D88-87C6-F390F751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03E-1DFC-49A2-B852-506EC20E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35D-59ED-48BC-9AB2-D30BA1BB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E69-7E48-434C-B1AD-970D356B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130-F47C-42CE-991C-AD7F3BEA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FC1-2D19-4FA8-A20C-6F9EA474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D154-66EB-4C63-B861-564A43366D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4725-6C2E-43FB-8074-2A52DA0CF12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редняя общеобразовательная школа №63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имени Маршала Советского Союза Г.К. Жуков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Verdana"/>
              </a:rPr>
              <a:t>К УРОКУ МАТЕМАТИК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(УМНОЖЕНИЕ, 2 КЛАСС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ПОЛНИЛ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ЧИТЕЛЬ НАЧАЛЬНЫХ КЛАССОВ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КОЗЛОВ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РИНА КОНСТАНТИНОВ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5" descr="gnom25"/>
          <p:cNvPicPr/>
          <p:nvPr/>
        </p:nvPicPr>
        <p:blipFill>
          <a:blip r:embed="rId1"/>
          <a:stretch/>
        </p:blipFill>
        <p:spPr>
          <a:xfrm>
            <a:off x="5940360" y="3871800"/>
            <a:ext cx="3062520" cy="2811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2"/>
          <p:cNvSpPr/>
          <p:nvPr/>
        </p:nvSpPr>
        <p:spPr>
          <a:xfrm>
            <a:off x="108000" y="620640"/>
            <a:ext cx="89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Сколько всего цветов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Rectangle 48"/>
          <p:cNvSpPr/>
          <p:nvPr/>
        </p:nvSpPr>
        <p:spPr>
          <a:xfrm>
            <a:off x="250920" y="4869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5 + 5+ 5+ 5 + 5 = 25 (ц.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2338560" y="2492280"/>
            <a:ext cx="14256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2266920" y="2925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2698920" y="2637000"/>
            <a:ext cx="14256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635280" y="321300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4930920" y="3141720"/>
            <a:ext cx="14256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4714920" y="278136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5364000" y="2637000"/>
            <a:ext cx="14292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6586560" y="3141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5435640" y="2997360"/>
            <a:ext cx="14292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5002200" y="256536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050920" y="2637000"/>
            <a:ext cx="14292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2627280" y="3141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6950160" y="2925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6154560" y="256536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6083280" y="3141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Oval 25"/>
          <p:cNvSpPr/>
          <p:nvPr/>
        </p:nvSpPr>
        <p:spPr>
          <a:xfrm>
            <a:off x="6586560" y="2637000"/>
            <a:ext cx="14292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Oval 28"/>
          <p:cNvSpPr/>
          <p:nvPr/>
        </p:nvSpPr>
        <p:spPr>
          <a:xfrm>
            <a:off x="1690560" y="2205000"/>
            <a:ext cx="1295640" cy="1584360"/>
          </a:xfrm>
          <a:prstGeom prst="ellipse">
            <a:avLst/>
          </a:prstGeom>
          <a:noFill/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Oval 29"/>
          <p:cNvSpPr/>
          <p:nvPr/>
        </p:nvSpPr>
        <p:spPr>
          <a:xfrm>
            <a:off x="3059280" y="2205000"/>
            <a:ext cx="1295280" cy="1584360"/>
          </a:xfrm>
          <a:prstGeom prst="ellipse">
            <a:avLst/>
          </a:prstGeom>
          <a:noFill/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Oval 30"/>
          <p:cNvSpPr/>
          <p:nvPr/>
        </p:nvSpPr>
        <p:spPr>
          <a:xfrm>
            <a:off x="4535640" y="2205000"/>
            <a:ext cx="1295280" cy="1584360"/>
          </a:xfrm>
          <a:prstGeom prst="ellipse">
            <a:avLst/>
          </a:prstGeom>
          <a:noFill/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Oval 31"/>
          <p:cNvSpPr/>
          <p:nvPr/>
        </p:nvSpPr>
        <p:spPr>
          <a:xfrm>
            <a:off x="5958000" y="2205000"/>
            <a:ext cx="1295280" cy="1584360"/>
          </a:xfrm>
          <a:prstGeom prst="ellipse">
            <a:avLst/>
          </a:prstGeom>
          <a:noFill/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Oval 33"/>
          <p:cNvSpPr/>
          <p:nvPr/>
        </p:nvSpPr>
        <p:spPr>
          <a:xfrm>
            <a:off x="3274920" y="285264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Oval 34"/>
          <p:cNvSpPr/>
          <p:nvPr/>
        </p:nvSpPr>
        <p:spPr>
          <a:xfrm>
            <a:off x="3994200" y="306864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Oval 35"/>
          <p:cNvSpPr/>
          <p:nvPr/>
        </p:nvSpPr>
        <p:spPr>
          <a:xfrm>
            <a:off x="3994200" y="2709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Oval 36"/>
          <p:cNvSpPr/>
          <p:nvPr/>
        </p:nvSpPr>
        <p:spPr>
          <a:xfrm>
            <a:off x="3562200" y="256536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Oval 38"/>
          <p:cNvSpPr/>
          <p:nvPr/>
        </p:nvSpPr>
        <p:spPr>
          <a:xfrm>
            <a:off x="1057320" y="3141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Oval 39"/>
          <p:cNvSpPr/>
          <p:nvPr/>
        </p:nvSpPr>
        <p:spPr>
          <a:xfrm>
            <a:off x="1420920" y="2925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Oval 40"/>
          <p:cNvSpPr/>
          <p:nvPr/>
        </p:nvSpPr>
        <p:spPr>
          <a:xfrm>
            <a:off x="625320" y="256536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Oval 41"/>
          <p:cNvSpPr/>
          <p:nvPr/>
        </p:nvSpPr>
        <p:spPr>
          <a:xfrm>
            <a:off x="554040" y="3141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Oval 42"/>
          <p:cNvSpPr/>
          <p:nvPr/>
        </p:nvSpPr>
        <p:spPr>
          <a:xfrm>
            <a:off x="1057320" y="2637000"/>
            <a:ext cx="14292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Oval 43"/>
          <p:cNvSpPr/>
          <p:nvPr/>
        </p:nvSpPr>
        <p:spPr>
          <a:xfrm>
            <a:off x="268200" y="2205000"/>
            <a:ext cx="1295640" cy="1584360"/>
          </a:xfrm>
          <a:prstGeom prst="ellipse">
            <a:avLst/>
          </a:prstGeom>
          <a:noFill/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1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ctr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колько всего поленьев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gnom23"/>
          <p:cNvPicPr/>
          <p:nvPr/>
        </p:nvPicPr>
        <p:blipFill>
          <a:blip r:embed="rId1"/>
          <a:stretch/>
        </p:blipFill>
        <p:spPr>
          <a:xfrm>
            <a:off x="152280" y="130320"/>
            <a:ext cx="1909800" cy="25779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 flipH="1">
            <a:off x="1762920" y="4282920"/>
            <a:ext cx="792360" cy="360360"/>
          </a:xfrm>
          <a:prstGeom prst="flowChartMagneticDrum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 flipH="1">
            <a:off x="1762920" y="3830760"/>
            <a:ext cx="792360" cy="360360"/>
          </a:xfrm>
          <a:prstGeom prst="flowChartMagneticDrum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 flipH="1">
            <a:off x="1762920" y="3376440"/>
            <a:ext cx="792360" cy="360360"/>
          </a:xfrm>
          <a:prstGeom prst="flowChartMagneticDrum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 flipH="1">
            <a:off x="1762920" y="2924280"/>
            <a:ext cx="792360" cy="360360"/>
          </a:xfrm>
          <a:prstGeom prst="flowChartMagneticDrum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 flipH="1">
            <a:off x="324000" y="4282920"/>
            <a:ext cx="792000" cy="360360"/>
          </a:xfrm>
          <a:prstGeom prst="flowChartMagneticDrum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AutoShape 12"/>
          <p:cNvSpPr/>
          <p:nvPr/>
        </p:nvSpPr>
        <p:spPr>
          <a:xfrm flipH="1">
            <a:off x="324000" y="3830760"/>
            <a:ext cx="792000" cy="360360"/>
          </a:xfrm>
          <a:prstGeom prst="flowChartMagneticDrum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 flipH="1">
            <a:off x="324000" y="3376440"/>
            <a:ext cx="792000" cy="360360"/>
          </a:xfrm>
          <a:prstGeom prst="flowChartMagneticDrum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AutoShape 14"/>
          <p:cNvSpPr/>
          <p:nvPr/>
        </p:nvSpPr>
        <p:spPr>
          <a:xfrm flipH="1">
            <a:off x="324000" y="2924280"/>
            <a:ext cx="792000" cy="360360"/>
          </a:xfrm>
          <a:prstGeom prst="flowChartMagneticDrum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AutoShape 15"/>
          <p:cNvSpPr/>
          <p:nvPr/>
        </p:nvSpPr>
        <p:spPr>
          <a:xfrm flipH="1">
            <a:off x="4572000" y="4282920"/>
            <a:ext cx="792000" cy="360360"/>
          </a:xfrm>
          <a:prstGeom prst="flowChartMagneticDrum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AutoShape 16"/>
          <p:cNvSpPr/>
          <p:nvPr/>
        </p:nvSpPr>
        <p:spPr>
          <a:xfrm flipH="1">
            <a:off x="4572000" y="3830760"/>
            <a:ext cx="792000" cy="360360"/>
          </a:xfrm>
          <a:prstGeom prst="flowChartMagneticDrum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AutoShape 17"/>
          <p:cNvSpPr/>
          <p:nvPr/>
        </p:nvSpPr>
        <p:spPr>
          <a:xfrm flipH="1">
            <a:off x="4572000" y="3376440"/>
            <a:ext cx="792000" cy="360360"/>
          </a:xfrm>
          <a:prstGeom prst="flowChartMagneticDrum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AutoShape 18"/>
          <p:cNvSpPr/>
          <p:nvPr/>
        </p:nvSpPr>
        <p:spPr>
          <a:xfrm flipH="1">
            <a:off x="4572000" y="2924280"/>
            <a:ext cx="792000" cy="360360"/>
          </a:xfrm>
          <a:prstGeom prst="flowChartMagneticDrum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AutoShape 19"/>
          <p:cNvSpPr/>
          <p:nvPr/>
        </p:nvSpPr>
        <p:spPr>
          <a:xfrm flipH="1">
            <a:off x="3131280" y="4282920"/>
            <a:ext cx="792360" cy="360360"/>
          </a:xfrm>
          <a:prstGeom prst="flowChartMagneticDrum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AutoShape 20"/>
          <p:cNvSpPr/>
          <p:nvPr/>
        </p:nvSpPr>
        <p:spPr>
          <a:xfrm flipH="1">
            <a:off x="3131280" y="3830760"/>
            <a:ext cx="792360" cy="360360"/>
          </a:xfrm>
          <a:prstGeom prst="flowChartMagneticDrum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AutoShape 21"/>
          <p:cNvSpPr/>
          <p:nvPr/>
        </p:nvSpPr>
        <p:spPr>
          <a:xfrm flipH="1">
            <a:off x="3131280" y="3376440"/>
            <a:ext cx="792360" cy="360360"/>
          </a:xfrm>
          <a:prstGeom prst="flowChartMagneticDrum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AutoShape 22"/>
          <p:cNvSpPr/>
          <p:nvPr/>
        </p:nvSpPr>
        <p:spPr>
          <a:xfrm flipH="1">
            <a:off x="3131280" y="2924280"/>
            <a:ext cx="792360" cy="360360"/>
          </a:xfrm>
          <a:prstGeom prst="flowChartMagneticDrum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AutoShape 23"/>
          <p:cNvSpPr/>
          <p:nvPr/>
        </p:nvSpPr>
        <p:spPr>
          <a:xfrm flipH="1">
            <a:off x="7450920" y="4282920"/>
            <a:ext cx="792360" cy="360360"/>
          </a:xfrm>
          <a:prstGeom prst="flowChartMagneticDrum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AutoShape 24"/>
          <p:cNvSpPr/>
          <p:nvPr/>
        </p:nvSpPr>
        <p:spPr>
          <a:xfrm flipH="1">
            <a:off x="7450920" y="3830760"/>
            <a:ext cx="792360" cy="360360"/>
          </a:xfrm>
          <a:prstGeom prst="flowChartMagneticDrum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AutoShape 25"/>
          <p:cNvSpPr/>
          <p:nvPr/>
        </p:nvSpPr>
        <p:spPr>
          <a:xfrm flipH="1">
            <a:off x="7450920" y="3376440"/>
            <a:ext cx="792360" cy="360360"/>
          </a:xfrm>
          <a:prstGeom prst="flowChartMagneticDrum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AutoShape 26"/>
          <p:cNvSpPr/>
          <p:nvPr/>
        </p:nvSpPr>
        <p:spPr>
          <a:xfrm flipH="1">
            <a:off x="7450920" y="2924280"/>
            <a:ext cx="792360" cy="360360"/>
          </a:xfrm>
          <a:prstGeom prst="flowChartMagneticDrum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AutoShape 27"/>
          <p:cNvSpPr/>
          <p:nvPr/>
        </p:nvSpPr>
        <p:spPr>
          <a:xfrm flipH="1">
            <a:off x="6012000" y="4282920"/>
            <a:ext cx="792000" cy="360360"/>
          </a:xfrm>
          <a:prstGeom prst="flowChartMagneticDrum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AutoShape 28"/>
          <p:cNvSpPr/>
          <p:nvPr/>
        </p:nvSpPr>
        <p:spPr>
          <a:xfrm flipH="1">
            <a:off x="6012000" y="3830760"/>
            <a:ext cx="792000" cy="360360"/>
          </a:xfrm>
          <a:prstGeom prst="flowChartMagneticDrum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AutoShape 29"/>
          <p:cNvSpPr/>
          <p:nvPr/>
        </p:nvSpPr>
        <p:spPr>
          <a:xfrm flipH="1">
            <a:off x="6012000" y="3376440"/>
            <a:ext cx="792000" cy="360360"/>
          </a:xfrm>
          <a:prstGeom prst="flowChartMagneticDrum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AutoShape 30"/>
          <p:cNvSpPr/>
          <p:nvPr/>
        </p:nvSpPr>
        <p:spPr>
          <a:xfrm flipH="1">
            <a:off x="6012000" y="2924280"/>
            <a:ext cx="792000" cy="360360"/>
          </a:xfrm>
          <a:prstGeom prst="flowChartMagneticDrum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0" y="5084640"/>
            <a:ext cx="9144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4 + 4+ 4+ 4 + 4+ 4 = 24 (п.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Picture 16" descr="gnom01_2"/>
          <p:cNvPicPr/>
          <p:nvPr/>
        </p:nvPicPr>
        <p:blipFill>
          <a:blip r:embed="rId1"/>
          <a:stretch/>
        </p:blipFill>
        <p:spPr>
          <a:xfrm>
            <a:off x="415800" y="3500280"/>
            <a:ext cx="2908440" cy="3087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179280" y="115920"/>
            <a:ext cx="896472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Каждому из вас Гномик приготови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по 3 вишенк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Сколько всего вишен?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132000" y="2492280"/>
            <a:ext cx="58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3+3+3+3+3+3+3+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             </a:t>
            </a: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24 раз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5400000">
            <a:off x="5615280" y="585000"/>
            <a:ext cx="504720" cy="5329080"/>
          </a:xfrm>
          <a:custGeom>
            <a:avLst/>
            <a:gdLst>
              <a:gd name="textAreaLeft" fmla="*/ 0 w 504720"/>
              <a:gd name="textAreaRight" fmla="*/ 182160 w 504720"/>
              <a:gd name="textAreaTop" fmla="*/ 138960 h 5329080"/>
              <a:gd name="textAreaBottom" fmla="*/ 5190120 h 53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бы записать </a:t>
            </a:r>
            <a:r>
              <a:rPr b="1" lang="ru-RU" sz="3200" spc="-1" strike="noStrike">
                <a:solidFill>
                  <a:srgbClr val="eec85e"/>
                </a:solidFill>
                <a:latin typeface="Verdana"/>
              </a:rPr>
              <a:t>сумму одинаковых слагаемых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удобнее использовать </a:t>
            </a:r>
            <a:r>
              <a:rPr b="1" lang="ru-RU" sz="3200" spc="-1" strike="noStrike">
                <a:solidFill>
                  <a:srgbClr val="eec85e"/>
                </a:solidFill>
                <a:latin typeface="Verdana"/>
              </a:rPr>
              <a:t>умножени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место 3+ 3+ 3+ ...+3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пишу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3 24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24 раз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итают: «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о 3 взять 24 раз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ли  «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3 умножить на 24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7956720" y="2637000"/>
            <a:ext cx="71280" cy="71280"/>
          </a:xfrm>
          <a:prstGeom prst="ellipse">
            <a:avLst/>
          </a:prstGeom>
          <a:solidFill>
            <a:srgbClr val="eaeaea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 rot="16200000">
            <a:off x="3600360" y="1665360"/>
            <a:ext cx="504720" cy="3168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7" name="Picture 9" descr="gnom26"/>
          <p:cNvPicPr/>
          <p:nvPr/>
        </p:nvPicPr>
        <p:blipFill>
          <a:blip r:embed="rId1"/>
          <a:stretch/>
        </p:blipFill>
        <p:spPr>
          <a:xfrm>
            <a:off x="6659640" y="4076640"/>
            <a:ext cx="2325600" cy="267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75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-288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259920"/>
            <a:ext cx="88567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c85e"/>
                </a:solidFill>
                <a:latin typeface="Verdana"/>
              </a:rPr>
              <a:t>Сложение одинаковых чисел называют  умножени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3 + 3 + 3+ 3 + 3 + 3 + 3 = 3 7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7164360" y="2637000"/>
            <a:ext cx="71640" cy="7128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1" name="Picture 5" descr="gnom22"/>
          <p:cNvPicPr/>
          <p:nvPr/>
        </p:nvPicPr>
        <p:blipFill>
          <a:blip r:embed="rId1"/>
          <a:stretch/>
        </p:blipFill>
        <p:spPr>
          <a:xfrm>
            <a:off x="5508720" y="3645000"/>
            <a:ext cx="296388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07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3" name="Picture 4" descr="gnom27"/>
          <p:cNvPicPr/>
          <p:nvPr/>
        </p:nvPicPr>
        <p:blipFill>
          <a:blip r:embed="rId1"/>
          <a:stretch/>
        </p:blipFill>
        <p:spPr>
          <a:xfrm>
            <a:off x="6012000" y="4869000"/>
            <a:ext cx="3132000" cy="18288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250920" y="549360"/>
            <a:ext cx="8712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Запишите короче, используя знак умножен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рочитайте по-разному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401840" y="2781360"/>
            <a:ext cx="3527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4 + 4 + 4 + 4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11 + 11 + 11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54 + 54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8 + 8 + 8 + 8 + 8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348000" y="2781360"/>
            <a:ext cx="36212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4   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1  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5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4786200" y="3049560"/>
            <a:ext cx="71640" cy="7164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4819680" y="3643200"/>
            <a:ext cx="71280" cy="7164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4098960" y="4187880"/>
            <a:ext cx="71280" cy="7128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5435640" y="4797360"/>
            <a:ext cx="71280" cy="7164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Замените умножение сложением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3" name="Picture 4" descr="gnom28"/>
          <p:cNvPicPr/>
          <p:nvPr/>
        </p:nvPicPr>
        <p:blipFill>
          <a:blip r:embed="rId1"/>
          <a:stretch/>
        </p:blipFill>
        <p:spPr>
          <a:xfrm>
            <a:off x="6516720" y="4049640"/>
            <a:ext cx="2477880" cy="2808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324000" y="2133720"/>
            <a:ext cx="36208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8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36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4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23    2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4    6 =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5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908000" y="2133720"/>
            <a:ext cx="5545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7 + 7 + 7 + 7 + 7 + 7 + 7 + 7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15 + 15 + 15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36 + 36 + 36 +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23 + 2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4 + 4 + 4 + 4 + 4 +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10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10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10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10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1042920" y="2997360"/>
            <a:ext cx="71640" cy="7128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1042920" y="2421000"/>
            <a:ext cx="71640" cy="7128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1042920" y="3573360"/>
            <a:ext cx="71640" cy="7164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Oval 7"/>
          <p:cNvSpPr/>
          <p:nvPr/>
        </p:nvSpPr>
        <p:spPr>
          <a:xfrm>
            <a:off x="1042920" y="4149720"/>
            <a:ext cx="71640" cy="7128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1042920" y="4724280"/>
            <a:ext cx="71640" cy="7164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1042920" y="5300640"/>
            <a:ext cx="71640" cy="7164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5:02:30Z</dcterms:created>
  <dc:creator>user</dc:creator>
  <dc:description/>
  <dc:language>en-US</dc:language>
  <cp:lastModifiedBy>Ирина</cp:lastModifiedBy>
  <dcterms:modified xsi:type="dcterms:W3CDTF">2015-01-28T07:06:13Z</dcterms:modified>
  <cp:revision>10</cp:revision>
  <dc:subject/>
  <dc:title>Слайд 1</dc:title>
</cp:coreProperties>
</file>