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823-130F-435E-9119-F83A587C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213-DDD1-4283-ACB5-2E06960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54E-4E24-4120-BB96-0744B6B8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76F-CD45-490B-869E-203399E6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A0AD-5401-440D-9A69-18DCF700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A21-5B6C-4053-BBCA-53D0475B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5ED7-EA30-4D4C-8D61-6EA1DF90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6F5-9A33-407D-BAC4-0829FDF9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2CC6-AC08-4E52-982B-A1B3C859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16FF-9AA8-4D08-AEC0-8DCE60DE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E4CB-07E1-47E6-9350-6BE78EF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2EE-DBA2-4359-A7CF-45DA691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6BDD-06B3-443F-A28F-0D771EC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79D-FAE2-4640-B66A-4986F69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7EF-CD59-4344-9D00-69525A74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2892-B66B-4E99-A9AD-7CE31281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362-B643-4420-87D6-290D86F1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17A-2E78-4981-B9FC-92B060D4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D68-0773-43DD-9D6A-5286199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C91-5A29-41ED-BCCD-1DB94F3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76C-47F5-4772-B3BA-2B87E4A5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609-3E8C-4647-AD29-C1FB7A5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8E4-22C4-4EA1-9A88-3C90769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054-4AC8-4EEC-ACA8-3BA8CCC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F90B-C314-453C-ADCC-E11459E926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F6A-6279-4FA2-A477-5C99E7B9F76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редняя общеобразовательная школа №63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мени Маршала Советского Союза Г.К. Жуко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К УРОКУ МАТЕМАТИК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(УМНОЖЕНИЕ, 2 КЛАСС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ОЛНИЛ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ИТЕЛЬ НАЧАЛЬНЫХ КЛАССОВ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КОЗЛОВ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РИНА КОНСТАНТИН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5" descr="gnom25"/>
          <p:cNvPicPr/>
          <p:nvPr/>
        </p:nvPicPr>
        <p:blipFill>
          <a:blip r:embed="rId1"/>
          <a:stretch/>
        </p:blipFill>
        <p:spPr>
          <a:xfrm>
            <a:off x="5940360" y="3871800"/>
            <a:ext cx="3062520" cy="2811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2"/>
          <p:cNvSpPr/>
          <p:nvPr/>
        </p:nvSpPr>
        <p:spPr>
          <a:xfrm>
            <a:off x="108000" y="620640"/>
            <a:ext cx="89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Сколько всего цветов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48"/>
          <p:cNvSpPr/>
          <p:nvPr/>
        </p:nvSpPr>
        <p:spPr>
          <a:xfrm>
            <a:off x="250920" y="4869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5 + 5+ 5+ 5 + 5 = 25 (ц.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338560" y="249228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226692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2698920" y="2637000"/>
            <a:ext cx="14256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635280" y="321300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4930920" y="3141720"/>
            <a:ext cx="14256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4714920" y="2781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36400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58656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5435640" y="299736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500220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05092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262728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95016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615456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608328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658656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1690560" y="2205000"/>
            <a:ext cx="129564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Oval 29"/>
          <p:cNvSpPr/>
          <p:nvPr/>
        </p:nvSpPr>
        <p:spPr>
          <a:xfrm>
            <a:off x="305928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>
            <a:off x="453564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5958000" y="2205000"/>
            <a:ext cx="129528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Oval 33"/>
          <p:cNvSpPr/>
          <p:nvPr/>
        </p:nvSpPr>
        <p:spPr>
          <a:xfrm>
            <a:off x="3274920" y="2852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Oval 34"/>
          <p:cNvSpPr/>
          <p:nvPr/>
        </p:nvSpPr>
        <p:spPr>
          <a:xfrm>
            <a:off x="3994200" y="306864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Oval 35"/>
          <p:cNvSpPr/>
          <p:nvPr/>
        </p:nvSpPr>
        <p:spPr>
          <a:xfrm>
            <a:off x="3994200" y="2709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356220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Oval 38"/>
          <p:cNvSpPr/>
          <p:nvPr/>
        </p:nvSpPr>
        <p:spPr>
          <a:xfrm>
            <a:off x="105732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1420920" y="2925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Oval 40"/>
          <p:cNvSpPr/>
          <p:nvPr/>
        </p:nvSpPr>
        <p:spPr>
          <a:xfrm>
            <a:off x="625320" y="256536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Oval 41"/>
          <p:cNvSpPr/>
          <p:nvPr/>
        </p:nvSpPr>
        <p:spPr>
          <a:xfrm>
            <a:off x="554040" y="3141720"/>
            <a:ext cx="142920" cy="14292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Oval 42"/>
          <p:cNvSpPr/>
          <p:nvPr/>
        </p:nvSpPr>
        <p:spPr>
          <a:xfrm>
            <a:off x="1057320" y="2637000"/>
            <a:ext cx="142920" cy="142560"/>
          </a:xfrm>
          <a:prstGeom prst="ellipse">
            <a:avLst/>
          </a:prstGeom>
          <a:solidFill>
            <a:srgbClr val="f272b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Oval 43"/>
          <p:cNvSpPr/>
          <p:nvPr/>
        </p:nvSpPr>
        <p:spPr>
          <a:xfrm>
            <a:off x="268200" y="2205000"/>
            <a:ext cx="1295640" cy="1584360"/>
          </a:xfrm>
          <a:prstGeom prst="ellipse">
            <a:avLst/>
          </a:prstGeom>
          <a:noFill/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1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ctr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колько всего поленьев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gnom23"/>
          <p:cNvPicPr/>
          <p:nvPr/>
        </p:nvPicPr>
        <p:blipFill>
          <a:blip r:embed="rId1"/>
          <a:stretch/>
        </p:blipFill>
        <p:spPr>
          <a:xfrm>
            <a:off x="152280" y="130320"/>
            <a:ext cx="1909800" cy="2577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 flipH="1">
            <a:off x="1762920" y="4282920"/>
            <a:ext cx="792360" cy="360360"/>
          </a:xfrm>
          <a:prstGeom prst="flowChartMagneticDrum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 flipH="1">
            <a:off x="1762920" y="3830760"/>
            <a:ext cx="792360" cy="360360"/>
          </a:xfrm>
          <a:prstGeom prst="flowChartMagneticDrum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1762920" y="3376440"/>
            <a:ext cx="792360" cy="360360"/>
          </a:xfrm>
          <a:prstGeom prst="flowChartMagneticDrum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 flipH="1">
            <a:off x="1762920" y="2924280"/>
            <a:ext cx="792360" cy="360360"/>
          </a:xfrm>
          <a:prstGeom prst="flowChartMagneticDrum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 flipH="1">
            <a:off x="324000" y="4282920"/>
            <a:ext cx="792000" cy="360360"/>
          </a:xfrm>
          <a:prstGeom prst="flowChartMagneticDrum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 flipH="1">
            <a:off x="324000" y="3830760"/>
            <a:ext cx="792000" cy="360360"/>
          </a:xfrm>
          <a:prstGeom prst="flowChartMagneticDrum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 flipH="1">
            <a:off x="324000" y="3376440"/>
            <a:ext cx="792000" cy="360360"/>
          </a:xfrm>
          <a:prstGeom prst="flowChartMagneticDrum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 flipH="1">
            <a:off x="324000" y="2924280"/>
            <a:ext cx="792000" cy="360360"/>
          </a:xfrm>
          <a:prstGeom prst="flowChartMagneticDrum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 flipH="1">
            <a:off x="4572000" y="4282920"/>
            <a:ext cx="792000" cy="360360"/>
          </a:xfrm>
          <a:prstGeom prst="flowChartMagneticDrum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 flipH="1">
            <a:off x="4572000" y="3830760"/>
            <a:ext cx="792000" cy="360360"/>
          </a:xfrm>
          <a:prstGeom prst="flowChartMagneticDrum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AutoShape 17"/>
          <p:cNvSpPr/>
          <p:nvPr/>
        </p:nvSpPr>
        <p:spPr>
          <a:xfrm flipH="1">
            <a:off x="4572000" y="3376440"/>
            <a:ext cx="792000" cy="360360"/>
          </a:xfrm>
          <a:prstGeom prst="flowChartMagneticDrum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 flipH="1">
            <a:off x="4572000" y="2924280"/>
            <a:ext cx="792000" cy="360360"/>
          </a:xfrm>
          <a:prstGeom prst="flowChartMagneticDrum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AutoShape 19"/>
          <p:cNvSpPr/>
          <p:nvPr/>
        </p:nvSpPr>
        <p:spPr>
          <a:xfrm flipH="1">
            <a:off x="3131280" y="4282920"/>
            <a:ext cx="792360" cy="360360"/>
          </a:xfrm>
          <a:prstGeom prst="flowChartMagneticDrum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AutoShape 20"/>
          <p:cNvSpPr/>
          <p:nvPr/>
        </p:nvSpPr>
        <p:spPr>
          <a:xfrm flipH="1">
            <a:off x="3131280" y="3830760"/>
            <a:ext cx="792360" cy="360360"/>
          </a:xfrm>
          <a:prstGeom prst="flowChartMagneticDrum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AutoShape 21"/>
          <p:cNvSpPr/>
          <p:nvPr/>
        </p:nvSpPr>
        <p:spPr>
          <a:xfrm flipH="1">
            <a:off x="3131280" y="3376440"/>
            <a:ext cx="792360" cy="360360"/>
          </a:xfrm>
          <a:prstGeom prst="flowChartMagneticDrum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AutoShape 22"/>
          <p:cNvSpPr/>
          <p:nvPr/>
        </p:nvSpPr>
        <p:spPr>
          <a:xfrm flipH="1">
            <a:off x="3131280" y="2924280"/>
            <a:ext cx="792360" cy="360360"/>
          </a:xfrm>
          <a:prstGeom prst="flowChartMagneticDrum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AutoShape 23"/>
          <p:cNvSpPr/>
          <p:nvPr/>
        </p:nvSpPr>
        <p:spPr>
          <a:xfrm flipH="1">
            <a:off x="7450920" y="4282920"/>
            <a:ext cx="792360" cy="360360"/>
          </a:xfrm>
          <a:prstGeom prst="flowChartMagneticDrum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AutoShape 24"/>
          <p:cNvSpPr/>
          <p:nvPr/>
        </p:nvSpPr>
        <p:spPr>
          <a:xfrm flipH="1">
            <a:off x="7450920" y="3830760"/>
            <a:ext cx="792360" cy="360360"/>
          </a:xfrm>
          <a:prstGeom prst="flowChartMagneticDrum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 flipH="1">
            <a:off x="7450920" y="3376440"/>
            <a:ext cx="792360" cy="360360"/>
          </a:xfrm>
          <a:prstGeom prst="flowChartMagneticDrum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 flipH="1">
            <a:off x="7450920" y="2924280"/>
            <a:ext cx="792360" cy="360360"/>
          </a:xfrm>
          <a:prstGeom prst="flowChartMagneticDrum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AutoShape 27"/>
          <p:cNvSpPr/>
          <p:nvPr/>
        </p:nvSpPr>
        <p:spPr>
          <a:xfrm flipH="1">
            <a:off x="6012000" y="4282920"/>
            <a:ext cx="792000" cy="360360"/>
          </a:xfrm>
          <a:prstGeom prst="flowChartMagneticDrum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 flipH="1">
            <a:off x="6012000" y="3830760"/>
            <a:ext cx="792000" cy="360360"/>
          </a:xfrm>
          <a:prstGeom prst="flowChartMagneticDrum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AutoShape 29"/>
          <p:cNvSpPr/>
          <p:nvPr/>
        </p:nvSpPr>
        <p:spPr>
          <a:xfrm flipH="1">
            <a:off x="6012000" y="3376440"/>
            <a:ext cx="792000" cy="360360"/>
          </a:xfrm>
          <a:prstGeom prst="flowChartMagneticDrum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AutoShape 30"/>
          <p:cNvSpPr/>
          <p:nvPr/>
        </p:nvSpPr>
        <p:spPr>
          <a:xfrm flipH="1">
            <a:off x="6012000" y="2924280"/>
            <a:ext cx="792000" cy="360360"/>
          </a:xfrm>
          <a:prstGeom prst="flowChartMagneticDrum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0" y="5084640"/>
            <a:ext cx="9144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4 + 4+ 4+ 4 + 4+ 4 = 24 (п.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16" descr="gnom01_2"/>
          <p:cNvPicPr/>
          <p:nvPr/>
        </p:nvPicPr>
        <p:blipFill>
          <a:blip r:embed="rId1"/>
          <a:stretch/>
        </p:blipFill>
        <p:spPr>
          <a:xfrm>
            <a:off x="415800" y="3500280"/>
            <a:ext cx="2908440" cy="3087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179280" y="115920"/>
            <a:ext cx="896472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Каждому из вас Гномик приготови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по 3 вишенк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Сколько всего вишен?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132000" y="2492280"/>
            <a:ext cx="58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3+3+3+3+3+3+3+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24 раз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5400000">
            <a:off x="5615280" y="585000"/>
            <a:ext cx="504720" cy="5329080"/>
          </a:xfrm>
          <a:custGeom>
            <a:avLst/>
            <a:gdLst>
              <a:gd name="textAreaLeft" fmla="*/ 0 w 504720"/>
              <a:gd name="textAreaRight" fmla="*/ 182160 w 50472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бы записать </a:t>
            </a: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сумму одинаковых слагаемых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удобнее использовать </a:t>
            </a: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умножени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место 3+ 3+ 3+ ...+3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пишут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24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4 р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итают: «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 3 взять 24 раз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ли  «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умножить на 24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7956720" y="2637000"/>
            <a:ext cx="71280" cy="712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 rot="16200000">
            <a:off x="3600360" y="1665360"/>
            <a:ext cx="504720" cy="3168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" name="Picture 9" descr="gnom26"/>
          <p:cNvPicPr/>
          <p:nvPr/>
        </p:nvPicPr>
        <p:blipFill>
          <a:blip r:embed="rId1"/>
          <a:stretch/>
        </p:blipFill>
        <p:spPr>
          <a:xfrm>
            <a:off x="6659640" y="4076640"/>
            <a:ext cx="2325600" cy="26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75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28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259920"/>
            <a:ext cx="8856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c85e"/>
                </a:solidFill>
                <a:latin typeface="Verdana"/>
              </a:rPr>
              <a:t>Сложение одинаковых чисел называют  умнож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3 + 3 + 3+ 3 + 3 + 3 + 3 = 3 7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7164360" y="263700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Picture 5" descr="gnom22"/>
          <p:cNvPicPr/>
          <p:nvPr/>
        </p:nvPicPr>
        <p:blipFill>
          <a:blip r:embed="rId1"/>
          <a:stretch/>
        </p:blipFill>
        <p:spPr>
          <a:xfrm>
            <a:off x="5508720" y="3645000"/>
            <a:ext cx="296388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0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Picture 4" descr="gnom27"/>
          <p:cNvPicPr/>
          <p:nvPr/>
        </p:nvPicPr>
        <p:blipFill>
          <a:blip r:embed="rId1"/>
          <a:stretch/>
        </p:blipFill>
        <p:spPr>
          <a:xfrm>
            <a:off x="6012000" y="4869000"/>
            <a:ext cx="313200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50920" y="549360"/>
            <a:ext cx="8712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пишите короче, используя знак умноже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рочитайте по-разному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401840" y="2781360"/>
            <a:ext cx="3527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4 + 4 + 4 + 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11 + 11 + 11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54 + 5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8 + 8 + 8 + 8 + 8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348000" y="2781360"/>
            <a:ext cx="36212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4   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1  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54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4786200" y="304956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4819680" y="3643200"/>
            <a:ext cx="7128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4098960" y="4187880"/>
            <a:ext cx="7128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5435640" y="4797360"/>
            <a:ext cx="7128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Замените умножение сложение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4" descr="gnom28"/>
          <p:cNvPicPr/>
          <p:nvPr/>
        </p:nvPicPr>
        <p:blipFill>
          <a:blip r:embed="rId1"/>
          <a:stretch/>
        </p:blipFill>
        <p:spPr>
          <a:xfrm>
            <a:off x="6516720" y="4049640"/>
            <a:ext cx="2477880" cy="2808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24000" y="2133720"/>
            <a:ext cx="3620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8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6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3    2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   6 =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 =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908000" y="2133720"/>
            <a:ext cx="554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7 + 7 + 7 + 7 + 7 + 7 + 7 + 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5 + 15 + 1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6 + 36 + 36 +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3 + 2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 + 4 + 4 + 4 + 4 +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 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1042920" y="299736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1042920" y="242100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1042920" y="357336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1042920" y="4149720"/>
            <a:ext cx="71640" cy="7128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1042920" y="472428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1042920" y="5300640"/>
            <a:ext cx="71640" cy="7164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5:02:30Z</dcterms:created>
  <dc:creator>user</dc:creator>
  <dc:description/>
  <dc:language>en-US</dc:language>
  <cp:lastModifiedBy>Ирина</cp:lastModifiedBy>
  <dcterms:modified xsi:type="dcterms:W3CDTF">2015-01-28T07:06:13Z</dcterms:modified>
  <cp:revision>10</cp:revision>
  <dc:subject/>
  <dc:title>Слайд 1</dc:title>
</cp:coreProperties>
</file>