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E2F-0880-4DD4-B825-E5535E76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499-8D6F-4FC2-B16B-444536D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E6E-54AC-4B12-B430-67211D6A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0F7-B88D-462C-B1C8-8875D2C6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97D8-B337-47BF-AFD5-35DA2AFB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DFF-B82C-4EF6-B837-5770165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719A-9B56-4EEA-BECE-D5E43BB9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48E-A058-458F-8F2D-A8EAD3AD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6FA0-F2DA-42AC-AEE5-262EE707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9FEF-85D5-4A39-A266-BBB1CCB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2354-944D-4D37-9709-3CA40BF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689-376B-40BB-97C5-E501BC37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A028-DA66-417A-BC30-2560D8C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3C1-1530-4D3A-8DBC-95E2DEF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77A7-CD0C-4567-9D7A-6751991C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129A-24F0-47A3-860A-2BD38871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1C5-366B-4102-8F5D-562FB843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36F-B62F-41DE-A9A5-D2F76AA4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5EA-78B9-4B2B-AC50-DBC363DA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532-3FA3-40D3-B066-C443C90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7BA-7904-4786-8422-A1C8DA07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818-EB93-4FDB-9DA5-9108B7B5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FF6-303A-4431-AF68-18B68FE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69E-9DE7-4046-98DE-6919BA1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EF08-C1CB-4ADD-BA54-A9A5B57A8B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AA0E-78A6-4E06-B5E3-F205AD04037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02920" y="981000"/>
            <a:ext cx="6193080" cy="21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Monotype Corsiva"/>
              </a:rPr>
              <a:t>Урок рисования в 4 классе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Ю р т 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8" descr="http://images.myshared.ru/582094/slide_2.jpg"/>
          <p:cNvPicPr/>
          <p:nvPr/>
        </p:nvPicPr>
        <p:blipFill>
          <a:blip r:embed="rId1"/>
          <a:stretch/>
        </p:blipFill>
        <p:spPr>
          <a:xfrm>
            <a:off x="900000" y="360360"/>
            <a:ext cx="81028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www.stfond.ru/images/load/Image/2012/10/muz15107.jpg"/>
          <p:cNvPicPr/>
          <p:nvPr/>
        </p:nvPicPr>
        <p:blipFill>
          <a:blip r:embed="rId1"/>
          <a:stretch/>
        </p:blipFill>
        <p:spPr>
          <a:xfrm>
            <a:off x="1116000" y="1125360"/>
            <a:ext cx="75153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images.myshared.ru/420037/slide_15.jpg"/>
          <p:cNvPicPr/>
          <p:nvPr/>
        </p:nvPicPr>
        <p:blipFill>
          <a:blip r:embed="rId1"/>
          <a:stretch/>
        </p:blipFill>
        <p:spPr>
          <a:xfrm>
            <a:off x="684360" y="404640"/>
            <a:ext cx="818820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 жителей Севе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Picture 4" descr="img492"/>
          <p:cNvPicPr/>
          <p:nvPr/>
        </p:nvPicPr>
        <p:blipFill>
          <a:blip r:embed="rId1"/>
          <a:stretch/>
        </p:blipFill>
        <p:spPr>
          <a:xfrm>
            <a:off x="684360" y="1628640"/>
            <a:ext cx="76327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 жителей Росс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img494"/>
          <p:cNvPicPr/>
          <p:nvPr/>
        </p:nvPicPr>
        <p:blipFill>
          <a:blip r:embed="rId1"/>
          <a:stretch/>
        </p:blipFill>
        <p:spPr>
          <a:xfrm>
            <a:off x="1258920" y="1378080"/>
            <a:ext cx="7058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C -0.06996 0.09607 -0.4 0.41528 -0.40208 0.56505 C -0.40416 0.71482 -0.15138 0.91991 -0.01198 0.89861 C 0.12726 0.87732 0.41146 0.58843 0.43403 0.43727 C 0.4566 0.28611 0.19323 0.0662 0.12396 -0.0081 C 0.05469 -0.08264 0.03907 -0.01389 0.01806 -0.01065 C -0.00295 -0.00764 0.06997 -0.09606 -1.94444E-006 3.7037E-007 Z">
                                      <p:cBhvr>
                                        <p:cTn id="3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Сакля горцев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1547640" y="1609560"/>
            <a:ext cx="7099560" cy="45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img-fotki.yandex.ru/get/4901/timag82.e/0_32042_b8d4e45c_XL.jpg"/>
          <p:cNvPicPr/>
          <p:nvPr/>
        </p:nvPicPr>
        <p:blipFill>
          <a:blip r:embed="rId1"/>
          <a:stretch/>
        </p:blipFill>
        <p:spPr>
          <a:xfrm>
            <a:off x="1042920" y="1197000"/>
            <a:ext cx="7791480" cy="5111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2556000" y="476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Быт  горце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Verdana"/>
              </a:rPr>
              <a:t>Горный аул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35120" y="2076480"/>
            <a:ext cx="548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11280" y="2421000"/>
            <a:ext cx="29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Verdana"/>
              </a:rPr>
              <a:t>Сакли сливаются с линиями горных хребтов…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9" descr="http://lcweb2.loc.gov/service/pnp/ppmsca/14800/14809v.jpg"/>
          <p:cNvPicPr/>
          <p:nvPr/>
        </p:nvPicPr>
        <p:blipFill>
          <a:blip r:embed="rId1"/>
          <a:stretch/>
        </p:blipFill>
        <p:spPr>
          <a:xfrm>
            <a:off x="3429000" y="1844640"/>
            <a:ext cx="559116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азахская юр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62012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41320" y="907920"/>
            <a:ext cx="78883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4.bp.blogspot.com/_WFaMg8lTleI/TIKE-1dse8I/AAAAAAAAAj4/LhSsb1TLpZg/s1600/036.jpg"/>
          <p:cNvPicPr/>
          <p:nvPr/>
        </p:nvPicPr>
        <p:blipFill>
          <a:blip r:embed="rId1"/>
          <a:stretch/>
        </p:blipFill>
        <p:spPr>
          <a:xfrm>
            <a:off x="1763640" y="476280"/>
            <a:ext cx="683424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0:13:37Z</dcterms:created>
  <dc:creator>User</dc:creator>
  <dc:description/>
  <dc:language>en-US</dc:language>
  <cp:lastModifiedBy>Лия Ким</cp:lastModifiedBy>
  <dcterms:modified xsi:type="dcterms:W3CDTF">2015-02-04T15:00:58Z</dcterms:modified>
  <cp:revision>18</cp:revision>
  <dc:subject/>
  <dc:title>Урок рисования во 2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