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FB3-F085-49C9-A21D-98BE4A44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0B3-DDC1-404B-890B-FBD5E81A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BD53-BA64-483E-AB05-E6614F47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E02F-B92A-4FE4-9A2C-101003A1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A462-3F02-4B85-975E-A0CC3AF5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E79E-CD04-4C84-803C-02A25C19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99ED-A931-41AF-A4E1-A635A3E0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E4EC-DD96-453A-8797-D719F141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2AAA-CB82-4B03-892C-C33F8C8A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1983-002B-4B18-A7E4-D1E25CD4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BFBA-6844-4BC7-9287-35A727A3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2AD6-F4B1-454F-9714-0D41CA93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2522-E104-4A15-B21C-29734B9F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096E-FE2C-44D3-861A-6F05AD97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8A80-3504-4A2B-BC91-9B95CDE9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BCD3-757A-47EF-93AA-81301B58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A014-9CE4-4E7F-9101-D59D72B3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6051-EA47-4356-8491-03699393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4E6-3411-4627-8015-F62068E8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ADF-2B09-4878-ABCB-5EBF46D8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79D-BC19-4D39-BC8D-A59AB052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1C38-C894-4257-B6AC-0C485372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A4A-32B2-424E-955C-54281D56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5CC3-38A5-440B-AA66-EEA8BABE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AAA7-A6D5-4FB4-8B5A-AC0AA1D0BD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C5CE-5E24-4620-B5B5-13109C94A7F2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02920" y="981000"/>
            <a:ext cx="6193080" cy="218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33ff"/>
                </a:solidFill>
                <a:latin typeface="Monotype Corsiva"/>
              </a:rPr>
              <a:t>Урок рисования в 4 классе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Ю р т 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5" name="Picture 8" descr="http://images.myshared.ru/582094/slide_2.jpg"/>
          <p:cNvPicPr/>
          <p:nvPr/>
        </p:nvPicPr>
        <p:blipFill>
          <a:blip r:embed="rId1"/>
          <a:stretch/>
        </p:blipFill>
        <p:spPr>
          <a:xfrm>
            <a:off x="900000" y="360360"/>
            <a:ext cx="810288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http://www.stfond.ru/images/load/Image/2012/10/muz15107.jpg"/>
          <p:cNvPicPr/>
          <p:nvPr/>
        </p:nvPicPr>
        <p:blipFill>
          <a:blip r:embed="rId1"/>
          <a:stretch/>
        </p:blipFill>
        <p:spPr>
          <a:xfrm>
            <a:off x="1116000" y="1125360"/>
            <a:ext cx="751536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ttp://images.myshared.ru/420037/slide_15.jpg"/>
          <p:cNvPicPr/>
          <p:nvPr/>
        </p:nvPicPr>
        <p:blipFill>
          <a:blip r:embed="rId1"/>
          <a:stretch/>
        </p:blipFill>
        <p:spPr>
          <a:xfrm>
            <a:off x="684360" y="404640"/>
            <a:ext cx="8188200" cy="61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Дома жителей Севе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9" name="Picture 4" descr="img492"/>
          <p:cNvPicPr/>
          <p:nvPr/>
        </p:nvPicPr>
        <p:blipFill>
          <a:blip r:embed="rId1"/>
          <a:stretch/>
        </p:blipFill>
        <p:spPr>
          <a:xfrm>
            <a:off x="684360" y="1628640"/>
            <a:ext cx="763272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Дома жителей Росс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1" name="Picture 4" descr="img494"/>
          <p:cNvPicPr/>
          <p:nvPr/>
        </p:nvPicPr>
        <p:blipFill>
          <a:blip r:embed="rId1"/>
          <a:stretch/>
        </p:blipFill>
        <p:spPr>
          <a:xfrm>
            <a:off x="1258920" y="1378080"/>
            <a:ext cx="70581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37E-007 C -0.06996 0.09607 -0.4 0.41528 -0.40208 0.56505 C -0.40416 0.71482 -0.15138 0.91991 -0.01198 0.89861 C 0.12726 0.87732 0.41146 0.58843 0.43403 0.43727 C 0.4566 0.28611 0.19323 0.0662 0.12396 -0.0081 C 0.05469 -0.08264 0.03907 -0.01389 0.01806 -0.01065 C -0.00295 -0.00764 0.06997 -0.09606 -1.94444E-006 3.7037E-007 Z">
                                      <p:cBhvr>
                                        <p:cTn id="31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66"/>
                </a:solidFill>
                <a:latin typeface="Verdana"/>
              </a:rPr>
              <a:t>Сакля горцев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1547640" y="1609560"/>
            <a:ext cx="7099560" cy="457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http://img-fotki.yandex.ru/get/4901/timag82.e/0_32042_b8d4e45c_XL.jpg"/>
          <p:cNvPicPr/>
          <p:nvPr/>
        </p:nvPicPr>
        <p:blipFill>
          <a:blip r:embed="rId1"/>
          <a:stretch/>
        </p:blipFill>
        <p:spPr>
          <a:xfrm>
            <a:off x="1042920" y="1197000"/>
            <a:ext cx="7791480" cy="511164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"/>
          <p:cNvSpPr/>
          <p:nvPr/>
        </p:nvSpPr>
        <p:spPr>
          <a:xfrm>
            <a:off x="2556000" y="47628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Быт  горцев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33ff"/>
                </a:solidFill>
                <a:latin typeface="Verdana"/>
              </a:rPr>
              <a:t>Горный аул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35120" y="2076480"/>
            <a:ext cx="548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611280" y="2421000"/>
            <a:ext cx="295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800000"/>
                </a:solidFill>
                <a:latin typeface="Verdana"/>
              </a:rPr>
              <a:t>Сакли сливаются с линиями горных хребтов…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9" descr="http://lcweb2.loc.gov/service/pnp/ppmsca/14800/14809v.jpg"/>
          <p:cNvPicPr/>
          <p:nvPr/>
        </p:nvPicPr>
        <p:blipFill>
          <a:blip r:embed="rId1"/>
          <a:stretch/>
        </p:blipFill>
        <p:spPr>
          <a:xfrm>
            <a:off x="3429000" y="1844640"/>
            <a:ext cx="5591160" cy="44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Казахская юр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1" name="Picture 7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7620120" cy="50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841320" y="907920"/>
            <a:ext cx="78883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ttp://4.bp.blogspot.com/_WFaMg8lTleI/TIKE-1dse8I/AAAAAAAAAj4/LhSsb1TLpZg/s1600/036.jpg"/>
          <p:cNvPicPr/>
          <p:nvPr/>
        </p:nvPicPr>
        <p:blipFill>
          <a:blip r:embed="rId1"/>
          <a:stretch/>
        </p:blipFill>
        <p:spPr>
          <a:xfrm>
            <a:off x="1763640" y="476280"/>
            <a:ext cx="683424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10:13:37Z</dcterms:created>
  <dc:creator>User</dc:creator>
  <dc:description/>
  <dc:language>en-US</dc:language>
  <cp:lastModifiedBy>Лия Ким</cp:lastModifiedBy>
  <dcterms:modified xsi:type="dcterms:W3CDTF">2015-02-04T15:00:58Z</dcterms:modified>
  <cp:revision>18</cp:revision>
  <dc:subject/>
  <dc:title>Урок рисования во 2 класс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