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17D-A469-4AA2-ABA5-7130A46DD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C228-4782-4D71-8EC4-663BF4441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B42-C291-4C1C-A038-2553E84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2D7-08C0-426E-8EDF-88656B7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78A-6613-455E-88C6-5CA4FACC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84A-73F2-4C2F-872E-C583978C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EDB8-994A-4E73-BFF2-A68FD9EC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0C0-4336-4BBB-98DD-7E5C2AF7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4ABA-F0D3-4D51-B363-67C9179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5612-33E0-4DD9-9E5B-1F45079B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860-CB5E-4554-A635-959116D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488C-32BE-4FE1-A63B-D82D4EF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223C-1D27-4D50-9EC0-DA43387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7A1-0F1F-4708-A306-1067737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614-9B18-4BBB-97A6-503B8A1E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5542-03CD-4695-97E7-00AA097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7F1-F3EE-46F4-8FAA-E516F71E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A6E-88E9-4FAF-B3C6-96073118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B5D-35AB-471D-A282-A64B6A48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239-04FC-4D68-9777-6888385B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A1C-9712-4A61-96AA-AEAEBCC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1B4-3A20-4E75-BBEA-EE8B5D1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C40-1EFC-4260-93B2-1968152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9E9-F99A-438C-955A-1F63F39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F5-C3C5-43C4-9C38-A46C4B9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850-A535-42F7-9C8E-7069A31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FB2D-4240-4A5C-84A2-3C2F72C3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BD6-7B97-4F00-BE49-6432070E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28680" y="5084640"/>
            <a:ext cx="47862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26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«Вес школьного портфеля и его влияние на здоровье школьника»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2" descr="C:\Users\Ольга\Pictures\250PX-~1.JPG"/>
          <p:cNvPicPr/>
          <p:nvPr/>
        </p:nvPicPr>
        <p:blipFill>
          <a:blip r:embed="rId1"/>
          <a:stretch/>
        </p:blipFill>
        <p:spPr>
          <a:xfrm>
            <a:off x="285840" y="3929040"/>
            <a:ext cx="2381040" cy="23716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2050920" y="35733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Arial"/>
              </a:rPr>
              <a:t>Выполнили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учащиеся 8 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афтырева 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аява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Гнус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Костерин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мир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-1292400" y="6300720"/>
            <a:ext cx="10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е  –  социаль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541440" y="692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 Безопасный вес портф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82560" y="35733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В = ВУ • 0,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840" y="5157720"/>
            <a:ext cx="85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В – «безопасный» вес порт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 – вес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843280" y="1562040"/>
            <a:ext cx="3241440" cy="202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769-AD3A-4773-B338-6770FCED1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14400" y="1285920"/>
            <a:ext cx="64292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1771560" y="692280"/>
            <a:ext cx="6034320" cy="6049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-3009600" y="333360"/>
            <a:ext cx="100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ительная таблица – 2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3" descr=""/>
          <p:cNvPicPr/>
          <p:nvPr/>
        </p:nvPicPr>
        <p:blipFill>
          <a:blip r:embed="rId1"/>
          <a:stretch/>
        </p:blipFill>
        <p:spPr>
          <a:xfrm>
            <a:off x="1476360" y="766800"/>
            <a:ext cx="6624720" cy="58752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-482760" y="333360"/>
            <a:ext cx="9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ительные таблицы – 5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28920" y="765000"/>
            <a:ext cx="6138720" cy="5904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-449280" y="333360"/>
            <a:ext cx="85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равнительные таблицы – 8 «Б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15920"/>
            <a:ext cx="7272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кета для учащих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1. Что Вы предпочитае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фел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нец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юкза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су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 На что обращаете внимание при покупке портфел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су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наличие  карман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разме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3. Вы считаете, что Ваш школьный портф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яжёл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лёг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слишком тяжёл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. Вы всегда носите в школу все необходимые принадлеж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5. Сколько лет Вашему портфел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. Вам нравится Ваш портф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7. Вы сами выбирали свой портфель в магаз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, са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, с родител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нет, родите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, это пода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. Как облегчить школьный портфель? Ваши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-92160" y="765000"/>
            <a:ext cx="88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рмы веса пустого портф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-419040" y="2133720"/>
            <a:ext cx="95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ачальная школа – не более 600 – 700 грам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таршее звено – не более 1 ки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348000" y="3587760"/>
            <a:ext cx="2303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3564000" y="3860640"/>
            <a:ext cx="1944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-1549440" y="333360"/>
            <a:ext cx="99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ыт зарубежны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014480" y="1738440"/>
            <a:ext cx="2752560" cy="206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5346720" y="1738440"/>
            <a:ext cx="2913120" cy="2184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3176640" y="4005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239400" y="400536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ногие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5904000" y="38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1014480" y="5661000"/>
            <a:ext cx="19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алифор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5904000" y="4668840"/>
            <a:ext cx="23558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ить второй набор учебников дл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ть в школе места для хранения личных в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ать носить один комплект учебников на па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ставлении школьного расписания необходимо учитывать вес учебных комплектов, так как в один день портфель может быть тяжелый, а в другой – лег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родителя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∙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жедневно помогайте детям (особенно обучающимся в 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) правильно собирать портфель согласно расписанию, следи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в нём не было лишних вещ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тради и дневники покупайте не в тяжёлых картонных ламинированных, а в облегчённых обложках (в том числе и сам портфель, вес которого в граммах не должен превышать 600г. – 700г. в зависимости от возраста школьник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окупать тяжёлые портфели, помнить, что вес пустого портфеля не должен превышать 1 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купке портфеля обращайте внимание на жёсткую спинку с мягкими подушечками и светоотраж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ните, что ширина портфеля не должна превышать ширину плеч ребёнка, верхний край не должен быть выше плеч, а нижний – ниже бёдер, лямки должны быть не уже 3 сантиметров. Если портфель выбран не правильно, то это может серьёзно навредить здоров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екомендации ученикам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1007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осите лишнего в портф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йте портфель ежедневно и не забывай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тащить из него  ненужные 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купке портфеля предпочтение отдавайте здоровье сберегающим моментам, а не декора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читайте ранцы, которые но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, на двух лямках, э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 вашу ос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Здоровье – это самое главное, самое ценное, что есть в жизни человека, а значит его надо беречь. По статистике  в России происходит резкое ухудшение здоровья детей. Наш Кесовогорский район не исключение. Результаты медицинского осмотра в нашей школе показали,   что больш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0 %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детей имеют различные заболевания. Среди этих заболеваний ведущую позицию занимают  нарушения опорно двигательного аппарата. К ним относятся нарушение осанки, плоскостопие, сколи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http://www.keminfo.ru/image/upload/3Syzipy5.jpg"/>
          <p:cNvPicPr/>
          <p:nvPr/>
        </p:nvPicPr>
        <p:blipFill>
          <a:blip r:embed="rId1"/>
          <a:stretch/>
        </p:blipFill>
        <p:spPr>
          <a:xfrm>
            <a:off x="6732720" y="4538520"/>
            <a:ext cx="2098440" cy="231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-90360" y="981000"/>
            <a:ext cx="423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-3068640" y="1916280"/>
            <a:ext cx="1361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ействительно, излишний вес портф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может спровоцировать заболевания 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 они привести к другим недуг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А основная часть учас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зователь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е обращает внимания на эту пробл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ледовательно, не пытается её реш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что приводит к ухуд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здоровья школьников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 flipV="1">
            <a:off x="8292960" y="6720840"/>
            <a:ext cx="3938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1484280"/>
            <a:ext cx="892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своё здоровь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Следите за весом своего портфел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3419640" y="45086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ить влияние превышающего нормы веса портфеля на здоровье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ить внимание учеников на необходимость контроля веса портфеля с целью сохранени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пути решения данной социальной проблемы, а конкретно рекомендации по сниженью веса портф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Изучить данную тему в медицинск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литератур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Доказать влияние тяжёлых  портфелей 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здоровье школьни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роанализировать зависимость ве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ртфеля и здоровье школьников в наш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школе на примерах 2 «А», 5 «А» и 8 «Б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 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класс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Ознакомиться с опытом зарубежных стр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 решению данной проблем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Разработать рекомендации (памятки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              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</a:rPr>
              <a:t>по снижению веса портфел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325440" y="98100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-181080" y="3284640"/>
            <a:ext cx="94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тяжёлый портфель вредит здоровь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а учащиеся, а иногда и взрослые,  не задумываются об э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лан работы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341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медицинскую литературу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ать у медицинских работников детской консультации информацию состояния опорно–двигательного аппарата  ребят, принимающих участие в исслед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нать у медицинских работников вес учащихся эти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ь «безопасный» вес портфеля для каждого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есить портфели учащихся со школьными принадлеж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ь «безопасный» вес портфеля и фактический вес порт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ить причины превышения «безопасного» веса порт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есить портфели без школьных принадле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памя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ветительская работа по данной теме, в том числе и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-2513160" y="733320"/>
            <a:ext cx="1422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жёлый портфель провоцирует воз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колиоза и плоскостоп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ет н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нарушение ос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201680" y="2276640"/>
            <a:ext cx="10512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следствия нарушения оса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изуальные дефекты и нарушения симметрии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боль в спи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быстрая утомляем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головная б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нижение трудоспособ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ощущение затекания сп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ограничения подвижности; в тяжел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ушения движений и чувстви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нарушения функций легких и серд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иногда – возникновение межпозвоночной гры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ающейся только оперативно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Санитарные нормы веса портфеля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ес школьного портфеля не должен превышать 10 % от веса шк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N:\Фотографии портфель - копия\IMG_2555.JPG"/>
          <p:cNvPicPr/>
          <p:nvPr/>
        </p:nvPicPr>
        <p:blipFill>
          <a:blip r:embed="rId1"/>
          <a:stretch/>
        </p:blipFill>
        <p:spPr>
          <a:xfrm>
            <a:off x="3398760" y="2765520"/>
            <a:ext cx="2459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33600" y="3173400"/>
          <a:ext cx="6076800" cy="180180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5720"/>
              </a:tblGrid>
              <a:tr h="840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личество учащихся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болеваниями О.Д.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% от общего числа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</a:tr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1872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 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eaea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616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5760">
                      <a:solidFill>
                        <a:srgbClr val="fdf58d"/>
                      </a:solidFill>
                    </a:lnB>
                    <a:solidFill>
                      <a:srgbClr val="ffd2d2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4"/>
          <p:cNvSpPr/>
          <p:nvPr/>
        </p:nvSpPr>
        <p:spPr>
          <a:xfrm>
            <a:off x="826920" y="54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езультаты медицинского осмо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6948360" y="1149480"/>
            <a:ext cx="2013120" cy="191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5:32:31Z</dcterms:created>
  <dc:creator>Admin</dc:creator>
  <dc:description/>
  <dc:language>en-US</dc:language>
  <cp:lastModifiedBy>Olga</cp:lastModifiedBy>
  <dcterms:modified xsi:type="dcterms:W3CDTF">2015-02-04T17:48:21Z</dcterms:modified>
  <cp:revision>123</cp:revision>
  <dc:subject/>
  <dc:title>Сколько весит здоровье ученика?</dc:title>
</cp:coreProperties>
</file>