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01D-367E-4006-A558-4C47735C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D4F-7E53-433D-901F-4244144A8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928-0B39-4287-A1C1-C6368D92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F77-3CDE-4103-821A-02D4BD3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E84-E787-4208-9CC3-D33F6FA2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A4D-792D-4E84-9E53-2A29479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D423-0248-407A-83DE-7B954C70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863-989E-472C-A230-85EED87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A077-21B3-4A5F-BC15-D49FD711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17B-86AC-450D-A76D-B568E049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4249-D218-433D-B531-00258CD1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F31-AD6C-49B0-8FA4-22C2AEC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099-7633-4DE0-87F7-046A81A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02B-6E1D-4814-9DE4-BAFFF153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CAA-515D-48B5-A4CA-6864573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C2A-B393-4D5B-B13E-7475C00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E7A7-03D4-424B-9E1E-D066362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1906-3D2E-4767-837E-E6E48E1B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628A-4190-41C5-BB45-BAFA88B5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7EE-1491-4F02-A70C-45AD92C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4FF-A448-40B2-B29C-2A3DEBF1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0ED-F288-4A52-8F3B-94121E8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8D4-9C7A-4C99-BF62-0533873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19B-E3EE-4973-98BA-72AFC33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321-F3EF-4415-8CF6-D3931D0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256-3F7D-499C-80EC-EFC8BEE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CC6-CF00-4130-B1B9-346A77FED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EE87-E67E-4075-92F0-6961C360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28680" y="5084640"/>
            <a:ext cx="47862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26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«Вес школьного портфеля и его влияние на здоровье школьника»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2" descr="C:\Users\Ольга\Pictures\250PX-~1.JPG"/>
          <p:cNvPicPr/>
          <p:nvPr/>
        </p:nvPicPr>
        <p:blipFill>
          <a:blip r:embed="rId1"/>
          <a:stretch/>
        </p:blipFill>
        <p:spPr>
          <a:xfrm>
            <a:off x="285840" y="3929040"/>
            <a:ext cx="2381040" cy="23716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2050920" y="35733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Arial"/>
              </a:rPr>
              <a:t>Выполнили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учащиеся 8 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афтырева 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аява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Гнус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остерин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мир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-1292400" y="6300720"/>
            <a:ext cx="10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е  –  социаль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541440" y="692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 Безопасный вес портф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82560" y="35733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В = ВУ • 0,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840" y="5157720"/>
            <a:ext cx="85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В – «безопасный» вес порт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 – вес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843280" y="1562040"/>
            <a:ext cx="3241440" cy="202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85E-7397-4430-878F-082914140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14400" y="1285920"/>
            <a:ext cx="64292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1771560" y="692280"/>
            <a:ext cx="6034320" cy="6049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-3009600" y="333360"/>
            <a:ext cx="100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ительная таблица – 2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3" descr=""/>
          <p:cNvPicPr/>
          <p:nvPr/>
        </p:nvPicPr>
        <p:blipFill>
          <a:blip r:embed="rId1"/>
          <a:stretch/>
        </p:blipFill>
        <p:spPr>
          <a:xfrm>
            <a:off x="1476360" y="766800"/>
            <a:ext cx="6624720" cy="58752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-482760" y="333360"/>
            <a:ext cx="9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ительные таблицы – 5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28920" y="765000"/>
            <a:ext cx="6138720" cy="5904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-449280" y="333360"/>
            <a:ext cx="85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равнительные таблицы – 8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15920"/>
            <a:ext cx="7272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кета для учащих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 Что Вы предпочитае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фел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нец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юкза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су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 На что обращаете внимание при покупке портфел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су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наличие  карман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разме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Вы считаете, что Ваш школьный портф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яжёл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лёг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слишком тяжёл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. Вы всегда носите в школу все необходимые принадлеж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. Сколько лет Вашему портфел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. Вам нравится Ваш портф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7. Вы сами выбирали свой портфель в магаз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, са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, с родител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нет, родите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, это пода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. Как облегчить школьный портфель? Ваши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-92160" y="765000"/>
            <a:ext cx="88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рмы веса пустого портф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-419040" y="2133720"/>
            <a:ext cx="95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ачальная школа – не более 600 – 700 грам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таршее звено – не более 1 ки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348000" y="3587760"/>
            <a:ext cx="2303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3564000" y="3860640"/>
            <a:ext cx="1944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-1549440" y="333360"/>
            <a:ext cx="99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ыт зарубежны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014480" y="1738440"/>
            <a:ext cx="2752560" cy="206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5346720" y="1738440"/>
            <a:ext cx="2913120" cy="2184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3176640" y="4005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239400" y="400536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ногие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5904000" y="38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1014480" y="566100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алифор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5904000" y="4668840"/>
            <a:ext cx="23558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второй набор учебников дл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ть в школе места для хранения личных в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ать носить один комплект учебников на па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школьного расписания необходимо учитывать вес учебных комплектов, так как в один день портфель может быть тяжелый, а в другой – лег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род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∙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жедневно помогайте детям (особенно обучающимся в 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) правильно собирать портфель согласно расписанию, следи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в нём не было лишних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тради и дневники покупайте не в тяжёлых картонных ламинированных, а в облегчённых обложках (в том числе и сам портфель, вес которого в граммах не должен превышать 600г. – 700г. в зависимости от возраста школьник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окупать тяжёлые портфели, помнить, что вес пустого портфеля не должен превышать 1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купке портфеля обращайте внимание на жёсткую спинку с мягкими подушечками и светоотраж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ните, что ширина портфеля не должна превышать ширину плеч ребёнка, верхний край не должен быть выше плеч, а нижний – ниже бёдер, лямки должны быть не уже 3 сантиметров. Если портфель выбран не правильно, то это может серьёзно навредить здоров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еника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1007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осите лишнего в портф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йте портфель ежедневно и не забывай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тащить из него  ненужные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купке портфеля предпочтение отдавайте здоровье сберегающим моментам, а не декора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читайте ранцы, которые но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, на двух лямках,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 вашу ос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Здоровье – это самое главное, самое ценное, что есть в жизни человека, а значит его надо беречь. По статистике  в России происходит резкое ухудшение здоровья детей. Наш Кесовогорский район не исключение. Результаты медицинского осмотра в нашей школе показали,   что больш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0 %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детей имеют различные заболевания. Среди этих заболеваний ведущую позицию занимают  нарушения опорно двигательного аппарата. К ним относятся нарушение осанки, плоскостопие, сколи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http://www.keminfo.ru/image/upload/3Syzipy5.jpg"/>
          <p:cNvPicPr/>
          <p:nvPr/>
        </p:nvPicPr>
        <p:blipFill>
          <a:blip r:embed="rId1"/>
          <a:stretch/>
        </p:blipFill>
        <p:spPr>
          <a:xfrm>
            <a:off x="6732720" y="4538520"/>
            <a:ext cx="2098440" cy="231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-90360" y="981000"/>
            <a:ext cx="423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-3068640" y="1916280"/>
            <a:ext cx="1361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ействительно, излишний вес портф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жет спровоцировать заболевания 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 они привести к другим недуг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 основная часть учас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зователь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е обращает внимания на эту пробл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ледовательно, не пытается её реш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что приводит к ухуд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здоровья школьников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 flipV="1">
            <a:off x="8292960" y="6720840"/>
            <a:ext cx="3938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1484280"/>
            <a:ext cx="892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своё здоровь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Следите за весом своего портфел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3419640" y="45086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ить влияние превышающего нормы веса портфеля на здоровье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ть внимание учеников на необходимость контроля веса портфеля с целью сохранени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пути решения данной социальной проблемы, а конкретно рекомендации по сниженью веса портф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Изучить данную тему в медицинск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литератур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Доказать влияние тяжёлых  портфелей 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здоровье школь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роанализировать зависимость ве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ртфеля и здоровье школьников в наш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школе на примерах 2 «А», 5 «А» и 8 «Б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класс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Ознакомиться с опытом зарубежных стр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 решению данной проблем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Разработать рекомендации (памятки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 снижению веса портфел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325440" y="98100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-181080" y="3284640"/>
            <a:ext cx="94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тяжёлый портфель вредит здоровь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а учащиеся, а иногда и взрослые,  не задумываются об э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лан работы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медицинскую литературу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ать у медицинских работников детской консультации информацию состояния опорно–двигательного аппарата  ребят, принимающих участие в исслед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ать у медицинских работников вес учащихся эти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ь «безопасный» вес портфеля для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есить портфели учащихся со школьными принадле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ь «безопасный» вес портфеля и фактический вес порт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ить причины превышения «безопасного» веса порт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есить портфели без школьных принадле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памя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ветительская работа по данной теме, в том числе и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-2513160" y="733320"/>
            <a:ext cx="1422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жёлый портфель провоцирует воз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колиоза и плоскостоп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ет н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нарушение ос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201680" y="2276640"/>
            <a:ext cx="10512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следствия нарушения оса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изуальные дефекты и нарушения симметрии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боль в спи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быстрая утомляем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головная б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нижение трудоспособ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ощущение затекания сп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ограничения подвижности; в тяжел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ушения движений и чувстви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нарушения функций легких и серд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иногда – возникновение межпозвоночной гры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ающейся только оперативно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Санитарные нормы веса портфеля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ес школьного портфеля не должен превышать 10 % от веса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N:\Фотографии портфель - копия\IMG_2555.JPG"/>
          <p:cNvPicPr/>
          <p:nvPr/>
        </p:nvPicPr>
        <p:blipFill>
          <a:blip r:embed="rId1"/>
          <a:stretch/>
        </p:blipFill>
        <p:spPr>
          <a:xfrm>
            <a:off x="3398760" y="2765520"/>
            <a:ext cx="2459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33600" y="3173400"/>
          <a:ext cx="6076800" cy="180180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5720"/>
              </a:tblGrid>
              <a:tr h="840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ичество учащихся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болеваниями О.Д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% от общего числа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 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826920" y="54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езультаты медицинского осмо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6948360" y="1149480"/>
            <a:ext cx="2013120" cy="191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32:31Z</dcterms:created>
  <dc:creator>Admin</dc:creator>
  <dc:description/>
  <dc:language>en-US</dc:language>
  <cp:lastModifiedBy>Olga</cp:lastModifiedBy>
  <dcterms:modified xsi:type="dcterms:W3CDTF">2015-02-04T17:48:21Z</dcterms:modified>
  <cp:revision>123</cp:revision>
  <dc:subject/>
  <dc:title>Сколько весит здоровье ученика?</dc:title>
</cp:coreProperties>
</file>