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000-7C17-4F6D-B359-91A1D160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368-32CB-4538-B62D-999C2AB4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7BC-F2A4-4BF3-BB61-7C74E57C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599-8B6C-4965-971D-AF8C9445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C411-AF65-437B-B9C7-E33E000F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A40-D3E4-4125-A080-9CA72EA3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6E77-E8DC-4CB0-A578-FBA2366A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8B8-F761-4806-A7F6-EA751B12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70F-121B-4F52-8BE6-83C477F7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081-A441-4583-BD5E-53677AFC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EBE-911A-4D80-8236-236A9611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99DB-CFD1-4875-AAFE-88723BBC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8620-E50B-49E9-99A8-5AB143855C9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omanadvice.ru/sites/default/files/applikaciya_kloun_9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omanadvice.ru/sites/default/files/applikaciya_kloun_1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omanadvice.ru/sites/default/files/applikaciya_kloun_1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omanadvice.ru/sites/default/files/applikaciya_kloun_1.pn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omanadvice.ru/sites/default/files/applikaciya_kloun_2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omanadvice.ru/sites/default/files/applikaciya_kloun_3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Клоун"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819160"/>
            <a:ext cx="7086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цирке он смешнее всех. У него – большой успех. Только вспомнить остаётся, Весельчак тот как зовётся</a:t>
            </a: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Клоун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Объект 3" descr="аппликация клоун 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457200"/>
            <a:ext cx="3809880" cy="4267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609480" y="52578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оме того, яркой и забавной поделкой станет нарисованный красками клоун с дополнительными фрагментами из ткани, ниток и других декоративных эле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5" descr="аппликация клоун 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28600"/>
            <a:ext cx="5257800" cy="48769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8"/>
          <p:cNvSpPr/>
          <p:nvPr/>
        </p:nvSpPr>
        <p:spPr>
          <a:xfrm>
            <a:off x="1143000" y="4206960"/>
            <a:ext cx="64771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ым, не менее интересным способом выполнения аппликации, является нанесение рисунка на ткань методом закрепления деталей с помощью атласной строч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Объект 3" descr="аппликация клоун 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28600"/>
            <a:ext cx="4724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3" descr="аппликация клоун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685800"/>
            <a:ext cx="5029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Аппликация клоун из цветной бумаги</a:t>
            </a:r>
            <a:br>
              <a:rPr sz="2000"/>
            </a:br>
            <a:r>
              <a:rPr b="0" lang="ru-RU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м понадобится:</a:t>
            </a:r>
            <a:br>
              <a:rPr sz="1400"/>
            </a:b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ветная бумага;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жницы;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ей;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рный фломастер.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езаем из цветной бумаги необходимые детали согласно предложенной схем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3" descr="аппликация клоун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133720"/>
            <a:ext cx="3809880" cy="4047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аппликация клоун 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2057400"/>
            <a:ext cx="3387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помощью клея склеиваем все детали: сначала к овалу лица приклеиваем волосы, затем шляпу. Оформляем лицо и приклеиваем бабочку.</a:t>
            </a: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аппликация клоун 4"/>
          <p:cNvPicPr/>
          <p:nvPr/>
        </p:nvPicPr>
        <p:blipFill>
          <a:blip r:embed="rId1"/>
          <a:stretch/>
        </p:blipFill>
        <p:spPr>
          <a:xfrm>
            <a:off x="457200" y="1981080"/>
            <a:ext cx="2857680" cy="20671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аппликация клоун 5"/>
          <p:cNvPicPr/>
          <p:nvPr/>
        </p:nvPicPr>
        <p:blipFill>
          <a:blip r:embed="rId2"/>
          <a:stretch/>
        </p:blipFill>
        <p:spPr>
          <a:xfrm>
            <a:off x="4589640" y="1828800"/>
            <a:ext cx="2852640" cy="2070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аппликация клоун 6"/>
          <p:cNvPicPr/>
          <p:nvPr/>
        </p:nvPicPr>
        <p:blipFill>
          <a:blip r:embed="rId3"/>
          <a:stretch/>
        </p:blipFill>
        <p:spPr>
          <a:xfrm>
            <a:off x="457200" y="4267080"/>
            <a:ext cx="2854440" cy="20703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аппликация клоун 7"/>
          <p:cNvPicPr/>
          <p:nvPr/>
        </p:nvPicPr>
        <p:blipFill>
          <a:blip r:embed="rId4"/>
          <a:stretch/>
        </p:blipFill>
        <p:spPr>
          <a:xfrm>
            <a:off x="4952880" y="4216320"/>
            <a:ext cx="285444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рным фломастером дорисовываем глаза, уши и улыбку клоун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аппликация клоун 8"/>
          <p:cNvPicPr/>
          <p:nvPr/>
        </p:nvPicPr>
        <p:blipFill>
          <a:blip r:embed="rId1"/>
          <a:stretch/>
        </p:blipFill>
        <p:spPr>
          <a:xfrm>
            <a:off x="2057400" y="1219320"/>
            <a:ext cx="45720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1-06T12:39:5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