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83F-2F67-4065-8A8B-F5B57BF76B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27F6-284A-4BA0-9336-3E351D4AF0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65B7-C149-499D-BAFB-47C5769398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8EDF-71F3-46AB-AB70-54F18B8111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2619-E235-41E5-8575-245A52E1E0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B46-F42D-4E0E-B17A-165569BA0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CEC7-ECE3-4EE3-89CF-4053FA2622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DD9-57E8-4C6E-A609-65F05312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7CF-47BA-46D8-AC32-05023CDF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EA4-8EEB-4180-BF82-00A83AAD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BC1-0C37-438F-AACB-49737729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7137-B81F-4925-93C2-383A86D2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34C7-D43F-4F6C-90AF-857EFB99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B82C-30E2-4472-957D-E5D81AE9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986B-30B4-494D-A5C6-43A89613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EDDA-52B6-4B1C-880A-3757F0EB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C229-3EB2-4ECE-BF67-E594C4D3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D4DE-D4BE-4F08-A15C-7B783E5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4D9-1CE6-4080-AAEC-901F2A1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DE9A-36CF-44F3-A86C-C44241B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69C4-720B-48F2-9D20-62C5877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BC75-9AC6-413F-8DE8-D690736B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464B-505B-4BA7-834A-A058A8B2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CE59-84AD-4EB7-86E1-9E7FE3E6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147A-D165-412E-AE5E-236DF0BA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325E-A168-44D9-9778-89A44B2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A459-07F3-4E64-A0EE-FF77949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229A-09C1-45EA-B881-07708A78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790B-5A15-48AF-AC51-F54C5231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CA6-D980-4EE2-9A85-2B552917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052E-7F80-423F-ADBD-DB65F743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3A87-90CA-436E-85AF-369AA451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A57E-C790-468A-9EDF-FB8300A9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0743-5C82-410D-8A88-5FFBB091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1C981-8333-4217-851C-C2B3C0DB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AD5F-6F6F-4EDC-BCA6-F9B6DA4A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CE0C-ACE6-4630-BA4A-970403E0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0477-7792-422E-B17F-8D61E1DC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384E-21B1-40F6-A1E3-F23B8AD5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E6B1-00D4-4D8B-B189-CB511AE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507-0974-4FDD-813E-97AE6172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0BAE-D2AD-4AA9-9068-FCD5FD4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422E-F296-4EE7-8360-7A6D9E87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7423-016D-41A2-8948-A3804D00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48EA-ADFE-4ADA-B569-D506096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F5421-DF5B-4D65-B070-7352C536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5461-8B32-4C3E-938C-06FEFD69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1B0C-A433-49FE-8DF5-94F2E293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3828-E8AC-4B78-B38A-DE5DDA6D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E9AA-7D51-4E24-830A-ECDA30BE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93302-EB3E-4DFE-9162-D3D008C9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4BD-5C65-4D2E-B4CF-4B4BCE1D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B5A4A-612E-4DC2-AC50-C2B4D44A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61A7-D11D-44AC-ADC3-608DD22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C2AF-05F4-4138-99CA-6FE5F688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C92E1-BEC3-42CD-A1B2-F625332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CE242-0B6C-44A4-AE7D-1EC76763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7CCF-FF2A-46E3-BA38-BCDB3FB6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4F44-4093-45D5-A0A8-35EB9D16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AF68B-C779-4EF9-B07B-8FCC163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791AC-A75A-4FDB-8BCB-D19C9EF8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B361-AD50-458D-AFA6-C3632C31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139-BFDF-4846-9C62-9C634776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CEC8-71A6-446E-9741-B3C891F2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DFAA9-A2E9-4A84-BF7C-C2DEFD58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A421A-5B1D-4798-9374-88C22B3F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F0B3-7902-41B0-9D1C-FEBC44A1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44F0F-AE73-4BBB-B047-3E87122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1B36E-703D-40FD-A405-34AFF85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8B36F-783F-43CB-8C8E-8D13229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ACE2-2D3E-4069-A0A7-0F114DD4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59167-A2A3-463A-9448-D7C36E5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AAE6-A85F-4A40-8246-1E3A242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26A-213D-4396-A89F-3211C25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3254-9C65-4EFB-8CA6-E42E64AD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61D6-365D-4609-B2C9-AF88B784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F1A11-C790-4E30-9BC2-549615F7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383-638E-4D56-8C47-42C019B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C6F-A3D8-487E-9EAE-24627B0C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4FBC-15F5-4A6A-B45D-7D357881FC4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412A-AF6D-4DE4-BA22-F1C6377D295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B019-4213-4C94-B6D3-24482326681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7EDA-DCA3-4659-908F-75654910AA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A549-854D-4E73-819D-03B2D92AA1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30BA-B1E8-42EA-BA73-7B66ECCBE1D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142880" y="5929200"/>
            <a:ext cx="50007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7b57"/>
                </a:solidFill>
                <a:latin typeface="Times New Roman"/>
                <a:ea typeface="Times New Roman"/>
              </a:rPr>
              <a:t>Zavgorodnyaya Alena Nikolaevn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7b57"/>
                </a:solidFill>
                <a:latin typeface="Times New Roman"/>
                <a:ea typeface="Times New Roman"/>
              </a:rPr>
              <a:t>School </a:t>
            </a:r>
            <a:r>
              <a:rPr b="1" lang="ru-RU" sz="2400" spc="-1" strike="noStrike">
                <a:solidFill>
                  <a:srgbClr val="8b7b57"/>
                </a:solidFill>
                <a:latin typeface="Times New Roman"/>
                <a:ea typeface="Times New Roman"/>
              </a:rPr>
              <a:t>№</a:t>
            </a:r>
            <a:r>
              <a:rPr b="1" lang="en-US" sz="2400" spc="-1" strike="noStrike">
                <a:solidFill>
                  <a:srgbClr val="8b7b57"/>
                </a:solidFill>
                <a:latin typeface="Times New Roman"/>
                <a:ea typeface="Times New Roman"/>
              </a:rPr>
              <a:t> 3 of Nizhnegorsk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722160" y="42876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6600" spc="-1" strike="noStrike">
                <a:solidFill>
                  <a:srgbClr val="d8d0c0"/>
                </a:solidFill>
                <a:latin typeface="Segoe Print"/>
                <a:ea typeface="Times New Roman"/>
              </a:rPr>
              <a:t>SCHOOL LIFE   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0" name="Picture 2" descr="D:\1111111111111111111111111111111111111\школа(3)\01.jpg"/>
          <p:cNvPicPr/>
          <p:nvPr/>
        </p:nvPicPr>
        <p:blipFill>
          <a:blip r:embed="rId1"/>
          <a:stretch/>
        </p:blipFill>
        <p:spPr>
          <a:xfrm>
            <a:off x="1643040" y="3071880"/>
            <a:ext cx="6072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t’s check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b;   2b;   3c;   4c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I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b;   2c;   3 a;   4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II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;  2b;   3c;    4c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e these facts true or false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6760" y="714240"/>
            <a:ext cx="85726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)All children start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imar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hool by the age of 5 Primary education lasts for six year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)They attend the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infant school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rom 5 to 7 and the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junior school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til they are 1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) Parents don’t pay for their children to atten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a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ivate school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4)  All children have the right to go to a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state school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) State school is not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fre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6)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ima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education lasts for seven years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7)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chools are called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public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chools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) Many British children start school at the age of  3 or 4 if there is a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lay school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ar their hous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9)These schools are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nurser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d they are compulsory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t’s chec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T; 2 T; 3 F;</a:t>
            </a:r>
            <a:endParaRPr b="0" lang="en-US" sz="8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; 5F; 6 F;</a:t>
            </a:r>
            <a:endParaRPr b="0" lang="en-US" sz="8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; 8T; 9 F</a:t>
            </a:r>
            <a:endParaRPr b="0" lang="en-US" sz="8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CHECK   YOURSELF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285920"/>
          <a:ext cx="8229600" cy="426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33b4d"/>
                          </a:solidFill>
                          <a:latin typeface="Times New Roman"/>
                          <a:ea typeface="Times New Roman"/>
                        </a:rPr>
                        <a:t>AGE OF PUP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33b4d"/>
                          </a:solidFill>
                          <a:latin typeface="Times New Roman"/>
                          <a:ea typeface="Times New Roman"/>
                        </a:rPr>
                        <a:t>TYPE OF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5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7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– 11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– 16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18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CHECK   YOURSELF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71680" y="1428840"/>
          <a:ext cx="8229600" cy="5186160"/>
        </p:xfrm>
        <a:graphic>
          <a:graphicData uri="http://schemas.openxmlformats.org/drawingml/2006/table">
            <a:tbl>
              <a:tblPr/>
              <a:tblGrid>
                <a:gridCol w="3757320"/>
                <a:gridCol w="44722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33b4d"/>
                          </a:solidFill>
                          <a:latin typeface="Times New Roman"/>
                          <a:ea typeface="Times New Roman"/>
                        </a:rPr>
                        <a:t>AGE OF PUP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33b4d"/>
                          </a:solidFill>
                          <a:latin typeface="Times New Roman"/>
                          <a:ea typeface="Times New Roman"/>
                        </a:rPr>
                        <a:t>TYPE OF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5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rse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7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– 11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– 16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(1-5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18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ther educ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6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w words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42960" y="1447920"/>
            <a:ext cx="402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mistresses            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      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ng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hand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yers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subject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2920" y="999720"/>
            <a:ext cx="4040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школ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алтерский уче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опись, набор текстов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графи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 за больным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тв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едмет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Прямая соединительная линия 5"/>
          <p:cNvSpPr/>
          <p:nvPr/>
        </p:nvSpPr>
        <p:spPr>
          <a:xfrm flipV="1">
            <a:off x="3857760" y="1428840"/>
            <a:ext cx="85716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7"/>
          <p:cNvSpPr/>
          <p:nvPr/>
        </p:nvSpPr>
        <p:spPr>
          <a:xfrm flipV="1">
            <a:off x="3143160" y="1999800"/>
            <a:ext cx="150012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9"/>
          <p:cNvSpPr/>
          <p:nvPr/>
        </p:nvSpPr>
        <p:spPr>
          <a:xfrm flipV="1">
            <a:off x="2357280" y="2786040"/>
            <a:ext cx="221472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3"/>
          <p:cNvSpPr/>
          <p:nvPr/>
        </p:nvSpPr>
        <p:spPr>
          <a:xfrm>
            <a:off x="2714760" y="4357800"/>
            <a:ext cx="185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5"/>
          <p:cNvSpPr/>
          <p:nvPr/>
        </p:nvSpPr>
        <p:spPr>
          <a:xfrm>
            <a:off x="2786040" y="5000760"/>
            <a:ext cx="185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7"/>
          <p:cNvSpPr/>
          <p:nvPr/>
        </p:nvSpPr>
        <p:spPr>
          <a:xfrm>
            <a:off x="4357800" y="5643720"/>
            <a:ext cx="35712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21"/>
          <p:cNvSpPr/>
          <p:nvPr/>
        </p:nvSpPr>
        <p:spPr>
          <a:xfrm flipV="1">
            <a:off x="2857680" y="3733560"/>
            <a:ext cx="1806480" cy="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nd in the text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s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Day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ing up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at the lesson we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d 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earned that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dn’t know before that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dn’t like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me assignmen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 the letter and write about your school using the text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D:\1111111111111111111111111111111111111\школа(3)\0826car_10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28400" y="356760"/>
            <a:ext cx="8258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n't need no education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n’t need no thought control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ark sarcasm in the classroom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leave them kids alon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y! Teacher! Leave them kids alone!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PINK FLOYD “ Another Brick in the Wall”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2920" y="42876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do you like and dislike about school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2600" y="1285560"/>
            <a:ext cx="4040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knowledge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social skill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alents 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interesting people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to respect other people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e in extra school activiti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4720" y="1071720"/>
            <a:ext cx="4041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up early to be on time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lot of homework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est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the exam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r school uniform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bad mark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 teacher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ing lesso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42560" y="0"/>
            <a:ext cx="9001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knowledg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ir talents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different things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for me is a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where pup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for further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necessary social skills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ir abilities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to become self-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Прямая соединительная линия 9"/>
          <p:cNvSpPr/>
          <p:nvPr/>
        </p:nvSpPr>
        <p:spPr>
          <a:xfrm>
            <a:off x="3571920" y="928800"/>
            <a:ext cx="0" cy="49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000080" y="40719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78688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to improve your attitude to school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214280"/>
            <a:ext cx="9144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homework                                     get good mark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hard at school                          get knowledg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       get good marks                                 pass exams well    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   get knowledge                                  enter the university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my best                                        get higher education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exams                I’ll              be  successful in lif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the university  we’ll             be happ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education   ( be able to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good job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Прямая соединительная линия 4"/>
          <p:cNvSpPr/>
          <p:nvPr/>
        </p:nvSpPr>
        <p:spPr>
          <a:xfrm>
            <a:off x="1071720" y="1500120"/>
            <a:ext cx="0" cy="507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5"/>
          <p:cNvSpPr/>
          <p:nvPr/>
        </p:nvSpPr>
        <p:spPr>
          <a:xfrm>
            <a:off x="4143240" y="1428840"/>
            <a:ext cx="0" cy="507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6"/>
          <p:cNvSpPr/>
          <p:nvPr/>
        </p:nvSpPr>
        <p:spPr>
          <a:xfrm>
            <a:off x="6000840" y="1428840"/>
            <a:ext cx="0" cy="507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 SCHOOLS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rima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econda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tat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Privat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Boarding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Nurse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Comprehensiv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5929200" y="4500720"/>
            <a:ext cx="2933640" cy="1990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6143760" y="1000080"/>
            <a:ext cx="2371680" cy="1724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3"/>
          <a:stretch/>
        </p:blipFill>
        <p:spPr>
          <a:xfrm>
            <a:off x="4429080" y="2857680"/>
            <a:ext cx="296244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213840" y="285840"/>
            <a:ext cx="4286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DUCATION MAY BE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pulsory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обязательн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vailabl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оступн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condary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редне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re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есплатн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mth. can be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al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учебный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ve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спитательный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3280" y="357120"/>
            <a:ext cx="404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E CAN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ain               educat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tinu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6500880" y="1357200"/>
            <a:ext cx="0" cy="192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nk of rules in British schools.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2" name="Прямая соединительная линия 8"/>
          <p:cNvSpPr/>
          <p:nvPr/>
        </p:nvSpPr>
        <p:spPr>
          <a:xfrm>
            <a:off x="1857240" y="1285920"/>
            <a:ext cx="0" cy="464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0"/>
          <p:cNvSpPr/>
          <p:nvPr/>
        </p:nvSpPr>
        <p:spPr>
          <a:xfrm>
            <a:off x="4000680" y="1214280"/>
            <a:ext cx="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286200" y="928440"/>
            <a:ext cx="8929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(not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    must (not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(not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Прямоугольник 16"/>
          <p:cNvSpPr/>
          <p:nvPr/>
        </p:nvSpPr>
        <p:spPr>
          <a:xfrm>
            <a:off x="4214880" y="107172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pol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 hello when they  see a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to school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up when a teacher comes into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r your school uni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at or drink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 run in the corrid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ring mobile phones to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alk during the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D:\1111111111111111111111111111111111111\школа(3)\shkola1(1).jpg"/>
          <p:cNvPicPr/>
          <p:nvPr/>
        </p:nvPicPr>
        <p:blipFill>
          <a:blip r:embed="rId1"/>
          <a:stretch/>
        </p:blipFill>
        <p:spPr>
          <a:xfrm>
            <a:off x="0" y="4357800"/>
            <a:ext cx="1714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t’s interesting</a:t>
            </a:r>
            <a:endParaRPr b="0" lang="en-US" sz="7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famo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ools in Britain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on, Harrow, Winchest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year at Eton costs 17,000 pounds. It is very old, and a lot of important people used to be students there. It is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boys schoo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 William, the Queen’s grandson, went to Eton to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9" name="Picture 12" descr="алла 3 002-2"/>
          <p:cNvPicPr/>
          <p:nvPr/>
        </p:nvPicPr>
        <p:blipFill>
          <a:blip r:embed="rId1"/>
          <a:stretch/>
        </p:blipFill>
        <p:spPr>
          <a:xfrm>
            <a:off x="642960" y="3643200"/>
            <a:ext cx="7848720" cy="28670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11"/>
          <p:cNvSpPr txBox="1"/>
          <p:nvPr/>
        </p:nvSpPr>
        <p:spPr>
          <a:xfrm>
            <a:off x="571680" y="0"/>
            <a:ext cx="7095960" cy="15192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f6c5d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df6c5d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5:16:28Z</dcterms:created>
  <dc:creator>alena</dc:creator>
  <dc:description/>
  <dc:language>en-US</dc:language>
  <cp:lastModifiedBy>Алёна</cp:lastModifiedBy>
  <dcterms:modified xsi:type="dcterms:W3CDTF">2015-02-04T18:24:34Z</dcterms:modified>
  <cp:revision>72</cp:revision>
  <dc:subject/>
  <dc:title>Schooling in  Britain</dc:title>
</cp:coreProperties>
</file>