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74A9-09AF-4236-A89B-811449118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2C85-7B54-4BE4-93FB-B4B6F5950F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5245-0FEC-4A5B-8F7F-C919256439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A364-C1C2-4CF3-810D-04F00986AA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5117-4255-4620-914D-628E1BE896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AD1A-CC50-4185-904E-E7A7766929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6D7C-7EF2-462A-B6A4-285FE43D03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8D4-20CC-46D5-A736-877C8935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822-8AB5-41FA-81CA-2CC07524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12F-3B71-4C73-AAE7-9F5B5257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BCB-3F00-4680-84C7-4D07E2F9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0A92-90F6-49F0-859A-620C0B59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EB50-70FE-49DA-932B-065BC81F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9F78-14B6-422D-82EF-E92C431B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AE8B-8E2E-4AF5-842E-46649E8A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16E1-F887-462A-981A-240B3C82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B756-054E-4F0A-9313-61BF28CD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C20-BE66-453A-81FD-A3105627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FF9-81B4-4A2C-A874-7CCF5B57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5AFB-EDB6-49CE-8D8D-62165292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FC17-627C-4480-8F0F-2D40338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FF2C-C2FF-4126-98A5-15FDEBE2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8FA7-D68B-41CE-98F0-88DFF55F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E752-2843-4666-8472-3FC38C93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9F3F-92C7-45AD-9F50-F2F69B01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A461-BEDE-46F7-BE15-FDEC5B7C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2119-638E-4701-BB8A-C8B12135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2DA7-96AB-4022-8EF3-2A0734F6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7A05-3E5F-4D7F-A31D-6E89D6C7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747-4877-4F8B-87C3-B1078475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4A07-6B19-440D-9DB8-3D9C5E44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C375-A44A-404A-9D33-8E66815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B8DA-D6CA-476D-BB3A-A37A5CA3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8742-44FF-4190-9B01-BF81563E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1902-BFBB-4E84-AA25-FDD637FD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EAD5-FFDF-4F95-84F7-D34B56D5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79FD-A30A-415A-9A3D-D262E46A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9DEB-95BF-4856-B8B0-0EBBD6DD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3F41-8C92-41F4-88C2-4E391AA3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E96B-F8F2-4B29-B89A-97EC5128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722-EA9D-43FE-A136-C1441322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4225-103F-4536-9D4A-8146D3E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2A41-C4F5-45F2-89BA-86499FC0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845E-7143-4AF3-AE04-2C89B6CA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72D0-D9E6-45D4-B3D2-A814F5F6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3FEF-EDA1-44D4-85CA-E20E8725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688C4-34DA-44D5-A9F5-B7D93277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82D34-BEEA-4256-A58A-D179F386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A68E-CB85-4679-A55F-11A812BA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F9F6-5B63-425A-BFFE-91331388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6EC6-EE1E-4B34-9FFD-13B4701B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10F-7150-40E2-AEA5-C42FAE1A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96FC6-3B3B-4E3F-846A-6CE39E36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4E18-D126-4947-8BF7-9D22D233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2C72D-E21A-4B7A-B321-6F927237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CA4EB-BAD1-4209-A6E6-D6349D5F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9FC7F-F2B3-46A1-9FDC-5B750D1B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931B-EACD-443E-A7EF-8DC3E24B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CD87-EB53-4584-BFE9-0A6904D4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0A99E-A436-4C1C-B4A8-767E8416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56D2A-BB20-4BDC-AD47-A2E26CFA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3E36-183A-47B0-8080-5A35A6AC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98F-4579-4977-81CA-486FF1F8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6980-D96F-4E60-89D8-00C6F4DA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49C31-744A-44DA-9469-BDBD9972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5E07D-208D-4DC5-A03C-BBB3F2ED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02F52-FB97-414A-94DC-45A79451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AC5E8-69BB-4B78-B584-92BE080E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3184-E4D3-46DD-958D-F9C05E16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086C5-9EEE-443D-8D06-BDF236FB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D6B8F-33EF-420A-B3DE-4E22057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C1443-1E9A-44ED-A30F-BCF23AE6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AF2DC-C95C-46D7-B5D7-DF9DFFD8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8AA-E169-4927-BC28-6F027AF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12D61-EDD9-4ED1-8462-F88660B8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E1BE9-D67A-4EE7-85E0-F54E405F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A38F3-339C-45A8-8FA0-CAA573A8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669-082E-4085-801B-CEE6283D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E55-7EF1-48BD-A133-2410284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B48E-FFD4-49FE-84E3-86F54FDE0ED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DB54-A76A-4468-AE4A-B064233FC1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BC8F-D6F7-4FD3-825E-A4ECB5B7D8D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DB37-9B5A-44E1-A015-D078E04D3F5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3907-2A1A-4761-8900-A1D5C05438E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3523-C94B-46CF-B6C2-14F0BDCFA1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142880" y="5929200"/>
            <a:ext cx="50007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7b57"/>
                </a:solidFill>
                <a:latin typeface="Times New Roman"/>
                <a:ea typeface="Times New Roman"/>
              </a:rPr>
              <a:t>Zavgorodnyaya Alena Nikolaevn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7b57"/>
                </a:solidFill>
                <a:latin typeface="Times New Roman"/>
                <a:ea typeface="Times New Roman"/>
              </a:rPr>
              <a:t>School </a:t>
            </a:r>
            <a:r>
              <a:rPr b="1" lang="ru-RU" sz="2400" spc="-1" strike="noStrike">
                <a:solidFill>
                  <a:srgbClr val="8b7b57"/>
                </a:solidFill>
                <a:latin typeface="Times New Roman"/>
                <a:ea typeface="Times New Roman"/>
              </a:rPr>
              <a:t>№</a:t>
            </a:r>
            <a:r>
              <a:rPr b="1" lang="en-US" sz="2400" spc="-1" strike="noStrike">
                <a:solidFill>
                  <a:srgbClr val="8b7b57"/>
                </a:solidFill>
                <a:latin typeface="Times New Roman"/>
                <a:ea typeface="Times New Roman"/>
              </a:rPr>
              <a:t> 3 of Nizhnegorsk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722160" y="42876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6600" spc="-1" strike="noStrike">
                <a:solidFill>
                  <a:srgbClr val="d8d0c0"/>
                </a:solidFill>
                <a:latin typeface="Segoe Print"/>
                <a:ea typeface="Times New Roman"/>
              </a:rPr>
              <a:t>SCHOOL LIFE   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0" name="Picture 2" descr="D:\1111111111111111111111111111111111111\школа(3)\01.jpg"/>
          <p:cNvPicPr/>
          <p:nvPr/>
        </p:nvPicPr>
        <p:blipFill>
          <a:blip r:embed="rId1"/>
          <a:stretch/>
        </p:blipFill>
        <p:spPr>
          <a:xfrm>
            <a:off x="1643040" y="3071880"/>
            <a:ext cx="6072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t’s check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: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b;   2b;   3c;   4c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I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b;   2c;   3 a;   4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II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;  2b;   3c;    4c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37240" indent="-2372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e these facts true or false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6760" y="714240"/>
            <a:ext cx="85726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)All children start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imar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hool by the age of 5 Primary education lasts for six year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)They attend the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infant school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rom 5 to 7 and the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junior school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til they are 1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) Parents don’t pay for their children to attend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 a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ivate school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4)  All children have the right to go to a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state school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) State school is not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fre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6)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ima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education lasts for seven years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7)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chools are called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public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chools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) Many British children start school at the age of  3 or 4 if there is a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lay school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ar their hous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9)These schools are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nurser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d they are compulsory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t’s chec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T; 2 T; 3 F;</a:t>
            </a:r>
            <a:endParaRPr b="0" lang="en-US" sz="8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; 5F; 6 F;</a:t>
            </a:r>
            <a:endParaRPr b="0" lang="en-US" sz="8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; 8T; 9 F</a:t>
            </a:r>
            <a:endParaRPr b="0" lang="en-US" sz="8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CHECK   YOURSELF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285920"/>
          <a:ext cx="8229600" cy="426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33b4d"/>
                          </a:solidFill>
                          <a:latin typeface="Times New Roman"/>
                          <a:ea typeface="Times New Roman"/>
                        </a:rPr>
                        <a:t>AGE OF PUP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33b4d"/>
                          </a:solidFill>
                          <a:latin typeface="Times New Roman"/>
                          <a:ea typeface="Times New Roman"/>
                        </a:rPr>
                        <a:t>TYPE OF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- 5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7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– 11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– 16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– 18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CHECK   YOURSELF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71680" y="1428840"/>
          <a:ext cx="8229600" cy="5186160"/>
        </p:xfrm>
        <a:graphic>
          <a:graphicData uri="http://schemas.openxmlformats.org/drawingml/2006/table">
            <a:tbl>
              <a:tblPr/>
              <a:tblGrid>
                <a:gridCol w="3757320"/>
                <a:gridCol w="44722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33b4d"/>
                          </a:solidFill>
                          <a:latin typeface="Times New Roman"/>
                          <a:ea typeface="Times New Roman"/>
                        </a:rPr>
                        <a:t>AGE OF PUP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33b4d"/>
                          </a:solidFill>
                          <a:latin typeface="Times New Roman"/>
                          <a:ea typeface="Times New Roman"/>
                        </a:rPr>
                        <a:t>TYPE OF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- 5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rse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7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– 11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– 16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(1-5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– 18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ther educ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6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w words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42960" y="1447920"/>
            <a:ext cx="402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mistresses            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      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ng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hand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yers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subjects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42920" y="999720"/>
            <a:ext cx="4040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школ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алтерский уче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опись, набор текстов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ографи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 за больным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тв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едметы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Прямая соединительная линия 5"/>
          <p:cNvSpPr/>
          <p:nvPr/>
        </p:nvSpPr>
        <p:spPr>
          <a:xfrm flipV="1">
            <a:off x="3857760" y="1428840"/>
            <a:ext cx="85716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7"/>
          <p:cNvSpPr/>
          <p:nvPr/>
        </p:nvSpPr>
        <p:spPr>
          <a:xfrm flipV="1">
            <a:off x="3143160" y="1999800"/>
            <a:ext cx="150012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9"/>
          <p:cNvSpPr/>
          <p:nvPr/>
        </p:nvSpPr>
        <p:spPr>
          <a:xfrm flipV="1">
            <a:off x="2357280" y="2786040"/>
            <a:ext cx="221472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3"/>
          <p:cNvSpPr/>
          <p:nvPr/>
        </p:nvSpPr>
        <p:spPr>
          <a:xfrm>
            <a:off x="2714760" y="4357800"/>
            <a:ext cx="185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5"/>
          <p:cNvSpPr/>
          <p:nvPr/>
        </p:nvSpPr>
        <p:spPr>
          <a:xfrm>
            <a:off x="2786040" y="5000760"/>
            <a:ext cx="185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7"/>
          <p:cNvSpPr/>
          <p:nvPr/>
        </p:nvSpPr>
        <p:spPr>
          <a:xfrm>
            <a:off x="4357800" y="5643720"/>
            <a:ext cx="35712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21"/>
          <p:cNvSpPr/>
          <p:nvPr/>
        </p:nvSpPr>
        <p:spPr>
          <a:xfrm flipV="1">
            <a:off x="2857680" y="3733560"/>
            <a:ext cx="1806480" cy="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nd in the text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s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Day</a:t>
            </a:r>
            <a:endParaRPr b="0" lang="en-US" sz="7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ing up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at the lesson we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d 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earned that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idn’t know before that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idn’t like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me assignmen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 the letter and write about your school using the text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D:\1111111111111111111111111111111111111\школа(3)\0826car_10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28400" y="356760"/>
            <a:ext cx="8258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on't need no education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on’t need no thought control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ark sarcasm in the classroom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leave them kids alon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y! Teacher! Leave them kids alone!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PINK FLOYD “ Another Brick in the Wall”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2920" y="42876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do you like and dislike about school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2600" y="1285560"/>
            <a:ext cx="4040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knowledge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social skill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alents 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 interesting people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to respect other people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e in extra school activiti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4720" y="1071720"/>
            <a:ext cx="40417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up early to be on time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lot of homework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est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the exam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r school uniform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bad mark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ct teachers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ing lesso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42560" y="0"/>
            <a:ext cx="90010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knowledg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ir talents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different things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for me is a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where pup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for further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 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necessary social skills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ir abilities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to become self-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Прямая соединительная линия 9"/>
          <p:cNvSpPr/>
          <p:nvPr/>
        </p:nvSpPr>
        <p:spPr>
          <a:xfrm>
            <a:off x="3571920" y="928800"/>
            <a:ext cx="0" cy="492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000080" y="40719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78688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to improve your attitude to school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214280"/>
            <a:ext cx="9144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homework                                     get good mark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hard at school                          get knowledg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       get good marks                                 pass exams well    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   get knowledge                                  enter the university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my best                                        get higher education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exams                I’ll              be  successful in lif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the university  we’ll             be happ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education   ( be able to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good job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Прямая соединительная линия 4"/>
          <p:cNvSpPr/>
          <p:nvPr/>
        </p:nvSpPr>
        <p:spPr>
          <a:xfrm>
            <a:off x="1071720" y="1500120"/>
            <a:ext cx="0" cy="507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5"/>
          <p:cNvSpPr/>
          <p:nvPr/>
        </p:nvSpPr>
        <p:spPr>
          <a:xfrm>
            <a:off x="4143240" y="1428840"/>
            <a:ext cx="0" cy="507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6"/>
          <p:cNvSpPr/>
          <p:nvPr/>
        </p:nvSpPr>
        <p:spPr>
          <a:xfrm>
            <a:off x="6000840" y="1428840"/>
            <a:ext cx="0" cy="507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 SCHOOLS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rimary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econdary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tat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Privat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Boarding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Nursery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Comprehensiv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5929200" y="4500720"/>
            <a:ext cx="2933640" cy="1990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6143760" y="1000080"/>
            <a:ext cx="2371680" cy="1724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3"/>
          <a:stretch/>
        </p:blipFill>
        <p:spPr>
          <a:xfrm>
            <a:off x="4429080" y="2857680"/>
            <a:ext cx="296244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213840" y="285840"/>
            <a:ext cx="4286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DUCATION MAY BE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pulsory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обязательн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vailabl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оступно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condary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редне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re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есплатн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mth. can be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al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учебный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ve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оспитательный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3280" y="357120"/>
            <a:ext cx="404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E CAN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ain               educat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tinu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6500880" y="1357200"/>
            <a:ext cx="0" cy="1928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nk of rules in British schools.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2" name="Прямая соединительная линия 8"/>
          <p:cNvSpPr/>
          <p:nvPr/>
        </p:nvSpPr>
        <p:spPr>
          <a:xfrm>
            <a:off x="1857240" y="1285920"/>
            <a:ext cx="0" cy="464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0"/>
          <p:cNvSpPr/>
          <p:nvPr/>
        </p:nvSpPr>
        <p:spPr>
          <a:xfrm>
            <a:off x="4000680" y="1214280"/>
            <a:ext cx="0" cy="471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286200" y="928440"/>
            <a:ext cx="8929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(not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    must (not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(not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Прямоугольник 16"/>
          <p:cNvSpPr/>
          <p:nvPr/>
        </p:nvSpPr>
        <p:spPr>
          <a:xfrm>
            <a:off x="4214880" y="1071720"/>
            <a:ext cx="42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pol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 hello when they  see a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to school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 up when a teacher comes into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r your school uni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at or drink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 run in the corrid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ring mobile phones to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alk during the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D:\1111111111111111111111111111111111111\школа(3)\shkola1(1).jpg"/>
          <p:cNvPicPr/>
          <p:nvPr/>
        </p:nvPicPr>
        <p:blipFill>
          <a:blip r:embed="rId1"/>
          <a:stretch/>
        </p:blipFill>
        <p:spPr>
          <a:xfrm>
            <a:off x="0" y="4357800"/>
            <a:ext cx="1714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t’s interesting</a:t>
            </a:r>
            <a:endParaRPr b="0" lang="en-US" sz="7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famo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ools in Britain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on, Harrow, Winchest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year at Eton costs 17,000 pounds. It is very old, and a lot of important people used to be students there. It is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boys schoo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 William, the Queen’s grandson, went to Eton to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9" name="Picture 12" descr="алла 3 002-2"/>
          <p:cNvPicPr/>
          <p:nvPr/>
        </p:nvPicPr>
        <p:blipFill>
          <a:blip r:embed="rId1"/>
          <a:stretch/>
        </p:blipFill>
        <p:spPr>
          <a:xfrm>
            <a:off x="642960" y="3643200"/>
            <a:ext cx="7848720" cy="28670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11"/>
          <p:cNvSpPr txBox="1"/>
          <p:nvPr/>
        </p:nvSpPr>
        <p:spPr>
          <a:xfrm>
            <a:off x="571680" y="0"/>
            <a:ext cx="7095960" cy="15192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df6c5d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df6c5d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5:16:28Z</dcterms:created>
  <dc:creator>alena</dc:creator>
  <dc:description/>
  <dc:language>en-US</dc:language>
  <cp:lastModifiedBy>Алёна</cp:lastModifiedBy>
  <dcterms:modified xsi:type="dcterms:W3CDTF">2015-02-04T18:24:34Z</dcterms:modified>
  <cp:revision>72</cp:revision>
  <dc:subject/>
  <dc:title>Schooling in  Britain</dc:title>
</cp:coreProperties>
</file>