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1A19-9F83-4AE1-B104-66D4E779D3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DBA1-FA4A-4EA9-9615-4FF3563717A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717-5F4F-4289-86D9-75281786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7CF-1B8D-4BC0-85DE-04FD04FF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5B1-6CCF-4825-88D0-3241636D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F971-955B-4FF5-B7AF-B489179B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1545-BD9C-4C9A-A254-0438EC8C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4605-6613-4EC6-91C4-48225BD3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B4A4-924A-41BF-997C-9AF556FC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0368-3604-4B0C-8D75-365DC7CA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C200-1E21-4833-A6EC-27931346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67EE-07CE-4758-AC2A-A5D4C3B9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9C3D-DC3F-4B78-BB5A-BC3F3265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E3E4-AC2D-4AE3-9CDE-7A4BA701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46C8-4D39-4683-8382-F6339250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6716-5F66-4022-AFA7-B04B3642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129E-76F8-4E4C-A04C-B9E811BF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B11F-B749-4229-8A6C-EC1D3A05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7F48-D96B-4506-B6DC-5CFEEB1A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0A8-19FD-4DD3-A5FC-FC869B24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61C-8F6C-4FC2-BB40-8F6DB633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3F54-70B0-4F5C-A5A4-5BBF0D5A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C742-5DEC-4C87-9A16-D2C7456E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1B4-301D-4D03-9DAF-1304FBE7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0A40-018A-4FF4-A2E1-84E64A97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3E3-6F84-4ABC-9E65-036BD823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3620-56DF-4C53-A908-0ED1EF277B0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C128-ED59-4E31-AF66-D863CE3E9BD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J0233966"/>
          <p:cNvPicPr/>
          <p:nvPr/>
        </p:nvPicPr>
        <p:blipFill>
          <a:blip r:embed="rId2"/>
          <a:stretch/>
        </p:blipFill>
        <p:spPr>
          <a:xfrm>
            <a:off x="250920" y="4076640"/>
            <a:ext cx="3124080" cy="2527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403280" y="620640"/>
            <a:ext cx="6337440" cy="25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Адаптация 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ятиклассников"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Изучение уровня тревожности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1641600"/>
          <a:ext cx="8062920" cy="3840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641600"/>
                    <a:ext cx="806292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imes New Roman"/>
              </a:rPr>
              <a:t>Рекомендации  родителям пятиклассников: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онимать и принимать ребенка безусловно, любить и принимать его таким, какой он е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Взаимное уваж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Последовательность воспитательных воздейств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Общение как ВСТРЕЧ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Использовать в повседневном общении приветливые фраз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9" descr="\\MICROSOF-05BCCC\User (D)\Семейная\Ирина\Анимашки\people17.gif"/>
          <p:cNvPicPr/>
          <p:nvPr/>
        </p:nvPicPr>
        <p:blipFill>
          <a:blip r:embed="rId2"/>
          <a:stretch/>
        </p:blipFill>
        <p:spPr>
          <a:xfrm>
            <a:off x="6877080" y="179280"/>
            <a:ext cx="2016000" cy="1909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8360" y="1341360"/>
            <a:ext cx="525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от они, главные истины эти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здно заметили, поздно учли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т, не рождаются трудными дети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осто им вовремя не помогл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Возрастные особенности младшего подростка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91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тремление к общению со сверстни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чувство взрослост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нденция к взрослости проявляется в постепенном отдалении от родителей. Ребенок требует  независимости, уважения к своим тайнам. Для подросткового периода характерно наличие разногласий со взрослыми и, в частности, с родителями. Это происходит в основном по поводу стиля одежды, прически, ухода из дому, свободного времени, школьных и материальных пробле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Основная особенность подросткового периода резкие качественные измене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атрагивающие все стороны развития. У разных подростков эти изменения происходят по- разному, в разное время. Некоторые развиваются быстрее, некоторые в чем-то отстают от остальных, а в чем-то опережают.Нередки случаи, когда интеллектуальное развитие школьника опережает развитие личностных особенностей: по интеллекту он уже подросток, а по особенностям поведения- ребенок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Отрочество- время бурного и плодотворного развития познавательных процесс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чинает развиваться теоретическое мышление. На основе развития нового уровня мышления происходит перестройка всех остальных психических процессов ,т.е., как заметил Д.Б.Эльконин, "память становится мыслящей, а восприятие думающим"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3300"/>
                </a:solidFill>
                <a:uFillTx/>
                <a:latin typeface="Times New Roman"/>
              </a:rPr>
              <a:t>Адаптация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- это совокупность физиологических, психологических, социальных реакций, лежащих в основе приспособления организма,  к изменению окружающих условий жизни, направленных на создание  нормального функционирования в непривычных условиях обитания и деятельности</a:t>
            </a:r>
            <a:r>
              <a:rPr b="0" lang="ru-RU" sz="3200" spc="-1" strike="noStrike">
                <a:solidFill>
                  <a:srgbClr val="33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Arial"/>
              </a:rPr>
              <a:t>Задачи адаптационного периода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: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052640"/>
            <a:ext cx="79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мочь детям познакомиться друг с друго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 учителям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 новой учебной ситуаци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о школьными правилам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2700360" y="4419720"/>
            <a:ext cx="2208600" cy="2437560"/>
            <a:chOff x="2700360" y="4419720"/>
            <a:chExt cx="2208600" cy="2437560"/>
          </a:xfrm>
        </p:grpSpPr>
        <p:sp>
          <p:nvSpPr>
            <p:cNvPr id="102" name="Freeform 6"/>
            <p:cNvSpPr/>
            <p:nvPr/>
          </p:nvSpPr>
          <p:spPr>
            <a:xfrm flipH="1">
              <a:off x="3032640" y="5649480"/>
              <a:ext cx="1851840" cy="117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 flipH="1">
              <a:off x="2888640" y="4432320"/>
              <a:ext cx="677520" cy="600480"/>
            </a:xfrm>
            <a:prstGeom prst="pie">
              <a:avLst/>
            </a:prstGeom>
            <a:solidFill>
              <a:srgbClr val="eba1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 flipH="1">
              <a:off x="3148560" y="5695920"/>
              <a:ext cx="875160" cy="419400"/>
            </a:xfrm>
            <a:prstGeom prst="pie">
              <a:avLst/>
            </a:prstGeom>
            <a:solidFill>
              <a:srgbClr val="cef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 flipH="1">
              <a:off x="3403440" y="6345360"/>
              <a:ext cx="162720" cy="190440"/>
            </a:xfrm>
            <a:prstGeom prst="pie">
              <a:avLst/>
            </a:pr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 flipH="1">
              <a:off x="2928600" y="5797800"/>
              <a:ext cx="567720" cy="636120"/>
            </a:xfrm>
            <a:prstGeom prst="pie">
              <a:avLst/>
            </a:prstGeom>
            <a:solidFill>
              <a:srgbClr val="ffe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 flipH="1">
              <a:off x="2806920" y="5676480"/>
              <a:ext cx="247680" cy="219240"/>
            </a:xfrm>
            <a:prstGeom prst="pie">
              <a:avLst/>
            </a:prstGeom>
            <a:solidFill>
              <a:srgbClr val="b5b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 flipH="1">
              <a:off x="2761920" y="5633280"/>
              <a:ext cx="153720" cy="176760"/>
            </a:xfrm>
            <a:prstGeom prst="pie">
              <a:avLst/>
            </a:pr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 flipH="1">
              <a:off x="2784960" y="5981400"/>
              <a:ext cx="737280" cy="423360"/>
            </a:xfrm>
            <a:prstGeom prst="pie">
              <a:avLst/>
            </a:prstGeom>
            <a:solidFill>
              <a:srgbClr val="ffc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 flipH="1">
              <a:off x="2885400" y="4419720"/>
              <a:ext cx="1535040" cy="1620720"/>
            </a:xfrm>
            <a:prstGeom prst="pie">
              <a:avLst/>
            </a:prstGeom>
            <a:solidFill>
              <a:srgbClr val="ffc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 flipH="1">
              <a:off x="3281040" y="5502240"/>
              <a:ext cx="404640" cy="19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 flipH="1">
              <a:off x="2876040" y="4534200"/>
              <a:ext cx="1028880" cy="152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 flipH="1">
              <a:off x="3327120" y="4432320"/>
              <a:ext cx="150840" cy="40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18"/>
            <p:cNvSpPr/>
            <p:nvPr/>
          </p:nvSpPr>
          <p:spPr>
            <a:xfrm flipH="1">
              <a:off x="3265200" y="4511160"/>
              <a:ext cx="106560" cy="32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19"/>
            <p:cNvSpPr/>
            <p:nvPr/>
          </p:nvSpPr>
          <p:spPr>
            <a:xfrm flipH="1">
              <a:off x="3101040" y="4613040"/>
              <a:ext cx="191160" cy="31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20"/>
            <p:cNvSpPr/>
            <p:nvPr/>
          </p:nvSpPr>
          <p:spPr>
            <a:xfrm flipH="1">
              <a:off x="2979360" y="4645800"/>
              <a:ext cx="24840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21"/>
            <p:cNvSpPr/>
            <p:nvPr/>
          </p:nvSpPr>
          <p:spPr>
            <a:xfrm flipH="1">
              <a:off x="2913840" y="4711320"/>
              <a:ext cx="225360" cy="33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 flipH="1">
              <a:off x="3120120" y="4983480"/>
              <a:ext cx="2484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 flipH="1">
              <a:off x="3079440" y="5052960"/>
              <a:ext cx="2484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 flipH="1">
              <a:off x="3057480" y="5108760"/>
              <a:ext cx="21960" cy="3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 flipH="1">
              <a:off x="3120120" y="5118480"/>
              <a:ext cx="24840" cy="3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 flipH="1">
              <a:off x="3079440" y="5177160"/>
              <a:ext cx="2484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 flipH="1">
              <a:off x="3038400" y="5032800"/>
              <a:ext cx="2556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 flipH="1">
              <a:off x="3424680" y="5134680"/>
              <a:ext cx="91080" cy="9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 flipH="1">
              <a:off x="3318120" y="5154120"/>
              <a:ext cx="752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 flipH="1">
              <a:off x="3393360" y="5118480"/>
              <a:ext cx="131400" cy="16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 flipH="1">
              <a:off x="3393360" y="5354280"/>
              <a:ext cx="253800" cy="12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32"/>
            <p:cNvSpPr/>
            <p:nvPr/>
          </p:nvSpPr>
          <p:spPr>
            <a:xfrm flipH="1">
              <a:off x="3155040" y="5390640"/>
              <a:ext cx="668880" cy="33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33"/>
            <p:cNvSpPr/>
            <p:nvPr/>
          </p:nvSpPr>
          <p:spPr>
            <a:xfrm flipH="1">
              <a:off x="3409920" y="5728680"/>
              <a:ext cx="24768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34"/>
            <p:cNvSpPr/>
            <p:nvPr/>
          </p:nvSpPr>
          <p:spPr>
            <a:xfrm flipH="1">
              <a:off x="3747960" y="4950720"/>
              <a:ext cx="505080" cy="115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35"/>
            <p:cNvSpPr/>
            <p:nvPr/>
          </p:nvSpPr>
          <p:spPr>
            <a:xfrm flipH="1">
              <a:off x="3616200" y="4711320"/>
              <a:ext cx="322920" cy="43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36"/>
            <p:cNvSpPr/>
            <p:nvPr/>
          </p:nvSpPr>
          <p:spPr>
            <a:xfrm flipH="1">
              <a:off x="3914280" y="4894920"/>
              <a:ext cx="12492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37"/>
            <p:cNvSpPr/>
            <p:nvPr/>
          </p:nvSpPr>
          <p:spPr>
            <a:xfrm flipH="1">
              <a:off x="3839040" y="4422600"/>
              <a:ext cx="137880" cy="41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38"/>
            <p:cNvSpPr/>
            <p:nvPr/>
          </p:nvSpPr>
          <p:spPr>
            <a:xfrm flipH="1">
              <a:off x="3983400" y="4432320"/>
              <a:ext cx="457560" cy="49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39"/>
            <p:cNvSpPr/>
            <p:nvPr/>
          </p:nvSpPr>
          <p:spPr>
            <a:xfrm flipH="1">
              <a:off x="3747960" y="5761440"/>
              <a:ext cx="191160" cy="14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40"/>
            <p:cNvSpPr/>
            <p:nvPr/>
          </p:nvSpPr>
          <p:spPr>
            <a:xfrm flipH="1">
              <a:off x="3245400" y="5991120"/>
              <a:ext cx="518040" cy="27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41"/>
            <p:cNvSpPr/>
            <p:nvPr/>
          </p:nvSpPr>
          <p:spPr>
            <a:xfrm flipH="1">
              <a:off x="3245400" y="6079680"/>
              <a:ext cx="320040" cy="45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42"/>
            <p:cNvSpPr/>
            <p:nvPr/>
          </p:nvSpPr>
          <p:spPr>
            <a:xfrm flipH="1">
              <a:off x="2700360" y="6046920"/>
              <a:ext cx="1346400" cy="81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43"/>
            <p:cNvSpPr/>
            <p:nvPr/>
          </p:nvSpPr>
          <p:spPr>
            <a:xfrm flipH="1">
              <a:off x="2942280" y="5672880"/>
              <a:ext cx="366480" cy="42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44"/>
            <p:cNvSpPr/>
            <p:nvPr/>
          </p:nvSpPr>
          <p:spPr>
            <a:xfrm flipH="1">
              <a:off x="2991240" y="5820840"/>
              <a:ext cx="253800" cy="25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45"/>
            <p:cNvSpPr/>
            <p:nvPr/>
          </p:nvSpPr>
          <p:spPr>
            <a:xfrm flipH="1">
              <a:off x="2750040" y="5626440"/>
              <a:ext cx="445320" cy="46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46"/>
            <p:cNvSpPr/>
            <p:nvPr/>
          </p:nvSpPr>
          <p:spPr>
            <a:xfrm flipH="1">
              <a:off x="3779280" y="6023880"/>
              <a:ext cx="329400" cy="46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47"/>
            <p:cNvSpPr/>
            <p:nvPr/>
          </p:nvSpPr>
          <p:spPr>
            <a:xfrm flipH="1">
              <a:off x="4146480" y="5672880"/>
              <a:ext cx="762120" cy="86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ЭТАПЫ АДАПТАЦИОННОГО ПЕРИОД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 ЭТАП- ЗНАКОМСТ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 ЭТАП- РАЗВИТИЕ   СОТРУДНИЧЕ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 ЭТАП- ОСОЗНАНИЕ ЕДИНОГО СООБЩЕСТВА-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ризнаки успешной адаптации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довлетворенность ребенка процессом обуч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желание идти в школ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частвовать в общественной жизн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щаться с учителями, а также устойчиво хорошее настро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C41-03"/>
          <p:cNvPicPr/>
          <p:nvPr/>
        </p:nvPicPr>
        <p:blipFill>
          <a:blip r:embed="rId2"/>
          <a:stretch/>
        </p:blipFill>
        <p:spPr>
          <a:xfrm>
            <a:off x="7093080" y="189000"/>
            <a:ext cx="190800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Признаки дезадаптации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лый, утомлённый внешний вид ребёнка. Постоянные жалобы  на плохое самочувств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гативные характеристики в адрес школы, учителей, одноклассников. Жалобы на те или иные события, связанные со школ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4" descr="people1840"/>
          <p:cNvPicPr/>
          <p:nvPr/>
        </p:nvPicPr>
        <p:blipFill>
          <a:blip r:embed="rId2"/>
          <a:stretch/>
        </p:blipFill>
        <p:spPr>
          <a:xfrm>
            <a:off x="5508720" y="4862520"/>
            <a:ext cx="2232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835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Результаты изучения процесса адаптации учащихся  5-х  классов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Изучение мотивации учения учащихся 5-х классов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5800" y="907920"/>
          <a:ext cx="82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07920"/>
                    <a:ext cx="82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20:05:34Z</dcterms:created>
  <dc:creator>Dark</dc:creator>
  <dc:description/>
  <dc:language>en-US</dc:language>
  <cp:lastModifiedBy>Комп2</cp:lastModifiedBy>
  <dcterms:modified xsi:type="dcterms:W3CDTF">2014-11-11T13:51:42Z</dcterms:modified>
  <cp:revision>685</cp:revision>
  <dc:subject/>
  <dc:title>Приволжский Федеральный Центр</dc:title>
</cp:coreProperties>
</file>