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5F7-450D-45E6-A2A6-9509F02180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C9E-0924-4BE0-87C7-A2CF910A7F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1B0-8FE9-4BE7-B34E-868B53F1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94C-C540-4138-87B0-69300C88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C76-4953-4134-8805-06CF8535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262-12FF-4610-A075-F6EC7A73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E2B6-898F-44E6-B768-DEF9BDA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5189-1989-44A4-95AE-7658B66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8DAE-1FAC-47F3-9044-B3C711E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C34-9D3B-4B5E-83FC-8B359E8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D4D9-9CF0-400E-9C06-537D264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5C0F-884F-48CE-B6BC-ABEBBF0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01B1-F1EA-4EB6-8E5A-943AE9F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D63-D845-446D-8004-3506AEA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F632-B11B-47D5-9D32-E3A976C3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10E-3ECA-4A02-990E-FB8564B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657F-215D-46BB-BFEB-5F5C060D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AA5-6800-4F8B-9EEE-57431CB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1B1-01DB-4B10-9B77-C9362D18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22A-B7FB-49C2-8C8F-5414C7AC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14E-CB7A-473F-8C9E-B27B330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049-663D-4183-BEB3-A821D704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AD4-C268-4F1E-BF97-50E2922B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AF8-56E1-4877-AA3C-7196113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E4D-DAD5-4CD2-A875-712411E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7BC-8495-4A1C-9551-2092055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705E-B922-49BA-A0B5-0F7259E7E7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847-F956-43A5-8775-AB240341A6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33966"/>
          <p:cNvPicPr/>
          <p:nvPr/>
        </p:nvPicPr>
        <p:blipFill>
          <a:blip r:embed="rId2"/>
          <a:stretch/>
        </p:blipFill>
        <p:spPr>
          <a:xfrm>
            <a:off x="250920" y="4076640"/>
            <a:ext cx="3124080" cy="25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403280" y="620640"/>
            <a:ext cx="633744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Адаптация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иклассников"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Изучение уровня тревожност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641600"/>
          <a:ext cx="806292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41600"/>
                    <a:ext cx="806292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Рекомендации  родителям пятиклассников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нимать и принимать ребенка безусловно, любить и принимать его таким, какой он е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заимное ува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ледовательность воспитательных воздейств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Общение как ВСТРЕЧ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Использовать в повседневном общении приветливые фр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6877080" y="179280"/>
            <a:ext cx="2016000" cy="1909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1341360"/>
            <a:ext cx="525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от они, главные истины эт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дно заметили, поздно учли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т, не рождаются трудными дет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сто им вовремя не помог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озрастные особенности младшего подростка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ремление к общению со сверстни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чувство взросл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нденция к взрослости проявляется в постепенном отдалении от родителей. Ребенок требует  независимости, уважения к своим тайнам. Для подросткового периода характерно наличие разногласий со взрослыми и, в частности, с родителями. Это происходит в основном по поводу стиля одежды, прически, ухода из дому, свободного времени, школьных и материальных пробле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ая особенность подросткового периода резкие качественные измен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трагивающие все стороны развития. У разных подростков эти изменения происходят по- разному, в разное время. Некоторые развиваются быстрее, некоторые в чем-то отстают от остальных, а в чем-то опережают.Нередки случаи, когда интеллектуальное развитие школьника опережает развитие личностных особенностей: по интеллекту он уже подросток, а по особенностям поведения- ребен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трочество- время бурного и плодотворного развития познавательных процесс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чинает развиваться теоретическое мышление. На основе развития нового уровня мышления происходит перестройка всех остальных психических процессов ,т.е., как заметил Д.Б.Эльконин, "память становится мыслящей, а восприятие думающим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Адаптация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это совокупность физиологических, психологических, социальных реакций, лежащих в основе приспособления организма,  к изменению окружающих условий жизни, направленных на создание  нормального функционирования в непривычных условиях обитания и деятельности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Задачи адаптационного периода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: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052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очь детям познакомиться друг с друг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учителя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новой учебной ситуаци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 школьными правил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2700360" y="4419720"/>
            <a:ext cx="2208600" cy="2437560"/>
            <a:chOff x="2700360" y="4419720"/>
            <a:chExt cx="2208600" cy="2437560"/>
          </a:xfrm>
        </p:grpSpPr>
        <p:sp>
          <p:nvSpPr>
            <p:cNvPr id="102" name="Freeform 6"/>
            <p:cNvSpPr/>
            <p:nvPr/>
          </p:nvSpPr>
          <p:spPr>
            <a:xfrm flipH="1">
              <a:off x="3032640" y="5649480"/>
              <a:ext cx="1851840" cy="11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 flipH="1">
              <a:off x="2888640" y="4432320"/>
              <a:ext cx="677520" cy="600480"/>
            </a:xfrm>
            <a:prstGeom prst="pie">
              <a:avLst/>
            </a:prstGeom>
            <a:solidFill>
              <a:srgbClr val="eba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 flipH="1">
              <a:off x="3148560" y="5695920"/>
              <a:ext cx="875160" cy="41940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 flipH="1">
              <a:off x="3403440" y="6345360"/>
              <a:ext cx="162720" cy="190440"/>
            </a:xfrm>
            <a:prstGeom prst="pie">
              <a:avLst/>
            </a:pr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 flipH="1">
              <a:off x="2928600" y="5797800"/>
              <a:ext cx="567720" cy="636120"/>
            </a:xfrm>
            <a:prstGeom prst="pie">
              <a:avLst/>
            </a:prstGeom>
            <a:solidFill>
              <a:srgbClr val="ffe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 flipH="1">
              <a:off x="2806920" y="5676480"/>
              <a:ext cx="247680" cy="219240"/>
            </a:xfrm>
            <a:prstGeom prst="pie">
              <a:avLst/>
            </a:prstGeom>
            <a:solidFill>
              <a:srgbClr val="b5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 flipH="1">
              <a:off x="2761920" y="5633280"/>
              <a:ext cx="153720" cy="17676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 flipH="1">
              <a:off x="2784960" y="5981400"/>
              <a:ext cx="737280" cy="423360"/>
            </a:xfrm>
            <a:prstGeom prst="pie">
              <a:avLst/>
            </a:pr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 flipH="1">
              <a:off x="2885400" y="4419720"/>
              <a:ext cx="1535040" cy="1620720"/>
            </a:xfrm>
            <a:prstGeom prst="pie">
              <a:avLst/>
            </a:pr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 flipH="1">
              <a:off x="3281040" y="5502240"/>
              <a:ext cx="40464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 flipH="1">
              <a:off x="2876040" y="4534200"/>
              <a:ext cx="1028880" cy="15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 flipH="1">
              <a:off x="3327120" y="4432320"/>
              <a:ext cx="150840" cy="40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 flipH="1">
              <a:off x="3265200" y="4511160"/>
              <a:ext cx="10656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 flipH="1">
              <a:off x="3101040" y="4613040"/>
              <a:ext cx="191160" cy="31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20"/>
            <p:cNvSpPr/>
            <p:nvPr/>
          </p:nvSpPr>
          <p:spPr>
            <a:xfrm flipH="1">
              <a:off x="2979360" y="4645800"/>
              <a:ext cx="24840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 flipH="1">
              <a:off x="2913840" y="4711320"/>
              <a:ext cx="225360" cy="33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 flipH="1">
              <a:off x="3120120" y="4983480"/>
              <a:ext cx="2484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 flipH="1">
              <a:off x="3079440" y="5052960"/>
              <a:ext cx="24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 flipH="1">
              <a:off x="3057480" y="5108760"/>
              <a:ext cx="2196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 flipH="1">
              <a:off x="3120120" y="5118480"/>
              <a:ext cx="2484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 flipH="1">
              <a:off x="3079440" y="5177160"/>
              <a:ext cx="24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 flipH="1">
              <a:off x="3038400" y="5032800"/>
              <a:ext cx="2556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 flipH="1">
              <a:off x="3424680" y="5134680"/>
              <a:ext cx="910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 flipH="1">
              <a:off x="3318120" y="5154120"/>
              <a:ext cx="752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 flipH="1">
              <a:off x="3393360" y="5118480"/>
              <a:ext cx="131400" cy="16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 flipH="1">
              <a:off x="3393360" y="5354280"/>
              <a:ext cx="25380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32"/>
            <p:cNvSpPr/>
            <p:nvPr/>
          </p:nvSpPr>
          <p:spPr>
            <a:xfrm flipH="1">
              <a:off x="3155040" y="5390640"/>
              <a:ext cx="668880" cy="33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33"/>
            <p:cNvSpPr/>
            <p:nvPr/>
          </p:nvSpPr>
          <p:spPr>
            <a:xfrm flipH="1">
              <a:off x="3409920" y="5728680"/>
              <a:ext cx="2476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 flipH="1">
              <a:off x="3747960" y="4950720"/>
              <a:ext cx="505080" cy="115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 flipH="1">
              <a:off x="3616200" y="4711320"/>
              <a:ext cx="32292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36"/>
            <p:cNvSpPr/>
            <p:nvPr/>
          </p:nvSpPr>
          <p:spPr>
            <a:xfrm flipH="1">
              <a:off x="3914280" y="4894920"/>
              <a:ext cx="12492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37"/>
            <p:cNvSpPr/>
            <p:nvPr/>
          </p:nvSpPr>
          <p:spPr>
            <a:xfrm flipH="1">
              <a:off x="3839040" y="4422600"/>
              <a:ext cx="137880" cy="41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38"/>
            <p:cNvSpPr/>
            <p:nvPr/>
          </p:nvSpPr>
          <p:spPr>
            <a:xfrm flipH="1">
              <a:off x="3983400" y="4432320"/>
              <a:ext cx="457560" cy="49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39"/>
            <p:cNvSpPr/>
            <p:nvPr/>
          </p:nvSpPr>
          <p:spPr>
            <a:xfrm flipH="1">
              <a:off x="3747960" y="5761440"/>
              <a:ext cx="19116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40"/>
            <p:cNvSpPr/>
            <p:nvPr/>
          </p:nvSpPr>
          <p:spPr>
            <a:xfrm flipH="1">
              <a:off x="3245400" y="5991120"/>
              <a:ext cx="518040" cy="27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41"/>
            <p:cNvSpPr/>
            <p:nvPr/>
          </p:nvSpPr>
          <p:spPr>
            <a:xfrm flipH="1">
              <a:off x="3245400" y="6079680"/>
              <a:ext cx="320040" cy="45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42"/>
            <p:cNvSpPr/>
            <p:nvPr/>
          </p:nvSpPr>
          <p:spPr>
            <a:xfrm flipH="1">
              <a:off x="2700360" y="6046920"/>
              <a:ext cx="1346400" cy="81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43"/>
            <p:cNvSpPr/>
            <p:nvPr/>
          </p:nvSpPr>
          <p:spPr>
            <a:xfrm flipH="1">
              <a:off x="2942280" y="5672880"/>
              <a:ext cx="366480" cy="42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44"/>
            <p:cNvSpPr/>
            <p:nvPr/>
          </p:nvSpPr>
          <p:spPr>
            <a:xfrm flipH="1">
              <a:off x="2991240" y="5820840"/>
              <a:ext cx="25380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45"/>
            <p:cNvSpPr/>
            <p:nvPr/>
          </p:nvSpPr>
          <p:spPr>
            <a:xfrm flipH="1">
              <a:off x="2750040" y="5626440"/>
              <a:ext cx="445320" cy="46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46"/>
            <p:cNvSpPr/>
            <p:nvPr/>
          </p:nvSpPr>
          <p:spPr>
            <a:xfrm flipH="1">
              <a:off x="3779280" y="6023880"/>
              <a:ext cx="329400" cy="46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 flipH="1">
              <a:off x="4146480" y="5672880"/>
              <a:ext cx="762120" cy="86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ЭТАПЫ АДАПТАЦИОННОГО ПЕРИО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ЭТАП- ЗНАКОМ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ЭТАП- РАЗВИТИЕ   СОТРУДНИ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ЭТАП- ОСОЗНАНИЕ ЕДИНОГО СООБЩЕСТВА-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изнаки успешной адаптации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овлетворенность ребенка процессом обу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лание идти в школ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ствовать в общественной жиз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аться с учителями, а также устойчиво хорошее на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C41-03"/>
          <p:cNvPicPr/>
          <p:nvPr/>
        </p:nvPicPr>
        <p:blipFill>
          <a:blip r:embed="rId2"/>
          <a:stretch/>
        </p:blipFill>
        <p:spPr>
          <a:xfrm>
            <a:off x="7093080" y="189000"/>
            <a:ext cx="19080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ризнаки дезадаптации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 Постоянные жалобы 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 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people1840"/>
          <p:cNvPicPr/>
          <p:nvPr/>
        </p:nvPicPr>
        <p:blipFill>
          <a:blip r:embed="rId2"/>
          <a:stretch/>
        </p:blipFill>
        <p:spPr>
          <a:xfrm>
            <a:off x="5508720" y="4862520"/>
            <a:ext cx="22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35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езультаты изучения процесса адаптации учащихся  5-х  класс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Изучение мотивации учения учащихся 5-х классов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907920"/>
          <a:ext cx="82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07920"/>
                    <a:ext cx="82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20:05:34Z</dcterms:created>
  <dc:creator>Dark</dc:creator>
  <dc:description/>
  <dc:language>en-US</dc:language>
  <cp:lastModifiedBy>Комп2</cp:lastModifiedBy>
  <dcterms:modified xsi:type="dcterms:W3CDTF">2014-11-11T13:51:42Z</dcterms:modified>
  <cp:revision>685</cp:revision>
  <dc:subject/>
  <dc:title>Приволжский Федеральный Центр</dc:title>
</cp:coreProperties>
</file>