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C80-8B8C-482E-BAA9-A84196D8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A99-E1A2-4729-BF5C-225A3C2A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E72-90FB-45AC-8464-1F8FAC21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62F-B83A-446A-A26F-4220C995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330-31BD-4050-9BE0-4244B36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061-3CDA-4580-8892-7EB0283F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3F9-76F1-42D4-A407-9443959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8FF-7B19-4F47-B169-923E787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7E9-BAC7-4858-9018-6FB6793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F74-457A-4013-917B-CE88ED65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3A5-7CF7-4B8C-9096-3BC30DD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698-DEB7-48CA-9803-83EF3F4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5D03-D88E-414B-B17A-4959B5596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еление с остатко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a=b*n+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- дели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– дел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неполное част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а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:в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стато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 материал параграфа    (стр82-83)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обрать решение задания№279,282,2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«5» №2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тветы диктан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2 остаток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2 остаток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0,1,2,3,4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ест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о теме «Деление с остатком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При делении числа на 46 может получится остат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48;   б)45; в)46;  г) 4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Скорость пешехода 5км/ч, а скорость велосипедиста 20км/ч. Во сколько раз скорость велосипедиста больше скорости пешех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в 2раза;                   б)в 3раз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)в 4раза;                  г)на15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одолжение тес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За 3часа теплоход проплыл 105 км/ч, а поезд за 2 часа проехал 110км.Во сколько раз скорость поезда больше скорости теплох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в 4 раза;   б) в 3 раза;     в) в 2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омашнее задание к 2-му уро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придумать задачу, используя равенст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991=2*1000 + 8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выполнить контрольные задания стр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решить№2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а , которые делятся на 2 без остатка, называют четными, а все остальные – нечет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 = 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 +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57:04Z</dcterms:created>
  <dc:creator>User</dc:creator>
  <dc:description/>
  <dc:language>en-US</dc:language>
  <cp:lastModifiedBy>User</cp:lastModifiedBy>
  <dcterms:modified xsi:type="dcterms:W3CDTF">2013-04-15T13:38:54Z</dcterms:modified>
  <cp:revision>20</cp:revision>
  <dc:subject/>
  <dc:title>Слайд 1</dc:title>
</cp:coreProperties>
</file>