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82E-DBF3-41E6-B51E-44DC5CC4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5DB-5DD5-4584-B791-3205768E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AD0-0B86-42A2-8F42-EBF9C95B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0DE-5C21-4625-8AB5-EB0CF860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898-4789-433C-AFEE-CDA8110C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091-E6FC-4388-9AD6-CE3A50BD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F9B-0495-4FC6-84E1-769DCEA9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0A7-4E9E-4976-A473-40590685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BDF-8B2E-4AFD-949D-FD4055F2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A71-0690-44AD-B617-FC7F5A21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8B6-5D3F-4B28-85EB-06E219B2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3ED-9E41-422D-9670-16626E2C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BECE-EA42-438C-B9BC-7391226180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еление с остатко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a=b*n+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- делим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– дел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неполное част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та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:в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стато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 материал параграфа    (стр82-83)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обрать решение задания№279,282,2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«5» №29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тветы диктан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2 остаток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2 остаток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0,1,2,3,4,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Тест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о теме «Деление с остатком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При делении числа на 46 может получится остато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48;   б)45; в)46;  г) 4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Скорость пешехода 5км/ч, а скорость велосипедиста 20км/ч. Во сколько раз скорость велосипедиста больше скорости пешеход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в 2раза;                   б)в 3раз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)в 4раза;                  г)на15км/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родолжение тес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За 3часа теплоход проплыл 105 км/ч, а поезд за 2 часа проехал 110км.Во сколько раз скорость поезда больше скорости теплоход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в 4 раза;   б) в 3 раза;     в) в 2 р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тветы к тест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Домашнее задание к 2-му уро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придумать задачу, используя равенств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991=2*1000 + 8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выполнить контрольные задания стр8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решить№2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а , которые делятся на 2 без остатка, называют четными, а все остальные – нечет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 = 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 +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57:04Z</dcterms:created>
  <dc:creator>User</dc:creator>
  <dc:description/>
  <dc:language>en-US</dc:language>
  <cp:lastModifiedBy>User</cp:lastModifiedBy>
  <dcterms:modified xsi:type="dcterms:W3CDTF">2013-04-15T13:38:54Z</dcterms:modified>
  <cp:revision>20</cp:revision>
  <dc:subject/>
  <dc:title>Слайд 1</dc:title>
</cp:coreProperties>
</file>