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F881-CEC5-4606-979A-7AEC2CAD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409B-AAF8-4DAB-A927-FCDFED0C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DD8C-70CF-4999-8982-58ECC727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A2CC-13D1-4282-B8D0-9038EE80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6006-7E71-433A-B984-1F192AA0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50DF-9182-4B4C-81C3-DEB1C121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44A4-0DC3-49DB-8A74-1163F77F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CE59-5C69-4473-B488-C4A2EDF8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66BC-DED7-49D0-A033-5BA37804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7D61-56FB-4FDF-828D-BED818E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0AE7-A30D-418D-B5E3-93A2CF7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9CCA-13EF-4458-A7E2-F6D169E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2520-2172-4B7C-AD4F-77084DB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0ED-0A0E-4E7B-9F37-BF5025F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DF38-7D12-472D-91FC-92BF97AF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040E-DCC8-4E45-B8CB-E44FED0A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D5F9-91E1-4417-B9F8-E247E56C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9BA0-435A-4C1D-B6BC-26E1F62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1A89-7672-4033-90A5-506A1CED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3AFA-69F4-4B6B-9320-21AE0F98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2B59-F70D-4581-9CED-3AFA22F7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CA39-D4E1-4223-935F-A1306C06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F5F1-95D8-4170-B531-25FDF09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89E1-46FA-4B14-A109-EBD3DEAD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4AAC-4BA5-4B00-B8C6-128B8CD3DC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567-EB24-403C-B14F-61B9020409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Экскурсия по </a:t>
            </a:r>
            <a:br>
              <a:rPr sz="7200"/>
            </a:b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Афинскому Акрополю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своему плану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рфенон это дорический периптер – 8х17 колонн высотой 10.5 м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Храм гармоничен, благодаря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ъединению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нём свойств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вух ордеров – дорического и иониче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жные колонны были дорического ордера, стен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обственно храмоцеллы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нчал непрерывный ионический фр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4826160" cy="322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484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63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здание разделено на две равные части. В заподном крыле хранилась казна Афинского морского союза, а в восточной части на высоком постаменте стаяла знаменита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Афины Парфено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фина Парфенос последня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работы Фиди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Работал он над ней 10 л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сота статуи 12 метров. Она имела деревянную основу, покрытую золотом и слоновой кость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олове Афины был шлем с изображением сфинкса и крылатых коней, на груди – эгида с маской Медузы Гаргоны. В правой руке держала двухметровую богиню Нику, а левой - щит. На щите с наружной стороны была изображена битва греков с амазонками. У ног Афины сова – символ мудрости, а слева змей, олицетворяющий Эрехфея – древнейшее божество Аттики. Величественно ниспадающие складки её одежды напоминали желобки стройных колонн - каннелю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5 в. н.э. статую Афины увёз в Константинополь один византийский император, и там спустя 100 лет она погибла при пожа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62728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наружи Парфенон украшали сцены жестоких сражений (из мифологических сюжет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льефный фриз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арфенона огибал всё здание. На мраморной ленте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инной 160 метров и высотой 1 метр изображалось торжественное шествие жителей Афин в день Великих Панафи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гармоничности, сплавленности форм и красоте ритма он не имел равных в мировом искусств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рехтей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рехтейон – небольшой ионический храм, созданный в 421-405 г. до н.э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ам посвящён богине Афине и мифическому царю Эрехтею и названый в его че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 легенде именно здесь состоялся спор между Афиной и Посейдоном за право владеть Аттик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позиция храма очень сложна.  Он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роен на неровной площадке скалистого склона, имеет три совершенно различных по размеру и форме порт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2340000" y="3629160"/>
            <a:ext cx="4968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24000" y="333360"/>
            <a:ext cx="8208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акой бы стороны мы не подходили к этому храму, отовсюду он встречает нас новой, неожиданной композицией фасада, ассиметрией угл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дном из портиков роль колонн выполняют коры – фигуры девуше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туи кариатид органично сочетаются с архитектурой. Они выполняют конструктивную роль, заменяя колонны, и вместе с тем замечательно смотрятся на фоне мраморной стены хра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1847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финский Акрополь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в. до н.э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рополь – верхний гор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финский Акрополь стоял на высо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сной скале, возвышающейся на 150 м. н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ровнем моря. Он является композицио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тром города, раскинувшегося у 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нож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го создателями были зодчие, работавшие  п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уководством скульптора Фид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Фидий посвяти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крополю 16 лет своей жизни. Здесь в полной ме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ернулись его творческие и организатор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ности, а талант скульптора достиг зре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рик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цвет главного центра афинской культуры – Акрополя связан с Периклом, который правил в это время в Афи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был высокообразованный человек, общепризнанный вождь афинской демократ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икл объединил вокруг себя лучшие умы Эллады: его друзьями были философ Анаксагор, художник Поликлет и скульптор Фид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151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аздник Великих Панафин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озиционный замысел ансамбля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рополя связан с Панафинейскими торжествами и шествием на Акрополь афиня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последний день Великих Панафиней, праздновавшихся один раз в 4 года, торжественная процессия из граждан города подносила Афине священное покрывало (пеплос), сотканное руками афинских девушек. Этот дар был знаком воскресения богини Аф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аздник сопровождался конными и гимнастическими соревнованиями, состязаниями певцов и музык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39640" y="26028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нструкция Акропо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8532720" y="6381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пиле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пилеи – это торжественный, парадный вх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троил его архитектор Мнесикл в 437-432 г до н.э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ставляют собой два дорических портика, один из которых обращён к городу, а другой- к вершине Акропол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ева к пропилеям примыкал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инакотека – картинная галерея, в которой помещались картины, мемориальные мраморные плиты и посвящения к бога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356000" cy="292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59280" y="3681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рам Ники Апте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права от Пропилей находил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крошечный, изящный, лёгкий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рам Ники Аптерос (бескрылой) – богини Побе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н сооружён Калликратом в 427-424 г до н.э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25480" y="2708280"/>
            <a:ext cx="2955960" cy="3960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508720" y="2852640"/>
            <a:ext cx="287964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и храма находилась бескрылая статуя богини. Известна легенда, согласно которой эта богиня принесла победу грекам над персами, а потом жителям города не хотелось с ней расставаться. Изобразив её бескрылой, они посчитали, что богиня уже никогда не сможет покинуть их гор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атуя Афины Промахос (воительницы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йдя Пропилеи, попадаем на вершину выровняной скалы, превращённой в площад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центре площади возвышалась огромная 17-метровая бронзовая статуя Афины Промахос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окровительствующей Афинам и греческому народу. Суровая и грозная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огиня правой рукой опирается на копьё, а левой держала щит. Эта статуя была хорошо видна со всех сторон города, и даже с мо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ыне площадь пуста, т.к. статую уничтожили в 13 в. суеверные рыцари-крестоносц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арфен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основе композиции Акрополя лежит принцип ассиметрии, принцип свободной панорамы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этому статую Афины поместили левее главной оси Припилей, а справа сместили знаменитый Парфен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5111640" cy="3543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543640" y="3068640"/>
            <a:ext cx="34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 Парфенон посвящён Афине Парфенос (деве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архитекторами Иктином и Калликра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из золотисто-розового пентеллийского мрамор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6:49:18Z</dcterms:created>
  <dc:creator>Пользователь</dc:creator>
  <dc:description/>
  <dc:language>en-US</dc:language>
  <cp:lastModifiedBy>1</cp:lastModifiedBy>
  <dcterms:modified xsi:type="dcterms:W3CDTF">2014-02-10T14:47:15Z</dcterms:modified>
  <cp:revision>8</cp:revision>
  <dc:subject/>
  <dc:title>Экскурсия по  Афинскому Акрополю</dc:title>
</cp:coreProperties>
</file>