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8BE9-6C9A-43F9-AB38-C9E0264D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FAC8-FD01-44D5-88DF-E3F1A9E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632B-43A2-4875-8F63-6A94FD9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5B4B-230B-47DA-B36B-E3CBCAE6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E3CF-2C48-448F-8D90-E55A7B15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7CB-060D-4929-A82F-75DB041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AE28-4ED7-4892-87A9-22D3EE1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3A9-2ED4-44FC-A98A-7DE6094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9578-6BA5-49F0-B5C9-CD0FD58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CD8-0528-4061-B6B1-22016DB6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C7C5-4A33-4A63-8D7C-E2B7ACF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A2D2-3793-4F24-9900-D092EBC9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7D34-3A5C-4C9C-B313-7A597F6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321-BE28-4D44-B7D9-F240034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5468-5F66-4A99-B66D-9AF4D77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E1B9-8FC5-4FA2-A0EF-50CD0A01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47E-1E89-420C-8426-0A3DFED2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AE8A-641B-4535-BCF9-CC58A09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11DB-8E1D-4B6A-B8A2-A5C156A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3801-B535-42FC-98CF-B3F6A32B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98F3-C68B-4111-9EFD-AD92D98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887D-6B01-427D-A9E0-266A56B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E26E-2611-456C-B93D-206160E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C6EB-74A2-4E86-92BB-9B2EA2A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118-2AB9-4F4D-8ED3-D4C8457DAF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A90-89EE-4C5E-8636-B19E692A74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4-02-10T14:47:15Z</dcterms:modified>
  <cp:revision>8</cp:revision>
  <dc:subject/>
  <dc:title>Экскурсия по  Афинскому Акрополю</dc:title>
</cp:coreProperties>
</file>