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62C-4C02-4A10-8D0D-86CB0126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EB3-C1A9-4DA2-8A55-0E1ACED7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6B4-406C-40BD-A4B5-96409DAD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A63-7587-4AB2-B889-BA3CE976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961F-618A-4993-B813-5DEF5BFA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BBB4-0B6B-40A8-910D-9C2C0525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A3E7-4D46-4243-908D-65951D49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E002-B613-40BE-BA25-E79AD1DA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EB19-3198-461A-94FB-D75E8A2A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9830-0614-40AB-B4E3-A1C782F3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691E-E6EF-43E2-B214-D4DCC012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774-2820-4CF7-93D4-FDA4EEB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1A20-B28A-4055-A798-89F3D4F9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5424-BD48-4A7A-866C-DC8ACCBA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EAD4-A889-46C6-BCC3-2E061E38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0815-D8F1-4CB8-B2E5-CE2FD771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8387-08F8-4819-929C-6E567C8A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C05-B5E2-4086-8912-2EADAFF7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347-3E0F-467E-B6D8-1E406935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74A-672F-4B73-80FC-01715967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2D4-7B90-467D-B545-D8A810F9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E24-F385-40E9-9F09-9EF21754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4DB-E98F-419D-A825-FDC5BFD9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0DA-3648-4A29-BE9F-FDB6383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8EDF-6F6A-400D-95F2-8FF7490D8C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652D-3048-4B74-89AC-26E5E81A1D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Новый год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Как же празднуют Новый год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495680" y="5562720"/>
            <a:ext cx="962280" cy="91440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676520" y="4419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6858000" y="4419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990720" y="5562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7696080" y="56386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2971800" y="54864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6172200" y="5562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3809880" y="4572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5410080" y="46483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f0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Сначала немного истори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До 18 века новый год в России начинался не с января, как в настоящее время, а с марта (до 1492 года) или с сентября (с 1492 года) по юлианскому календар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В России начало года 1 января введено первым российским императором Петром I в 1699 году, став одной из его реформ. Новый 1700 год праздновался в Москве по царскому приказанию целых семь дней; домовладельцы должны были ставить перед домами и воротами, для украшения, хвойные деревья, и каждый вечер зажигались смоляные бочки, пускались ракеты, палили из двухсот пушек перед Кремлем и в частных дворах из маленьких орудий. Это делалось на немецкий образе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2666880" y="4876920"/>
            <a:ext cx="3729240" cy="1371600"/>
          </a:xfrm>
          <a:custGeom>
            <a:avLst/>
            <a:gdLst>
              <a:gd name="textAreaLeft" fmla="*/ 932400 w 3729240"/>
              <a:gd name="textAreaRight" fmla="*/ 2797200 w 3729240"/>
              <a:gd name="textAreaTop" fmla="*/ 403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f0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a4"/>
                </a:solidFill>
                <a:latin typeface="Arial"/>
              </a:rPr>
              <a:t>Новогодний стол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ри встрече Нового года близкие люди собираются за новогодним столом обычно вечером 31 декабря уходящего года. Сначала «провожают» старый год — вспоминают, чем он запомнился или что в нём было главным для каждого из собравшихся; желают друг другу, чтобы всё лучшее из старого года перешло в нов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еизменными атрибутами новогоднего стола в России по традиции являются шампанское, салат «Оливье» и «сельдь под шубой», мандар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осле речи главы государства в 0 часов 0 минут, 1 января бьют куранты. С первым или последним ударом курантов, знаменующим приход нового года, принято чокаться бокалами с шампанским (и загадывать жела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f0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a4"/>
                </a:solidFill>
                <a:latin typeface="Arial"/>
              </a:rPr>
              <a:t>Дедушка мороз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Дед Мороз — сказочный персонаж, символ Нового Года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Дед Мороз впервые появился в 1910 году, однако не приобрёл широкого распространения. В советское время был распространён новый образ: он являлся детям под Новый год и оставляет под ёлкой подарки детям, которые хорошо себя вели в течение года. Работает он не один, ему помогает внучка Снегуроч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f0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67320"/>
            <a:ext cx="8583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61372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 городах любящие родители приглашают домой сказочных персонажей, чтобы они поздравили детей с праздником и подарили им подарки. Кто-то уезжает за рубеж, чтобы встретить Новый год на золотых песках пляж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Люди обязательно наряжают ёлку или в крайнем случае приносят еловые ветки. И украшают дом дождиком, блестящими гирляндами и ёлочными игрушками. Кто-то  вырезает снежинки и развешивает их на окна и зеркала. Некоторые рисуют на зеркалах деда мороза и снегурочку. В общем, кто на что гораз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раздник ночной и принято встречать его с размахом. Среди молодёжи считается дурным тоном рано лечь спать. Самые «крутые» гуляют до утра. А ещё, с появление петард, новогодняя ночь превратилась в полигон и где то до 3-х часов ночи стоит такой грохот… Что если и захочешь, то не уснёш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2" descr="укеi"/>
          <p:cNvPicPr/>
          <p:nvPr/>
        </p:nvPicPr>
        <p:blipFill>
          <a:blip r:embed="rId1"/>
          <a:stretch/>
        </p:blipFill>
        <p:spPr>
          <a:xfrm>
            <a:off x="2286000" y="1676520"/>
            <a:ext cx="4295880" cy="2863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ц2у3к4енi"/>
          <p:cNvPicPr/>
          <p:nvPr/>
        </p:nvPicPr>
        <p:blipFill>
          <a:blip r:embed="rId2"/>
          <a:stretch/>
        </p:blipFill>
        <p:spPr>
          <a:xfrm>
            <a:off x="5943600" y="304920"/>
            <a:ext cx="2867040" cy="2173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цуыкенгi"/>
          <p:cNvPicPr/>
          <p:nvPr/>
        </p:nvPicPr>
        <p:blipFill>
          <a:blip r:embed="rId3"/>
          <a:stretch/>
        </p:blipFill>
        <p:spPr>
          <a:xfrm>
            <a:off x="304920" y="2286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цывап"/>
          <p:cNvPicPr/>
          <p:nvPr/>
        </p:nvPicPr>
        <p:blipFill>
          <a:blip r:embed="rId4"/>
          <a:stretch/>
        </p:blipFill>
        <p:spPr>
          <a:xfrm>
            <a:off x="5486400" y="41148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i"/>
          <p:cNvPicPr/>
          <p:nvPr/>
        </p:nvPicPr>
        <p:blipFill>
          <a:blip r:embed="rId5"/>
          <a:stretch/>
        </p:blipFill>
        <p:spPr>
          <a:xfrm>
            <a:off x="152280" y="4191120"/>
            <a:ext cx="345780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941c"/>
                </a:solidFill>
                <a:latin typeface="Arial"/>
              </a:rPr>
              <a:t>С наступающим Новым 2015 Годом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800" y="4343040"/>
            <a:ext cx="701352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%D0%A3%D1%81%D1%82%D1%8E%D0%B3"/>
          <p:cNvPicPr/>
          <p:nvPr/>
        </p:nvPicPr>
        <p:blipFill>
          <a:blip r:embed="rId1"/>
          <a:stretch/>
        </p:blipFill>
        <p:spPr>
          <a:xfrm>
            <a:off x="1600200" y="1752480"/>
            <a:ext cx="6657840" cy="443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22T08:49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