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488-8483-45F9-A5BC-830B9ACE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BF0-C5CF-4632-8B9D-4276D03B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C17-33BC-4372-8997-DA103FB6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A91-CE6F-4A90-98B1-C8DF82C6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6D1C-FDD8-4FCE-AAA4-8EAF6389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EFC0-991E-45D9-B821-DD2B6A77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06F9-FD0F-4463-A3FD-2F1F2B22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66C7-952B-43A0-A822-CFF98221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DB89-CAEC-46E0-9A5B-6E8E3E88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CB88-0310-4903-800D-2FEFB83F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36EC-6F78-4AC4-9339-02FD44F2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A77-9353-4A76-BF4B-2D0D0B8D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2A76-1489-4CDB-833A-94B40C71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F023-99AE-49F0-A773-029BCAB1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9659-D149-465A-BE6A-80900F4E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4DA5-F1C5-4725-B45A-2482932C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0007-BCC3-4DD4-BE18-FF60189D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31D-D4EB-469D-AA0C-538AE742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6E5-3F4E-48C0-B4F4-6B44E957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21A-673A-4E2D-BDA4-C1BEF899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1A1-9F42-4565-932F-582D1B86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0B2-FA1D-49F1-8E29-3FD003EA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B4B-A3BE-4C70-A555-8C9E043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DE1-A799-4FB0-B37B-ECFC68FB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C830-89E0-40FF-9D73-E9088F7ABA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D810-4117-4B75-A2A2-DD02E187C1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Новый год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Как же празднуют Новый год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495680" y="5562720"/>
            <a:ext cx="962280" cy="91440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676520" y="4419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6858000" y="4419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990720" y="5562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7696080" y="56386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2971800" y="54864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6172200" y="5562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3809880" y="4572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5410080" y="46483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f0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Сначала немного истори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До 18 века новый год в России начинался не с января, как в настоящее время, а с марта (до 1492 года) или с сентября (с 1492 года) по юлианскому календар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В России начало года 1 января введено первым российским императором Петром I в 1699 году, став одной из его реформ. Новый 1700 год праздновался в Москве по царскому приказанию целых семь дней; домовладельцы должны были ставить перед домами и воротами, для украшения, хвойные деревья, и каждый вечер зажигались смоляные бочки, пускались ракеты, палили из двухсот пушек перед Кремлем и в частных дворах из маленьких орудий. Это делалось на немецкий образе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2666880" y="4876920"/>
            <a:ext cx="3729240" cy="1371600"/>
          </a:xfrm>
          <a:custGeom>
            <a:avLst/>
            <a:gdLst>
              <a:gd name="textAreaLeft" fmla="*/ 932400 w 3729240"/>
              <a:gd name="textAreaRight" fmla="*/ 2797200 w 3729240"/>
              <a:gd name="textAreaTop" fmla="*/ 403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f0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a4"/>
                </a:solidFill>
                <a:latin typeface="Arial"/>
              </a:rPr>
              <a:t>Новогодний стол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ри встрече Нового года близкие люди собираются за новогодним столом обычно вечером 31 декабря уходящего года. Сначала «провожают» старый год — вспоминают, чем он запомнился или что в нём было главным для каждого из собравшихся; желают друг другу, чтобы всё лучшее из старого года перешло в нов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еизменными атрибутами новогоднего стола в России по традиции являются шампанское, салат «Оливье» и «сельдь под шубой», мандар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осле речи главы государства в 0 часов 0 минут, 1 января бьют куранты. С первым или последним ударом курантов, знаменующим приход нового года, принято чокаться бокалами с шампанским (и загадывать жела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f0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a4"/>
                </a:solidFill>
                <a:latin typeface="Arial"/>
              </a:rPr>
              <a:t>Дедушка мороз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Дед Мороз — сказочный персонаж, символ Нового Года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Дед Мороз впервые появился в 1910 году, однако не приобрёл широкого распространения. В советское время был распространён новый образ: он являлся детям под Новый год и оставляет под ёлкой подарки детям, которые хорошо себя вели в течение года. Работает он не один, ему помогает внучка Снегуроч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f0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67320"/>
            <a:ext cx="8583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61372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 городах любящие родители приглашают домой сказочных персонажей, чтобы они поздравили детей с праздником и подарили им подарки. Кто-то уезжает за рубеж, чтобы встретить Новый год на золотых песках пляж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Люди обязательно наряжают ёлку или в крайнем случае приносят еловые ветки. И украшают дом дождиком, блестящими гирляндами и ёлочными игрушками. Кто-то  вырезает снежинки и развешивает их на окна и зеркала. Некоторые рисуют на зеркалах деда мороза и снегурочку. В общем, кто на что гораз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раздник ночной и принято встречать его с размахом. Среди молодёжи считается дурным тоном рано лечь спать. Самые «крутые» гуляют до утра. А ещё, с появление петард, новогодняя ночь превратилась в полигон и где то до 3-х часов ночи стоит такой грохот… Что если и захочешь, то не уснёш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2" descr="укеi"/>
          <p:cNvPicPr/>
          <p:nvPr/>
        </p:nvPicPr>
        <p:blipFill>
          <a:blip r:embed="rId1"/>
          <a:stretch/>
        </p:blipFill>
        <p:spPr>
          <a:xfrm>
            <a:off x="2286000" y="1676520"/>
            <a:ext cx="4295880" cy="2863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ц2у3к4енi"/>
          <p:cNvPicPr/>
          <p:nvPr/>
        </p:nvPicPr>
        <p:blipFill>
          <a:blip r:embed="rId2"/>
          <a:stretch/>
        </p:blipFill>
        <p:spPr>
          <a:xfrm>
            <a:off x="5943600" y="304920"/>
            <a:ext cx="2867040" cy="2173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цуыкенгi"/>
          <p:cNvPicPr/>
          <p:nvPr/>
        </p:nvPicPr>
        <p:blipFill>
          <a:blip r:embed="rId3"/>
          <a:stretch/>
        </p:blipFill>
        <p:spPr>
          <a:xfrm>
            <a:off x="304920" y="2286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цывап"/>
          <p:cNvPicPr/>
          <p:nvPr/>
        </p:nvPicPr>
        <p:blipFill>
          <a:blip r:embed="rId4"/>
          <a:stretch/>
        </p:blipFill>
        <p:spPr>
          <a:xfrm>
            <a:off x="5486400" y="41148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i"/>
          <p:cNvPicPr/>
          <p:nvPr/>
        </p:nvPicPr>
        <p:blipFill>
          <a:blip r:embed="rId5"/>
          <a:stretch/>
        </p:blipFill>
        <p:spPr>
          <a:xfrm>
            <a:off x="152280" y="4191120"/>
            <a:ext cx="345780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941c"/>
                </a:solidFill>
                <a:latin typeface="Arial"/>
              </a:rPr>
              <a:t>С наступающим Новым 2015 Годом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800" y="4343040"/>
            <a:ext cx="701352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%D0%A3%D1%81%D1%82%D1%8E%D0%B3"/>
          <p:cNvPicPr/>
          <p:nvPr/>
        </p:nvPicPr>
        <p:blipFill>
          <a:blip r:embed="rId1"/>
          <a:stretch/>
        </p:blipFill>
        <p:spPr>
          <a:xfrm>
            <a:off x="1600200" y="1752480"/>
            <a:ext cx="6657840" cy="443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22T08:49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