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E25-99C5-45EF-9351-B7769D6B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5D56-1A34-44C7-9CA4-9412D19B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45A-4D89-4B03-B4CE-79569165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D30D-D8B0-4C1E-9E4D-A9FF62F9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FA5-294F-495D-8436-8E930D36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A01-3979-4FF9-8339-9E850540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906-CA9E-4038-9F86-3D18F308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35B-2F2D-4B46-8DFB-3742AD8E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1D2-75FC-4895-BC78-EC3FAAD8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7FE-3A46-4C6E-958A-839EAEE0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01C-7537-43DA-AE3D-120C56B6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D82-2768-4D45-81F5-94B75ADF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F9A7-D531-4972-90C1-F7123DC2E5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oto.rambler.ru/public/posjet/_photos/13/1-web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stichno.ru/uploads/posts/2009-01/thumbs/1232743172_osiris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istichno.ru/uploads/posts/2009-01/thumbs/1232743172_osiris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pen.az/uploads/posts/2009-01/thumbs/1232291671_1174683432_6275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foto.rambler.ru/public/b/a/bazilewz/2/1/1-web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nkxara.ru/files/egypt_47_400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oto.rambler.ru/public/b/a/bazilewz/2/1/1-web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0066"/>
                </a:solidFill>
                <a:latin typeface="Arial"/>
              </a:rPr>
              <a:t>Боги </a:t>
            </a:r>
            <a:br>
              <a:rPr sz="6600"/>
            </a:br>
            <a:r>
              <a:rPr b="1" i="1" lang="ru-RU" sz="6600" spc="-1" strike="noStrike">
                <a:solidFill>
                  <a:srgbClr val="cc0066"/>
                </a:solidFill>
                <a:latin typeface="Arial"/>
              </a:rPr>
              <a:t>Древнего Егип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Картинка 52 из 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2708280"/>
            <a:ext cx="1857240" cy="3809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бог Хор (Horus, Гор)"/>
          <p:cNvPicPr/>
          <p:nvPr/>
        </p:nvPicPr>
        <p:blipFill>
          <a:blip r:embed="rId3"/>
          <a:stretch/>
        </p:blipFill>
        <p:spPr>
          <a:xfrm>
            <a:off x="5148360" y="2565360"/>
            <a:ext cx="17143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0066"/>
                </a:solidFill>
                <a:latin typeface="Arial"/>
              </a:rPr>
              <a:t>Бог С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88000" y="1268280"/>
            <a:ext cx="403848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т, в египетской мифологии бог пустыни, т. е. "чужеземных стран", олицетворение злого начала, брат и убийца Осириса, один из четырех детей бога земли Геба и Нут, богини неба. Священными животными Сета считались свинья ("отвращение для богов"), антилопа, жираф, а главным был осел. Египтяне представляли его себе человеком с тонким длинным туловищем и ослиной голо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СЕТ. Персонификация разрушительных сил Природы. Он же волк из сказки"/>
          <p:cNvPicPr/>
          <p:nvPr/>
        </p:nvPicPr>
        <p:blipFill>
          <a:blip r:embed="rId2"/>
          <a:stretch/>
        </p:blipFill>
        <p:spPr>
          <a:xfrm>
            <a:off x="755640" y="1197000"/>
            <a:ext cx="363852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0066"/>
                </a:solidFill>
                <a:latin typeface="Arial"/>
              </a:rPr>
              <a:t>Бог Тот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1640" y="170028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т, Джехути, в египетской мифологии бог луны, мудрости, счета и письма, покровитель наук, писцов, священных книг, создатель календаря. Женой Тота считалась богиня истины и порядка Маат. Священным животным Тота был ибис, и поэтому бога часто изображали в виде человека с головой иби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tot"/>
          <p:cNvPicPr/>
          <p:nvPr/>
        </p:nvPicPr>
        <p:blipFill>
          <a:blip r:embed="rId1"/>
          <a:stretch/>
        </p:blipFill>
        <p:spPr>
          <a:xfrm>
            <a:off x="7451640" y="4076640"/>
            <a:ext cx="1476360" cy="2648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Боги Древнего Египта: Тот"/>
          <p:cNvPicPr/>
          <p:nvPr/>
        </p:nvPicPr>
        <p:blipFill>
          <a:blip r:embed="rId2"/>
          <a:stretch/>
        </p:blipFill>
        <p:spPr>
          <a:xfrm>
            <a:off x="468360" y="476280"/>
            <a:ext cx="9824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932360" y="83664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т присутствовал на суде Осириса и записывал результаты взвешивания души покойника. Поскольку Тот участвовал в оправдании Осириса и давал приказ о его бальзамировании, то и принимал участие в погребальном ритуале всякого покойного египтянина и вел его в царство мертв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713"/>
          <p:cNvPicPr/>
          <p:nvPr/>
        </p:nvPicPr>
        <p:blipFill>
          <a:blip r:embed="rId1"/>
          <a:stretch/>
        </p:blipFill>
        <p:spPr>
          <a:xfrm>
            <a:off x="684360" y="692280"/>
            <a:ext cx="4105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д Осири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На загробном суде Осириса на одну чашу весов клали сердце покойного, на другую - статуэтку богини истины и порядка Маат. Или ее атрибут - страусовое перо"/>
          <p:cNvPicPr/>
          <p:nvPr/>
        </p:nvPicPr>
        <p:blipFill>
          <a:blip r:embed="rId1"/>
          <a:stretch/>
        </p:blipFill>
        <p:spPr>
          <a:xfrm>
            <a:off x="2190600" y="2657520"/>
            <a:ext cx="4762800" cy="2409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оги Древнего Египта: Осирис"/>
          <p:cNvPicPr/>
          <p:nvPr/>
        </p:nvPicPr>
        <p:blipFill>
          <a:blip r:embed="rId2"/>
          <a:stretch/>
        </p:blipFill>
        <p:spPr>
          <a:xfrm>
            <a:off x="826920" y="620640"/>
            <a:ext cx="809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f8f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0066"/>
                </a:solidFill>
                <a:latin typeface="Arial"/>
              </a:rPr>
              <a:t>Бог Осири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05520" y="1412640"/>
            <a:ext cx="40384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ирис, в египетской мифологии бог производительных сил природы, владыка загробного мира, судья в царстве мертвых. Осирис был старшим сыном бога земли Геба и богини неба Нут, братом и мужем Исиды. Он царствовал на земле после богов Pa, Шу и Геба и научил египтян земледелению, виноградарству и виноделию, добыче и обработке медной и золотой руды, врачебному искусству, строительству городов, учредил культ б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Картинка 2 из 3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268280"/>
            <a:ext cx="4959360" cy="522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Боги Древнего Египта: Осирис"/>
          <p:cNvPicPr/>
          <p:nvPr/>
        </p:nvPicPr>
        <p:blipFill>
          <a:blip r:embed="rId3"/>
          <a:stretch/>
        </p:blipFill>
        <p:spPr>
          <a:xfrm>
            <a:off x="8172360" y="189000"/>
            <a:ext cx="809640" cy="1904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Боги Древнего Египта: Осирис"/>
          <p:cNvPicPr/>
          <p:nvPr/>
        </p:nvPicPr>
        <p:blipFill>
          <a:blip r:embed="rId4"/>
          <a:stretch/>
        </p:blipFill>
        <p:spPr>
          <a:xfrm>
            <a:off x="8172360" y="189000"/>
            <a:ext cx="809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716000" y="476280"/>
            <a:ext cx="442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ири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г ежегодно умирающей и возрождающейся природы, позднее бог загробного мира и судья умерших; изображался в виде человеческой мумии в короне, обрамленной перьями, бородой, в согнутых руках скипетр и плеть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Картинка 2 из 320">
            <a:hlinkClick r:id="rId1"/>
          </p:cNvPr>
          <p:cNvPicPr/>
          <p:nvPr/>
        </p:nvPicPr>
        <p:blipFill>
          <a:blip r:embed="rId2"/>
          <a:srcRect l="29032" t="0" r="6913" b="5955"/>
          <a:stretch/>
        </p:blipFill>
        <p:spPr>
          <a:xfrm>
            <a:off x="250920" y="0"/>
            <a:ext cx="442728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788000" y="748800"/>
            <a:ext cx="4356000" cy="61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, его брат, злобный бог пустыни, решил погубить Осириса и изготовил саркофаг по мерке старшего брата. Устроив пир, он пригласил Осириса и объявил, что саркофаг будет подарен тому, кому придется впору. Когда Осирис лег в capкофаг, заговорщики захлопнули крышку, залили ее свинцом и бросили в воды Ни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Картинка 113 из 3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4479840" cy="62863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1045440" y="6490440"/>
            <a:ext cx="28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ир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г в саркофа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43280" y="549000"/>
            <a:ext cx="450072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ая супруга Осириса, Исида, нашла тело мужа, извлекла чудесным образом скрытую в нем жизненную силу и зачала от мертвого Осириса сына, названного Гором. Когда Гор вырос, он отомстил Сету. Свое волшебное Око, вырванное Сетом в начале битвы, Гор дал проглотить мертвому отцу. Осирис ожил, но не захотел вернуться на землю, а, оставив трон Гору, стал царствовать и вершить суд в загробном ми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494136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убис совершает погребальный обряд над тел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ир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1-we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628640"/>
            <a:ext cx="47624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3280" y="475920"/>
            <a:ext cx="432144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Осириса изображали человеком с зеленой кожей, сидящим среди деревьев, или с виноградной лозой, обвивающей его фигуру. Считалось, что, подобно всему растительному миру, Осирис ежегодно умирает и возрождается к новой жизни, но оплодотворяющая жизненная сила в нем сохраняется даже в мерт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Картинка 45 из 3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76280"/>
            <a:ext cx="3951360" cy="5526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"/>
          <p:cNvSpPr/>
          <p:nvPr/>
        </p:nvSpPr>
        <p:spPr>
          <a:xfrm>
            <a:off x="974520" y="6236640"/>
            <a:ext cx="30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ир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головой бар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0066"/>
                </a:solidFill>
                <a:latin typeface="Arial"/>
              </a:rPr>
              <a:t>Богиня Исида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252080"/>
            <a:ext cx="525636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ида (Изида) в египетской мифологии богиня плодородия, воды и ветра, символ женственности и супружеском верности, богиня мореплавания, дочь Геба и Нут, сестра и супруга Осириса. Исида помогала Осирису цивилизовать Египет и обучила женщин жать, прясть и ткать, лечить болезни и учредила институт бра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Картинка 9 из 233"/>
          <p:cNvPicPr/>
          <p:nvPr/>
        </p:nvPicPr>
        <p:blipFill>
          <a:blip r:embed="rId1"/>
          <a:srcRect l="25877" t="4611" r="16797" b="2041"/>
          <a:stretch/>
        </p:blipFill>
        <p:spPr>
          <a:xfrm>
            <a:off x="6084720" y="981000"/>
            <a:ext cx="23432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0066"/>
                </a:solidFill>
                <a:latin typeface="Arial"/>
              </a:rPr>
              <a:t>Бог Амон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он ("сокрытый", "потаенный"), в египетской мифологии бог солнца. Священное животное Амона — баран и гусь (оба - символы мудрост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га изображали в виде человека (иногда с головой барана), со скипетром и в короне, с двумя высокими перьями и солнечным дис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Боги Древнего Египта: Амон"/>
          <p:cNvPicPr/>
          <p:nvPr/>
        </p:nvPicPr>
        <p:blipFill>
          <a:blip r:embed="rId2"/>
          <a:stretch/>
        </p:blipFill>
        <p:spPr>
          <a:xfrm>
            <a:off x="179280" y="189000"/>
            <a:ext cx="113364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одной из версий, Исида собрала тело и возродила Осириса к жизни, используя свою целительную силу, и зачала от него бога неба и солнца Гора. Исида была настолько популярна в Египте, что со временем приобрела черты других боги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0066"/>
                </a:solidFill>
                <a:latin typeface="Arial"/>
              </a:rPr>
              <a:t>Богиня Сехм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хмет ("могучая"), в египетской мифологии богиня войны и палящего солнца, дочь Ра, жена Птаха, мать бога растительности Нефертума. Священное животное Сехмет — львица. Богиню изображали в виде женщины с головой львицы и почитали во всем Егип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Картинка 2 из 76"/>
          <p:cNvPicPr/>
          <p:nvPr/>
        </p:nvPicPr>
        <p:blipFill>
          <a:blip r:embed="rId1"/>
          <a:stretch/>
        </p:blipFill>
        <p:spPr>
          <a:xfrm>
            <a:off x="3059280" y="1413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356000" y="404640"/>
            <a:ext cx="4788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дая магической силой, Сехмет могла убить человека или напустить на него болезнь; гнев богини приносил мор и эпидемии. Вместе с тем Сехмет — богиня-целительница, которая покровительствовала врачам, считавшимися ее жрец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Картинка 52 из 76"/>
          <p:cNvPicPr/>
          <p:nvPr/>
        </p:nvPicPr>
        <p:blipFill>
          <a:blip r:embed="rId1"/>
          <a:stretch/>
        </p:blipFill>
        <p:spPr>
          <a:xfrm>
            <a:off x="971640" y="0"/>
            <a:ext cx="327492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0066"/>
                </a:solidFill>
                <a:latin typeface="Arial"/>
              </a:rPr>
              <a:t>Бог Птах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19280" y="1125360"/>
            <a:ext cx="5545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ах, в египетской мифологии бог-творец, покровитель искусств и ремесел, особо почитаемый в Мемфисе. Птах создал первых восемь богов (своих ипостасей — Птахов), мир и все в нем существующее (животных, растения, людей, города, храмы, ремесла, искусства и т. д.) "языком и сердцем". Задумав творение в своем сердце, он выражал свои мысли сло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ах изображался в виде мумии с открытой головой, с жезлом, стоящем на иероглифе, означающем прав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Картинка 9 из 170"/>
          <p:cNvPicPr/>
          <p:nvPr/>
        </p:nvPicPr>
        <p:blipFill>
          <a:blip r:embed="rId1"/>
          <a:stretch/>
        </p:blipFill>
        <p:spPr>
          <a:xfrm>
            <a:off x="468360" y="404640"/>
            <a:ext cx="2712960" cy="60962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9"/>
          <p:cNvSpPr/>
          <p:nvPr/>
        </p:nvSpPr>
        <p:spPr>
          <a:xfrm>
            <a:off x="493236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76762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Картинка 98 из 170"/>
          <p:cNvPicPr/>
          <p:nvPr/>
        </p:nvPicPr>
        <p:blipFill>
          <a:blip r:embed="rId1"/>
          <a:stretch/>
        </p:blipFill>
        <p:spPr>
          <a:xfrm>
            <a:off x="1476360" y="260280"/>
            <a:ext cx="5970600" cy="63849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7453800" y="616572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Му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0066"/>
                </a:solidFill>
                <a:latin typeface="Arial"/>
              </a:rPr>
              <a:t>Нут и Ге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Боги Древнего Египта: Нут и Геб"/>
          <p:cNvPicPr/>
          <p:nvPr/>
        </p:nvPicPr>
        <p:blipFill>
          <a:blip r:embed="rId2"/>
          <a:stretch/>
        </p:blipFill>
        <p:spPr>
          <a:xfrm>
            <a:off x="2916360" y="2565360"/>
            <a:ext cx="3806640" cy="22082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2915640" y="5805360"/>
            <a:ext cx="31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гиня неба и и бог зем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льт Амона зародился в Фивах, а затем распространился по всему Егип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на Амона, богиня неба Мут, и сын, бог луны Хонсу, составляли вместе с ним фиванскую триаду. Во времена Среднего царства Амон стал именоваться Амоном-Ра, поскольку культы двух божеств соединились, приобретя государственный характ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Боги Древнего Египта: Ра"/>
          <p:cNvPicPr/>
          <p:nvPr/>
        </p:nvPicPr>
        <p:blipFill>
          <a:blip r:embed="rId1"/>
          <a:stretch/>
        </p:blipFill>
        <p:spPr>
          <a:xfrm>
            <a:off x="179280" y="3860640"/>
            <a:ext cx="97488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0066"/>
                </a:solidFill>
                <a:latin typeface="Arial"/>
              </a:rPr>
              <a:t>Бог Анубис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убис, в египетской мифологии бог - покровитель мертвых, сын бога растительности Осириса и Нефтиды, сестры Исиды. Новорожденного Анубиса Нефтида прятала от своего супруга Сета в болотах дельты Нила. Богиня-мать Исида нашла юного бога и воспитала его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Боги Древнего Египта: Анубис"/>
          <p:cNvPicPr/>
          <p:nvPr/>
        </p:nvPicPr>
        <p:blipFill>
          <a:blip r:embed="rId1"/>
          <a:stretch/>
        </p:blipFill>
        <p:spPr>
          <a:xfrm>
            <a:off x="395280" y="404640"/>
            <a:ext cx="110484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42920" y="47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днее, когда Сет убил Осириса, Анубис, организуя погребение умершего бога, завернул его тело в ткани, пропитанные особым составом, сделав таким образом первую мумию. Поэтому Анубиса считают создателем погребальных обрядов и называют бог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альзам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1-we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465300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1280" y="4292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убис также помогал судить умерших и сопровождал праведных к трону Осириса. Анубиса изображали в виде шакала или дикой собаки Саб черного цвета (или человека с головой шакала или собаки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Боги Древнего Египта: Анубис"/>
          <p:cNvPicPr/>
          <p:nvPr/>
        </p:nvPicPr>
        <p:blipFill>
          <a:blip r:embed="rId1"/>
          <a:stretch/>
        </p:blipFill>
        <p:spPr>
          <a:xfrm>
            <a:off x="179280" y="4365720"/>
            <a:ext cx="85752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На загробном суде Осириса на одну чашу весов клали сердце покойного, на другую - статуэтку богини истины и порядка Маат. Или ее атрибут - страусовое перо"/>
          <p:cNvPicPr/>
          <p:nvPr/>
        </p:nvPicPr>
        <p:blipFill>
          <a:blip r:embed="rId2"/>
          <a:stretch/>
        </p:blipFill>
        <p:spPr>
          <a:xfrm>
            <a:off x="826920" y="260280"/>
            <a:ext cx="75250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0066"/>
                </a:solidFill>
                <a:latin typeface="Arial"/>
              </a:rPr>
              <a:t>Бог Гор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, Хор ("высота", "небо"), в египетской мифологии бог неба и солнца в облике сокола, человека с головой сокола или крылатого солнца, сын богини плодородия Исиды и Осириса, бога производительных сил. Его символ — солнечный диск с распростертыми крыль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Боги Древнего Египта: Гор"/>
          <p:cNvPicPr/>
          <p:nvPr/>
        </p:nvPicPr>
        <p:blipFill>
          <a:blip r:embed="rId1"/>
          <a:stretch/>
        </p:blipFill>
        <p:spPr>
          <a:xfrm>
            <a:off x="250920" y="333360"/>
            <a:ext cx="1003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3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6800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оначально бог-сокол почитался как хищный бог охоты, когтями впивающийся в добычу. Согласно мифу, Исида зачала Гора от мертвого Осириса, коварно убитого грозным богом пустыни Сетом, его бра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0520071941440"/>
          <p:cNvPicPr/>
          <p:nvPr/>
        </p:nvPicPr>
        <p:blipFill>
          <a:blip r:embed="rId1"/>
          <a:stretch/>
        </p:blipFill>
        <p:spPr>
          <a:xfrm>
            <a:off x="468360" y="3789360"/>
            <a:ext cx="1730160" cy="236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бог Хор (Horus, Гор)"/>
          <p:cNvPicPr/>
          <p:nvPr/>
        </p:nvPicPr>
        <p:blipFill>
          <a:blip r:embed="rId2"/>
          <a:stretch/>
        </p:blipFill>
        <p:spPr>
          <a:xfrm>
            <a:off x="6227640" y="476280"/>
            <a:ext cx="250524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484360" y="333360"/>
            <a:ext cx="5616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ившись в глубь болотистой дельты Нила, Исида родила и воспитала сына, который возмужав, в споре с Сетом добивается признания себя единственным наследником Осириса. В битве с Сетом, убийцей своего отца, Гор сначала терпит поражение - Сет вырвал у него глаз, чудесное Око, однако затем Гор одолел Сета и лишил его мужского начала. В знак подчинения он положил Сету на голову сандалию Осириса. Свое чудесное Око Гор дал проглотить отцу, и тот ожил. Воскресший Осирис передал свой трон в Египте Гору, а сам стал царем загробно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 (219x698, 44Kb)"/>
          <p:cNvPicPr/>
          <p:nvPr/>
        </p:nvPicPr>
        <p:blipFill>
          <a:blip r:embed="rId1"/>
          <a:stretch/>
        </p:blipFill>
        <p:spPr>
          <a:xfrm>
            <a:off x="395280" y="209520"/>
            <a:ext cx="2085840" cy="6648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Боги Древнего Египта: Исида"/>
          <p:cNvPicPr/>
          <p:nvPr/>
        </p:nvPicPr>
        <p:blipFill>
          <a:blip r:embed="rId2"/>
          <a:stretch/>
        </p:blipFill>
        <p:spPr>
          <a:xfrm>
            <a:off x="7956720" y="3860640"/>
            <a:ext cx="8744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3:21:40Z</dcterms:created>
  <dc:creator>Admin</dc:creator>
  <dc:description/>
  <dc:language>en-US</dc:language>
  <cp:lastModifiedBy>1</cp:lastModifiedBy>
  <dcterms:modified xsi:type="dcterms:W3CDTF">2014-10-09T14:12:58Z</dcterms:modified>
  <cp:revision>88</cp:revision>
  <dc:subject/>
  <dc:title>Боги Древнего Египта</dc:title>
</cp:coreProperties>
</file>