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E0D-A4DD-4DCA-ACE3-C01D5B3028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E0A4-E75C-4147-9E32-7989BF1EF6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891-ECB6-4380-A09D-889B7841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E28-2ED5-49F3-BAB5-7D0E5DB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7DB-A2F4-47E8-8C06-56F3CC80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6FC-7547-489F-8F5F-830381E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D0D-8C37-4DED-B118-2EEA61B9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F669-9268-48AA-BED8-15B49BF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EBDF-777C-4D99-BF4D-DAA038DF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1A8-DDDE-4ED8-A1F7-3B76B3D5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73F-E980-47D3-903B-951DE40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51D-8D35-474F-A216-430CEDC7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487E-3A4E-4D5F-AADC-A6B849F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BF0-3FA5-4683-96E9-2DEA2D60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A493-2439-466F-8EFE-275D0CA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3AA3-2E8A-42B4-91CC-01A7525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456-0C43-497D-9324-7666D50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9210-10F5-4C9C-B504-1596438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9C0C-30D2-42C0-BE76-A9550320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6304-0A16-4D33-B6D9-79C84C7B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48F0-2C33-4050-824E-483955A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1D56-1A3B-48E7-B2AB-F01F4B8C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7ACD-3F46-4283-9328-B69FB8A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D812-BD19-4386-8AC6-EE881FCF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5BA-086F-43A3-B187-BB3DAE6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DE04-49B0-4D9C-B8E7-7FE438D0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E6F2-BFAF-48FA-89C2-8BB4808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4C2D-2B9F-4E87-8EE4-0E1F52A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C452-3F61-4E43-96B5-063367C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422D-DCD9-41DA-8D49-9C491A9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563F-BF17-4161-B8DC-9926BC34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821E-6567-463F-8FBB-0FB6F545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11C1-CBA8-42A3-9336-F513977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8713-F5F8-43E2-BFBB-60ADB69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910D-065C-40A8-AAEC-696931C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7EB-46DC-48D5-88BC-BD7139E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6157-0755-4A2D-AB56-2C5AE1DB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5804-90A9-4BE7-B8AA-FBBAA60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3E15-9FD4-45FF-936E-FCC0ED3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BA3D-F5D2-40A1-BD7F-0592E28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4EE7-AAA9-46B1-B813-614AE7C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34BA-D919-4114-B77E-C9384B2D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B4E2-AA85-435A-94ED-87EDF8A9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E70B-0645-4FAB-A2E2-52B2FE06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2808-A8F6-4DD0-8446-F40BDD42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4367-85AA-413D-A7EF-E91888F5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459-4634-455F-A2B1-E1CFC66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3755-7CAF-431D-95A4-EE3FAF71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F99F-FF1E-47D9-9E90-C158ADD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0116-232A-4E30-9303-368E5A0C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B919-252F-457D-8511-70ED220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46B8-2962-48B9-857F-0845ECB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7A964-FBE3-4CEB-A766-DF3B95F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4A03-09DB-4AC0-AFDC-BCCCC0E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51E7-BCD5-46C4-A470-365DF66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BD46A-C56E-4276-AA63-D506B0AB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351B-03F6-4459-8571-2D7027CD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B46-7E90-4CBA-9BD4-D92049F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0A8B-9D35-45DF-8395-397C093D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518EB-BDC9-4299-BCE2-FE2624E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EBE8-D8ED-42C4-8022-CDD02BDF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4BE8-841E-49A2-B8E2-40A42CA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94C2-EA8D-450D-A46A-72C8729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C7D0-8791-4C2C-B458-9770B86D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3BCE-20FC-4772-98F4-0ECFF5E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70F4-8453-4883-B66F-B5BC015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594F-B3D7-4CBB-95DF-0185670D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34162-7507-47DD-870F-2BD3A20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9CD-DDFA-4237-B35A-93C5BFA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6BB1-5DB8-491F-96B8-E73D66A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F4A3-54F1-4BFF-B8AB-CBA65B1C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8D62-429F-4944-9235-140D390E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CC1E-C1BD-45DC-B274-F9D6C83A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C599-58FB-401B-9A38-0AE830C8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8217-D2A3-4C22-8071-6D3F45F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4B0F-7045-4E14-A5CA-4F1C022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3BDF-7C11-4B26-BF0F-2C35056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AAA2-8724-434C-8944-B2EE452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3FAD-7437-4E82-9C1C-8116C51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07F-553C-41DD-8749-CF35C86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C1B2A-5B67-4510-8DBA-94E1176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51C9-6CE9-4764-9DD3-C58D4AB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C5DEB-3C49-45AB-9795-BAA43AF0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4796-255D-40F7-8756-1E51BDDC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4B9B-8BF3-4094-AABB-93572A97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87C-F202-4264-A65E-C8A8ABE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710-4893-40BD-8AB2-8C0329E77E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D6B-08B7-4A7C-A49E-8A56FBBED2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E91-2EF7-4201-90EC-44AE991306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01E-6F43-4118-BD66-4306089754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39F-0CBC-4135-91BA-8706CC237F8F}" type="slidenum">
              <a:rPr b="0" lang="ru-RU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6FA-5641-41F8-8135-3B63DFF0AE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4B7-9E40-4714-972E-A36408B6DF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5b6e5"/>
                </a:solidFill>
                <a:latin typeface="Calibri Light"/>
              </a:rPr>
              <a:t>Презентация по теме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5b6e5"/>
                </a:solidFill>
                <a:latin typeface="Calibri Light"/>
              </a:rPr>
              <a:t>«ОКРУЖНОСТЬ И ДЛИНА ОКРУЖНОСТИ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468360" y="476280"/>
            <a:ext cx="325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Радиус арены цирка имеет длину 12,8 м. Найдите длину арены цирка (окружности, определяющей арену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http://cs10782.vk.me/u723368/153876617/x_5bf51d50.jpg"/>
          <p:cNvPicPr/>
          <p:nvPr/>
        </p:nvPicPr>
        <p:blipFill>
          <a:blip r:embed="rId1"/>
          <a:stretch/>
        </p:blipFill>
        <p:spPr>
          <a:xfrm>
            <a:off x="2916360" y="2230560"/>
            <a:ext cx="57528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395280" y="404640"/>
            <a:ext cx="56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Чтобы определить диаметр ствола дерева, лесник измерил длину окружности ствола с помощью веревки. Она равна 3,3 м. Каков диаметр ствола дере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http://www.lesmaster.com/img/diametr_stvola_dereva.jpg"/>
          <p:cNvPicPr/>
          <p:nvPr/>
        </p:nvPicPr>
        <p:blipFill>
          <a:blip r:embed="rId1"/>
          <a:stretch/>
        </p:blipFill>
        <p:spPr>
          <a:xfrm>
            <a:off x="5724360" y="2158920"/>
            <a:ext cx="3095640" cy="412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http://pixelbrush.ru/uploads/posts/2010-08/1283267259_th_094cp-copy.jpg"/>
          <p:cNvPicPr/>
          <p:nvPr/>
        </p:nvPicPr>
        <p:blipFill>
          <a:blip r:embed="rId2"/>
          <a:stretch/>
        </p:blipFill>
        <p:spPr>
          <a:xfrm>
            <a:off x="900000" y="2120760"/>
            <a:ext cx="35276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324000" y="333360"/>
            <a:ext cx="63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Определите радиус ствола дерева-гиганта  радужного эвкалипта, длина окружности ствола которого 25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http://terramia.ru/wp-content/uploads/2013/02/Rainbow-Eucalyptus-30.jpg"/>
          <p:cNvPicPr/>
          <p:nvPr/>
        </p:nvPicPr>
        <p:blipFill>
          <a:blip r:embed="rId1"/>
          <a:stretch/>
        </p:blipFill>
        <p:spPr>
          <a:xfrm>
            <a:off x="2217600" y="1535040"/>
            <a:ext cx="44164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5280" y="404280"/>
            <a:ext cx="36720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15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Молодцы,    ребята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395280" y="2133720"/>
            <a:ext cx="118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Вы сегодня прекрасно работал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395280" y="4076640"/>
            <a:ext cx="106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Вы настоящие исследоват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http://math-prosto.ru/images/circle/circle_radius_diameter.png"/>
          <p:cNvPicPr/>
          <p:nvPr/>
        </p:nvPicPr>
        <p:blipFill>
          <a:blip r:embed="rId1"/>
          <a:stretch/>
        </p:blipFill>
        <p:spPr>
          <a:xfrm>
            <a:off x="4572000" y="1347840"/>
            <a:ext cx="4176720" cy="380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aniramio.ru/wp-content/uploads/2012/03/motivator-koleso.jpg"/>
          <p:cNvPicPr/>
          <p:nvPr/>
        </p:nvPicPr>
        <p:blipFill>
          <a:blip r:embed="rId2"/>
          <a:stretch/>
        </p:blipFill>
        <p:spPr>
          <a:xfrm>
            <a:off x="324000" y="1346040"/>
            <a:ext cx="3543120" cy="42292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6"/>
          <p:cNvSpPr/>
          <p:nvPr/>
        </p:nvSpPr>
        <p:spPr>
          <a:xfrm>
            <a:off x="1620360" y="990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5937840" y="990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741960" y="351000"/>
            <a:ext cx="75934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b6e5"/>
                </a:solidFill>
                <a:latin typeface="Verdana"/>
              </a:rPr>
              <a:t>В каких из знакомых вами предметах есть окруж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5" descr="http://www.usiter.com/uploads/20111214/chashka+chajnaya+chashkafarforovaya+chashka+posuda+36271895735.jpg"/>
          <p:cNvPicPr/>
          <p:nvPr/>
        </p:nvPicPr>
        <p:blipFill>
          <a:blip r:embed="rId1"/>
          <a:stretch/>
        </p:blipFill>
        <p:spPr>
          <a:xfrm>
            <a:off x="754200" y="1328760"/>
            <a:ext cx="2047680" cy="2047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7" descr="http://www.cafecomplect.ru/sites/default/files/images/product/%D0%BA%D1%821501.jpg"/>
          <p:cNvPicPr/>
          <p:nvPr/>
        </p:nvPicPr>
        <p:blipFill>
          <a:blip r:embed="rId2"/>
          <a:stretch/>
        </p:blipFill>
        <p:spPr>
          <a:xfrm>
            <a:off x="5740560" y="1125360"/>
            <a:ext cx="2757240" cy="2084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9" descr="http://usiter.com/uploads/20111214/steklyannij+bokal+steklyannij+stakan+posuda+steklyannaya+posuda+steklyannij+fuzher+stakan+31108738978.jpg"/>
          <p:cNvPicPr/>
          <p:nvPr/>
        </p:nvPicPr>
        <p:blipFill>
          <a:blip r:embed="rId3"/>
          <a:stretch/>
        </p:blipFill>
        <p:spPr>
          <a:xfrm>
            <a:off x="1547640" y="3860640"/>
            <a:ext cx="2279880" cy="2281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1" descr="http://e-da.tv/static/receipts/ingredients/banka-3l_1.jpg"/>
          <p:cNvPicPr/>
          <p:nvPr/>
        </p:nvPicPr>
        <p:blipFill>
          <a:blip r:embed="rId4"/>
          <a:stretch/>
        </p:blipFill>
        <p:spPr>
          <a:xfrm>
            <a:off x="4627440" y="34606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3" descr=""/>
          <p:cNvPicPr/>
          <p:nvPr/>
        </p:nvPicPr>
        <p:blipFill>
          <a:blip r:embed="rId1"/>
          <a:stretch/>
        </p:blipFill>
        <p:spPr>
          <a:xfrm>
            <a:off x="1158840" y="341280"/>
            <a:ext cx="6888240" cy="1285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"/>
          <p:cNvSpPr/>
          <p:nvPr/>
        </p:nvSpPr>
        <p:spPr>
          <a:xfrm>
            <a:off x="600120" y="131112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1. Обведите контур окружности в предметах (кружки, стакана, пробки, блюдца, банк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2. Отметьте центр О полученной окру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. Проведите диаметр АВ построенной окру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4.Измерьте длину радиуса окружности ОА, запиши ее в тетр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 =…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5. Измерьте длину диаметра АВ, запиши ее в тетрад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=…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http://shop.servis-da.ru/products_pictures/310311.jpg"/>
          <p:cNvPicPr/>
          <p:nvPr/>
        </p:nvPicPr>
        <p:blipFill>
          <a:blip r:embed="rId2"/>
          <a:stretch/>
        </p:blipFill>
        <p:spPr>
          <a:xfrm rot="11048400">
            <a:off x="6726240" y="4064760"/>
            <a:ext cx="1876320" cy="1878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http://uveto.ru/catalog/images/E00151/02.jpg"/>
          <p:cNvPicPr/>
          <p:nvPr/>
        </p:nvPicPr>
        <p:blipFill>
          <a:blip r:embed="rId3"/>
          <a:stretch/>
        </p:blipFill>
        <p:spPr>
          <a:xfrm rot="18879600">
            <a:off x="5886360" y="18014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181080" y="189000"/>
            <a:ext cx="89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Исследователь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324000" y="1413000"/>
            <a:ext cx="48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1. Сравни длины радиуса и диаметра для каждой окружност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 D=…R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2. Ниткой измерьте длину каждой окружности (предмета), запиши ее в тетрадь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C=…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м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. Разделите длину каждой окружности на длину ее диаметра (на калькулято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Назовите результаты, округлив их до цел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о соты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6596280" y="1414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=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http://fedpress.ru/sites/fedpress/files/tvergiles/news/kalkulyator.jpg"/>
          <p:cNvPicPr/>
          <p:nvPr/>
        </p:nvPicPr>
        <p:blipFill>
          <a:blip r:embed="rId1"/>
          <a:stretch/>
        </p:blipFill>
        <p:spPr>
          <a:xfrm>
            <a:off x="5580000" y="2492280"/>
            <a:ext cx="3299040" cy="205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geometry.buriks.ru/images/e/ea/CircleOR.png"/>
          <p:cNvPicPr/>
          <p:nvPr/>
        </p:nvPicPr>
        <p:blipFill>
          <a:blip r:embed="rId2"/>
          <a:stretch/>
        </p:blipFill>
        <p:spPr>
          <a:xfrm>
            <a:off x="3495600" y="4365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3378240" y="2205000"/>
                <a:ext cx="2879640" cy="376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TextBox 1"/>
          <p:cNvSpPr/>
          <p:nvPr/>
        </p:nvSpPr>
        <p:spPr>
          <a:xfrm>
            <a:off x="785880" y="33336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Verdana"/>
                <a:ea typeface="Verdana"/>
              </a:rPr>
              <a:t>Какой вывод можно с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2"/>
          <p:cNvSpPr/>
          <p:nvPr/>
        </p:nvSpPr>
        <p:spPr>
          <a:xfrm>
            <a:off x="5219640" y="857160"/>
            <a:ext cx="33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2"/>
          <p:cNvSpPr/>
          <p:nvPr/>
        </p:nvSpPr>
        <p:spPr>
          <a:xfrm>
            <a:off x="1650960" y="1951200"/>
            <a:ext cx="357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179280" y="162000"/>
            <a:ext cx="547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лина любой окружности примерно в 3 раза больше диаметра. Математики Древней Греции стали обозначать это число буквой греческого алфавита –    пи).  Нам для вычислений достаточно использовать значени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, округленное до разряда сотых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≈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3,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3564000" y="1397160"/>
            <a:ext cx="357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46266"/>
                </a:solidFill>
                <a:latin typeface="Symbol"/>
                <a:ea typeface="Symbol"/>
              </a:rPr>
              <a:t>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1" descr="http://festival.1september.ru/articles/608317/img1.gif"/>
          <p:cNvPicPr/>
          <p:nvPr/>
        </p:nvPicPr>
        <p:blipFill>
          <a:blip r:embed="rId1"/>
          <a:stretch/>
        </p:blipFill>
        <p:spPr>
          <a:xfrm>
            <a:off x="150840" y="3573360"/>
            <a:ext cx="6543720" cy="242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https://upload.wikimedia.org/wikipedia/commons/thumb/3/3f/Sanzio_01_Pythagoras.jpg/800px-Sanzio_01_Pythagoras.jpg"/>
          <p:cNvPicPr/>
          <p:nvPr/>
        </p:nvPicPr>
        <p:blipFill>
          <a:blip r:embed="rId2"/>
          <a:stretch/>
        </p:blipFill>
        <p:spPr>
          <a:xfrm>
            <a:off x="6240600" y="260280"/>
            <a:ext cx="2824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extBox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2573280" cy="1292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139400" y="333360"/>
            <a:ext cx="647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Основные форму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TextBox 3" descr=""/>
          <p:cNvPicPr/>
          <p:nvPr/>
        </p:nvPicPr>
        <p:blipFill>
          <a:blip r:embed="rId2"/>
          <a:stretch/>
        </p:blipFill>
        <p:spPr>
          <a:xfrm>
            <a:off x="5499000" y="1511280"/>
            <a:ext cx="2541600" cy="1287360"/>
          </a:xfrm>
          <a:prstGeom prst="rect">
            <a:avLst/>
          </a:prstGeom>
          <a:ln w="0">
            <a:noFill/>
          </a:ln>
        </p:spPr>
      </p:pic>
      <p:pic>
        <p:nvPicPr>
          <p:cNvPr id="342" name="TextBox 4" descr=""/>
          <p:cNvPicPr/>
          <p:nvPr/>
        </p:nvPicPr>
        <p:blipFill>
          <a:blip r:embed="rId3"/>
          <a:stretch/>
        </p:blipFill>
        <p:spPr>
          <a:xfrm>
            <a:off x="3127320" y="3571920"/>
            <a:ext cx="24987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Кольцо 1"/>
          <p:cNvSpPr/>
          <p:nvPr/>
        </p:nvSpPr>
        <p:spPr>
          <a:xfrm>
            <a:off x="2873520" y="2781360"/>
            <a:ext cx="3429000" cy="3286080"/>
          </a:xfrm>
          <a:custGeom>
            <a:avLst/>
            <a:gdLst/>
            <a:ahLst/>
            <a:rect l="l" t="t" r="r" b="b"/>
            <a:pathLst>
              <a:path w="3429000" h="3286125">
                <a:moveTo>
                  <a:pt x="0" y="1643063"/>
                </a:moveTo>
                <a:cubicBezTo>
                  <a:pt x="0" y="735624"/>
                  <a:pt x="767608" y="0"/>
                  <a:pt x="1714500" y="0"/>
                </a:cubicBezTo>
                <a:cubicBezTo>
                  <a:pt x="2661392" y="0"/>
                  <a:pt x="3429000" y="735624"/>
                  <a:pt x="3429000" y="1643063"/>
                </a:cubicBezTo>
                <a:cubicBezTo>
                  <a:pt x="3429000" y="2550502"/>
                  <a:pt x="2661392" y="3286126"/>
                  <a:pt x="1714500" y="3286126"/>
                </a:cubicBezTo>
                <a:cubicBezTo>
                  <a:pt x="767608" y="3286126"/>
                  <a:pt x="0" y="2550502"/>
                  <a:pt x="0" y="1643063"/>
                </a:cubicBezTo>
                <a:close/>
                <a:moveTo>
                  <a:pt x="821531" y="1643063"/>
                </a:moveTo>
                <a:cubicBezTo>
                  <a:pt x="821531" y="2096782"/>
                  <a:pt x="1221327" y="2464594"/>
                  <a:pt x="1714500" y="2464594"/>
                </a:cubicBezTo>
                <a:cubicBezTo>
                  <a:pt x="2207673" y="2464594"/>
                  <a:pt x="2607469" y="2096782"/>
                  <a:pt x="2607469" y="1643063"/>
                </a:cubicBezTo>
                <a:cubicBezTo>
                  <a:pt x="2607469" y="1189344"/>
                  <a:pt x="2207673" y="821532"/>
                  <a:pt x="1714500" y="821532"/>
                </a:cubicBezTo>
                <a:cubicBezTo>
                  <a:pt x="1221327" y="821532"/>
                  <a:pt x="821531" y="1189344"/>
                  <a:pt x="821531" y="1643063"/>
                </a:cubicBezTo>
                <a:close/>
              </a:path>
            </a:pathLst>
          </a:custGeom>
          <a:noFill/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1164240" y="260280"/>
            <a:ext cx="710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5b6e5"/>
                </a:solidFill>
                <a:latin typeface="Arial"/>
              </a:rPr>
              <a:t>Практи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55640" y="126828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Искусственный водоем имеет форму кольца. Найдите длину внутреннего и внешнего ограждений этого водо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6"/>
          <p:cNvSpPr/>
          <p:nvPr/>
        </p:nvSpPr>
        <p:spPr>
          <a:xfrm>
            <a:off x="4587840" y="4357800"/>
            <a:ext cx="733320" cy="503280"/>
          </a:xfrm>
          <a:prstGeom prst="line">
            <a:avLst/>
          </a:prstGeom>
          <a:ln w="255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4"/>
          <p:cNvSpPr/>
          <p:nvPr/>
        </p:nvSpPr>
        <p:spPr>
          <a:xfrm>
            <a:off x="4587840" y="4357800"/>
            <a:ext cx="0" cy="1701720"/>
          </a:xfrm>
          <a:prstGeom prst="line">
            <a:avLst/>
          </a:prstGeom>
          <a:ln w="255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 rot="2041800">
            <a:off x="4766040" y="4333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5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 rot="211800">
            <a:off x="3970440" y="53942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b6e5"/>
                </a:solidFill>
                <a:latin typeface="Arial"/>
              </a:rPr>
              <a:t>7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1:14:24Z</dcterms:created>
  <dc:creator>Света</dc:creator>
  <dc:description/>
  <dc:language>en-US</dc:language>
  <cp:lastModifiedBy>Lyapina Natalina</cp:lastModifiedBy>
  <dcterms:modified xsi:type="dcterms:W3CDTF">2015-02-02T14:17:28Z</dcterms:modified>
  <cp:revision>57</cp:revision>
  <dc:subject/>
  <dc:title>Слайд 1</dc:title>
</cp:coreProperties>
</file>