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7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12.png" ContentType="image/png"/>
  <Override PartName="/ppt/media/image2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move the slid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56126-3E10-4C02-AC3E-3FB3877133A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F6D74-8D7E-4AB8-B8D2-E216F822F83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3FD4-ADE8-4C17-8143-481E2ACDC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344E-5570-4F5F-B6C8-4E1DE978C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C101-0FF4-46C0-9A90-031D253EF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B72D-975F-48BC-BA0F-D5018E72B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D52D9-1E00-4779-AE9C-E56FD9627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D5BBA-2E84-4B13-8EE7-39ACBF293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15EF8-0BA2-4BC5-B983-03C88D25C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E7E24-6177-4359-BF6C-855C63B93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09F08-1F30-48D2-A4B3-16E548D98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EC34F-55C3-4D28-9ECA-32181E699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BFA9E-3E30-4AB7-A7AF-C61F066E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D93D-33B4-425B-91DD-B197E1E99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7D06E-9FD0-4FC1-B82D-AEA9C020A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2EB46-3054-4B07-A336-EC3E9F0C1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0A0A3-3136-4D54-9CE2-91DFB5470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2DA8E-715A-4EEC-B61E-B1060FCED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B3F98-6D3F-425D-BA69-898F6CD40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5424F-EE74-4076-B19E-34AB4B3F7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A88F8-1EF9-41CC-A8F4-6A4ADAB94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B3B25-87C1-4FFC-B09D-1B640FA3F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9F547-6A57-4A90-85B9-80482C185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411E1-D786-46B1-90EF-32A924162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3453-9C7B-424B-9B1A-1157CB723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30653-85CB-4E74-86F3-48333A2E6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8BD3B-D621-4F5F-9901-2CE62C0B0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A6BC5-3F9D-4855-A1D5-05132A77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653B1-3E8E-467A-81E0-ED530928C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F4140-85DC-4866-B56C-E81247F16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29ECF-A57B-41A6-BB3B-83AD8D458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E7BFC-F94B-49E1-916A-B51775D94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D1A15-7353-4EE2-8E05-0652887FF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22B90-0768-4082-8FC0-8CDBCD8A0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264E5-D5AE-43C2-B699-6DCBD7331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918A-153E-4A2F-B36B-8D3F35F10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91D37-A3C6-4DA4-BF63-F0C8E37AA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8C054-05BF-4EEF-874E-167A9FC1F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2A270-BCE9-4848-BD29-E37C3E539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A6015-6467-4675-933C-C28D0105B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E5D54-1CFF-47BA-9D49-B65ED988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F79D3-9382-40CE-BE19-7B74117A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4BCA0-8E15-4C69-812A-57CDDA8F8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1ED93-8FAE-4AEC-82BA-769778C8C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7D036-5225-4C97-9A3D-8EC0E9EE0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2C862D-C629-4719-8C6B-B4ADD02BE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EDA2-CA3D-469C-965E-19210B1BF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4B84F7-FDB3-46AB-AF11-8654DC6E4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3C3B1E-98DF-435D-B328-FD711998C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01E051-BEDB-41F6-8EC4-4BBE7FC69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7CD817-ECEC-49DF-855F-4BA714A01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47248A-770A-4D8D-BAFE-90522923F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AC8444-1DF3-48AF-9926-D5202CC3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C5B757-B7C6-46A0-B193-FFB79586C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F76C71-5F1B-47E4-A8F5-DE1C3933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955EA-2083-49B0-BCC3-D92B21D24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3FD9BA-02EE-4390-BC01-840FE2B10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7D10-31F6-450A-B69B-EC9B1CA04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EAC7DF-C8FE-4DFC-B27E-D0FF5BE9A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BD9DE9-1A13-4090-AB09-903EBD2A4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3186B4-0AFE-4282-8763-56B85F376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56532F-C95B-4095-B4DB-B34558374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087B19-F71E-468A-9939-9F930F66F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5E7B64-E31D-4FED-AC8D-0DB212842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BA6A03-1627-4FFC-85EE-43EBEB87C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E6AC1A-2BF0-4569-9714-AA6C729F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36F224-216A-496E-8974-E47F5461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69458E-AC66-4924-B4E2-99B7878BE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BA1E-F69F-4A23-8375-CBC46190D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A5AFFC-A6BC-42D0-A739-8CBF0A5EC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A4F44B-D653-4BF4-91E5-571C77BB6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F4BD4-7BE3-4777-9B5B-D9F5D93F6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D2D1CE-25B3-447E-938F-F1F124E7E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09C078-A971-4D82-ADC2-352F97946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5482FE-EC27-49D5-9BE5-0FDE4781C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625663-F0EA-4DC0-B5CD-1A5465511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6A6760-C280-4A51-BFF2-ADEC12419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D16003-A25F-4C7A-8614-BEEFE3852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98F21F-328E-442D-A0E6-97C710B0F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1A7D-3C10-451A-89F2-65449BAD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C13223-00C2-48CB-82CA-7726B2DC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52C052-6025-4F94-A4C2-0A9565F9C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8FAD14-30B3-4ED5-9792-021767151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F3B251-2EF0-4836-921C-9A5C58072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F66D8-E7B3-44CF-AB44-04971705E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DE42-3F09-4FC2-8A73-D490E84BC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D5AE7-19F4-48DA-B52B-AA4E400E017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6FAEA-1E69-4B1D-815A-7C678CCA991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A2604-299B-4EBC-9722-ABBCEEDCEA5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F89F5-E674-4385-8544-E59CAE25C22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4406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B6987-0E13-45BA-88B5-996C198BCD4B}" type="slidenum">
              <a:rPr b="0" lang="ru-RU" sz="1000" spc="-1" strike="noStrike">
                <a:solidFill>
                  <a:srgbClr val="34406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CF31D-79ED-4D2C-AA78-138D53FF4C1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21F2D-9EDF-40B8-AD00-E6484317A3A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21880" y="758880"/>
            <a:ext cx="7543800" cy="35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75b6e5"/>
                </a:solidFill>
                <a:latin typeface="Calibri Light"/>
              </a:rPr>
              <a:t>Презентация по теме</a:t>
            </a:r>
            <a:endParaRPr b="0" lang="en-US" sz="8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825120" y="44557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5b6e5"/>
                </a:solidFill>
                <a:latin typeface="Calibri Light"/>
              </a:rPr>
              <a:t>«ОКРУЖНОСТЬ И ДЛИНА ОКРУЖНОСТИ»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Box 1"/>
          <p:cNvSpPr/>
          <p:nvPr/>
        </p:nvSpPr>
        <p:spPr>
          <a:xfrm>
            <a:off x="468360" y="476280"/>
            <a:ext cx="3254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Verdana"/>
              </a:rPr>
              <a:t>Радиус арены цирка имеет длину 12,8 м. Найдите длину арены цирка (окружности, определяющей арену)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2" descr="http://cs10782.vk.me/u723368/153876617/x_5bf51d50.jpg"/>
          <p:cNvPicPr/>
          <p:nvPr/>
        </p:nvPicPr>
        <p:blipFill>
          <a:blip r:embed="rId1"/>
          <a:stretch/>
        </p:blipFill>
        <p:spPr>
          <a:xfrm>
            <a:off x="2916360" y="2230560"/>
            <a:ext cx="5752800" cy="38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Box 1"/>
          <p:cNvSpPr/>
          <p:nvPr/>
        </p:nvSpPr>
        <p:spPr>
          <a:xfrm>
            <a:off x="395280" y="404640"/>
            <a:ext cx="5689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Verdana"/>
              </a:rPr>
              <a:t>Чтобы определить диаметр ствола дерева, лесник измерил длину окружности ствола с помощью веревки. Она равна 3,3 м. Каков диаметр ствола дерев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12" descr="http://www.lesmaster.com/img/diametr_stvola_dereva.jpg"/>
          <p:cNvPicPr/>
          <p:nvPr/>
        </p:nvPicPr>
        <p:blipFill>
          <a:blip r:embed="rId1"/>
          <a:stretch/>
        </p:blipFill>
        <p:spPr>
          <a:xfrm>
            <a:off x="5724360" y="2158920"/>
            <a:ext cx="3095640" cy="412920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4" descr="http://pixelbrush.ru/uploads/posts/2010-08/1283267259_th_094cp-copy.jpg"/>
          <p:cNvPicPr/>
          <p:nvPr/>
        </p:nvPicPr>
        <p:blipFill>
          <a:blip r:embed="rId2"/>
          <a:stretch/>
        </p:blipFill>
        <p:spPr>
          <a:xfrm>
            <a:off x="900000" y="2120760"/>
            <a:ext cx="3527640" cy="42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Box 1"/>
          <p:cNvSpPr/>
          <p:nvPr/>
        </p:nvSpPr>
        <p:spPr>
          <a:xfrm>
            <a:off x="324000" y="333360"/>
            <a:ext cx="631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Verdana"/>
              </a:rPr>
              <a:t>Определите радиус ствола дерева-гиганта  радужного эвкалипта, длина окружности ствола которого 25 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8" descr="http://terramia.ru/wp-content/uploads/2013/02/Rainbow-Eucalyptus-30.jpg"/>
          <p:cNvPicPr/>
          <p:nvPr/>
        </p:nvPicPr>
        <p:blipFill>
          <a:blip r:embed="rId1"/>
          <a:stretch/>
        </p:blipFill>
        <p:spPr>
          <a:xfrm>
            <a:off x="2217600" y="1535040"/>
            <a:ext cx="441648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395280" y="404280"/>
            <a:ext cx="367200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1000"/>
          </a:bodyPr>
          <a:p>
            <a:pPr marL="82080" indent="158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5b6e5"/>
                </a:solidFill>
                <a:latin typeface="Verdana"/>
                <a:ea typeface="Verdana"/>
              </a:rPr>
              <a:t>Молодцы,    ребята!</a:t>
            </a:r>
            <a:endParaRPr b="0" lang="en-US" sz="4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8" name="TextBox 2"/>
          <p:cNvSpPr/>
          <p:nvPr/>
        </p:nvSpPr>
        <p:spPr>
          <a:xfrm>
            <a:off x="395280" y="2133720"/>
            <a:ext cx="11814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5b6e5"/>
                </a:solidFill>
                <a:latin typeface="Verdana"/>
                <a:ea typeface="Verdana"/>
              </a:rPr>
              <a:t>Вы сегодня прекрасно работали!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3"/>
          <p:cNvSpPr/>
          <p:nvPr/>
        </p:nvSpPr>
        <p:spPr>
          <a:xfrm>
            <a:off x="395280" y="4076640"/>
            <a:ext cx="1065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5b6e5"/>
                </a:solidFill>
                <a:latin typeface="Verdana"/>
                <a:ea typeface="Verdana"/>
              </a:rPr>
              <a:t>Вы настоящие исследователи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2" descr="http://math-prosto.ru/images/circle/circle_radius_diameter.png"/>
          <p:cNvPicPr/>
          <p:nvPr/>
        </p:nvPicPr>
        <p:blipFill>
          <a:blip r:embed="rId1"/>
          <a:stretch/>
        </p:blipFill>
        <p:spPr>
          <a:xfrm>
            <a:off x="4572000" y="1347840"/>
            <a:ext cx="4176720" cy="38098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4" descr="http://aniramio.ru/wp-content/uploads/2012/03/motivator-koleso.jpg"/>
          <p:cNvPicPr/>
          <p:nvPr/>
        </p:nvPicPr>
        <p:blipFill>
          <a:blip r:embed="rId2"/>
          <a:stretch/>
        </p:blipFill>
        <p:spPr>
          <a:xfrm>
            <a:off x="324000" y="1346040"/>
            <a:ext cx="3543120" cy="4229280"/>
          </a:xfrm>
          <a:prstGeom prst="rect">
            <a:avLst/>
          </a:prstGeom>
          <a:ln w="0">
            <a:noFill/>
          </a:ln>
        </p:spPr>
      </p:pic>
      <p:sp>
        <p:nvSpPr>
          <p:cNvPr id="315" name="TextBox 6"/>
          <p:cNvSpPr/>
          <p:nvPr/>
        </p:nvSpPr>
        <p:spPr>
          <a:xfrm>
            <a:off x="1620360" y="990720"/>
            <a:ext cx="9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5b6e5"/>
                </a:solidFill>
                <a:latin typeface="Arial"/>
              </a:rPr>
              <a:t>Колес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7"/>
          <p:cNvSpPr/>
          <p:nvPr/>
        </p:nvSpPr>
        <p:spPr>
          <a:xfrm>
            <a:off x="5937840" y="99072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5b6e5"/>
                </a:solidFill>
                <a:latin typeface="Arial"/>
              </a:rPr>
              <a:t>Окруж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Box 5"/>
          <p:cNvSpPr/>
          <p:nvPr/>
        </p:nvSpPr>
        <p:spPr>
          <a:xfrm>
            <a:off x="741960" y="351000"/>
            <a:ext cx="75934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5b6e5"/>
                </a:solidFill>
                <a:latin typeface="Verdana"/>
              </a:rPr>
              <a:t>В каких из знакомых вами предметах есть окружност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75" descr="http://www.usiter.com/uploads/20111214/chashka+chajnaya+chashkafarforovaya+chashka+posuda+36271895735.jpg"/>
          <p:cNvPicPr/>
          <p:nvPr/>
        </p:nvPicPr>
        <p:blipFill>
          <a:blip r:embed="rId1"/>
          <a:stretch/>
        </p:blipFill>
        <p:spPr>
          <a:xfrm>
            <a:off x="754200" y="1328760"/>
            <a:ext cx="2047680" cy="20476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77" descr="http://www.cafecomplect.ru/sites/default/files/images/product/%D0%BA%D1%821501.jpg"/>
          <p:cNvPicPr/>
          <p:nvPr/>
        </p:nvPicPr>
        <p:blipFill>
          <a:blip r:embed="rId2"/>
          <a:stretch/>
        </p:blipFill>
        <p:spPr>
          <a:xfrm>
            <a:off x="5740560" y="1125360"/>
            <a:ext cx="2757240" cy="208440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79" descr="http://usiter.com/uploads/20111214/steklyannij+bokal+steklyannij+stakan+posuda+steklyannaya+posuda+steklyannij+fuzher+stakan+31108738978.jpg"/>
          <p:cNvPicPr/>
          <p:nvPr/>
        </p:nvPicPr>
        <p:blipFill>
          <a:blip r:embed="rId3"/>
          <a:stretch/>
        </p:blipFill>
        <p:spPr>
          <a:xfrm>
            <a:off x="1547640" y="3860640"/>
            <a:ext cx="2279880" cy="22813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81" descr="http://e-da.tv/static/receipts/ingredients/banka-3l_1.jpg"/>
          <p:cNvPicPr/>
          <p:nvPr/>
        </p:nvPicPr>
        <p:blipFill>
          <a:blip r:embed="rId4"/>
          <a:stretch/>
        </p:blipFill>
        <p:spPr>
          <a:xfrm>
            <a:off x="4627440" y="3460680"/>
            <a:ext cx="2808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Прямоугольник 3" descr=""/>
          <p:cNvPicPr/>
          <p:nvPr/>
        </p:nvPicPr>
        <p:blipFill>
          <a:blip r:embed="rId1"/>
          <a:stretch/>
        </p:blipFill>
        <p:spPr>
          <a:xfrm>
            <a:off x="1158840" y="341280"/>
            <a:ext cx="6888240" cy="1285920"/>
          </a:xfrm>
          <a:prstGeom prst="rect">
            <a:avLst/>
          </a:prstGeom>
          <a:ln w="0">
            <a:noFill/>
          </a:ln>
        </p:spPr>
      </p:pic>
      <p:sp>
        <p:nvSpPr>
          <p:cNvPr id="323" name="Прямоугольник 2"/>
          <p:cNvSpPr/>
          <p:nvPr/>
        </p:nvSpPr>
        <p:spPr>
          <a:xfrm>
            <a:off x="600120" y="1311120"/>
            <a:ext cx="4572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Verdana"/>
              </a:rPr>
              <a:t>1. Обведите контур окружности в предметах (кружки, стакана, пробки, блюдца, банки и т.д.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Verdana"/>
              </a:rPr>
              <a:t>2. Отметьте центр О полученной окруж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Verdana"/>
              </a:rPr>
              <a:t>3. Проведите диаметр АВ построенной окруж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Verdana"/>
              </a:rPr>
              <a:t>4.Измерьте длину радиуса окружности ОА, запиши ее в тетрад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R =….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Verdana"/>
              </a:rPr>
              <a:t>м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Verdana"/>
              </a:rPr>
              <a:t>5. Измерьте длину диаметра АВ, запиши ее в тетрадь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 D=….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Verdana"/>
              </a:rPr>
              <a:t>мм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10" descr="http://shop.servis-da.ru/products_pictures/310311.jpg"/>
          <p:cNvPicPr/>
          <p:nvPr/>
        </p:nvPicPr>
        <p:blipFill>
          <a:blip r:embed="rId2"/>
          <a:stretch/>
        </p:blipFill>
        <p:spPr>
          <a:xfrm rot="11048400">
            <a:off x="6726240" y="4064760"/>
            <a:ext cx="1876320" cy="18781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2" descr="http://uveto.ru/catalog/images/E00151/02.jpg"/>
          <p:cNvPicPr/>
          <p:nvPr/>
        </p:nvPicPr>
        <p:blipFill>
          <a:blip r:embed="rId3"/>
          <a:stretch/>
        </p:blipFill>
        <p:spPr>
          <a:xfrm rot="18879600">
            <a:off x="5886360" y="1801440"/>
            <a:ext cx="25192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Box 1"/>
          <p:cNvSpPr/>
          <p:nvPr/>
        </p:nvSpPr>
        <p:spPr>
          <a:xfrm>
            <a:off x="181080" y="189000"/>
            <a:ext cx="894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75b6e5"/>
                </a:solidFill>
                <a:latin typeface="Arial"/>
              </a:rPr>
              <a:t>Исследовательская рабо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2"/>
          <p:cNvSpPr/>
          <p:nvPr/>
        </p:nvSpPr>
        <p:spPr>
          <a:xfrm>
            <a:off x="324000" y="1413000"/>
            <a:ext cx="4895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Verdana"/>
              </a:rPr>
              <a:t>1. Сравни длины радиуса и диаметра для каждой окружности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  D=…R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Verdan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Verdana"/>
              </a:rPr>
              <a:t>2. Ниткой измерьте длину каждой окружности (предмета), запиши ее в тетрадь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C=…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Verdana"/>
              </a:rPr>
              <a:t>мм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Verdana"/>
              </a:rPr>
              <a:t>3. Разделите длину каждой окружности на длину ее диаметра (на калькуляторе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4.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Verdana"/>
              </a:rPr>
              <a:t> Назовите результаты, округлив их до целых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Verdana"/>
              </a:rPr>
              <a:t>до сотых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3"/>
          <p:cNvSpPr/>
          <p:nvPr/>
        </p:nvSpPr>
        <p:spPr>
          <a:xfrm>
            <a:off x="6596280" y="141444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D=2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2" descr="http://fedpress.ru/sites/fedpress/files/tvergiles/news/kalkulyator.jpg"/>
          <p:cNvPicPr/>
          <p:nvPr/>
        </p:nvPicPr>
        <p:blipFill>
          <a:blip r:embed="rId1"/>
          <a:stretch/>
        </p:blipFill>
        <p:spPr>
          <a:xfrm>
            <a:off x="5580000" y="2492280"/>
            <a:ext cx="3299040" cy="205272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4" descr="http://geometry.buriks.ru/images/e/ea/CircleOR.png"/>
          <p:cNvPicPr/>
          <p:nvPr/>
        </p:nvPicPr>
        <p:blipFill>
          <a:blip r:embed="rId2"/>
          <a:stretch/>
        </p:blipFill>
        <p:spPr>
          <a:xfrm>
            <a:off x="3495600" y="436572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31" name="Object 9"/>
              <p:cNvSpPr txBox="1"/>
              <p:nvPr/>
            </p:nvSpPr>
            <p:spPr>
              <a:xfrm>
                <a:off x="3378240" y="2205000"/>
                <a:ext cx="2879640" cy="376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С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r>
                          <m:t xml:space="preserve">≈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</m:e>
                      <m:e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r>
                          <m:t xml:space="preserve">≈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32" name="TextBox 1"/>
          <p:cNvSpPr/>
          <p:nvPr/>
        </p:nvSpPr>
        <p:spPr>
          <a:xfrm>
            <a:off x="785880" y="333360"/>
            <a:ext cx="8064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75b6e5"/>
                </a:solidFill>
                <a:latin typeface="Verdana"/>
                <a:ea typeface="Verdana"/>
              </a:rPr>
              <a:t>Какой вывод можно сделать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42"/>
          <p:cNvSpPr/>
          <p:nvPr/>
        </p:nvSpPr>
        <p:spPr>
          <a:xfrm>
            <a:off x="5219640" y="857160"/>
            <a:ext cx="3366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46266"/>
                </a:solidFill>
                <a:latin typeface="Symbol"/>
                <a:ea typeface="Symbol"/>
              </a:rPr>
              <a:t>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42"/>
          <p:cNvSpPr/>
          <p:nvPr/>
        </p:nvSpPr>
        <p:spPr>
          <a:xfrm>
            <a:off x="1650960" y="1951200"/>
            <a:ext cx="357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46266"/>
                </a:solidFill>
                <a:latin typeface="Symbol"/>
                <a:ea typeface="Symbol"/>
              </a:rPr>
              <a:t>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1"/>
          <p:cNvSpPr/>
          <p:nvPr/>
        </p:nvSpPr>
        <p:spPr>
          <a:xfrm>
            <a:off x="179280" y="162000"/>
            <a:ext cx="5475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Verdana"/>
              </a:rPr>
              <a:t>Длина любой окружности примерно в 3 раза больше диаметра. Математики Древней Греции стали обозначать это число буквой греческого алфавита –    пи).  Нам для вычислений достаточно использовать значение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  <a:ea typeface="Verdana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Verdana"/>
              </a:rPr>
              <a:t>, округленное до разряда сотых: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Verdana"/>
              </a:rPr>
              <a:t>                      ≈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Verdana"/>
              </a:rPr>
              <a:t>3,1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42"/>
          <p:cNvSpPr/>
          <p:nvPr/>
        </p:nvSpPr>
        <p:spPr>
          <a:xfrm>
            <a:off x="3564000" y="1397160"/>
            <a:ext cx="357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46266"/>
                </a:solidFill>
                <a:latin typeface="Symbol"/>
                <a:ea typeface="Symbol"/>
              </a:rPr>
              <a:t>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11" descr="http://festival.1september.ru/articles/608317/img1.gif"/>
          <p:cNvPicPr/>
          <p:nvPr/>
        </p:nvPicPr>
        <p:blipFill>
          <a:blip r:embed="rId1"/>
          <a:stretch/>
        </p:blipFill>
        <p:spPr>
          <a:xfrm>
            <a:off x="150840" y="3573360"/>
            <a:ext cx="6543720" cy="242424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15" descr="https://upload.wikimedia.org/wikipedia/commons/thumb/3/3f/Sanzio_01_Pythagoras.jpg/800px-Sanzio_01_Pythagoras.jpg"/>
          <p:cNvPicPr/>
          <p:nvPr/>
        </p:nvPicPr>
        <p:blipFill>
          <a:blip r:embed="rId2"/>
          <a:stretch/>
        </p:blipFill>
        <p:spPr>
          <a:xfrm>
            <a:off x="6240600" y="260280"/>
            <a:ext cx="282420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TextBox 1" descr=""/>
          <p:cNvPicPr/>
          <p:nvPr/>
        </p:nvPicPr>
        <p:blipFill>
          <a:blip r:embed="rId1"/>
          <a:stretch/>
        </p:blipFill>
        <p:spPr>
          <a:xfrm>
            <a:off x="530280" y="1511280"/>
            <a:ext cx="2573280" cy="1292400"/>
          </a:xfrm>
          <a:prstGeom prst="rect">
            <a:avLst/>
          </a:prstGeom>
          <a:ln w="0">
            <a:noFill/>
          </a:ln>
        </p:spPr>
      </p:pic>
      <p:sp>
        <p:nvSpPr>
          <p:cNvPr id="340" name="TextBox 2"/>
          <p:cNvSpPr/>
          <p:nvPr/>
        </p:nvSpPr>
        <p:spPr>
          <a:xfrm>
            <a:off x="1139400" y="333360"/>
            <a:ext cx="6473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75b6e5"/>
                </a:solidFill>
                <a:latin typeface="Arial"/>
              </a:rPr>
              <a:t>Основные формул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TextBox 3" descr=""/>
          <p:cNvPicPr/>
          <p:nvPr/>
        </p:nvPicPr>
        <p:blipFill>
          <a:blip r:embed="rId2"/>
          <a:stretch/>
        </p:blipFill>
        <p:spPr>
          <a:xfrm>
            <a:off x="5499000" y="1511280"/>
            <a:ext cx="2541600" cy="1287360"/>
          </a:xfrm>
          <a:prstGeom prst="rect">
            <a:avLst/>
          </a:prstGeom>
          <a:ln w="0">
            <a:noFill/>
          </a:ln>
        </p:spPr>
      </p:pic>
      <p:pic>
        <p:nvPicPr>
          <p:cNvPr id="342" name="TextBox 4" descr=""/>
          <p:cNvPicPr/>
          <p:nvPr/>
        </p:nvPicPr>
        <p:blipFill>
          <a:blip r:embed="rId3"/>
          <a:stretch/>
        </p:blipFill>
        <p:spPr>
          <a:xfrm>
            <a:off x="3127320" y="3571920"/>
            <a:ext cx="2498760" cy="73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Кольцо 1"/>
          <p:cNvSpPr/>
          <p:nvPr/>
        </p:nvSpPr>
        <p:spPr>
          <a:xfrm>
            <a:off x="2873520" y="2781360"/>
            <a:ext cx="3429000" cy="3286080"/>
          </a:xfrm>
          <a:custGeom>
            <a:avLst/>
            <a:gdLst/>
            <a:ahLst/>
            <a:rect l="l" t="t" r="r" b="b"/>
            <a:pathLst>
              <a:path w="3429000" h="3286125">
                <a:moveTo>
                  <a:pt x="0" y="1643063"/>
                </a:moveTo>
                <a:cubicBezTo>
                  <a:pt x="0" y="735624"/>
                  <a:pt x="767608" y="0"/>
                  <a:pt x="1714500" y="0"/>
                </a:cubicBezTo>
                <a:cubicBezTo>
                  <a:pt x="2661392" y="0"/>
                  <a:pt x="3429000" y="735624"/>
                  <a:pt x="3429000" y="1643063"/>
                </a:cubicBezTo>
                <a:cubicBezTo>
                  <a:pt x="3429000" y="2550502"/>
                  <a:pt x="2661392" y="3286126"/>
                  <a:pt x="1714500" y="3286126"/>
                </a:cubicBezTo>
                <a:cubicBezTo>
                  <a:pt x="767608" y="3286126"/>
                  <a:pt x="0" y="2550502"/>
                  <a:pt x="0" y="1643063"/>
                </a:cubicBezTo>
                <a:close/>
                <a:moveTo>
                  <a:pt x="821531" y="1643063"/>
                </a:moveTo>
                <a:cubicBezTo>
                  <a:pt x="821531" y="2096782"/>
                  <a:pt x="1221327" y="2464594"/>
                  <a:pt x="1714500" y="2464594"/>
                </a:cubicBezTo>
                <a:cubicBezTo>
                  <a:pt x="2207673" y="2464594"/>
                  <a:pt x="2607469" y="2096782"/>
                  <a:pt x="2607469" y="1643063"/>
                </a:cubicBezTo>
                <a:cubicBezTo>
                  <a:pt x="2607469" y="1189344"/>
                  <a:pt x="2207673" y="821532"/>
                  <a:pt x="1714500" y="821532"/>
                </a:cubicBezTo>
                <a:cubicBezTo>
                  <a:pt x="1221327" y="821532"/>
                  <a:pt x="821531" y="1189344"/>
                  <a:pt x="821531" y="1643063"/>
                </a:cubicBezTo>
                <a:close/>
              </a:path>
            </a:pathLst>
          </a:custGeom>
          <a:noFill/>
          <a:ln w="15840">
            <a:solidFill>
              <a:srgbClr val="117e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2"/>
          <p:cNvSpPr/>
          <p:nvPr/>
        </p:nvSpPr>
        <p:spPr>
          <a:xfrm>
            <a:off x="1164240" y="260280"/>
            <a:ext cx="7102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75b6e5"/>
                </a:solidFill>
                <a:latin typeface="Arial"/>
              </a:rPr>
              <a:t>Практическая рабо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4"/>
          <p:cNvSpPr/>
          <p:nvPr/>
        </p:nvSpPr>
        <p:spPr>
          <a:xfrm>
            <a:off x="755640" y="1268280"/>
            <a:ext cx="554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Verdana"/>
              </a:rPr>
              <a:t>Искусственный водоем имеет форму кольца. Найдите длину внутреннего и внешнего ограждений этого водое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рямая соединительная линия 6"/>
          <p:cNvSpPr/>
          <p:nvPr/>
        </p:nvSpPr>
        <p:spPr>
          <a:xfrm>
            <a:off x="4587840" y="4357800"/>
            <a:ext cx="733320" cy="503280"/>
          </a:xfrm>
          <a:prstGeom prst="line">
            <a:avLst/>
          </a:prstGeom>
          <a:ln w="2556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Прямая соединительная линия 14"/>
          <p:cNvSpPr/>
          <p:nvPr/>
        </p:nvSpPr>
        <p:spPr>
          <a:xfrm>
            <a:off x="4587840" y="4357800"/>
            <a:ext cx="0" cy="1701720"/>
          </a:xfrm>
          <a:prstGeom prst="line">
            <a:avLst/>
          </a:prstGeom>
          <a:ln w="2556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15"/>
          <p:cNvSpPr/>
          <p:nvPr/>
        </p:nvSpPr>
        <p:spPr>
          <a:xfrm rot="2041800">
            <a:off x="4766040" y="4333680"/>
            <a:ext cx="6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5b6e5"/>
                </a:solidFill>
                <a:latin typeface="Arial"/>
              </a:rPr>
              <a:t>50 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16"/>
          <p:cNvSpPr/>
          <p:nvPr/>
        </p:nvSpPr>
        <p:spPr>
          <a:xfrm rot="211800">
            <a:off x="3970440" y="5394240"/>
            <a:ext cx="6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5b6e5"/>
                </a:solidFill>
                <a:latin typeface="Arial"/>
              </a:rPr>
              <a:t>75 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3T11:14:24Z</dcterms:created>
  <dc:creator>Света</dc:creator>
  <dc:description/>
  <dc:language>en-US</dc:language>
  <cp:lastModifiedBy>Lyapina Natalina</cp:lastModifiedBy>
  <dcterms:modified xsi:type="dcterms:W3CDTF">2015-02-02T14:17:28Z</dcterms:modified>
  <cp:revision>57</cp:revision>
  <dc:subject/>
  <dc:title>Слайд 1</dc:title>
</cp:coreProperties>
</file>