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12.wmf" ContentType="image/x-wmf"/>
  <Override PartName="/ppt/media/image17.gif" ContentType="image/gif"/>
  <Override PartName="/ppt/media/image2.jpeg" ContentType="image/jpe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DBE-E52D-4AAA-9D3C-FCA847B2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4C3-7862-4F68-ADFB-A9EC63B3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158-A7F7-4800-ACAD-36BE1B4E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6B4-8B4E-4363-9794-19B1941D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141-6A33-4949-A7C4-2746C70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7C8-8743-4058-9504-15184D72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EB3-F93F-474B-ABA0-CFD9E93C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79B-2E7E-4A76-A624-84DD606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DCB-7DA2-4474-A748-00EA641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051-3F6A-45F8-947D-881708F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5F5-B716-439E-9F13-1330E21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44F-2833-4B0A-90D3-2E5AD7C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0880-BE20-4D8E-BFE4-B32B2EF72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image" Target="../media/image15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24000" y="5300640"/>
            <a:ext cx="86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чего нужна сила пальцев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 rot="21385200">
            <a:off x="0" y="980640"/>
            <a:ext cx="882000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13333"/>
                </a:srgbClr>
              </a:gs>
              <a:gs pos="100000">
                <a:srgbClr val="ffffff">
                  <a:alpha val="6274"/>
                </a:srgbClr>
              </a:gs>
            </a:gsLst>
            <a:lin ang="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сков, добивание мяча в корзину, вырыва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115920"/>
            <a:ext cx="914400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46274"/>
                </a:srgbClr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ое выполнение передач, средних и даль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 rot="21289800">
            <a:off x="6084720" y="1412640"/>
            <a:ext cx="280836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58039"/>
                </a:srgbClr>
              </a:gs>
              <a:gs pos="100000">
                <a:srgbClr val="b2c0ec">
                  <a:alpha val="19215"/>
                </a:srgbClr>
              </a:gs>
            </a:gsLst>
            <a:lin ang="30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вания мя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 rot="313200">
            <a:off x="4858920" y="2133360"/>
            <a:ext cx="1584360" cy="459720"/>
          </a:xfrm>
          <a:prstGeom prst="rect">
            <a:avLst/>
          </a:prstGeom>
          <a:gradFill rotWithShape="0">
            <a:gsLst>
              <a:gs pos="0">
                <a:srgbClr val="efc8b7">
                  <a:alpha val="58039"/>
                </a:srgbClr>
              </a:gs>
              <a:gs pos="100000">
                <a:srgbClr val="b2c0ec">
                  <a:alpha val="19215"/>
                </a:srgbClr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и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 rot="21385200">
            <a:off x="3780000" y="2852280"/>
            <a:ext cx="3887640" cy="1191240"/>
          </a:xfrm>
          <a:prstGeom prst="rect">
            <a:avLst/>
          </a:prstGeom>
          <a:gradFill rotWithShape="0">
            <a:gsLst>
              <a:gs pos="0">
                <a:srgbClr val="efc8b7">
                  <a:alpha val="13333"/>
                </a:srgbClr>
              </a:gs>
              <a:gs pos="100000">
                <a:srgbClr val="ffffff">
                  <a:alpha val="6274"/>
                </a:srgbClr>
              </a:gs>
            </a:gsLst>
            <a:lin ang="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цев и всей к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0200"/>
          <p:cNvPicPr/>
          <p:nvPr/>
        </p:nvPicPr>
        <p:blipFill>
          <a:blip r:embed="rId1"/>
          <a:stretch/>
        </p:blipFill>
        <p:spPr>
          <a:xfrm rot="21422400">
            <a:off x="178920" y="5876640"/>
            <a:ext cx="552600" cy="761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684360" y="333360"/>
            <a:ext cx="345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ЭКЗАМ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179280" y="1125360"/>
            <a:ext cx="4284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"ШК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ОРАНЖЕВ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ЯЧ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0920" y="2397960"/>
            <a:ext cx="442728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8920" indent="-88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ременно подбрасывать мяч вверх одной рукой и ловить дру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брасывать и ловить одновременно два мя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выполнять, меняя р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стевая передача вправо, влево и назад за счёт поворота руки в лучезапястном суст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баскетбол"/>
          <p:cNvPicPr/>
          <p:nvPr/>
        </p:nvPicPr>
        <p:blipFill>
          <a:blip r:embed="rId2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4"/>
          <p:cNvSpPr/>
          <p:nvPr/>
        </p:nvSpPr>
        <p:spPr>
          <a:xfrm>
            <a:off x="684360" y="489600"/>
            <a:ext cx="5113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2000 лет до нашей э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итае было известно, что игры и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пражнения с участ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ук и паль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ют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азвитие моз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3635280" y="3933720"/>
            <a:ext cx="525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понии была созд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здоравливающая мето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я н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ьтьт"/>
          <p:cNvPicPr/>
          <p:nvPr/>
        </p:nvPicPr>
        <p:blipFill>
          <a:blip r:embed="rId2"/>
          <a:stretch/>
        </p:blipFill>
        <p:spPr>
          <a:xfrm>
            <a:off x="900000" y="3716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тррр"/>
          <p:cNvPicPr/>
          <p:nvPr/>
        </p:nvPicPr>
        <p:blipFill>
          <a:blip r:embed="rId3"/>
          <a:stretch/>
        </p:blipFill>
        <p:spPr>
          <a:xfrm>
            <a:off x="6156360" y="620640"/>
            <a:ext cx="2770200" cy="2076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eat_hea"/>
          <p:cNvPicPr/>
          <p:nvPr/>
        </p:nvPicPr>
        <p:blipFill>
          <a:blip r:embed="rId2"/>
          <a:stretch/>
        </p:blipFill>
        <p:spPr>
          <a:xfrm>
            <a:off x="7524720" y="5673600"/>
            <a:ext cx="863640" cy="8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00800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1042920" y="3357720"/>
            <a:ext cx="1081080" cy="91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5"/>
          <a:stretch/>
        </p:blipFill>
        <p:spPr>
          <a:xfrm>
            <a:off x="7812000" y="2205000"/>
            <a:ext cx="9525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6804000" y="4365720"/>
            <a:ext cx="1254240" cy="109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7"/>
          <a:stretch/>
        </p:blipFill>
        <p:spPr>
          <a:xfrm>
            <a:off x="2411280" y="5373720"/>
            <a:ext cx="851040" cy="86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042920" y="2602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ые медики устано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981000"/>
            <a:ext cx="7634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оздействие на большой палец повышает функциональную активность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08000" y="2133720"/>
            <a:ext cx="7921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на указательный палец положительно воздействует на состояние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983600" y="3573360"/>
            <a:ext cx="51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среднего –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1121400" y="4724280"/>
            <a:ext cx="55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ымянного – н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чень и 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492720" y="5661000"/>
            <a:ext cx="34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зинца –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а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619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гулярные 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пам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умственные способ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траняют эмоциональное напря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деятельность сердечно-сосудистой сис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лучшают деятельность пищеварительной систем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координацию дви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силу р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ют ловкость р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держивают жизненный т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3276720" y="404640"/>
            <a:ext cx="5327640" cy="947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чем польза от выполняемых упражн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03-1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332000" y="620640"/>
            <a:ext cx="741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реть каждый палец активными движ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мать и разжимать пальцы, разводя их как можно ш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ь пальцы в кулак и выполнять круговые движения кистями вправо, в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ь пальцы в кулак, затем по очереди разгибать их, начиная с большо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гибать и разгибать кисти рук – вверх-вниз. Пальцы пря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мать поочерёдно пальцы в кулак, начиная с мизинца, затем разжимать, начиная с большого па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рямить пальцы, большой палец отвести в сторону и выполнять им круговые движения вправо, в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рямить пальцы. Попеременно сгибать и разгибать две первые фаланг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ь указательный палец и вращат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кончиками больших пальцев правой и левой рук поочерёдно касаться кончиков указательных, средних, безымянных пальцев и мизинц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3422880"/>
            <a:ext cx="1476360" cy="3434760"/>
            <a:chOff x="0" y="3422880"/>
            <a:chExt cx="1476360" cy="3434760"/>
          </a:xfrm>
        </p:grpSpPr>
        <p:pic>
          <p:nvPicPr>
            <p:cNvPr id="6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3607200"/>
              <a:ext cx="1476360" cy="325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6"/>
            <p:cNvGrpSpPr/>
            <p:nvPr/>
          </p:nvGrpSpPr>
          <p:grpSpPr>
            <a:xfrm>
              <a:off x="80280" y="3422880"/>
              <a:ext cx="743400" cy="970560"/>
              <a:chOff x="80280" y="3422880"/>
              <a:chExt cx="743400" cy="970560"/>
            </a:xfrm>
          </p:grpSpPr>
          <p:pic>
            <p:nvPicPr>
              <p:cNvPr id="65" name="Picture 7" descr="0200"/>
              <p:cNvPicPr/>
              <p:nvPr/>
            </p:nvPicPr>
            <p:blipFill>
              <a:blip r:embed="rId3"/>
              <a:stretch/>
            </p:blipFill>
            <p:spPr>
              <a:xfrm rot="20442000">
                <a:off x="397440" y="3462840"/>
                <a:ext cx="34092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8" descr="0345"/>
              <p:cNvPicPr/>
              <p:nvPr/>
            </p:nvPicPr>
            <p:blipFill>
              <a:blip r:embed="rId4"/>
              <a:stretch/>
            </p:blipFill>
            <p:spPr>
              <a:xfrm rot="4006800">
                <a:off x="66600" y="3767760"/>
                <a:ext cx="702720" cy="43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Rectangle 10"/>
          <p:cNvSpPr/>
          <p:nvPr/>
        </p:nvSpPr>
        <p:spPr>
          <a:xfrm rot="16200000">
            <a:off x="-911880" y="1423080"/>
            <a:ext cx="308124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аль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3-1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 rot="5400000">
            <a:off x="6676920" y="3333960"/>
            <a:ext cx="3876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движности к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цы правой руки развести, а левой собрать “лодочкой”. Вставляя “лодочку” между пальцами правой руки расширить межпальцевый промеж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нуть руку в локтевом суставе, ладонь вверх, пальцы направлены к телу. Нажимать другой рукой на концы пальцев, выполняя пружинящие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лести пальцы. Сгибать правую руку в лучезапястном суставе, одновременно разгибая кисть левой руки, 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245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с переплетёнными пальцами опустить перед собой вниз ладонями. Не разъединяя рук, перенести через них вперёд сначала одну, затем другую ногу. Повторить то же в друг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50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84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03-1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10920" y="764640"/>
            <a:ext cx="5977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еременно подбрасывать мяч вверх одной рукой и ловить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броска ловить мяч как можно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То же самое выполнять, меняя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я ноги врозь. Согнувшись вперёд, провести руки с мячом между свободно согнутыми ногами и подбросить мяч кверху. Быстро выпрямиться и поймать мяч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ить мяч в стену и поймать одной рукой. Руки 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ижении подбрасывать и ловить мяч попеременно каждой рукой, не нарушая ритма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и встать, удерживая мяч на тыльной стороне кисти. То же самое, но лечь на спину или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расывать и ловить одновременно два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-40680" y="4806360"/>
            <a:ext cx="1830960" cy="1719360"/>
            <a:chOff x="-40680" y="4806360"/>
            <a:chExt cx="1830960" cy="1719360"/>
          </a:xfrm>
        </p:grpSpPr>
        <p:pic>
          <p:nvPicPr>
            <p:cNvPr id="75" name="Picture 5" descr="0257"/>
            <p:cNvPicPr/>
            <p:nvPr/>
          </p:nvPicPr>
          <p:blipFill>
            <a:blip r:embed="rId2"/>
            <a:stretch/>
          </p:blipFill>
          <p:spPr>
            <a:xfrm>
              <a:off x="137880" y="5010840"/>
              <a:ext cx="1282680" cy="15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0345"/>
            <p:cNvPicPr/>
            <p:nvPr/>
          </p:nvPicPr>
          <p:blipFill>
            <a:blip r:embed="rId3"/>
            <a:stretch/>
          </p:blipFill>
          <p:spPr>
            <a:xfrm rot="20841600">
              <a:off x="0" y="5150880"/>
              <a:ext cx="5335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0200"/>
            <p:cNvPicPr/>
            <p:nvPr/>
          </p:nvPicPr>
          <p:blipFill>
            <a:blip r:embed="rId4"/>
            <a:stretch/>
          </p:blipFill>
          <p:spPr>
            <a:xfrm rot="7662600">
              <a:off x="1110240" y="4896360"/>
              <a:ext cx="536040" cy="6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Rectangle 9"/>
          <p:cNvSpPr/>
          <p:nvPr/>
        </p:nvSpPr>
        <p:spPr>
          <a:xfrm rot="16200000">
            <a:off x="-1445400" y="1967760"/>
            <a:ext cx="446544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движности кисти с теннисным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3-1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 rot="5400000">
            <a:off x="5627160" y="3090240"/>
            <a:ext cx="590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для подвижности кисти с большим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ч держать одной рукой хватом снизу. Вращать мяч влево и вправо за счёт энергичного и одновременного вращательного движения всех паль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тевая передача вправо, влево и назад за счёт поворота руки в лучезапястном су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щение мяча вокруг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рживая мяч двумя руками за спиной, энергично вытолкнуть мяч вверх движением кистей так, чтобы он перелетел над головой впер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ти обеих рук в скрещенном положении удерживают мяч перед собой. Энергичным движением кисти вытолкнуть в правую или лев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сти мяч правой рукой за спину, подбросить из-за спины так, чтобы он перелетел через левое плечо, поймать мяч впереди рукой. То же самое выполнять, меняя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3-1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 rot="16200000">
            <a:off x="-2039400" y="2696760"/>
            <a:ext cx="540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я на рассла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920" y="1125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и согнуты в локтях, кисти свободно опущены. Выполнять потряхивание расслабленными ки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стойка, руки свободно опущены. Выполнять маховые движения расслабленными руками вперёд-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и поднять вверх. Уронить руки с последующим свободным покачи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ть круговые движения руками в плечевых или локтевых суставах. Кисти должны быть расслабл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53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ьцы переплетены. Свободные круговые движения расслабленными ки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050"/>
          <p:cNvPicPr/>
          <p:nvPr/>
        </p:nvPicPr>
        <p:blipFill>
          <a:blip r:embed="rId2"/>
          <a:stretch/>
        </p:blipFill>
        <p:spPr>
          <a:xfrm>
            <a:off x="0" y="5746680"/>
            <a:ext cx="1079640" cy="85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3:26:21Z</dcterms:created>
  <dc:creator>777</dc:creator>
  <dc:description/>
  <dc:language>en-US</dc:language>
  <cp:lastModifiedBy>XTreme.ws</cp:lastModifiedBy>
  <dcterms:modified xsi:type="dcterms:W3CDTF">2015-02-03T19:06:21Z</dcterms:modified>
  <cp:revision>15</cp:revision>
  <dc:subject/>
  <dc:title>Слайд 1</dc:title>
</cp:coreProperties>
</file>