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12.wmf" ContentType="image/x-wmf"/>
  <Override PartName="/ppt/media/image17.gif" ContentType="image/gif"/>
  <Override PartName="/ppt/media/image2.jpeg" ContentType="image/jpe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gif" ContentType="image/gif"/>
  <Override PartName="/ppt/media/image4.jpeg" ContentType="image/jpeg"/>
  <Override PartName="/ppt/media/image5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FA8-806C-40B9-9383-4008AB7D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6BA-9B73-47A0-B1AB-358A96E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0A5-BDF6-4FB1-B6D0-B3184279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FFA-2E85-4975-B875-25F73A77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19D-8EF2-409C-8635-8C0F8DE7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383-9F96-4FD3-84E0-6C5B56E9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2DC-4B72-406D-A4B4-56B516A1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78A-261D-43B1-8610-FC8CF122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1DF-C5CE-4AA4-A246-9E271116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5EA-7C17-40B6-AD89-6E9F524A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61B-177D-4326-8675-D93F2DC0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1F6-5C19-4573-9481-F07C3D4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2A2-2489-4DF1-BB1E-20B2A73AD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image" Target="../media/image15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24000" y="5300640"/>
            <a:ext cx="860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чего нужна сила пальцев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 rot="21385200">
            <a:off x="0" y="980640"/>
            <a:ext cx="8820000" cy="459720"/>
          </a:xfrm>
          <a:prstGeom prst="rect">
            <a:avLst/>
          </a:prstGeom>
          <a:gradFill rotWithShape="0">
            <a:gsLst>
              <a:gs pos="0">
                <a:srgbClr val="efc8b7">
                  <a:alpha val="13333"/>
                </a:srgbClr>
              </a:gs>
              <a:gs pos="100000">
                <a:srgbClr val="ffffff">
                  <a:alpha val="6274"/>
                </a:srgbClr>
              </a:gs>
            </a:gsLst>
            <a:lin ang="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осков, добивание мяча в корзину, вырыва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115920"/>
            <a:ext cx="9144000" cy="459720"/>
          </a:xfrm>
          <a:prstGeom prst="rect">
            <a:avLst/>
          </a:prstGeom>
          <a:gradFill rotWithShape="0">
            <a:gsLst>
              <a:gs pos="0">
                <a:srgbClr val="efc8b7">
                  <a:alpha val="46274"/>
                </a:srgbClr>
              </a:gs>
              <a:gs pos="100000">
                <a:srgbClr val="ffffff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ое выполнение передач, средних и даль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 rot="21289800">
            <a:off x="6084720" y="1412640"/>
            <a:ext cx="2808360" cy="459720"/>
          </a:xfrm>
          <a:prstGeom prst="rect">
            <a:avLst/>
          </a:prstGeom>
          <a:gradFill rotWithShape="0">
            <a:gsLst>
              <a:gs pos="0">
                <a:srgbClr val="efc8b7">
                  <a:alpha val="58039"/>
                </a:srgbClr>
              </a:gs>
              <a:gs pos="100000">
                <a:srgbClr val="b2c0ec">
                  <a:alpha val="19215"/>
                </a:srgbClr>
              </a:gs>
            </a:gsLst>
            <a:lin ang="30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вания мя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 rot="313200">
            <a:off x="4858920" y="2133360"/>
            <a:ext cx="1584360" cy="459720"/>
          </a:xfrm>
          <a:prstGeom prst="rect">
            <a:avLst/>
          </a:prstGeom>
          <a:gradFill rotWithShape="0">
            <a:gsLst>
              <a:gs pos="0">
                <a:srgbClr val="efc8b7">
                  <a:alpha val="58039"/>
                </a:srgbClr>
              </a:gs>
              <a:gs pos="100000">
                <a:srgbClr val="b2c0ec">
                  <a:alpha val="19215"/>
                </a:srgbClr>
              </a:gs>
            </a:gsLst>
            <a:lin ang="23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и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3"/>
          <p:cNvSpPr/>
          <p:nvPr/>
        </p:nvSpPr>
        <p:spPr>
          <a:xfrm rot="21385200">
            <a:off x="3780000" y="2852280"/>
            <a:ext cx="3887640" cy="1191240"/>
          </a:xfrm>
          <a:prstGeom prst="rect">
            <a:avLst/>
          </a:prstGeom>
          <a:gradFill rotWithShape="0">
            <a:gsLst>
              <a:gs pos="0">
                <a:srgbClr val="efc8b7">
                  <a:alpha val="13333"/>
                </a:srgbClr>
              </a:gs>
              <a:gs pos="100000">
                <a:srgbClr val="ffffff">
                  <a:alpha val="6274"/>
                </a:srgbClr>
              </a:gs>
            </a:gsLst>
            <a:lin ang="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с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цев и всей к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0200"/>
          <p:cNvPicPr/>
          <p:nvPr/>
        </p:nvPicPr>
        <p:blipFill>
          <a:blip r:embed="rId1"/>
          <a:stretch/>
        </p:blipFill>
        <p:spPr>
          <a:xfrm rot="21422400">
            <a:off x="178920" y="5876640"/>
            <a:ext cx="552600" cy="761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8"/>
          <p:cNvSpPr txBox="1"/>
          <p:nvPr/>
        </p:nvSpPr>
        <p:spPr>
          <a:xfrm>
            <a:off x="684360" y="333360"/>
            <a:ext cx="3456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ЭКЗАМ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3" name="WordArt 9"/>
          <p:cNvSpPr txBox="1"/>
          <p:nvPr/>
        </p:nvSpPr>
        <p:spPr>
          <a:xfrm>
            <a:off x="179280" y="1125360"/>
            <a:ext cx="428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"ШКО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ОРАНЖЕВ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МЯЧ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50920" y="2397960"/>
            <a:ext cx="442728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8920" indent="-88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ременно подбрасывать мяч вверх одной рукой и ловить дру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брасывать и ловить одновременно два мя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вести мяч правой рукой за спину, подбросить из-за спины так, чтобы он перелетел через левое плечо, поймать мяч впереди ру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же самое выполнять, меняя ру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стевая передача вправо, влево и назад за счёт поворота руки в лучезапястном суста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баскетбол"/>
          <p:cNvPicPr/>
          <p:nvPr/>
        </p:nvPicPr>
        <p:blipFill>
          <a:blip r:embed="rId2"/>
          <a:stretch/>
        </p:blipFill>
        <p:spPr>
          <a:xfrm>
            <a:off x="4594320" y="0"/>
            <a:ext cx="454968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4"/>
          <p:cNvSpPr/>
          <p:nvPr/>
        </p:nvSpPr>
        <p:spPr>
          <a:xfrm>
            <a:off x="684360" y="489600"/>
            <a:ext cx="5113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2000 лет до нашей э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итае было известно, что игры и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упражнения с участ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ук и пальц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ют н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азвитие моз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3635280" y="3933720"/>
            <a:ext cx="5256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понии была созд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здоравливающая мето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ействия н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ьтьт"/>
          <p:cNvPicPr/>
          <p:nvPr/>
        </p:nvPicPr>
        <p:blipFill>
          <a:blip r:embed="rId2"/>
          <a:stretch/>
        </p:blipFill>
        <p:spPr>
          <a:xfrm>
            <a:off x="900000" y="37162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тррр"/>
          <p:cNvPicPr/>
          <p:nvPr/>
        </p:nvPicPr>
        <p:blipFill>
          <a:blip r:embed="rId3"/>
          <a:stretch/>
        </p:blipFill>
        <p:spPr>
          <a:xfrm>
            <a:off x="6156360" y="620640"/>
            <a:ext cx="2770200" cy="2076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eat_hea"/>
          <p:cNvPicPr/>
          <p:nvPr/>
        </p:nvPicPr>
        <p:blipFill>
          <a:blip r:embed="rId2"/>
          <a:stretch/>
        </p:blipFill>
        <p:spPr>
          <a:xfrm>
            <a:off x="7524720" y="5673600"/>
            <a:ext cx="863640" cy="81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100800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1042920" y="3357720"/>
            <a:ext cx="1081080" cy="911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5"/>
          <a:stretch/>
        </p:blipFill>
        <p:spPr>
          <a:xfrm>
            <a:off x="7812000" y="2205000"/>
            <a:ext cx="9525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6"/>
          <a:stretch/>
        </p:blipFill>
        <p:spPr>
          <a:xfrm>
            <a:off x="6804000" y="4365720"/>
            <a:ext cx="1254240" cy="109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7"/>
          <a:stretch/>
        </p:blipFill>
        <p:spPr>
          <a:xfrm>
            <a:off x="2411280" y="5373720"/>
            <a:ext cx="851040" cy="86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042920" y="26028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точные медики установ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258920" y="981000"/>
            <a:ext cx="7634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оздействие на большой палец повышает функциональную активность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оловного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08000" y="2133720"/>
            <a:ext cx="7921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ействие на указательный палец положительно воздействует на состояние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жел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983600" y="3573360"/>
            <a:ext cx="51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 среднего – н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1121400" y="4724280"/>
            <a:ext cx="55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ымянного – н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ечень и 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92720" y="5661000"/>
            <a:ext cx="34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зинца –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а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340000" y="1628280"/>
            <a:ext cx="619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гулярные упраж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лучшают пам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лучшают умственные способ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страняют эмоциональное напряж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лучшают деятельность сердечно-сосудистой систе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лучшают деятельность пищеварительной систе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ют координацию дви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ют силу р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ют ловкость ру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держивают жизненный тон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3276720" y="404640"/>
            <a:ext cx="5327640" cy="9471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чем польза от выполняемых упражн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03-1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332000" y="620640"/>
            <a:ext cx="741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реть каждый палец активными движ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имать и разжимать пальцы, разводя их как можно ш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ать пальцы в кулак и выполнять круговые движения кистями вправо, в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ать пальцы в кулак, затем по очереди разгибать их, начиная с большого паль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гибать и разгибать кисти рук – вверх-вниз. Пальцы пря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имать поочерёдно пальцы в кулак, начиная с мизинца, затем разжимать, начиная с большого паль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рямить пальцы, большой палец отвести в сторону и выполнять им круговые движения вправо, в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рямить пальцы. Попеременно сгибать и разгибать две первые фаланги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ь указательный палец и вращат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но кончиками больших пальцев правой и левой рук поочерёдно касаться кончиков указательных, средних, безымянных пальцев и мизинц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0" y="3422880"/>
            <a:ext cx="1476360" cy="3434760"/>
            <a:chOff x="0" y="3422880"/>
            <a:chExt cx="1476360" cy="3434760"/>
          </a:xfrm>
        </p:grpSpPr>
        <p:pic>
          <p:nvPicPr>
            <p:cNvPr id="6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3607200"/>
              <a:ext cx="1476360" cy="325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6"/>
            <p:cNvGrpSpPr/>
            <p:nvPr/>
          </p:nvGrpSpPr>
          <p:grpSpPr>
            <a:xfrm>
              <a:off x="80280" y="3422880"/>
              <a:ext cx="743400" cy="970560"/>
              <a:chOff x="80280" y="3422880"/>
              <a:chExt cx="743400" cy="970560"/>
            </a:xfrm>
          </p:grpSpPr>
          <p:pic>
            <p:nvPicPr>
              <p:cNvPr id="65" name="Picture 7" descr="0200"/>
              <p:cNvPicPr/>
              <p:nvPr/>
            </p:nvPicPr>
            <p:blipFill>
              <a:blip r:embed="rId3"/>
              <a:stretch/>
            </p:blipFill>
            <p:spPr>
              <a:xfrm rot="20442000">
                <a:off x="397440" y="3462840"/>
                <a:ext cx="34092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8" descr="0345"/>
              <p:cNvPicPr/>
              <p:nvPr/>
            </p:nvPicPr>
            <p:blipFill>
              <a:blip r:embed="rId4"/>
              <a:stretch/>
            </p:blipFill>
            <p:spPr>
              <a:xfrm rot="4006800">
                <a:off x="66600" y="3767760"/>
                <a:ext cx="702720" cy="43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" name="Rectangle 10"/>
          <p:cNvSpPr/>
          <p:nvPr/>
        </p:nvSpPr>
        <p:spPr>
          <a:xfrm rot="16200000">
            <a:off x="-911880" y="1423080"/>
            <a:ext cx="308124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аль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03-1"/>
          <p:cNvPicPr/>
          <p:nvPr/>
        </p:nvPicPr>
        <p:blipFill>
          <a:blip r:embed="rId1"/>
          <a:stretch/>
        </p:blipFill>
        <p:spPr>
          <a:xfrm>
            <a:off x="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 rot="5400000">
            <a:off x="6676920" y="3333960"/>
            <a:ext cx="38764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движности к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цы правой руки развести, а левой собрать “лодочкой”. Вставляя “лодочку” между пальцами правой руки расширить межпальцевый промеж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нуть руку в локтевом суставе, ладонь вверх, пальцы направлены к телу. Нажимать другой рукой на концы пальцев, выполняя пружинящие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лести пальцы. Сгибать правую руку в лучезапястном суставе, одновременно разгибая кисть левой руки, 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и с переплетёнными пальцами опустить перед собой вниз ладонями. Не разъединяя рук, перенести через них вперёд сначала одну, затем другую ногу. Повторить то же в другом напра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50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88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03-1"/>
          <p:cNvPicPr/>
          <p:nvPr/>
        </p:nvPicPr>
        <p:blipFill>
          <a:blip r:embed="rId1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410920" y="764640"/>
            <a:ext cx="5977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еременно подбрасывать мяч вверх одной рукой и ловить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броска ловить мяч как можно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сти мяч правой рукой за спину, подбросить из-за спины так, чтобы он перелетел через левое плечо, поймать мяч впереди рукой. То же самое выполнять, меняя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я ноги врозь. Согнувшись вперёд, провести руки с мячом между свободно согнутыми ногами и подбросить мяч кверху. Быстро выпрямиться и поймать мяч в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ить мяч в стену и поймать одной рукой. Руки м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ижении подбрасывать и ловить мяч попеременно каждой рукой, не нарушая ритма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ь и встать, удерживая мяч на тыльной стороне кисти. То же самое, но лечь на спину или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расывать и ловить одновременно два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-40680" y="4806360"/>
            <a:ext cx="1830960" cy="1719360"/>
            <a:chOff x="-40680" y="4806360"/>
            <a:chExt cx="1830960" cy="1719360"/>
          </a:xfrm>
        </p:grpSpPr>
        <p:pic>
          <p:nvPicPr>
            <p:cNvPr id="75" name="Picture 5" descr="0257"/>
            <p:cNvPicPr/>
            <p:nvPr/>
          </p:nvPicPr>
          <p:blipFill>
            <a:blip r:embed="rId2"/>
            <a:stretch/>
          </p:blipFill>
          <p:spPr>
            <a:xfrm>
              <a:off x="137880" y="5010840"/>
              <a:ext cx="1282680" cy="15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0345"/>
            <p:cNvPicPr/>
            <p:nvPr/>
          </p:nvPicPr>
          <p:blipFill>
            <a:blip r:embed="rId3"/>
            <a:stretch/>
          </p:blipFill>
          <p:spPr>
            <a:xfrm rot="20841600">
              <a:off x="0" y="5150880"/>
              <a:ext cx="5335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7" descr="0200"/>
            <p:cNvPicPr/>
            <p:nvPr/>
          </p:nvPicPr>
          <p:blipFill>
            <a:blip r:embed="rId4"/>
            <a:stretch/>
          </p:blipFill>
          <p:spPr>
            <a:xfrm rot="7662600">
              <a:off x="1110240" y="4896360"/>
              <a:ext cx="536040" cy="62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Rectangle 9"/>
          <p:cNvSpPr/>
          <p:nvPr/>
        </p:nvSpPr>
        <p:spPr>
          <a:xfrm rot="16200000">
            <a:off x="-1445400" y="1967760"/>
            <a:ext cx="446544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движности кисти с теннисным мя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03-1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 rot="5400000">
            <a:off x="5627160" y="3090240"/>
            <a:ext cx="590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для подвижности кисти с большим мя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34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ч держать одной рукой хватом снизу. Вращать мяч влево и вправо за счёт энергичного и одновременного вращательного движения всех паль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тевая передача вправо, влево и назад за счёт поворота руки в лучезапястном суст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ащение мяча вокруг тул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ерживая мяч двумя руками за спиной, энергично вытолкнуть мяч вверх движением кистей так, чтобы он перелетел над головой вперё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ти обеих рук в скрещенном положении удерживают мяч перед собой. Энергичным движением кисти вытолкнуть в правую или лев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сти мяч правой рукой за спину, подбросить из-за спины так, чтобы он перелетел через левое плечо, поймать мяч впереди рукой. То же самое выполнять, меняя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3-1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 rot="16200000">
            <a:off x="-2039400" y="2696760"/>
            <a:ext cx="5402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на рассла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58920" y="1125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и согнуты в локтях, кисти свободно опущены. Выполнять потряхивание расслабленными ки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стойка, руки свободно опущены. Выполнять маховые движения расслабленными руками вперёд-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и поднять вверх. Уронить руки с последующим свободным покачи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ть круговые движения руками в плечевых или локтевых суставах. Кисти должны быть расслабл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ьцы переплетены. Свободные круговые движения расслабленными ки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050"/>
          <p:cNvPicPr/>
          <p:nvPr/>
        </p:nvPicPr>
        <p:blipFill>
          <a:blip r:embed="rId2"/>
          <a:stretch/>
        </p:blipFill>
        <p:spPr>
          <a:xfrm>
            <a:off x="0" y="5746680"/>
            <a:ext cx="1079640" cy="855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3:26:21Z</dcterms:created>
  <dc:creator>777</dc:creator>
  <dc:description/>
  <dc:language>en-US</dc:language>
  <cp:lastModifiedBy>XTreme.ws</cp:lastModifiedBy>
  <dcterms:modified xsi:type="dcterms:W3CDTF">2015-02-03T19:06:21Z</dcterms:modified>
  <cp:revision>15</cp:revision>
  <dc:subject/>
  <dc:title>Слайд 1</dc:title>
</cp:coreProperties>
</file>