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91C-FB90-4008-A5C4-80D8E696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159-9DBF-46E4-9CF4-11B96917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78E003-A0A2-45D5-92E8-BFF3C9CC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E1B266-794A-427C-9354-FD6AC0A6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11D1E4-5584-41AE-A2D8-80EA87CF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93FB67-E487-4E29-AB69-788C1555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40E9E1-0D77-4C72-808D-EF0BE161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7BE0BE-C86C-4F7B-8CA0-29E0D3D5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6CF6DD-2A1A-465D-AABF-3F1096AA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A8089D-25E6-4289-B4CF-8CE7CAAE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71DDA-AF5D-4E6B-8142-90DB36EA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472-75B8-4889-8632-E1209520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116-2377-4016-B611-7D9DF987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6F7A4-7706-4C92-9882-3464910A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36632-E044-4A4B-AA8D-2040DE6C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3C97A-18FA-4645-A335-CE7026E6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200F4-002B-4E48-BD32-402BFE39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D5219-FA50-4E72-9597-2766A1B2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CC77D-41B6-4852-BB74-87893AD3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D7659-DB84-43DC-9AF1-DA4BB749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C96-199A-4F50-9B15-0BCFB8C1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7D8F9-B09C-4338-AFC8-C03FEDD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84DFB-2653-4F74-8AFE-C78BDEE8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ACD07-DEF1-416D-935F-FB80801F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ACB62-A5D6-4F9F-95CE-6B56BC76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55D21-36C7-42D5-9E1B-1535D565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BE07-AF6A-4751-860A-60B8548F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DE34-9857-427F-9954-E2829B50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B648-C8A7-4830-BE24-93695710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1CDF-CA3B-428E-B852-9C3C31B5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27C5-CB37-41CB-83DC-53C2C7A9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BC6-795E-4FDF-B484-E50942E6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E47D-86ED-4CE3-AC42-FD495C64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30C0-9D67-4F1A-BFF2-13C8AE6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9C8F-FCC9-4583-A0A8-6D5B5B8D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3B79-9410-4D14-B481-9589761B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FF36-7004-4693-BEC2-C0702344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2594-9C8A-486A-A384-387540C2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7906-1B57-45EF-B869-CADA2353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607CF-116B-4479-9C51-B1DF62F7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F4B1F-3599-45CF-B77B-2FD4902E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8888F-1A32-4AD9-BB0A-21DF50A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5F5-4B64-44F9-960C-0B22EAE8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47D9F-D45F-4BD3-95BD-72F50BE4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590B0-363D-42D3-9FC1-4E901805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8C4F1-3BB4-48CA-9364-5B097C89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BB556-19D6-4A60-B859-820CDCD7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3D62A-04AD-46D6-B010-97785198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8899D1-85DB-4B38-A587-053428A6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CFBC8-7701-4323-89FA-5276FC12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D1097-CE74-41FA-BBA0-23ABA055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F72DF-49A4-4D9D-B0ED-18826584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D0F6B-2369-46FF-953E-B90A5555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254-1EDF-43A6-9EEB-CD2C9013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0AAE-9F5E-42E3-AB6D-AF227688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9A3AC-F359-4908-9ABA-02265302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8973C-D03C-45C5-AF65-60745CC6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9904-1710-46A9-8815-DE26A807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505DB-36D1-4FAF-9A8C-FF9EF393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4ACF-8CD3-46FB-8AD2-FA36F48C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77776-BBF0-426A-9330-490CCD7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C4FC-7679-45F6-8B1C-71A85F61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67DA3-F786-43D3-8F18-21FA3EEC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5C3C2-AD78-4228-AE03-B82AED4F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BBD-8989-4F67-965E-A7623E88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20F0-882C-4BC2-AA7E-54BACF2A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04FD3-60AE-4BF5-B1EB-23FAA609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CE17B-B1BB-470A-B591-A7641057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1EED6-BA1E-41D6-AA2D-E547E4EA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0B5EC-4B42-437A-AA9D-917A7E4B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23F9F-1241-4BEE-A90E-54D35738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D485C-3F3C-4AC5-80C3-ED0F0C81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E4AC1-275E-430F-92E8-A592E0A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8556A-A8F2-487A-AF20-8FB32B59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97CBE-D5ED-4064-8A0E-AD7B8D7A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43C-72BE-45CF-8CEF-EC6731E3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941A-0857-4F3B-8A67-C133093D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6653A-6840-4730-955A-F6959A09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6ACFD-0D41-47EC-A3E9-A9859991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543B9-11FC-4714-A6E1-A6D32F3B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D3A90-38E9-4A84-9395-1B133393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DAA2D-352B-4EEE-B459-EA3609B8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D76AB-C9B0-4478-986E-3B0B0674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BF267-E2E2-451B-B210-D4F9BA38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0560F-2640-4089-9664-3389A2F4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2B8F4-4BF2-4BB2-9C8A-ADAD7EC3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358-4C64-422C-ACE8-1A5ECC3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25D2-9001-4188-89B9-0A4BC67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1E960-B300-4C9C-AD8D-FAE8DB1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4B0AC-9243-41A7-B5D6-1C8F80CE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D3201-6B94-4B4F-B2D7-484AF4B9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F4186-3293-4D29-AE42-647310D1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A0D9C2-4A2A-45FE-99BB-DF6D6D80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0FC118-D097-4A1E-A4C0-762EB5C4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1E76AA-5221-4981-8C51-56CCF286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0090C4-43EF-437E-ADFD-C6E6411D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C0E857-37DB-47EB-8B12-D229AA53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E07-B026-49EA-8921-741EDD40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90C540-0C67-42A3-B8C8-F04E968B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E345CE-53E5-4E36-A724-6D0F3E9B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987B5-508D-4522-8C27-CF631BF6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E87F7A-5B85-4344-AEB9-739C94FC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CF3871-E9F5-41D8-A7E8-4FBB08F8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93269-9FD5-4A22-A43E-51263230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6F416A-234A-4950-AFD2-BDDF1176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B4020-8891-4676-9683-267274D4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B37562-0C03-4DB3-8173-05611311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AC3815-13E6-416E-B087-69DDA092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6F35-0B9D-47EC-A79B-B44255C5B84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5893-DDB1-4BBA-86DA-771E58819D6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7836-09E8-40F1-B31F-258886DCA57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F18C-B26C-4CE0-9802-C9AC055B7E7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C213-3B19-494B-B3F2-0AC1FC380B6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EC3A-372A-424D-83A8-8211E5C3AC1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F615-CA53-4DAE-A427-C0A0B84A9E7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F05F-962C-405D-AE56-3BB213FE41F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BD87-C0F9-4D42-9E33-A3B707CE27C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772400" cy="1481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TTPP\Рабочий стол\800px-Flag_of_Europe.svg.png"/>
          <p:cNvPicPr/>
          <p:nvPr/>
        </p:nvPicPr>
        <p:blipFill>
          <a:blip r:embed="rId2"/>
          <a:stretch/>
        </p:blipFill>
        <p:spPr>
          <a:xfrm>
            <a:off x="285840" y="3071880"/>
            <a:ext cx="37148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2858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Европейский союз (Евросоюз, ЕС) — объединение 27 европейских государств, подписавших Договор о Европейском союзе (Маастрихтский договор). ЕС — уникальное международное образование: он сочетает признаки международной организации и государства, однако формально не является ни тем, ни другим. Союз не является субъектом международного публичного права, однако имеет полномочия на участие в международных отношениях и играет в них большую роль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Прямоугольник 3"/>
          <p:cNvSpPr/>
          <p:nvPr/>
        </p:nvSpPr>
        <p:spPr>
          <a:xfrm>
            <a:off x="142920" y="40719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лавным новшеством, связанным с созданием Европейского союза, по сравнению с другими международными образованиями, является то, что члены Союза отказались от определённой части национального суверенитета ради создания политического объединения с единой структу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785880" y="1143000"/>
          <a:ext cx="7643880" cy="4286160"/>
        </p:xfrm>
        <a:graphic>
          <a:graphicData uri="http://schemas.openxmlformats.org/drawingml/2006/table">
            <a:tbl>
              <a:tblPr/>
              <a:tblGrid>
                <a:gridCol w="2889360"/>
                <a:gridCol w="2728800"/>
                <a:gridCol w="2025720"/>
              </a:tblGrid>
              <a:tr h="428616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Авст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Бельг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Болга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еликобрит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енг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Гре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рланд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сп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та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ип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Ла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Ли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Люксембур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аль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идерлан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ль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ртуга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Румы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ак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Финлянд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Чех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Шве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Эсто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0" name="Picture 1" descr="Австрия"/>
          <p:cNvPicPr/>
          <p:nvPr/>
        </p:nvPicPr>
        <p:blipFill>
          <a:blip r:embed="rId2"/>
          <a:stretch/>
        </p:blipFill>
        <p:spPr>
          <a:xfrm>
            <a:off x="571680" y="178596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Бельгия"/>
          <p:cNvPicPr/>
          <p:nvPr/>
        </p:nvPicPr>
        <p:blipFill>
          <a:blip r:embed="rId3"/>
          <a:stretch/>
        </p:blipFill>
        <p:spPr>
          <a:xfrm>
            <a:off x="571680" y="2143080"/>
            <a:ext cx="209520" cy="1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Болгария"/>
          <p:cNvPicPr/>
          <p:nvPr/>
        </p:nvPicPr>
        <p:blipFill>
          <a:blip r:embed="rId4"/>
          <a:stretch/>
        </p:blipFill>
        <p:spPr>
          <a:xfrm>
            <a:off x="571680" y="250020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Великобритания"/>
          <p:cNvPicPr/>
          <p:nvPr/>
        </p:nvPicPr>
        <p:blipFill>
          <a:blip r:embed="rId5"/>
          <a:stretch/>
        </p:blipFill>
        <p:spPr>
          <a:xfrm>
            <a:off x="571680" y="292896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Венгрия"/>
          <p:cNvPicPr/>
          <p:nvPr/>
        </p:nvPicPr>
        <p:blipFill>
          <a:blip r:embed="rId6"/>
          <a:stretch/>
        </p:blipFill>
        <p:spPr>
          <a:xfrm>
            <a:off x="571680" y="328608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Германия"/>
          <p:cNvPicPr/>
          <p:nvPr/>
        </p:nvPicPr>
        <p:blipFill>
          <a:blip r:embed="rId7"/>
          <a:stretch/>
        </p:blipFill>
        <p:spPr>
          <a:xfrm>
            <a:off x="571680" y="364320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Греция"/>
          <p:cNvPicPr/>
          <p:nvPr/>
        </p:nvPicPr>
        <p:blipFill>
          <a:blip r:embed="rId8"/>
          <a:stretch/>
        </p:blipFill>
        <p:spPr>
          <a:xfrm>
            <a:off x="571680" y="4000680"/>
            <a:ext cx="209520" cy="142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Дания"/>
          <p:cNvPicPr/>
          <p:nvPr/>
        </p:nvPicPr>
        <p:blipFill>
          <a:blip r:embed="rId9"/>
          <a:stretch/>
        </p:blipFill>
        <p:spPr>
          <a:xfrm>
            <a:off x="571680" y="4357800"/>
            <a:ext cx="209520" cy="161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Республика Ирландия"/>
          <p:cNvPicPr/>
          <p:nvPr/>
        </p:nvPicPr>
        <p:blipFill>
          <a:blip r:embed="rId10"/>
          <a:stretch/>
        </p:blipFill>
        <p:spPr>
          <a:xfrm>
            <a:off x="571680" y="471492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Испания"/>
          <p:cNvPicPr/>
          <p:nvPr/>
        </p:nvPicPr>
        <p:blipFill>
          <a:blip r:embed="rId11"/>
          <a:stretch/>
        </p:blipFill>
        <p:spPr>
          <a:xfrm>
            <a:off x="3500280" y="1785960"/>
            <a:ext cx="209880" cy="142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Италия"/>
          <p:cNvPicPr/>
          <p:nvPr/>
        </p:nvPicPr>
        <p:blipFill>
          <a:blip r:embed="rId12"/>
          <a:stretch/>
        </p:blipFill>
        <p:spPr>
          <a:xfrm>
            <a:off x="3500280" y="2143080"/>
            <a:ext cx="209880" cy="142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Республика Кипр"/>
          <p:cNvPicPr/>
          <p:nvPr/>
        </p:nvPicPr>
        <p:blipFill>
          <a:blip r:embed="rId13"/>
          <a:stretch/>
        </p:blipFill>
        <p:spPr>
          <a:xfrm>
            <a:off x="3500280" y="2500200"/>
            <a:ext cx="209880" cy="123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3" descr="Латвия"/>
          <p:cNvPicPr/>
          <p:nvPr/>
        </p:nvPicPr>
        <p:blipFill>
          <a:blip r:embed="rId14"/>
          <a:stretch/>
        </p:blipFill>
        <p:spPr>
          <a:xfrm>
            <a:off x="3500280" y="2857680"/>
            <a:ext cx="209880" cy="104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4" descr="Литва"/>
          <p:cNvPicPr/>
          <p:nvPr/>
        </p:nvPicPr>
        <p:blipFill>
          <a:blip r:embed="rId15"/>
          <a:stretch/>
        </p:blipFill>
        <p:spPr>
          <a:xfrm>
            <a:off x="3500280" y="3286080"/>
            <a:ext cx="209880" cy="123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Люксембург"/>
          <p:cNvPicPr/>
          <p:nvPr/>
        </p:nvPicPr>
        <p:blipFill>
          <a:blip r:embed="rId16"/>
          <a:stretch/>
        </p:blipFill>
        <p:spPr>
          <a:xfrm>
            <a:off x="3500280" y="3643200"/>
            <a:ext cx="209880" cy="123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6" descr="Мальта"/>
          <p:cNvPicPr/>
          <p:nvPr/>
        </p:nvPicPr>
        <p:blipFill>
          <a:blip r:embed="rId17"/>
          <a:stretch/>
        </p:blipFill>
        <p:spPr>
          <a:xfrm>
            <a:off x="3500280" y="4000680"/>
            <a:ext cx="209880" cy="142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7" descr="Нидерланды"/>
          <p:cNvPicPr/>
          <p:nvPr/>
        </p:nvPicPr>
        <p:blipFill>
          <a:blip r:embed="rId18"/>
          <a:stretch/>
        </p:blipFill>
        <p:spPr>
          <a:xfrm>
            <a:off x="3500280" y="4357800"/>
            <a:ext cx="209880" cy="142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8" descr="Польша"/>
          <p:cNvPicPr/>
          <p:nvPr/>
        </p:nvPicPr>
        <p:blipFill>
          <a:blip r:embed="rId19"/>
          <a:stretch/>
        </p:blipFill>
        <p:spPr>
          <a:xfrm>
            <a:off x="3500280" y="4714920"/>
            <a:ext cx="209880" cy="1332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9" descr="Португалия"/>
          <p:cNvPicPr/>
          <p:nvPr/>
        </p:nvPicPr>
        <p:blipFill>
          <a:blip r:embed="rId20"/>
          <a:stretch/>
        </p:blipFill>
        <p:spPr>
          <a:xfrm>
            <a:off x="6215040" y="178596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0" descr="Румыния"/>
          <p:cNvPicPr/>
          <p:nvPr/>
        </p:nvPicPr>
        <p:blipFill>
          <a:blip r:embed="rId21"/>
          <a:stretch/>
        </p:blipFill>
        <p:spPr>
          <a:xfrm>
            <a:off x="6215040" y="214308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1" descr="Словакия"/>
          <p:cNvPicPr/>
          <p:nvPr/>
        </p:nvPicPr>
        <p:blipFill>
          <a:blip r:embed="rId22"/>
          <a:stretch/>
        </p:blipFill>
        <p:spPr>
          <a:xfrm>
            <a:off x="6215040" y="250020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2" descr="Словения"/>
          <p:cNvPicPr/>
          <p:nvPr/>
        </p:nvPicPr>
        <p:blipFill>
          <a:blip r:embed="rId23"/>
          <a:stretch/>
        </p:blipFill>
        <p:spPr>
          <a:xfrm>
            <a:off x="6215040" y="285768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3" descr="Финляндия"/>
          <p:cNvPicPr/>
          <p:nvPr/>
        </p:nvPicPr>
        <p:blipFill>
          <a:blip r:embed="rId24"/>
          <a:stretch/>
        </p:blipFill>
        <p:spPr>
          <a:xfrm>
            <a:off x="6215040" y="321480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4" descr="Франция"/>
          <p:cNvPicPr/>
          <p:nvPr/>
        </p:nvPicPr>
        <p:blipFill>
          <a:blip r:embed="rId25"/>
          <a:stretch/>
        </p:blipFill>
        <p:spPr>
          <a:xfrm>
            <a:off x="6215040" y="357192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Чехия"/>
          <p:cNvPicPr/>
          <p:nvPr/>
        </p:nvPicPr>
        <p:blipFill>
          <a:blip r:embed="rId26"/>
          <a:stretch/>
        </p:blipFill>
        <p:spPr>
          <a:xfrm>
            <a:off x="6215040" y="392904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6" descr="Швеция"/>
          <p:cNvPicPr/>
          <p:nvPr/>
        </p:nvPicPr>
        <p:blipFill>
          <a:blip r:embed="rId27"/>
          <a:stretch/>
        </p:blipFill>
        <p:spPr>
          <a:xfrm>
            <a:off x="6215040" y="4357800"/>
            <a:ext cx="209520" cy="133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7" descr="Эстония"/>
          <p:cNvPicPr/>
          <p:nvPr/>
        </p:nvPicPr>
        <p:blipFill>
          <a:blip r:embed="rId28"/>
          <a:stretch/>
        </p:blipFill>
        <p:spPr>
          <a:xfrm>
            <a:off x="6215040" y="4714920"/>
            <a:ext cx="20952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C:\Documents and Settings\TTPP\Рабочий стол\th_822542512463535.jpg"/>
          <p:cNvPicPr/>
          <p:nvPr/>
        </p:nvPicPr>
        <p:blipFill>
          <a:blip r:embed="rId1"/>
          <a:stretch/>
        </p:blipFill>
        <p:spPr>
          <a:xfrm>
            <a:off x="785880" y="35712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285840" y="214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ля вступления в Евросоюз, страна кандидат должна соответствовать Копенгагенским критериям. Копенгагенские критерии — критерии вступления стран в Европейский союз, которые были приняты в июне 1993 года на заседании Европейского совета в Копенгагене и подтверждены в декабре 1995 года на заседании Европейского совета в Мадриде. Критерии требуют, чтобы в государстве соблюдались демократические принципы, принципы свободы и уважения прав человека, а также принцип правового государства. Также в стране должна присутствовать конкурентоспособная рыночная экономика, и должны признаваться общие правила и стандарты ЕС, включая приверженность целям политического, экономического и валютного союз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639720" y="0"/>
            <a:ext cx="8016840" cy="719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45160" indent="-245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сший политический орган ЕС, состоящий из глав государств и правительств стран-членов и их заместителей — министров иностранных дел. Членом Европейского совета является также председатель Еврокомиссии. В основе создания Европейского совета лежала идея французского президента Шарля де Голля о проведении неформальных саммитов лидеров государств Европейского союза, что призвано было препятствовать снижению роли национальных государств в рамках интеграционного образования. Неформальные саммиты проводились с 1961 г., в 1974 г. на саммите в Париже данная практика была формализована по предложению Валери Жискар д`Эстена, занимавшего в то время пост президента Франци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45160" indent="-245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овет определяет основные стратегические направления развития ЕС. Выработка генеральной линии политической интеграции — основная миссия Европейского совета. Наряду с Советом Министров Европейский совет наделён политической функцией, заключающейся в изменении основополагающих договоров европейской интеграции. Его заседания проходят не менее чем дважды в год — либо в Брюсселе, либо в председательствующем государстве под председательством представителя государства-члена, возглавляющего в данное время Совет Европейского союза. Заседания длятся два дня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45160" indent="-245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ешения совета обязательны для поддержавших их государств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45160" indent="-245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928800" y="6000480"/>
            <a:ext cx="74008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дание Европейского Совет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2" name="Picture 2" descr="C:\Documents and Settings\TTPP\Рабочий стол\1234285156_bild-553.jpg"/>
          <p:cNvPicPr/>
          <p:nvPr/>
        </p:nvPicPr>
        <p:blipFill>
          <a:blip r:embed="rId1"/>
          <a:stretch/>
        </p:blipFill>
        <p:spPr>
          <a:xfrm>
            <a:off x="785880" y="1429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426960" y="195120"/>
            <a:ext cx="8163000" cy="1017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5712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6160" indent="-236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собенностью Евросоюза, отличающей его от других международных организаций, является наличие собственного права, которое непосредственно регулирует отношения не только государств-членов, но и их граждан и юридических лиц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36160" indent="-236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аво ЕС состоит из так называемого первичного, вторичного и третичного (решения Суда Европейских Сообществ). Первичное право — учредительные договоры ЕС; договоры, вносящие в них изменения (ревизионные договоры); договоры о вступлении новых государств-членов. Вторичное право — акты, издаваемые органами ЕС. Решения Суда ЕС и других судебных органов Союза широко используются в качестве прецедентного права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36160" indent="-236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аво ЕС обладает прямым действием на территории стран ЕС и приоритетом по отношению к национальному законодательству государств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36160" indent="-236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аво ЕС подразделяют на институционное право (нормы, регламентирующие порядок создания и функционирования институтов и органов ЕС) и материальное право (нормы, регулирующие процесс реализации целей ЕС и ЕСообществ). Материальное право ЕС, как и право отдельных стран, можно подразделить на отрасли: таможенное право ЕС, экологическое право ЕС, транспортное право ЕС, налоговое право ЕС и др. С учетом структуры ЕС («три опоры») право ЕС подразделяется также на право Европейских сообществ, Шенгенское право и др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36160" indent="-236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C:\Documents and Settings\TTPP\Рабочий стол\0_1a236_1d40762f_XL.jpeg"/>
          <p:cNvPicPr/>
          <p:nvPr/>
        </p:nvPicPr>
        <p:blipFill>
          <a:blip r:embed="rId1"/>
          <a:stretch/>
        </p:blipFill>
        <p:spPr>
          <a:xfrm>
            <a:off x="714240" y="3571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6:47Z</dcterms:created>
  <dc:creator>TTPP</dc:creator>
  <dc:description/>
  <dc:language>en-US</dc:language>
  <cp:lastModifiedBy>Алексей Пастухов</cp:lastModifiedBy>
  <dcterms:modified xsi:type="dcterms:W3CDTF">2015-02-05T13:15:45Z</dcterms:modified>
  <cp:revision>10</cp:revision>
  <dc:subject/>
  <dc:title>Европейский Союз</dc:title>
</cp:coreProperties>
</file>