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1C7-1EBE-494C-B97C-153363EF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431-AF47-4F4F-8F57-E4FBFA1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658AC-05C9-4933-843D-1E82E541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3B8A5-3128-4A4A-BC21-58A9705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BD048-7F87-426A-BDF8-28FAB69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D7403-3BFD-4D1D-B2EB-80A0487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4BC9D-B908-4D15-AB14-86E09F7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597A0-6275-469B-A64E-E35E1E8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7AFA7-E1BD-4F81-A0E1-FF38F14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66121-330A-496A-B84B-D55D7D41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F7CA6-D39A-40C4-BF3A-05E88B12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434-E144-4CB0-82D9-2BB667D0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8DB-5791-4A78-A64F-03AD338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56926-17BF-4623-9F61-66D685E1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57C3-B97A-49F6-9AC6-96B456D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1CA7A-53C8-43A4-B745-337DA34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20AF-FFF0-4217-B488-B3D13182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7CFA1-BA5B-4B02-B90D-84E0D68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F19B8-8902-40B3-901B-4B16FBDF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4A214-C8CA-4166-BD8D-BCA9F6F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4A3-5DE6-419B-A645-2923B9E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DD8E-CC13-4179-B623-3FE38D8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2D664-001E-4F8E-828A-49C8727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FA21-FD85-4D94-92DD-54A98B3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85ED0-BBC3-4841-96BE-9CE00F76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90DF2-1EB4-493B-888E-A30F76E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E750-1C0B-4981-8C8C-D364C831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09CC-F4AD-43D1-8250-938B8944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6B5E-C160-4C53-998D-24B9AD2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A74E-E042-4806-8ACE-3511B41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C292-8DFE-4B1D-B4DC-A36173E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EF9-2E67-4630-B38E-3A946D3E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1BE1-D062-4BE6-A053-A4D54486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3190-250E-49F2-BCE6-A66F29B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2709-FB02-4D79-AC9F-36D9C00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5EBC-626D-4915-B470-E4BE924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993D-234A-4623-A653-1EE846D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10C2-2027-4CAF-8529-D50D02BB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5220-0865-4B88-863A-8FEF4B7F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0C42F-7CE2-4ACB-9645-57CC2A73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63461-66AB-4C5E-983D-55DE173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C46D8-1DC9-4250-B198-562A3F8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DC1-5591-4B7E-8792-E1AE6CB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B3756-6AE3-43EC-91A3-C7892FAA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92A22-670B-4843-81D3-0871037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CCF75-8C9C-47C2-9381-D075709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FEA45-D183-4ADA-A800-3C5FF9E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59D59-F25A-443C-AFFF-6B701A8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42CC9-3B72-4AB6-8386-452CC73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F9EE5-AB0A-4FF0-9DDB-733088F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BF4EB-80AC-4B77-94CA-BDFD5054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39F1F-86E4-4F89-BB5E-F30D7CE2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34BD-8FCB-42DF-9B46-41FD0E1B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693-254B-418C-B66E-CECC31E4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3919-54EE-4137-A87B-3B1F543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68FF-D553-4E2E-A85F-682748F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5A5DD-063B-4E96-9AB8-7E609689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F406-2A84-4D12-B656-D14F259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46ED-5D23-452D-95C0-AC225BF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73AA-E1C4-4D86-9692-1D181CC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3330-E7C4-4188-8CEC-1AAF888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162F-93DC-40D4-ACAE-87589B7D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574D-0E23-49A3-B4A3-6F2A5DD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ABD3-5881-4133-9C59-C79EF753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8A8-71E7-485E-AF76-592430D5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E676-F187-4B27-BF4A-E8D0DCA2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63FE-E632-4ABA-88F4-E2D999A3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9854-D2D5-476F-A28C-F7A5A8F3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207EF-8C3D-446C-B1CA-14506A06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EEEE-F16C-4FDE-A207-D69B2BA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63B6D-5395-4110-BAC3-BEC08AD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F061-97DF-42C1-A803-70C866D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02E1-6F76-46F4-BA4F-2FABAEB5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F1B1-EB60-41EF-A49C-787E4E7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CD3D-E609-4975-BD65-AD6920A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BDF-EE23-49D7-871E-EB96C3C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70A0-AC4A-4071-AA4A-44D233E4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558D-03FB-4E12-987F-67F03B17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9B35-64AD-4E07-AD22-EFDB07F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FA6D4-4489-433E-9827-316332E8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FE99-9322-460B-B347-ED476BA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8861F-FB16-4CB1-9E49-F7DC4C9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B0368-4EFF-4CD8-BAD9-79AC902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78C1-685D-46AC-A08D-B9E42BAD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5B82F-D2A2-42A9-A4EC-6842CAB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1247-E299-4691-9BA7-DFFEE81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D7A-512A-4A21-AB41-722E22EB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F24D-D672-429D-992D-32C25FD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848EE-529B-4C51-B8E5-D8E85D1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FEAD2-D01E-434C-8936-5C5F4CA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8B806-511C-4E3A-A9FF-D96EC4C0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8CB2-1AE3-4F87-AF09-9547EC2A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8FEABE-22E1-4F96-B988-4D98BC1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21A2E-0CE7-40BD-B14C-B8BFEB94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D40BA-4398-40AA-A934-A5CE265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A60E3-4B45-4889-9D80-5BEF512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64B69-C13C-4C9A-80B7-4FAF974B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4D8-0FA4-4900-82FB-B80109D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0A6B8-22AA-4FB8-887C-C5EA4DE9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0268F-07AA-49AF-B323-2F3EF29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84B56-1F01-4DA5-AB79-71AFC9B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F5E41-E3CC-4C72-8CDC-FC9D55B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FE6F1-D9EF-45F6-87EB-7C1A5C8D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80248-40C8-4C84-99D1-C032DDA4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148F2-92B4-45CC-9148-85CA1050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33B3F-6589-42BE-B029-4D0C2F4C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2644C-4424-45BF-A2D1-10B90BE2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6741A6-6285-4D90-8AB7-1AE14BBD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47B-3562-407F-83C3-EA8F98B0B9B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861-D49B-4FC7-B6DE-BBA4B786EA7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8C5-F26E-46C3-A16D-55C81D2813F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6D7-6B5F-4E68-BDDF-EC34C912034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110-8145-41CB-BA0A-261BDFA0A4D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B383-163A-403E-AE25-2ECD8F54542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B9BB-9898-428C-9BAE-409AB9E744F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A871-5D43-4ECC-8A1E-38958C9E0EB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30F6-C320-406F-95B4-A6F09339D9E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772400" cy="1481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TTPP\Рабочий стол\800px-Flag_of_Europe.svg.png"/>
          <p:cNvPicPr/>
          <p:nvPr/>
        </p:nvPicPr>
        <p:blipFill>
          <a:blip r:embed="rId2"/>
          <a:stretch/>
        </p:blipFill>
        <p:spPr>
          <a:xfrm>
            <a:off x="285840" y="3071880"/>
            <a:ext cx="3714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Европейский союз (Евросоюз, ЕС) — объединение 27 европейских государств, подписавших Договор о Европейском союзе (Маастрихтский договор). ЕС — уникальное международное образование: он сочетает признаки международной организации и государства, однако формально не является ни тем, ни другим. Союз не является субъектом международного публичного права, однако имеет полномочия на участие в международных отношениях и играет в них большую роль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142920" y="4071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лавным новшеством, связанным с созданием Европейского союза, по сравнению с другими международными образованиями, является то, что члены Союза отказались от определённой части национального суверенитета ради создания политического объединения с единой струк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785880" y="1143000"/>
          <a:ext cx="7643880" cy="4286160"/>
        </p:xfrm>
        <a:graphic>
          <a:graphicData uri="http://schemas.openxmlformats.org/drawingml/2006/table">
            <a:tbl>
              <a:tblPr/>
              <a:tblGrid>
                <a:gridCol w="2889360"/>
                <a:gridCol w="2728800"/>
                <a:gridCol w="2025720"/>
              </a:tblGrid>
              <a:tr h="428616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Авст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ель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олг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Гре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сп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ип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Люксембур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аль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идерлан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ртуга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Румы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ак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инля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Чех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Шве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Эсто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0" name="Picture 1" descr="Австрия"/>
          <p:cNvPicPr/>
          <p:nvPr/>
        </p:nvPicPr>
        <p:blipFill>
          <a:blip r:embed="rId2"/>
          <a:stretch/>
        </p:blipFill>
        <p:spPr>
          <a:xfrm>
            <a:off x="571680" y="178596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Бельгия"/>
          <p:cNvPicPr/>
          <p:nvPr/>
        </p:nvPicPr>
        <p:blipFill>
          <a:blip r:embed="rId3"/>
          <a:stretch/>
        </p:blipFill>
        <p:spPr>
          <a:xfrm>
            <a:off x="571680" y="2143080"/>
            <a:ext cx="209520" cy="1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Болгария"/>
          <p:cNvPicPr/>
          <p:nvPr/>
        </p:nvPicPr>
        <p:blipFill>
          <a:blip r:embed="rId4"/>
          <a:stretch/>
        </p:blipFill>
        <p:spPr>
          <a:xfrm>
            <a:off x="571680" y="25002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Великобритания"/>
          <p:cNvPicPr/>
          <p:nvPr/>
        </p:nvPicPr>
        <p:blipFill>
          <a:blip r:embed="rId5"/>
          <a:stretch/>
        </p:blipFill>
        <p:spPr>
          <a:xfrm>
            <a:off x="571680" y="292896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Венгрия"/>
          <p:cNvPicPr/>
          <p:nvPr/>
        </p:nvPicPr>
        <p:blipFill>
          <a:blip r:embed="rId6"/>
          <a:stretch/>
        </p:blipFill>
        <p:spPr>
          <a:xfrm>
            <a:off x="571680" y="328608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Германия"/>
          <p:cNvPicPr/>
          <p:nvPr/>
        </p:nvPicPr>
        <p:blipFill>
          <a:blip r:embed="rId7"/>
          <a:stretch/>
        </p:blipFill>
        <p:spPr>
          <a:xfrm>
            <a:off x="571680" y="36432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Греция"/>
          <p:cNvPicPr/>
          <p:nvPr/>
        </p:nvPicPr>
        <p:blipFill>
          <a:blip r:embed="rId8"/>
          <a:stretch/>
        </p:blipFill>
        <p:spPr>
          <a:xfrm>
            <a:off x="571680" y="4000680"/>
            <a:ext cx="209520" cy="142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Дания"/>
          <p:cNvPicPr/>
          <p:nvPr/>
        </p:nvPicPr>
        <p:blipFill>
          <a:blip r:embed="rId9"/>
          <a:stretch/>
        </p:blipFill>
        <p:spPr>
          <a:xfrm>
            <a:off x="571680" y="4357800"/>
            <a:ext cx="209520" cy="16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Республика Ирландия"/>
          <p:cNvPicPr/>
          <p:nvPr/>
        </p:nvPicPr>
        <p:blipFill>
          <a:blip r:embed="rId10"/>
          <a:stretch/>
        </p:blipFill>
        <p:spPr>
          <a:xfrm>
            <a:off x="571680" y="471492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Испания"/>
          <p:cNvPicPr/>
          <p:nvPr/>
        </p:nvPicPr>
        <p:blipFill>
          <a:blip r:embed="rId11"/>
          <a:stretch/>
        </p:blipFill>
        <p:spPr>
          <a:xfrm>
            <a:off x="3500280" y="178596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Италия"/>
          <p:cNvPicPr/>
          <p:nvPr/>
        </p:nvPicPr>
        <p:blipFill>
          <a:blip r:embed="rId12"/>
          <a:stretch/>
        </p:blipFill>
        <p:spPr>
          <a:xfrm>
            <a:off x="3500280" y="214308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Республика Кипр"/>
          <p:cNvPicPr/>
          <p:nvPr/>
        </p:nvPicPr>
        <p:blipFill>
          <a:blip r:embed="rId13"/>
          <a:stretch/>
        </p:blipFill>
        <p:spPr>
          <a:xfrm>
            <a:off x="3500280" y="250020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Латвия"/>
          <p:cNvPicPr/>
          <p:nvPr/>
        </p:nvPicPr>
        <p:blipFill>
          <a:blip r:embed="rId14"/>
          <a:stretch/>
        </p:blipFill>
        <p:spPr>
          <a:xfrm>
            <a:off x="3500280" y="2857680"/>
            <a:ext cx="209880" cy="104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Литва"/>
          <p:cNvPicPr/>
          <p:nvPr/>
        </p:nvPicPr>
        <p:blipFill>
          <a:blip r:embed="rId15"/>
          <a:stretch/>
        </p:blipFill>
        <p:spPr>
          <a:xfrm>
            <a:off x="3500280" y="328608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Люксембург"/>
          <p:cNvPicPr/>
          <p:nvPr/>
        </p:nvPicPr>
        <p:blipFill>
          <a:blip r:embed="rId16"/>
          <a:stretch/>
        </p:blipFill>
        <p:spPr>
          <a:xfrm>
            <a:off x="3500280" y="3643200"/>
            <a:ext cx="209880" cy="123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Мальта"/>
          <p:cNvPicPr/>
          <p:nvPr/>
        </p:nvPicPr>
        <p:blipFill>
          <a:blip r:embed="rId17"/>
          <a:stretch/>
        </p:blipFill>
        <p:spPr>
          <a:xfrm>
            <a:off x="3500280" y="4000680"/>
            <a:ext cx="209880" cy="142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7" descr="Нидерланды"/>
          <p:cNvPicPr/>
          <p:nvPr/>
        </p:nvPicPr>
        <p:blipFill>
          <a:blip r:embed="rId18"/>
          <a:stretch/>
        </p:blipFill>
        <p:spPr>
          <a:xfrm>
            <a:off x="3500280" y="4357800"/>
            <a:ext cx="209880" cy="142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8" descr="Польша"/>
          <p:cNvPicPr/>
          <p:nvPr/>
        </p:nvPicPr>
        <p:blipFill>
          <a:blip r:embed="rId19"/>
          <a:stretch/>
        </p:blipFill>
        <p:spPr>
          <a:xfrm>
            <a:off x="3500280" y="4714920"/>
            <a:ext cx="209880" cy="133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9" descr="Португалия"/>
          <p:cNvPicPr/>
          <p:nvPr/>
        </p:nvPicPr>
        <p:blipFill>
          <a:blip r:embed="rId20"/>
          <a:stretch/>
        </p:blipFill>
        <p:spPr>
          <a:xfrm>
            <a:off x="6215040" y="178596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0" descr="Румыния"/>
          <p:cNvPicPr/>
          <p:nvPr/>
        </p:nvPicPr>
        <p:blipFill>
          <a:blip r:embed="rId21"/>
          <a:stretch/>
        </p:blipFill>
        <p:spPr>
          <a:xfrm>
            <a:off x="6215040" y="214308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1" descr="Словакия"/>
          <p:cNvPicPr/>
          <p:nvPr/>
        </p:nvPicPr>
        <p:blipFill>
          <a:blip r:embed="rId22"/>
          <a:stretch/>
        </p:blipFill>
        <p:spPr>
          <a:xfrm>
            <a:off x="6215040" y="250020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2" descr="Словения"/>
          <p:cNvPicPr/>
          <p:nvPr/>
        </p:nvPicPr>
        <p:blipFill>
          <a:blip r:embed="rId23"/>
          <a:stretch/>
        </p:blipFill>
        <p:spPr>
          <a:xfrm>
            <a:off x="6215040" y="2857680"/>
            <a:ext cx="209520" cy="104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3" descr="Финляндия"/>
          <p:cNvPicPr/>
          <p:nvPr/>
        </p:nvPicPr>
        <p:blipFill>
          <a:blip r:embed="rId24"/>
          <a:stretch/>
        </p:blipFill>
        <p:spPr>
          <a:xfrm>
            <a:off x="6215040" y="32148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" descr="Франция"/>
          <p:cNvPicPr/>
          <p:nvPr/>
        </p:nvPicPr>
        <p:blipFill>
          <a:blip r:embed="rId25"/>
          <a:stretch/>
        </p:blipFill>
        <p:spPr>
          <a:xfrm>
            <a:off x="6215040" y="357192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Чехия"/>
          <p:cNvPicPr/>
          <p:nvPr/>
        </p:nvPicPr>
        <p:blipFill>
          <a:blip r:embed="rId26"/>
          <a:stretch/>
        </p:blipFill>
        <p:spPr>
          <a:xfrm>
            <a:off x="6215040" y="3929040"/>
            <a:ext cx="209520" cy="142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6" descr="Швеция"/>
          <p:cNvPicPr/>
          <p:nvPr/>
        </p:nvPicPr>
        <p:blipFill>
          <a:blip r:embed="rId27"/>
          <a:stretch/>
        </p:blipFill>
        <p:spPr>
          <a:xfrm>
            <a:off x="6215040" y="4357800"/>
            <a:ext cx="209520" cy="133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7" descr="Эстония"/>
          <p:cNvPicPr/>
          <p:nvPr/>
        </p:nvPicPr>
        <p:blipFill>
          <a:blip r:embed="rId28"/>
          <a:stretch/>
        </p:blipFill>
        <p:spPr>
          <a:xfrm>
            <a:off x="6215040" y="4714920"/>
            <a:ext cx="20952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C:\Documents and Settings\TTPP\Рабочий стол\th_822542512463535.jpg"/>
          <p:cNvPicPr/>
          <p:nvPr/>
        </p:nvPicPr>
        <p:blipFill>
          <a:blip r:embed="rId1"/>
          <a:stretch/>
        </p:blipFill>
        <p:spPr>
          <a:xfrm>
            <a:off x="785880" y="35712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85840" y="214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ля вступления в Евросоюз, страна кандидат должна соответствовать Копенгагенским критериям. Копенгагенские критерии — критерии вступления стран в Европейский союз, которые были приняты в июне 1993 года на заседании Европейского совета в Копенгагене и подтверждены в декабре 1995 года на заседании Европейского совета в Мадриде. Критерии требуют, чтобы в государстве соблюдались демократические принципы, принципы свободы и уважения прав человека, а также принцип правового государства. Также в стране должна присутствовать конкурентоспособная рыночная экономика, и должны признаваться общие правила и стандарты ЕС, включая приверженность целям политического, экономического и валютного союз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639720" y="0"/>
            <a:ext cx="801684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571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сший политический орган ЕС, состоящий из глав государств и правительств стран-членов и их заместителей — министров иностранных дел. Членом Европейского совета является также председатель Еврокомиссии. В основе создания Европейского совета лежала идея французского президента Шарля де Голля о проведении неформальных саммитов лидеров государств Европейского союза, что призвано было препятствовать снижению роли национальных государств в рамках интеграционного образования. Неформальные саммиты проводились с 1961 г., в 1974 г. на саммите в Париже данная практика была формализована по предложению Валери Жискар д`Эстена, занимавшего в то время пост президента Франц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овет определяет основные стратегические направления развития ЕС. Выработка генеральной линии политической интеграции — основная миссия Европейского совета. Наряду с Советом Министров Европейский совет наделён политической функцией, заключающейся в изменении основополагающих договоров европейской интеграции. Его заседания проходят не менее чем дважды в год — либо в Брюсселе, либо в председательствующем государстве под председательством представителя государства-члена, возглавляющего в данное время Совет Европейского союза. Заседания длятся два дня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ешения совета обязательны для поддержавших их государст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45160" indent="-245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928800" y="6000480"/>
            <a:ext cx="74008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дание Европейского Совет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C:\Documents and Settings\TTPP\Рабочий стол\1234285156_bild-553.jpg"/>
          <p:cNvPicPr/>
          <p:nvPr/>
        </p:nvPicPr>
        <p:blipFill>
          <a:blip r:embed="rId1"/>
          <a:stretch/>
        </p:blipFill>
        <p:spPr>
          <a:xfrm>
            <a:off x="785880" y="1429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426960" y="195120"/>
            <a:ext cx="8163000" cy="1017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5712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собенностью Евросоюза, отличающей его от других международных организаций, является наличие собственного права, которое непосредственно регулирует отношения не только государств-членов, но и их граждан и юридических лиц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состоит из так называемого первичного, вторичного и третичного (решения Суда Европейских Сообществ). Первичное право — учредительные договоры ЕС; договоры, вносящие в них изменения (ревизионные договоры); договоры о вступлении новых государств-членов. Вторичное право — акты, издаваемые органами ЕС. Решения Суда ЕС и других судебных органов Союза широко используются в качестве прецедентного права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обладает прямым действием на территории стран ЕС и приоритетом по отношению к национальному законодательству государств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аво ЕС подразделяют на институционное право (нормы, регламентирующие порядок создания и функционирования институтов и органов ЕС) и материальное право (нормы, регулирующие процесс реализации целей ЕС и ЕСообществ). Материальное право ЕС, как и право отдельных стран, можно подразделить на отрасли: таможенное право ЕС, экологическое право ЕС, транспортное право ЕС, налоговое право ЕС и др. С учетом структуры ЕС («три опоры») право ЕС подразделяется также на право Европейских сообществ, Шенгенское право и д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36160" indent="-2361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C:\Documents and Settings\TTPP\Рабочий стол\0_1a236_1d40762f_XL.jpeg"/>
          <p:cNvPicPr/>
          <p:nvPr/>
        </p:nvPicPr>
        <p:blipFill>
          <a:blip r:embed="rId1"/>
          <a:stretch/>
        </p:blipFill>
        <p:spPr>
          <a:xfrm>
            <a:off x="714240" y="3571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6:47Z</dcterms:created>
  <dc:creator>TTPP</dc:creator>
  <dc:description/>
  <dc:language>en-US</dc:language>
  <cp:lastModifiedBy>Алексей Пастухов</cp:lastModifiedBy>
  <dcterms:modified xsi:type="dcterms:W3CDTF">2015-02-05T13:15:45Z</dcterms:modified>
  <cp:revision>10</cp:revision>
  <dc:subject/>
  <dc:title>Европейский Союз</dc:title>
</cp:coreProperties>
</file>