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C4E-693F-4649-9FB3-DDD1AFDD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AF9-9863-4167-ACC9-6AD16CF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B92-4109-4B00-B0FB-08655654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26E-1A69-4580-A046-43DA516E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9B8-64DB-4357-A50C-24E0A53A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5F4-8307-4E0A-A6B8-5A0E4363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17C-CDB5-42A9-B55A-C06757D4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FA1-A015-4EC9-86D7-6708F251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A7E-F85D-4776-9421-D0BEBDB6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963-96F1-4CAB-A5BF-09044A1A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036-029E-44EE-A1BB-92A546EB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2D7-C0B1-4E53-8B2C-F03695EC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EF6-F632-4CB3-81B6-573BEBCCC9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Австралийская овцеферма"/>
          <p:cNvPicPr/>
          <p:nvPr/>
        </p:nvPicPr>
        <p:blipFill>
          <a:blip r:embed="rId1"/>
          <a:srcRect l="0" t="8003" r="0" b="12000"/>
          <a:stretch/>
        </p:blipFill>
        <p:spPr>
          <a:xfrm>
            <a:off x="5000760" y="4371840"/>
            <a:ext cx="4143240" cy="2486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Австралийский виноград"/>
          <p:cNvPicPr/>
          <p:nvPr/>
        </p:nvPicPr>
        <p:blipFill>
          <a:blip r:embed="rId2"/>
          <a:srcRect l="0" t="7843" r="0" b="8495"/>
          <a:stretch/>
        </p:blipFill>
        <p:spPr>
          <a:xfrm>
            <a:off x="0" y="44197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2"/>
          <p:cNvSpPr txBox="1"/>
          <p:nvPr/>
        </p:nvSpPr>
        <p:spPr>
          <a:xfrm>
            <a:off x="304920" y="0"/>
            <a:ext cx="8534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География сельского хозяйства мира</a:t>
            </a:r>
            <a:endParaRPr b="1" lang="en-US" sz="1600" spc="1" strike="noStrike">
              <a:ln w="2232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786040" y="1071720"/>
            <a:ext cx="405432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S Mincho"/>
              </a:rPr>
              <a:t>Задачи урока: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291320" y="1643040"/>
            <a:ext cx="7444080" cy="256284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мотреть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труктуру агропромышленного комплекса мира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ы сельского хозяйства разных стран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ы лидеры по производству сельскохозяйственной продукции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такое «зеленая революция» и её компоненты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арактеристика главных отраслей сельского хозяй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сельск хоз сбор зерновых диаграмма"/>
          <p:cNvPicPr/>
          <p:nvPr/>
        </p:nvPicPr>
        <p:blipFill>
          <a:blip r:embed="rId1">
            <a:lum contrast="30000"/>
          </a:blip>
          <a:srcRect l="11324" t="3401" r="9702" b="7198"/>
          <a:stretch/>
        </p:blipFill>
        <p:spPr>
          <a:xfrm>
            <a:off x="0" y="0"/>
            <a:ext cx="3132000" cy="290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6" name="Text Box 5"/>
          <p:cNvSpPr/>
          <p:nvPr/>
        </p:nvSpPr>
        <p:spPr>
          <a:xfrm>
            <a:off x="3292560" y="76320"/>
            <a:ext cx="5600520" cy="3988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ЕРНОВОЕ ХОЗЯЙСТВ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255840" y="549360"/>
            <a:ext cx="5780160" cy="2331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ое место по значению принадлежит зерновым культу-рам,  примерно  55%  зерновых употребляют в пищу и  45% используют как фуражное зерно (корма для животных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числу зерновых относятся пшеница,  рис,  кукуруза,  яч-мень, рожь, овес, сорго,  просо.  Наибольшие посевные  пло-щади занимают три главные зерновые культуры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шеница, рис, кукуру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(рисунок  1  показывает  структуру посевных площадей зерновых культур в %)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-32400" y="2852640"/>
            <a:ext cx="327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. 1. Структура посевных площаде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ерновых культур в 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3786120"/>
          <a:ext cx="8964720" cy="2162160"/>
        </p:xfrm>
        <a:graphic>
          <a:graphicData uri="http://schemas.openxmlformats.org/drawingml/2006/table">
            <a:tbl>
              <a:tblPr/>
              <a:tblGrid>
                <a:gridCol w="2987640"/>
                <a:gridCol w="2989080"/>
                <a:gridCol w="2988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– лидер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роизводству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шениц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– лидер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роизводству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рис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– лидер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роизводству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кукуруз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, США, Индия, Россия, Франц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, Индия, Индонезия, Бангладеш, Вьетна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Канада, Бразилия, Мексика, Франц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% зерна поступает на мировой рынок. Главными экспортерами являются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, США, Аргентина, Австралия, Франц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ьянма, Таиланд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Франция, Канад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ber14"/>
          <p:cNvPicPr/>
          <p:nvPr/>
        </p:nvPicPr>
        <p:blipFill>
          <a:blip r:embed="rId1"/>
          <a:srcRect l="14561" t="10292" r="13153" b="8415"/>
          <a:stretch/>
        </p:blipFill>
        <p:spPr>
          <a:xfrm>
            <a:off x="-36360" y="0"/>
            <a:ext cx="3671640" cy="309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or15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024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-90360" y="3165480"/>
            <a:ext cx="187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с. 2. Сахарная свек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-93240" y="647712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с. 3. Сахарный тростник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32200" y="115920"/>
            <a:ext cx="491652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ХАРОНОСНЫЕ КУЛЬТУР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759120" y="549360"/>
            <a:ext cx="5276880" cy="5806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ссортимент   сахароносных   культур   представлен только  двумя  культурами  (рис. 2 и 3)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4067280" y="1197000"/>
            <a:ext cx="647640" cy="647640"/>
          </a:xfrm>
          <a:prstGeom prst="ellipse">
            <a:avLst/>
          </a:prstGeom>
          <a:solidFill>
            <a:srgbClr val="99ffcc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4719960" y="1341360"/>
            <a:ext cx="42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сахара производят из сахарного тростник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4068720" y="1989000"/>
            <a:ext cx="647640" cy="648000"/>
          </a:xfrm>
          <a:prstGeom prst="ellipse">
            <a:avLst/>
          </a:prstGeom>
          <a:solidFill>
            <a:srgbClr val="ff00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719960" y="2084400"/>
            <a:ext cx="388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сахара производят из сахарной свекл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3928320" y="2946240"/>
            <a:ext cx="1741320" cy="155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меренный поя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РГ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краин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260400" y="2946240"/>
            <a:ext cx="2195280" cy="155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убтропический поя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зил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д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б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киста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4863600" y="2441520"/>
            <a:ext cx="2434680" cy="33732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авные производител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35"/>
          <p:cNvCxnSpPr>
            <a:stCxn id="126" idx="5"/>
          </p:cNvCxnSpPr>
          <p:nvPr/>
        </p:nvCxnSpPr>
        <p:spPr>
          <a:xfrm flipH="1" rot="16200000">
            <a:off x="6564240" y="-195840"/>
            <a:ext cx="240120" cy="4129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AutoShape 36"/>
          <p:cNvCxnSpPr>
            <a:endCxn id="131" idx="3"/>
          </p:cNvCxnSpPr>
          <p:nvPr/>
        </p:nvCxnSpPr>
        <p:spPr>
          <a:xfrm rot="5400000">
            <a:off x="7805520" y="2785320"/>
            <a:ext cx="1596240" cy="28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AutoShape 37"/>
          <p:cNvCxnSpPr>
            <a:stCxn id="128" idx="2"/>
            <a:endCxn id="130" idx="1"/>
          </p:cNvCxnSpPr>
          <p:nvPr/>
        </p:nvCxnSpPr>
        <p:spPr>
          <a:xfrm flipV="1" rot="10800000">
            <a:off x="3923640" y="2311920"/>
            <a:ext cx="144720" cy="1415160"/>
          </a:xfrm>
          <a:prstGeom prst="bentConnector3">
            <a:avLst>
              <a:gd name="adj1" fmla="val 2588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Text Box 38"/>
          <p:cNvSpPr/>
          <p:nvPr/>
        </p:nvSpPr>
        <p:spPr>
          <a:xfrm>
            <a:off x="3832200" y="4842000"/>
            <a:ext cx="506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числу главных экспортеров сахара относятся Бразилия, Таиланд, Австралия, Куба, Франция, Украин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03120" y="115920"/>
            <a:ext cx="8516880" cy="337320"/>
          </a:xfrm>
          <a:prstGeom prst="rect">
            <a:avLst/>
          </a:prstGeom>
          <a:solidFill>
            <a:srgbClr val="ff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ПРОДОВОЛЬСТВЕННЫЕ (ТЕХНИЧЕСКИЕ) КУЛЬТУР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39680" y="549360"/>
            <a:ext cx="8896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хнические культуры выращивают с целью получения сырья для различных отраслей про-мышленности.  К  техническим  культурам  относятся  волокнистые  культуры  (хлопчатник, лён, сизаль, джут), гевея (источник натурального каучука), табак. Наибольшее значение име-ет хлопчатник. Первое место по посевам и сбору хлопка занимают страны Азии,  второе стра-ны Америки, третье страны Африки (смотри карту).  70% мирового производства  льна  при-ходится  на  Россию  и  Белоруссию,  джута – на Бангладеш.  85% натурального каучука дают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сельское хозяйство технические культуры"/>
          <p:cNvPicPr/>
          <p:nvPr/>
        </p:nvPicPr>
        <p:blipFill>
          <a:blip r:embed="rId1"/>
          <a:srcRect l="700" t="1112" r="1400" b="2223"/>
          <a:stretch/>
        </p:blipFill>
        <p:spPr>
          <a:xfrm>
            <a:off x="1763640" y="2133720"/>
            <a:ext cx="7272360" cy="4522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0" name="Text Box 11"/>
          <p:cNvSpPr/>
          <p:nvPr/>
        </p:nvSpPr>
        <p:spPr>
          <a:xfrm>
            <a:off x="108000" y="2060640"/>
            <a:ext cx="1585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аны Юго-Восточной Азии, особен-но  Таиланд, Индонезия и Малайзия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58760" y="3833640"/>
            <a:ext cx="1460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рт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«Главные  районы производства  во-локнистых    куль-тур   и  натураль-ного каучука в ми-ре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tar6"/>
          <p:cNvPicPr/>
          <p:nvPr/>
        </p:nvPicPr>
        <p:blipFill>
          <a:blip r:embed="rId1"/>
          <a:stretch/>
        </p:blipFill>
        <p:spPr>
          <a:xfrm>
            <a:off x="0" y="4292640"/>
            <a:ext cx="30592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tar17"/>
          <p:cNvPicPr/>
          <p:nvPr/>
        </p:nvPicPr>
        <p:blipFill>
          <a:blip r:embed="rId2"/>
          <a:srcRect l="11717" t="19753" r="11717" b="17876"/>
          <a:stretch/>
        </p:blipFill>
        <p:spPr>
          <a:xfrm>
            <a:off x="0" y="2276640"/>
            <a:ext cx="30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as10"/>
          <p:cNvPicPr/>
          <p:nvPr/>
        </p:nvPicPr>
        <p:blipFill>
          <a:blip r:embed="rId3"/>
          <a:stretch/>
        </p:blipFill>
        <p:spPr>
          <a:xfrm>
            <a:off x="0" y="0"/>
            <a:ext cx="3059280" cy="22939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4"/>
          <p:cNvSpPr txBox="1"/>
          <p:nvPr/>
        </p:nvSpPr>
        <p:spPr>
          <a:xfrm rot="5400000">
            <a:off x="-1657440" y="2457360"/>
            <a:ext cx="612144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Животноводство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43480" y="44280"/>
            <a:ext cx="513216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ИВОТНОВОДСТВ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059280" y="392040"/>
            <a:ext cx="6032160" cy="1797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временное животноводство очень разнообразно: оно вклю-чает  разведение  крупного  рогатого  скота,  свиней, овец,  коз, буйволов, лошадей, ослов, мулов,  а также  птицеводство,  пче-ловодство, шелководство. Главную роль играют три отрасли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ведение крупного рогатого скота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иноводство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вцеводство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10"/>
          <p:cNvGraphicFramePr/>
          <p:nvPr/>
        </p:nvGraphicFramePr>
        <p:xfrm>
          <a:off x="2556000" y="1233360"/>
          <a:ext cx="609588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1233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11"/>
          <p:cNvSpPr/>
          <p:nvPr/>
        </p:nvSpPr>
        <p:spPr>
          <a:xfrm>
            <a:off x="5867280" y="3933720"/>
            <a:ext cx="29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иаграмма. Структура производ-ства мяса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08480" y="4941720"/>
          <a:ext cx="5484600" cy="1847880"/>
        </p:xfrm>
        <a:graphic>
          <a:graphicData uri="http://schemas.openxmlformats.org/drawingml/2006/table">
            <a:tbl>
              <a:tblPr/>
              <a:tblGrid>
                <a:gridCol w="1828800"/>
                <a:gridCol w="1827000"/>
                <a:gridCol w="1828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пного рогатого скот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е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е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2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1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 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1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ентина 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 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н 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. Зеландия 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4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 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Г 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30"/>
          <p:cNvSpPr/>
          <p:nvPr/>
        </p:nvSpPr>
        <p:spPr>
          <a:xfrm>
            <a:off x="3425040" y="4581360"/>
            <a:ext cx="53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. Страны – лидеры по поголовью (млн. голов) 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1" descr="pic_agro_11[1]"/>
          <p:cNvPicPr/>
          <p:nvPr/>
        </p:nvPicPr>
        <p:blipFill>
          <a:blip r:embed="rId1"/>
          <a:srcRect l="0" t="11101" r="0" b="11101"/>
          <a:stretch/>
        </p:blipFill>
        <p:spPr>
          <a:xfrm>
            <a:off x="7315200" y="4191120"/>
            <a:ext cx="1523880" cy="76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0" descr="i[59]"/>
          <p:cNvPicPr/>
          <p:nvPr/>
        </p:nvPicPr>
        <p:blipFill>
          <a:blip r:embed="rId2"/>
          <a:srcRect l="0" t="14989" r="0" b="9993"/>
          <a:stretch/>
        </p:blipFill>
        <p:spPr>
          <a:xfrm>
            <a:off x="304920" y="4191120"/>
            <a:ext cx="126972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WordArt 2"/>
          <p:cNvSpPr txBox="1"/>
          <p:nvPr/>
        </p:nvSpPr>
        <p:spPr>
          <a:xfrm>
            <a:off x="304920" y="76320"/>
            <a:ext cx="8534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География сельского хозяйства мира</a:t>
            </a:r>
            <a:endParaRPr b="1" lang="en-US" sz="1600" spc="1" strike="noStrike">
              <a:ln w="2232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1397160"/>
          <a:ext cx="8534160" cy="4074840"/>
        </p:xfrm>
        <a:graphic>
          <a:graphicData uri="http://schemas.openxmlformats.org/drawingml/2006/table">
            <a:tbl>
              <a:tblPr/>
              <a:tblGrid>
                <a:gridCol w="2895480"/>
                <a:gridCol w="1600200"/>
                <a:gridCol w="1447920"/>
                <a:gridCol w="2590560"/>
              </a:tblGrid>
              <a:tr h="1350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АГРОПРОМЫШЛЕННЫЙ КОМПЛЕКС 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диняет все отрасли хозяйства, принимающие  участие в  производстве сельскохозяйственной продукции и её доведения до потребителя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СОСТАВЕ 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АПК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ВЫДЕЛЯЕТСЯ ТРИ ОСНОВНЫХ ЗВЕНА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сли, обеспечивающие развитие комплекс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ое хозяй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сли, перерабатывающие сельскохозяйственную продукцию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012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АЛЬНЫМ ЗВЕНОМ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ЯВЛЯЕТСЯ СЕЛЬСКОЕ ХОЗЯЙСТВО: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ОТНОВОДСТВ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ЕНИЕВОДСТВ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27"/>
          <p:cNvSpPr/>
          <p:nvPr/>
        </p:nvSpPr>
        <p:spPr>
          <a:xfrm>
            <a:off x="307800" y="76212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блица. Структура агропромышленного комплекса мир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9"/>
          <p:cNvSpPr/>
          <p:nvPr/>
        </p:nvSpPr>
        <p:spPr>
          <a:xfrm>
            <a:off x="76320" y="5624640"/>
            <a:ext cx="9067680" cy="824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помните из курса географии 9 класса какие отрасли АПК обеспечивают развитие комплекса, какие отрасли занимаются переработкой с/х сырья? Из каких подотраслей состоит животно-водство и растениеводство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0" descr="сельск хоз рисунок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WordArt 2"/>
          <p:cNvSpPr txBox="1"/>
          <p:nvPr/>
        </p:nvSpPr>
        <p:spPr>
          <a:xfrm>
            <a:off x="1763640" y="476280"/>
            <a:ext cx="5113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География сельского хозяйства мира.</a:t>
            </a:r>
            <a:endParaRPr b="1" lang="en-US" sz="1600" spc="1" strike="noStrike">
              <a:ln w="2232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12760" y="1733400"/>
            <a:ext cx="8626320" cy="3506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льское хозяйство  – вторая по значимости после промышленности отрасль материального производств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  масштабах  современного  мирового  сельского  хозяйства   говорят следующие данные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- около 50 % экономически активного населения мира занято  в сельском хозяйстве,  это 1,3 млрд. человек  (вспомните количество занятых в  ми-ровой промышленности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в   мировом   валовом  продукте  доля   сельского  хозяйства  составляет около 10 % (вспомните, а какова доля промышленности в мировом ВП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днако, темпы роста мирового сельского хозяйства в последнее время очень  сильно  замедлились.  Если  в  1970  гг.  доля  сельскохозяйственной продукции в мировом экспорте составляла 20 %,  то в  конце 1990 гг.  эта цифра упала до 10 %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200" y="5084640"/>
          <a:ext cx="7129800" cy="1743120"/>
        </p:xfrm>
        <a:graphic>
          <a:graphicData uri="http://schemas.openxmlformats.org/drawingml/2006/table">
            <a:tbl>
              <a:tblPr/>
              <a:tblGrid>
                <a:gridCol w="1783080"/>
                <a:gridCol w="1782720"/>
                <a:gridCol w="1782720"/>
                <a:gridCol w="17812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я занятых в сельском хозяйстве в разных странах (в % от всего занятого населения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ЫХ В СЕЛЬСКОМ ХОЗЯЙСТВ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ЫХ В СЕЛЬСКОМ ХОЗЯЙСТВ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з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51"/>
          <p:cNvSpPr/>
          <p:nvPr/>
        </p:nvSpPr>
        <p:spPr>
          <a:xfrm>
            <a:off x="7740720" y="5445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отр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т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2"/>
          <p:cNvSpPr/>
          <p:nvPr/>
        </p:nvSpPr>
        <p:spPr>
          <a:xfrm>
            <a:off x="7236000" y="595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сельск хоз доля занятых"/>
          <p:cNvPicPr/>
          <p:nvPr/>
        </p:nvPicPr>
        <p:blipFill>
          <a:blip r:embed="rId1"/>
          <a:stretch/>
        </p:blipFill>
        <p:spPr>
          <a:xfrm>
            <a:off x="217440" y="692280"/>
            <a:ext cx="8675640" cy="5259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158760" y="4428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анализируйте карту. В какой группе стран преобладает доля занятых в сельском хозяйстве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79280" y="5950080"/>
            <a:ext cx="89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азвивающихся странах более 30% экономически активного населения занято в сельском хозяйстве. Сопоставьте эту карту с политической картой мира и отметьте страны в которых доля занятых в с/х превышает 80 %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26"/>
          <p:cNvSpPr/>
          <p:nvPr/>
        </p:nvSpPr>
        <p:spPr>
          <a:xfrm>
            <a:off x="2046600" y="185760"/>
            <a:ext cx="4992120" cy="459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rnard MT Condensed"/>
              </a:rPr>
              <a:t>ТИПЫ СЕЛЬСКОГО ХОЗЯЙ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1793520" y="911160"/>
            <a:ext cx="1907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28"/>
          <p:cNvSpPr/>
          <p:nvPr/>
        </p:nvSpPr>
        <p:spPr>
          <a:xfrm>
            <a:off x="3911400" y="911160"/>
            <a:ext cx="34009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ЬСК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29" descr="Картофель"/>
          <p:cNvPicPr/>
          <p:nvPr/>
        </p:nvPicPr>
        <p:blipFill>
          <a:blip r:embed="rId1"/>
          <a:stretch/>
        </p:blipFill>
        <p:spPr>
          <a:xfrm>
            <a:off x="76320" y="3981600"/>
            <a:ext cx="3733560" cy="28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5" name="Picture 1030" descr="пастбищное схОлени"/>
          <p:cNvPicPr/>
          <p:nvPr/>
        </p:nvPicPr>
        <p:blipFill>
          <a:blip r:embed="rId2"/>
          <a:stretch/>
        </p:blipFill>
        <p:spPr>
          <a:xfrm>
            <a:off x="5257800" y="3924360"/>
            <a:ext cx="3809880" cy="2857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6" name="Line 1032"/>
          <p:cNvSpPr/>
          <p:nvPr/>
        </p:nvSpPr>
        <p:spPr>
          <a:xfrm>
            <a:off x="266688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033"/>
          <p:cNvSpPr/>
          <p:nvPr/>
        </p:nvSpPr>
        <p:spPr>
          <a:xfrm>
            <a:off x="624852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4"/>
          <p:cNvSpPr/>
          <p:nvPr/>
        </p:nvSpPr>
        <p:spPr>
          <a:xfrm>
            <a:off x="76320" y="1523880"/>
            <a:ext cx="36576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ОЕ ЗЕМЛЕДЕЛ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ОЕ ЖИВОТНОВОД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35"/>
          <p:cNvSpPr/>
          <p:nvPr/>
        </p:nvSpPr>
        <p:spPr>
          <a:xfrm>
            <a:off x="76320" y="2247840"/>
            <a:ext cx="3657600" cy="155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ставляет  собой  крупные,  хоро-шо    организованные   плантации  и фермы,     использующие     машины, наемную рабочую силу,  удобрения и ориентированы    на   внутренний   и внешний рынок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36"/>
          <p:cNvSpPr/>
          <p:nvPr/>
        </p:nvSpPr>
        <p:spPr>
          <a:xfrm flipH="1">
            <a:off x="106632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37"/>
          <p:cNvSpPr/>
          <p:nvPr/>
        </p:nvSpPr>
        <p:spPr>
          <a:xfrm>
            <a:off x="10666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38"/>
          <p:cNvSpPr/>
          <p:nvPr/>
        </p:nvSpPr>
        <p:spPr>
          <a:xfrm>
            <a:off x="5110560" y="1523880"/>
            <a:ext cx="3956760" cy="73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УЖНОЕ И МАТЫЖНОЕ ЗЕМЛЕДЕЛ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СТБИЩНОЕ ЖИВОТНОВОД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ЧЕВОЕ СКОТОВОД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39"/>
          <p:cNvSpPr/>
          <p:nvPr/>
        </p:nvSpPr>
        <p:spPr>
          <a:xfrm>
            <a:off x="73152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40"/>
          <p:cNvSpPr/>
          <p:nvPr/>
        </p:nvSpPr>
        <p:spPr>
          <a:xfrm>
            <a:off x="7848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41"/>
          <p:cNvSpPr/>
          <p:nvPr/>
        </p:nvSpPr>
        <p:spPr>
          <a:xfrm>
            <a:off x="3913200" y="2768760"/>
            <a:ext cx="51544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ставляет собой малотоварное  с/х,  обеспечиваю-щее пропитание семь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42"/>
          <p:cNvSpPr/>
          <p:nvPr/>
        </p:nvSpPr>
        <p:spPr>
          <a:xfrm>
            <a:off x="1066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43"/>
          <p:cNvSpPr/>
          <p:nvPr/>
        </p:nvSpPr>
        <p:spPr>
          <a:xfrm>
            <a:off x="79246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046600" y="185760"/>
            <a:ext cx="4992120" cy="459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rnard MT Condensed"/>
              </a:rPr>
              <a:t>ТИПЫ СЕЛЬСКОГО ХОЗЯЙ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93520" y="911160"/>
            <a:ext cx="1907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911400" y="911160"/>
            <a:ext cx="34009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ЬСК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>
            <a:off x="266688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>
            <a:off x="624852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59000" y="1763640"/>
            <a:ext cx="38840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ЭКОНОМИЧЕСКИ РАЗВИТЫ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А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956120" y="1763640"/>
            <a:ext cx="383220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АЗВИВАЮЩИХСЯ СТРАНА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25280" y="2529000"/>
            <a:ext cx="42181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ет  товарное  с/х,   характер-но: высокий  уровень  механизации  и химизации, внедрение  микроэлектро-ники,  автоматизации,  использование новейших достижений селекции  и  ге-нетик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ША один фермер «кормит» - 50 - 70 человек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495680" y="2525760"/>
            <a:ext cx="4343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ет потребительское, малотоварное с/х, преимущественно растениеводческого направления. Представлен сотнями миллионов мелких и мельчайших хозяйств. Основными орудиями труда остаются деревянная соха, мотыг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Тепличное растениеводство"/>
          <p:cNvPicPr/>
          <p:nvPr/>
        </p:nvPicPr>
        <p:blipFill>
          <a:blip r:embed="rId1"/>
          <a:stretch/>
        </p:blipFill>
        <p:spPr>
          <a:xfrm>
            <a:off x="1371600" y="52387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Рисовые поля"/>
          <p:cNvPicPr/>
          <p:nvPr/>
        </p:nvPicPr>
        <p:blipFill>
          <a:blip r:embed="rId2"/>
          <a:stretch/>
        </p:blipFill>
        <p:spPr>
          <a:xfrm>
            <a:off x="5715000" y="5143680"/>
            <a:ext cx="218448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8720" y="204840"/>
            <a:ext cx="8956080" cy="444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ЕГИОНЫ – ЛИДЕРЫ ПО ПРОИЗВОДСТВУ С/Х ПРОДУКЦИИ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Мировое сельское хозяйство"/>
          <p:cNvPicPr/>
          <p:nvPr/>
        </p:nvPicPr>
        <p:blipFill>
          <a:blip r:embed="rId1"/>
          <a:stretch/>
        </p:blipFill>
        <p:spPr>
          <a:xfrm>
            <a:off x="76320" y="1627200"/>
            <a:ext cx="7951680" cy="51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1" name="Text Box 6"/>
          <p:cNvSpPr/>
          <p:nvPr/>
        </p:nvSpPr>
        <p:spPr>
          <a:xfrm>
            <a:off x="0" y="765000"/>
            <a:ext cx="885492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анализируйте карту «Сельское хозяйство». Какие регионы мира являются лидерами по производству сельскохозяйственной продукции на душу населения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848720" y="685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78487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477120" y="1866960"/>
            <a:ext cx="266688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ША и Канад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477120" y="2324160"/>
            <a:ext cx="266688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азилия и Аргенти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477120" y="2754360"/>
            <a:ext cx="266688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рубежная Европ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477120" y="3211560"/>
            <a:ext cx="266688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страл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481800" y="3668760"/>
            <a:ext cx="266220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tar3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179280" y="189000"/>
            <a:ext cx="692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Понятие о "зелёной революции"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8000" y="765000"/>
            <a:ext cx="57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ятие «зелёная революция» получила распространение в 60 годы ХХ века.  Оно означало преобразование сельского хозяйства на основе достижения науки и техники. Первыми этот  путь  прошли  развитые  страны  в    50 годах.  А затем этот  процесс  охватил   развивающиеся   страны.   Быстрый рост населения развивающихся  стран  привел  к  большому увеличению нагрузки на пахотные земли, эти страны испы-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71280" y="249228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вали хронический голод.  И «зелёная революция» была воспринята в них как реальная воз-можность выхода из критического положения. Однако появились  и  нежелательные  экологи-ческие последствия (результат применения химических удобрений и ядохимикатов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3573360"/>
          <a:ext cx="8569080" cy="272916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523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ЕЛЁНАЯ РЕВОЛЮЦИЯ» ВКЛЮЧАЕТ В СЕБЯ ТРИ КОМПОНЕН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едение новых скороспелых сортов сельскохозяйственных культур и продуктивных пород животных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ирригации (орошение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устриализация сельского хозяйства, широкое применение современной техники и удобрений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r9"/>
          <p:cNvPicPr/>
          <p:nvPr/>
        </p:nvPicPr>
        <p:blipFill>
          <a:blip r:embed="rId1"/>
          <a:srcRect l="13153" t="0" r="14561" b="8415"/>
          <a:stretch/>
        </p:blipFill>
        <p:spPr>
          <a:xfrm>
            <a:off x="0" y="4125960"/>
            <a:ext cx="2987640" cy="273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mor20"/>
          <p:cNvPicPr/>
          <p:nvPr/>
        </p:nvPicPr>
        <p:blipFill>
          <a:blip r:embed="rId2"/>
          <a:stretch/>
        </p:blipFill>
        <p:spPr>
          <a:xfrm>
            <a:off x="0" y="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mor13"/>
          <p:cNvPicPr/>
          <p:nvPr/>
        </p:nvPicPr>
        <p:blipFill>
          <a:blip r:embed="rId3"/>
          <a:stretch/>
        </p:blipFill>
        <p:spPr>
          <a:xfrm>
            <a:off x="0" y="190980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4"/>
          <p:cNvSpPr txBox="1"/>
          <p:nvPr/>
        </p:nvSpPr>
        <p:spPr>
          <a:xfrm rot="5400000">
            <a:off x="-2269080" y="2708280"/>
            <a:ext cx="626436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Растениеводство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255840" y="-9360"/>
            <a:ext cx="5419800" cy="337320"/>
          </a:xfrm>
          <a:prstGeom prst="rect">
            <a:avLst/>
          </a:prstGeom>
          <a:solidFill>
            <a:srgbClr val="99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ТЕНИЕВОДСТВ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111480" y="404640"/>
            <a:ext cx="5853240" cy="2770920"/>
          </a:xfrm>
          <a:prstGeom prst="rect">
            <a:avLst/>
          </a:prstGeom>
          <a:noFill/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тениеводство остается главной отраслью сельского хо-зяйства  мира,  так  как  играет  важную  роль в обеспечении населения  Земли  продовольствием,  а  некоторых  отраслей промышленности сырьём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оставе растениеводства выделяют несколько отраслей: -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ращивание зерновых культур (зерновое хозяйство)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ращивание сахароносных культур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ращивание масленичных культур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ращивание  непродовольственных  (технических)  куль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тур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- выращивание плодовых культур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997360" y="3141720"/>
            <a:ext cx="60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иаграмма. Мировое производство продовольственных культур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2"/>
          <p:cNvGraphicFramePr/>
          <p:nvPr/>
        </p:nvGraphicFramePr>
        <p:xfrm>
          <a:off x="2868480" y="3281400"/>
          <a:ext cx="7607520" cy="378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8480" y="3281400"/>
                    <a:ext cx="76075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14" descr="plo16"/>
          <p:cNvPicPr/>
          <p:nvPr/>
        </p:nvPicPr>
        <p:blipFill>
          <a:blip r:embed="rId6"/>
          <a:stretch/>
        </p:blipFill>
        <p:spPr>
          <a:xfrm>
            <a:off x="5722920" y="3429000"/>
            <a:ext cx="1873440" cy="140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Text Box 15"/>
          <p:cNvSpPr/>
          <p:nvPr/>
        </p:nvSpPr>
        <p:spPr>
          <a:xfrm>
            <a:off x="7596360" y="4464000"/>
            <a:ext cx="1547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ая отрасль растениеводства лидирует по сбору продукции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культуры можно назвать «царицами» растениеводства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HP</cp:lastModifiedBy>
  <dcterms:modified xsi:type="dcterms:W3CDTF">2010-03-08T14:53:46Z</dcterms:modified>
  <cp:revision>35</cp:revision>
  <dc:subject/>
  <dc:title>PowerPoint Presentation</dc:title>
</cp:coreProperties>
</file>