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9A6-351C-48A0-B197-C1B7DBE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FF1-7DC1-428F-A24D-2E42950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A61-518A-416F-AF1C-5493806F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AA1-2145-4686-B184-8263D306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0C86-8CD7-4908-A7AD-B7955C9F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5068-5447-4A8D-9E18-93FD7A5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3E01-8A09-4D9C-82D2-BC8983F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3373-5B5B-4841-A444-59C7D6C4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222C-6BA5-4F9C-B621-868D5CC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D8FD-9FF2-4FD1-8AE8-4A4BB34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E98-B595-409E-BD40-56C578C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C14-DC5D-413E-8F90-F5CDBCF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5383-CFC9-4F17-A946-3F9FCF8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D4DC-5ACC-481E-9350-E68EBEC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8D24-6705-4EF5-9CE2-1531D9A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518-2962-412D-83D7-2BE9602C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F3AE-71F1-4B8D-9B33-5AFBD018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81C-7AE5-48EA-AC05-4CDB8A6D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0EE-2EDC-4615-B972-EC69FB83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B91-1F0D-4A26-82C0-38FA8A6B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5C0-3D5C-4545-A9A2-33BA1A2D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B8B-B053-46A3-8C05-4AC9785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B96-0572-4EFC-A9B8-5B4172F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1D7-BFE6-417B-A3A1-15A9D3C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D4B-0C51-43FA-81D5-B9B3861C7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D5CF-D7A8-4368-9BC0-9D6130F97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 на тему: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Гончарный круг в истории человечеств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       Выполнила:Малышева Светлана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                                  МОУ КСОШ 9 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обретение глазур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зурь - это тонкий стекловидный слой, которым покрывают изделие. Глазурью поливают перед обжигом. Она бывает цветной и бесцветной, прозрачной и непрозрачной.      Цветные глазури знали уже на Древнем Востоке. Описание способа приготовления глазурей содержится на глиняных табличках с клинописным текстом, обнаруженных в библиотеке ассирийского царя Ассурбанипала в Ниневии (VII в. до н. э.).      Широко известна архитектурная поливная керамика Ассирии, Вавилона, Древнего Ирана. Вызывают восхищение древние иранские глазурованные панно с рельефными многоцветными изображениями, украшавшие стены дворцов и храмов. Покрытую глазурью керамику называют майоликой. Глазурь, или полива, тонким стекловидным слоем покрывает керамическое изделие, делая краски и ангобы яркими и сочными, полностью предохраняя их от влаги. Известен народный способ приготовления глазури. Разогревают на огне бутылочное стекло и бросают его в холодную воду. Стекло покрывается мельчайшими трещинами и легко рассыпается. В ступке стекло перетирают в порошок, разводят его водой и добавляют клейстер. Изделия поливают этим составом и дают просохнуть, после чего снова загружают в печь, где выдерживают около трех час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&amp;Gcy;&amp;lcy;&amp;acy;&amp;zcy;&amp;ucy;&amp;rcy;&amp;softcy; &amp;kcy;&amp;iecy;&amp;rcy;&amp;acy;&amp;mcy;&amp;icy;&amp;chcy;&amp;iecy;&amp;scy;&amp;kcy;&amp;acy;&amp;yacy; &amp;pcy;&amp;rcy;&amp;ocy;&amp;zcy;&amp;rcy;&amp;acy;&amp;chcy;&amp;ncy;&amp;acy;&amp;yacy; &amp;Tcy;&amp;vcy;&amp;ocy;&amp;rcy;&amp;iecy;&amp;tscy;. &amp;Tcy;&amp;vcy;&amp;ocy;&amp;rcy;&amp;chcy;&amp;iecy;&amp;scy;&amp;tcy;&amp;vcy;&amp;ocy; &amp;dcy;&amp;lcy;&amp;yacy; &amp;dcy;&amp;iecy;&amp;tcy;&amp;iecy;&amp;jcy; &amp;ocy;&amp;tcy; 5 &amp;dcy;&amp;ocy; 25 &amp;lcy;&amp;iecy;&amp;tcy; - &amp;kcy;&amp;ucy;&amp;pcy;&amp;icy;&amp;tcy;&amp;softcy; &amp;vcy; &amp;icy;&amp;ncy;&amp;tcy;&amp;iecy;&amp;rcy;&amp;ncy;&amp;iecy;&amp;tcy;-&amp;mcy;&amp;acy;&amp;gcy;&amp;acy;&amp;zcy;&amp;icy;&amp;ncy;&amp;iecy;"/>
          <p:cNvPicPr/>
          <p:nvPr/>
        </p:nvPicPr>
        <p:blipFill>
          <a:blip r:embed="rId2"/>
          <a:stretch/>
        </p:blipFill>
        <p:spPr>
          <a:xfrm>
            <a:off x="457200" y="5029200"/>
            <a:ext cx="19782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&amp;Scy;&amp;tcy;&amp;acy;&amp;tcy;&amp;ucy;&amp;ecy;&amp;tcy;&amp;kcy;&amp;icy; &amp;fcy;&amp;acy;&amp;rcy;&amp;fcy;&amp;ocy;&amp;rcy;&amp;ocy;&amp;vcy;&amp;ycy;&amp;iecy; &amp;kcy;&amp;iecy;&amp;rcy;&amp;acy;&amp;mcy;&amp;icy;&amp;kcy;&amp;acy; &amp;pcy;&amp;ocy;&amp;lcy;&amp;icy;&amp;scy;&amp;tcy;&amp;ocy;&amp;ucy;&amp;ncy; &amp;kcy;&amp;ucy;&amp;pcy;&amp;icy;&amp;tcy;&amp;softcy; &amp;dcy;&amp;iecy;&amp;shcy;&amp;iecy;&amp;vcy;&amp;ocy;"/>
          <p:cNvPicPr/>
          <p:nvPr/>
        </p:nvPicPr>
        <p:blipFill>
          <a:blip r:embed="rId3"/>
          <a:stretch/>
        </p:blipFill>
        <p:spPr>
          <a:xfrm>
            <a:off x="3276720" y="4705200"/>
            <a:ext cx="2152440" cy="2152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&amp;YAcy;&amp;kcy;&amp;ocy;&amp;vcy;&amp;lcy;&amp;iecy;&amp;vcy; &amp;Dcy;&amp;mcy;&amp;icy;&amp;tcy;&amp;rcy;&amp;icy;&amp;jcy; - &amp;Scy;&amp;acy;&amp;jcy;&amp;tcy; &amp;khcy;&amp;ucy;&amp;dcy;&amp;ocy;&amp;zhcy;&amp;ncy;&amp;icy;&amp;kcy;&amp;acy; - &amp;Rcy;&amp;acy;&amp;bcy;&amp;ocy;&amp;tcy;&amp;acy; &quot;&amp;Pcy;&amp;acy;&amp;scy;&amp;khcy;&amp;acy;&amp;lcy;&amp;softcy;&amp;ncy;&amp;ycy;&amp;iecy; &amp;pcy;&amp;icy;&amp;scy;&amp;acy;&amp;ncy;&amp;kcy;&amp;icy;. &amp;Kcy;&amp;iecy;&amp;rcy;&amp;acy;&amp;mcy;&amp;icy;&amp;kcy;&amp;acy;."/>
          <p:cNvPicPr/>
          <p:nvPr/>
        </p:nvPicPr>
        <p:blipFill>
          <a:blip r:embed="rId4"/>
          <a:stretch/>
        </p:blipFill>
        <p:spPr>
          <a:xfrm>
            <a:off x="6095880" y="491508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то такое керамика?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ерамикой называют изделия из глин и других неметаллических материалов, полученные с помощью обжига выше 800°С. Исходным состоянием сырьевых материалов является порошок, а конечным - единое твердое тело заданной формы.     В декоративно-прикладном искусстве керамика - это все разновидности художественных изделий из обожженной глины: фарфор, фаянс, майолика, терракота, гончарные изделия.      Керамике доступны широкие художественные возможности. Глина обладает всеми скульптурно-пластическими свойствами, а техника росписи и специальные глазури дают богатейшие цветовые средства.     Область применения керамики очень обширна. Из нее делают и посуду, и строительные детали, и скульптуры. Применяется керамика и в различных областях тех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&amp;Mcy;&amp;acy;&amp;scy;&amp;tcy;&amp;iecy;&amp;rcy; &amp;kcy;&amp;lcy;&amp;acy;&amp;scy;&amp;scy; &amp;pcy;&amp;ocy; &amp;kcy;&amp;iecy;&amp;rcy;&amp;acy;&amp;mcy;&amp;icy;&amp;kcy;&amp;iecy; - Master class"/>
          <p:cNvPicPr/>
          <p:nvPr/>
        </p:nvPicPr>
        <p:blipFill>
          <a:blip r:embed="rId2"/>
          <a:stretch/>
        </p:blipFill>
        <p:spPr>
          <a:xfrm>
            <a:off x="838080" y="4952880"/>
            <a:ext cx="2305080" cy="153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ranz Collection. &amp;Vcy;&amp;ocy;&amp;scy;&amp;khcy;&amp;icy;&amp;tcy;&amp;icy;&amp;tcy;&amp;iecy;&amp;lcy;&amp;softcy;&amp;ncy;&amp;acy;&amp;yacy; &amp;kcy;&amp;iecy;&amp;rcy;&amp;acy;&amp;mcy;&amp;icy;&amp;kcy;&amp;acy;! &amp;Rcy;&amp;icy;&amp;scy;&amp;ucy;&amp;yucy;&amp;tcy; &amp;vcy;&amp;scy;&amp;iecy;!"/>
          <p:cNvPicPr/>
          <p:nvPr/>
        </p:nvPicPr>
        <p:blipFill>
          <a:blip r:embed="rId3"/>
          <a:stretch/>
        </p:blipFill>
        <p:spPr>
          <a:xfrm>
            <a:off x="4343400" y="47242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Scy;&amp;Acy;&amp;Mcy;&amp;Acy;&amp;Rcy;&amp;Kcy;&amp;Acy;&amp;Ncy;&amp;Dcy;&amp;Scy;&amp;Kcy;&amp;Ocy;&amp;IEcy; &amp;Ocy;&amp;Bcy;&amp;HARDcy;&amp;IEcy;&amp;Dcy;&amp;Icy;&amp;Ncy;&amp;IEcy;&amp;Ncy;&amp;Icy;&amp;IEcy; &quot;&amp;Ucy;&amp;Scy;&amp;Tcy;&amp;Ocy;&quot; - &amp;Kcy;&amp;iecy;&amp;rcy;&amp;acy;&amp;mcy;&amp;icy;&amp;kcy;&amp;acy;"/>
          <p:cNvPicPr/>
          <p:nvPr/>
        </p:nvPicPr>
        <p:blipFill>
          <a:blip r:embed="rId4"/>
          <a:stretch/>
        </p:blipFill>
        <p:spPr>
          <a:xfrm>
            <a:off x="6553080" y="480060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рия появления керам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я появления керамики. Керамика появилась 12-15 тыс. лет назад, ещё в каменном веке. Сосуды лепились руками. В глину, чтобы она не трескалась при обжиге, добавляли толчёные раковины и измельчённый гранит. Изделия обжигались на кострах. Позднее появились специальные печи.       В медном веке (4 - 6 тысяч лет назад) формы сосудов становятся разнообразными, появляются скульптуры людей и животных. Изделия начинают украшать орнаментом. Вначале узоры выдавливали штампиком и остриём по сырой глине, потом научились делать росписи цветными глинами.      Рисунки условными знаками отображали явления природы (молнию, луну, солнце, воду). Люди верили в магическую (колдовскую) силу этих знаков. Постепенно первоначальный смысл орнамент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то изготавливал керамику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готовлением посуды поначалу занимались женщины. Это установлено по отпечаткам пальцев, сохранившимся на обожжённой глине. 6 тысяч лет назад изобрели гончарный круг. Древнейший гончарный круг вращали рукой. Потом появился более совершенный гончарный круг, имевший внизу тяжёлое маховое колесо, вращаемое ногами. Это резко повысило производительность труда и улучшило качество изделий. Гончарным делом стали заниматься мужчины. В это время и появились ремесленники-гонча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&amp;Bcy;&amp;icy;&amp;zcy;&amp;ncy;&amp;iecy;&amp;scy; &amp;icy;&amp;dcy;&amp;iecy;&amp;icy; - &amp;Icy;&amp;zcy;&amp;gcy;&amp;ocy;&amp;tcy;&amp;ocy;&amp;vcy;&amp;lcy;&amp;iecy;&amp;ncy;&amp;icy;&amp;iecy; &amp;kcy;&amp;iecy;&amp;rcy;&amp;acy;&amp;mcy;&amp;icy;&amp;chcy;&amp;iecy;&amp;scy;&amp;kcy;&amp;icy;&amp;khcy; &amp;icy;&amp;zcy;&amp;dcy;&amp;iecy;&amp;lcy;&amp;icy;&amp;jcy;. &quot; ActivePromo"/>
          <p:cNvPicPr/>
          <p:nvPr/>
        </p:nvPicPr>
        <p:blipFill>
          <a:blip r:embed="rId2"/>
          <a:stretch/>
        </p:blipFill>
        <p:spPr>
          <a:xfrm>
            <a:off x="3809880" y="411480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&amp;Ncy;&amp;ocy;&amp;vcy;&amp;shcy;&amp;iecy;&amp;scy;&amp;tcy;&amp;vcy;&amp;acy; &amp;ncy;&amp;acy;&amp;chcy;&amp;acy;&amp;lcy;&amp;acy; XX &amp;vcy;&amp;iecy;&amp;kcy;&amp;acy; &amp;vcy;&amp;ocy; &amp;dcy;&amp;vcy;&amp;ocy;&amp;rcy;&amp;tscy;&amp;iecy; &amp;YUcy;&amp;scy;&amp;ucy;&amp;pcy;&amp;ocy;&amp;vcy;&amp;ycy;&amp;khcy;. &amp;Icy;&amp;ncy;&amp;tcy;&amp;iecy;&amp;rcy;&amp;softcy;&amp;iecy;&amp;rcy; &amp;Vcy;&amp;ocy;&amp;lcy;&amp;shcy;&amp;iecy;&amp;bcy;&amp;ncy;&amp;ocy;&amp;jcy; &amp;pcy;&amp;iecy;&amp;shchcy;&amp;iecy;&amp;rcy;&amp;ycy; &amp;Acy;&amp;lcy;&amp;acy;&amp;dcy;&amp;icy;&amp;ncy;&amp;acy;."/>
          <p:cNvPicPr/>
          <p:nvPr/>
        </p:nvPicPr>
        <p:blipFill>
          <a:blip r:embed="rId3"/>
          <a:stretch/>
        </p:blipFill>
        <p:spPr>
          <a:xfrm>
            <a:off x="228600" y="41911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Tcy;&amp;rcy;&amp;acy;&amp;dcy;&amp;icy;&amp;tscy;&amp;icy;&amp;ocy;&amp;ncy;&amp;ncy;&amp;acy;&amp;yacy; &amp;scy;&amp;ucy;&amp;vcy;&amp;iecy;&amp;ncy;&amp;icy;&amp;rcy;&amp;ncy;&amp;acy;&amp;yacy; &amp;kcy;&amp;iecy;&amp;rcy;&amp;acy;&amp;mcy;&amp;icy;&amp;kcy;&amp;acy; &amp;dcy;&amp;lcy;&amp;yacy; &amp;kcy;&amp;ocy;&amp;rcy;&amp;ocy;&amp;lcy;&amp;iecy;&amp;vcy;&amp;scy;&amp;kcy;&amp;ocy;&amp;gcy;&amp;ocy; ... :: &amp;Vcy;&amp;ocy;&amp;kcy;&amp;rcy;&amp;ucy;&amp;gcy; &amp;scy;&amp;vcy;&amp;iecy;&amp;tcy;&amp;acy; :: &amp;Fcy;&amp;ocy;&amp;tcy;&amp;ocy;&amp;bcy;&amp;acy;&amp;ncy;&amp;kcy;"/>
          <p:cNvPicPr/>
          <p:nvPr/>
        </p:nvPicPr>
        <p:blipFill>
          <a:blip r:embed="rId4"/>
          <a:stretch/>
        </p:blipFill>
        <p:spPr>
          <a:xfrm>
            <a:off x="6095880" y="4191120"/>
            <a:ext cx="1905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ехнология производ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&amp;Icy;&amp;ncy;&amp;tcy;&amp;iecy;&amp;rcy;&amp;softcy;&amp;iecy;&amp;rcy; Zino &quot; &amp;ncy;&amp;iecy;&amp;dcy;&amp;vcy;&amp;icy;&amp;zhcy;&amp;icy;&amp;mcy;&amp;ocy;&amp;scy;&amp;tcy;&amp;softcy;"/>
          <p:cNvPicPr/>
          <p:nvPr/>
        </p:nvPicPr>
        <p:blipFill>
          <a:blip r:embed="rId2"/>
          <a:stretch/>
        </p:blipFill>
        <p:spPr>
          <a:xfrm>
            <a:off x="1219320" y="1676520"/>
            <a:ext cx="7315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особы изготов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иняную посуду по способам изготовления можно разделить на лепную и гончарную. К лепным относится выделка изделий без применения гончарного круга, к гончарным - вытягивание на ручном или ножном гончарном круге.       Изготовление посуды осуществлялось следующими способами: выдавливание из куска(комка) глины. лепка на шаблоне. кольцевой ленточный налеп (основной в изготовлении керамики, им выполнено большинство сосудов). ленточный налеп с последующим частичным вытягиванием на ручном гончарном круге. вытягивание на гончарном круге.     Изготовление игрушек :     Чаще всего игрущки делали вместе с посудой, иногда специально. Изготавливали их как гончары, так и просто умельцы.     Игрушки и свистульки в виде животных и птиц получали скульптурной лепкой. Отверствия у таких свистулек проделывали после завершения лепки. Когда изделие подсыхало - в отверствие помещали глиняный шарик, который обжигался вместе с игрушкой. Свистульки - трубочки делали на круглой палочке, которая выгорала при обжиге, образуя отверстие, куда вкладывали гороши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работка изде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ществует три основных направления: безгрунтовочное, грунтовочное, химико-термическое. Все сосуды обрабатываются по влажной основе.     Первое направление обработки поверхности посуды: Класс I - заглаживание - самый распространенный из способов. Группа 1 - простое. Вид 1 - заглаживание пальцами. Подвид 1 - ручное, без использования гончарного круга. Подвид 2 - машинное, с использованием гончарного круга. Вид 2 - заглаживание поверхности тканью. Подвид 1 - ручное, без использования гончарного круга. Подвид 2 - машинное, с использованием гончарного круга. Вид 3 - заглаживание поверхности деревянным инструментом. Подвид 1 - ручное, без использования гончарного круга. Подвид 2 - машинное, с использованием гончарного круга. Группа 2 - борозчатое - пучком травянистых растений. Описанные способы используются при заглаживании как изнутри, так и снаружи сосуда. Класс II - лощение. Операция производится путем простого лощения по влажной основе ручным способом камнем или костью. Класс III - орнаментация. Не отличается большим разнообразием: горизонтальные желобки и волнистые линии, округлые, овальные, подтреугольные вдавления, фигурные штампы.     Второе направление - грунтовочный (обмазка жидкой глиной) способ обработки поверхности на русской керамике встречается редко.     Третье направление - химико-термическ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ушка издел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шка проходит в два этапа: сосуд сохнет до «кожетвердого» состояния, когда закрепляется созданная форма, но так чтобы глина была достаточно влажной и можно было вносить изменения и дополнения в изделие - заделывать трещины, обрабатывать и ровнять поверхности, крепить носики, ручки и т. д., наносить орнаментацию. посуду досушивают на воздухе в течении нескольких дней. Следят за равномерной сушкой, переворачивая и постоянно меняя ее местоположение. Существуют два вида технологических устройств для обжига. Обжиг в домашних печах осуществляют, в основном, гончары, делавшие посуду для собственных нужд или распространяющие ее в своей деревне, а также кустари-одиночки, производящие не большой объем продукции. Эта операция производится в русской печи, в плите или в бане в печи - «каменке», топившейся по-черному. Обжигают несколько часов, температура в печи до 1000 градусов. Специализированные мастерские производят эту операцию в горнах. В гончарстве используют двухкамерные горны с вертикальным ходом горячих газов. Обжигают от 12 до 24 часов при температуре свыше 1000 граду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екорир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ществует множество способов отделки керамики. Один из древних способов - лощение - очень прост. Поверхность подсохшего изделия натирают любым гладким предметом, уплотняя верхний слой глины до появления блеска. После обжига блеск становится сильнее. Лощеную посуду можно смело использовать в хозяйстве, так как она достаточно влагоустойчива. На Руси лощеную посуду с декоративной целью дополнительно подвергали чернению. Для этого в конце обжига в печь бросали какое-нибудь дымящее топливо, например вар. Впитывая дым, сосуды становились черными, сохраняя блеск. Есть еще один способ чернения посуды. Раскаленную керамику бросают в опилки или в рубленую солому. Остывая, она приобретает черный цвет. Широко применяют в керамике способ декорирования жидкими глинами - ангобами. Если украшаемое изделие изготовлено из красножгущейся глины, то ангобы приготавливают из беложгущейся глины. Глину разводят до густоты сметаны и наносят на изделие кистью или резиновой грушей. Добавляя в глину окислы металлов, можно получить разноцветные ангобы. Сернокислый кобальт дает синий цвет, перекись марганца - коричневый, окись хрома - зеленый, окись никеля - желтый, окись железа - красный, смесь окисей хрома, марганца и кобальта - черн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&amp;Pcy;&amp;rcy;&amp;ocy;&amp;dcy;&amp;acy;&amp;mcy;: &amp;dcy;&amp;iecy;&amp;kcy;&amp;ocy;&amp;rcy;&amp;icy;&amp;rcy;&amp;ocy;&amp;vcy;&amp;acy;&amp;ncy;&amp;ycy;&amp;iecy; &amp;kcy;&amp;iecy;&amp;rcy;&amp;acy;&amp;mcy;&amp;icy;&amp;chcy;&amp;iecy;&amp;scy;&amp;kcy;&amp;icy;&amp;iecy; &amp;gcy;&amp;ocy;&amp;rcy;&amp;shcy;&amp;kcy;&amp;icy; &amp;dcy;&amp;lcy;&amp;yacy; &amp;tscy;&amp;vcy;&amp;iecy;&amp;tcy;&amp;ocy;&amp;vcy; - Bulletin-Board"/>
          <p:cNvPicPr/>
          <p:nvPr/>
        </p:nvPicPr>
        <p:blipFill>
          <a:blip r:embed="rId2"/>
          <a:stretch/>
        </p:blipFill>
        <p:spPr>
          <a:xfrm>
            <a:off x="762120" y="4724280"/>
            <a:ext cx="2590560" cy="1731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&amp;Vcy;&amp;acy;&amp;rcy;&amp;icy;&amp;acy;&amp;ncy;&amp;tcy; &amp;dcy;&amp;iecy;&amp;kcy;&amp;ocy;&amp;rcy;&amp;acy; &amp;kcy;&amp;iecy;&amp;rcy;&amp;acy;&amp;mcy;&amp;icy;&amp;kcy;&amp;icy;. - &amp;kcy;&amp;ocy;&amp;rcy;&amp;icy;&amp;chcy;&amp;ncy;&amp;iecy;&amp;vcy;&amp;ycy;&amp;jcy;,&amp;bcy;&amp;iecy;&amp;zhcy;&amp;iecy;&amp;vcy;&amp;ycy;&amp;jcy;,&amp;kcy;&amp;rcy;&amp;acy;&amp;kcy;&amp;lcy;&amp;iecy;,&amp;Kcy;&amp;iecy;&amp;rcy;&amp;acy;&amp;mcy;&amp;icy;&amp;kcy;&amp;acy;,&amp;Dcy;&amp;iecy;&amp;kcy;&amp;ocy;&amp;rcy;,&amp;gcy;&amp;lcy;&amp;acy;&amp;zcy;&amp;ucy;&amp;rcy;&amp;softcy;"/>
          <p:cNvPicPr/>
          <p:nvPr/>
        </p:nvPicPr>
        <p:blipFill>
          <a:blip r:embed="rId3"/>
          <a:stretch/>
        </p:blipFill>
        <p:spPr>
          <a:xfrm>
            <a:off x="4952880" y="4572000"/>
            <a:ext cx="2743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1</cp:lastModifiedBy>
  <dcterms:modified xsi:type="dcterms:W3CDTF">2014-10-13T14:19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