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F27-052D-4808-89F8-7B405B8A1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7B9D-A8F3-468D-87F7-0E1E428FF7C9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A8C8-79B8-4F51-AD45-A9B96A8C0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DB1A-4B47-4EA9-9605-8F28B667B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3DE7-A1AA-4A92-9ACF-D90D020B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5938-1C62-4D49-9D58-E0C771606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9444-00E1-427D-9F48-0DC34024B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5C94-195C-4CB7-A973-33EDD2E52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89B8-7B87-4BE5-9AD8-58DE02D1A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28DD-4C6B-44F3-AE80-D182F8008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06BE-3A00-468C-8207-FF9638C56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1493-2F38-494A-8DC7-96CBF6E23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C78F-27B0-4DBF-969D-E1ED0F1A3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86C5-BA39-4856-A347-465710E3B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C31-3B4C-441F-9975-035CDD2EDB74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ru-RU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6" descr="D:\КАРТИНКИ\Коллекция картинок 5\in00689_.wmf"/>
          <p:cNvPicPr/>
          <p:nvPr/>
        </p:nvPicPr>
        <p:blipFill>
          <a:blip r:embed="rId1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D:\КАРТИНКИ\Коллекция картинок 5\j0195826.wmf"/>
          <p:cNvPicPr/>
          <p:nvPr/>
        </p:nvPicPr>
        <p:blipFill>
          <a:blip r:embed="rId2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560" y="142560"/>
            <a:ext cx="7272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Схема 4" descr=""/>
          <p:cNvPicPr/>
          <p:nvPr/>
        </p:nvPicPr>
        <p:blipFill>
          <a:blip r:embed="rId1"/>
          <a:stretch/>
        </p:blipFill>
        <p:spPr>
          <a:xfrm>
            <a:off x="-55440" y="928800"/>
            <a:ext cx="9040680" cy="56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4920" y="213840"/>
            <a:ext cx="7274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9" descr="wer6"/>
          <p:cNvPicPr/>
          <p:nvPr/>
        </p:nvPicPr>
        <p:blipFill>
          <a:blip r:embed="rId3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Цветная металлургия"/>
          <p:cNvPicPr/>
          <p:nvPr/>
        </p:nvPicPr>
        <p:blipFill>
          <a:blip r:embed="rId1"/>
          <a:stretch/>
        </p:blipFill>
        <p:spPr>
          <a:xfrm>
            <a:off x="106200" y="857160"/>
            <a:ext cx="8960040" cy="60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40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2" name="Picture 10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5" name="Picture 10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0" name="Picture 11" descr="wer1"/>
          <p:cNvPicPr/>
          <p:nvPr/>
        </p:nvPicPr>
        <p:blipFill>
          <a:blip r:embed="rId1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-22320" y="896760"/>
            <a:ext cx="9166320" cy="581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1120" y="-360"/>
            <a:ext cx="77817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еликие горнодобывающи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49120" y="136692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" name="Picture 12" descr="vis5"/>
          <p:cNvPicPr/>
          <p:nvPr/>
        </p:nvPicPr>
        <p:blipFill>
          <a:blip r:embed="rId1"/>
          <a:stretch/>
        </p:blipFill>
        <p:spPr>
          <a:xfrm>
            <a:off x="2619360" y="3571920"/>
            <a:ext cx="390528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4560" y="142560"/>
            <a:ext cx="7272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1" name="Picture 12" descr="dri8"/>
          <p:cNvPicPr/>
          <p:nvPr/>
        </p:nvPicPr>
        <p:blipFill>
          <a:blip r:embed="rId1"/>
          <a:stretch/>
        </p:blipFill>
        <p:spPr>
          <a:xfrm>
            <a:off x="1241280" y="3786120"/>
            <a:ext cx="3961080" cy="2813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2" name="Picture 10" descr="Литье металла"/>
          <p:cNvPicPr/>
          <p:nvPr/>
        </p:nvPicPr>
        <p:blipFill>
          <a:blip r:embed="rId2"/>
          <a:stretch/>
        </p:blipFill>
        <p:spPr>
          <a:xfrm>
            <a:off x="0" y="785880"/>
            <a:ext cx="4286160" cy="28810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4920" y="14256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1143000"/>
            <a:ext cx="878544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ru-RU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5" name="Picture 12" descr="На сталелитейном заводе"/>
          <p:cNvPicPr/>
          <p:nvPr/>
        </p:nvPicPr>
        <p:blipFill>
          <a:blip r:embed="rId1"/>
          <a:stretch/>
        </p:blipFill>
        <p:spPr>
          <a:xfrm>
            <a:off x="1714680" y="2905200"/>
            <a:ext cx="5357520" cy="35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1480" y="142920"/>
            <a:ext cx="8141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Черная металлургия"/>
          <p:cNvPicPr/>
          <p:nvPr/>
        </p:nvPicPr>
        <p:blipFill>
          <a:blip r:embed="rId1"/>
          <a:stretch/>
        </p:blipFill>
        <p:spPr>
          <a:xfrm>
            <a:off x="0" y="785880"/>
            <a:ext cx="915840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ru-RU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D:\КАРТИНКИ\Коллекция картинок 5\j0238090.wmf"/>
          <p:cNvPicPr/>
          <p:nvPr/>
        </p:nvPicPr>
        <p:blipFill>
          <a:blip r:embed="rId3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КАРТИНКИ\Коллекция картинок 5\j0298113.wmf"/>
          <p:cNvPicPr/>
          <p:nvPr/>
        </p:nvPicPr>
        <p:blipFill>
          <a:blip r:embed="rId4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Пользователь</cp:lastModifiedBy>
  <dcterms:modified xsi:type="dcterms:W3CDTF">2013-02-23T19:04:04Z</dcterms:modified>
  <cp:revision>27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