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410-6B33-4823-97C0-163C34BCC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322-1946-46C5-8655-135FC2027E45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2887-8396-4544-AAC7-ED1E300AE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BDE4-4A32-409F-A671-31E978125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0202-6533-40C2-A3F9-A0C03AD3C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430F-4D1F-4F1A-A113-61803EA74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27D2-1ABA-47F8-B559-AB01291D8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BD8E-210D-409A-9238-F3E99407E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7642-92EB-43C6-A35F-F435C0720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0992-81D2-44E8-B380-1FC662F4B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196E-D269-4168-BC62-74D1ECDF0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C379-16F3-4AD3-B25A-4244222AF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2F80-8AE1-40B4-93FE-5131B9650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ED8-4C27-4A55-BFE3-C40DA0B60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14D-F197-41BD-AA51-EB93785BBA51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ru-RU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6" descr="D:\КАРТИНКИ\Коллекция картинок 5\in00689_.wmf"/>
          <p:cNvPicPr/>
          <p:nvPr/>
        </p:nvPicPr>
        <p:blipFill>
          <a:blip r:embed="rId1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D:\КАРТИНКИ\Коллекция картинок 5\j0195826.wmf"/>
          <p:cNvPicPr/>
          <p:nvPr/>
        </p:nvPicPr>
        <p:blipFill>
          <a:blip r:embed="rId2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560" y="142560"/>
            <a:ext cx="7272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Схема 4" descr=""/>
          <p:cNvPicPr/>
          <p:nvPr/>
        </p:nvPicPr>
        <p:blipFill>
          <a:blip r:embed="rId1"/>
          <a:stretch/>
        </p:blipFill>
        <p:spPr>
          <a:xfrm>
            <a:off x="-55440" y="928800"/>
            <a:ext cx="9040680" cy="56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4920" y="213840"/>
            <a:ext cx="7274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9" descr="wer6"/>
          <p:cNvPicPr/>
          <p:nvPr/>
        </p:nvPicPr>
        <p:blipFill>
          <a:blip r:embed="rId3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Цветная металлургия"/>
          <p:cNvPicPr/>
          <p:nvPr/>
        </p:nvPicPr>
        <p:blipFill>
          <a:blip r:embed="rId1"/>
          <a:stretch/>
        </p:blipFill>
        <p:spPr>
          <a:xfrm>
            <a:off x="106200" y="857160"/>
            <a:ext cx="8960040" cy="60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40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2" name="Picture 10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5" name="Picture 10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0" name="Picture 11" descr="wer1"/>
          <p:cNvPicPr/>
          <p:nvPr/>
        </p:nvPicPr>
        <p:blipFill>
          <a:blip r:embed="rId1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-22320" y="896760"/>
            <a:ext cx="9166320" cy="581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1120" y="-360"/>
            <a:ext cx="77817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еликие горнодобывающи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49120" y="136692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" name="Picture 12" descr="vis5"/>
          <p:cNvPicPr/>
          <p:nvPr/>
        </p:nvPicPr>
        <p:blipFill>
          <a:blip r:embed="rId1"/>
          <a:stretch/>
        </p:blipFill>
        <p:spPr>
          <a:xfrm>
            <a:off x="2619360" y="3571920"/>
            <a:ext cx="390528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4560" y="142560"/>
            <a:ext cx="7272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1" name="Picture 12" descr="dri8"/>
          <p:cNvPicPr/>
          <p:nvPr/>
        </p:nvPicPr>
        <p:blipFill>
          <a:blip r:embed="rId1"/>
          <a:stretch/>
        </p:blipFill>
        <p:spPr>
          <a:xfrm>
            <a:off x="1241280" y="3786120"/>
            <a:ext cx="3961080" cy="2813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2" name="Picture 10" descr="Литье металла"/>
          <p:cNvPicPr/>
          <p:nvPr/>
        </p:nvPicPr>
        <p:blipFill>
          <a:blip r:embed="rId2"/>
          <a:stretch/>
        </p:blipFill>
        <p:spPr>
          <a:xfrm>
            <a:off x="0" y="785880"/>
            <a:ext cx="4286160" cy="28810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4920" y="1425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1143000"/>
            <a:ext cx="878544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5" name="Picture 12" descr="На сталелитейном заводе"/>
          <p:cNvPicPr/>
          <p:nvPr/>
        </p:nvPicPr>
        <p:blipFill>
          <a:blip r:embed="rId1"/>
          <a:stretch/>
        </p:blipFill>
        <p:spPr>
          <a:xfrm>
            <a:off x="1714680" y="2905200"/>
            <a:ext cx="5357520" cy="35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1480" y="142920"/>
            <a:ext cx="8141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Черная металлургия"/>
          <p:cNvPicPr/>
          <p:nvPr/>
        </p:nvPicPr>
        <p:blipFill>
          <a:blip r:embed="rId1"/>
          <a:stretch/>
        </p:blipFill>
        <p:spPr>
          <a:xfrm>
            <a:off x="0" y="785880"/>
            <a:ext cx="915840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ru-RU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D:\КАРТИНКИ\Коллекция картинок 5\j0238090.wmf"/>
          <p:cNvPicPr/>
          <p:nvPr/>
        </p:nvPicPr>
        <p:blipFill>
          <a:blip r:embed="rId3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КАРТИНКИ\Коллекция картинок 5\j0298113.wmf"/>
          <p:cNvPicPr/>
          <p:nvPr/>
        </p:nvPicPr>
        <p:blipFill>
          <a:blip r:embed="rId4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Пользователь</cp:lastModifiedBy>
  <dcterms:modified xsi:type="dcterms:W3CDTF">2013-02-23T19:04:04Z</dcterms:modified>
  <cp:revision>27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