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C8C7-44F6-4429-A5DE-B202FD72B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4AC59-DE58-4572-BB93-AB084574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2CC13-DE2E-49B2-9FDB-84E16B7B8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B2A1D-6EF4-42F8-B4B5-FD814605E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8F13E-C30B-4095-86C8-F661F10EE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5054B-02F5-4DF4-9676-5142C8047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4CF68-ED94-42F1-9A10-4786A323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8A83-5D23-4548-8133-148DA4D5F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5C62-B2E1-4773-ACB5-A6A530FFC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F33B8-5F8A-4CE3-AC5E-2EC5564AD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C0DD2-68A9-4F40-A9DB-1A9985ED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C5EC-B3F8-4114-AE30-86162912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9EF34-D0BC-44BE-9BF3-5D0E3FE8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4B758-65CC-4970-B0D5-7D48127CC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CC915-45FE-4584-9C2A-ADCA89B8A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C1B44-6BC6-40F6-AFE3-A4C13CEC7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BACF9-B3EB-4CBD-A1FA-7A323D484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42FD-894B-4332-BA61-5556D7BB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DC782-DEB3-47E2-BA9D-0C49AED9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F091-1530-4759-8D16-205D732AC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068C-F10B-463C-ACC3-EAD3630A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394E-0F59-4C50-9CAE-555A208C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DD06-DFD1-4C43-B3E9-3FD809AE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DC62-E500-4431-88D4-79B6D1380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5000"/>
              <a:chOff x="-1080" y="2601000"/>
              <a:chExt cx="2692800" cy="310500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7440"/>
                <a:chOff x="853560" y="4048560"/>
                <a:chExt cx="1838160" cy="165744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401560" y="5551200"/>
                  <a:ext cx="200880" cy="89640"/>
                </a:xfrm>
                <a:custGeom>
                  <a:avLst/>
                  <a:gdLst>
                    <a:gd name="textAreaLeft" fmla="*/ 360 w 200880"/>
                    <a:gd name="textAreaRight" fmla="*/ 201600 w 200880"/>
                    <a:gd name="textAreaTop" fmla="*/ 0 h 89640"/>
                    <a:gd name="textAreaBottom" fmla="*/ 90000 h 896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3200" bIns="4320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11E6-455F-4AE0-BB39-FDA7EFB61CB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320" y="57240"/>
              <a:ext cx="3612600" cy="6137280"/>
              <a:chOff x="5413320" y="57240"/>
              <a:chExt cx="3612600" cy="6137280"/>
            </a:xfrm>
          </p:grpSpPr>
          <p:sp>
            <p:nvSpPr>
              <p:cNvPr id="86" name="Freeform 4"/>
              <p:cNvSpPr/>
              <p:nvPr/>
            </p:nvSpPr>
            <p:spPr>
              <a:xfrm flipV="1" rot="11970000">
                <a:off x="6547680" y="348840"/>
                <a:ext cx="2149560" cy="2337480"/>
              </a:xfrm>
              <a:custGeom>
                <a:avLst/>
                <a:gdLst>
                  <a:gd name="textAreaLeft" fmla="*/ 0 w 2149560"/>
                  <a:gd name="textAreaRight" fmla="*/ 2149920 w 2149560"/>
                  <a:gd name="textAreaTop" fmla="*/ -360 h 2337480"/>
                  <a:gd name="textAreaBottom" fmla="*/ 2337480 h 233748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9440" y="1944000"/>
                <a:ext cx="920520" cy="835560"/>
              </a:xfrm>
              <a:custGeom>
                <a:avLst/>
                <a:gdLst>
                  <a:gd name="textAreaLeft" fmla="*/ 0 w 920520"/>
                  <a:gd name="textAreaRight" fmla="*/ 920880 w 92052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4640" y="257436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9160" y="671760"/>
                <a:ext cx="395280" cy="546120"/>
              </a:xfrm>
              <a:custGeom>
                <a:avLst/>
                <a:gdLst>
                  <a:gd name="textAreaLeft" fmla="*/ 0 w 395280"/>
                  <a:gd name="textAreaRight" fmla="*/ 395640 w 395280"/>
                  <a:gd name="textAreaTop" fmla="*/ 0 h 546120"/>
                  <a:gd name="textAreaBottom" fmla="*/ 546120 h 54612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8000" y="2623320"/>
                <a:ext cx="165960" cy="328680"/>
              </a:xfrm>
              <a:custGeom>
                <a:avLst/>
                <a:gdLst>
                  <a:gd name="textAreaLeft" fmla="*/ 0 w 165960"/>
                  <a:gd name="textAreaRight" fmla="*/ 165960 w 165960"/>
                  <a:gd name="textAreaTop" fmla="*/ -360 h 328680"/>
                  <a:gd name="textAreaBottom" fmla="*/ 328680 h 3286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3960" y="123516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560" y="2957400"/>
                <a:ext cx="532440" cy="3240720"/>
              </a:xfrm>
              <a:custGeom>
                <a:avLst/>
                <a:gdLst>
                  <a:gd name="textAreaLeft" fmla="*/ 0 w 532440"/>
                  <a:gd name="textAreaRight" fmla="*/ 532800 w 532440"/>
                  <a:gd name="textAreaTop" fmla="*/ 360 h 3240720"/>
                  <a:gd name="textAreaBottom" fmla="*/ 3241440 h 324072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35F5-ED9C-47AC-BDF2-E1E925F1A63E}"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ё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0:59:32Z</dcterms:modified>
  <cp:revision>84</cp:revision>
  <dc:subject/>
  <dc:title>Интеллектуальное развитие в играх</dc:title>
</cp:coreProperties>
</file>