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E07-B36F-4BDC-9C6F-DDC9FEE2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399-F51B-454D-89F9-20CCCACF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68D-0680-41B9-B5EA-9B57DD5A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FD5-0590-412C-A65A-53501FE3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F13B-B7D0-4539-8057-A72E467E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AC15-078E-43EE-B7D7-8064FBE2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813A-A8CA-440E-A599-04E8F19C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8191-BE46-459B-B244-456CBBB1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CCBA-9477-4CE4-834B-E8561C47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6441-18B1-4581-A8E8-6DB447AF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8159-89C7-46B2-906E-7D2BD7A2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A5B-C87A-457A-B3D1-BD00576A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6E74-C077-416B-A263-279650F6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D118-8CF8-49B9-A82A-EA12FDE7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EB5F-E71C-4629-80E3-9A210C2C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BDEA-20A0-4627-910A-549FBCBB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6770-9299-4798-82F0-3C23D925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D462D-EA17-4C2E-AB26-C530D6CC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BA9D2-E4E6-434C-99BB-44826385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8D7D9-5A17-4E70-8A75-0529D1CB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C286E-D394-4F15-8B22-80D64998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11883-7973-4A1A-B591-4C8F2C23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2FE-0F5A-4888-B0D8-29AEA8A3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04492-E0EF-4356-82E2-4B33291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EF27A-DD78-4C5B-AA7D-103B5A60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22BC1-2DCE-4EC5-BE58-BCD5034C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1A838-8C52-4955-AE1D-82D5B80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79275-966E-4C88-95A5-A90FAD5F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EE140-7FCD-4BC8-825A-AD2F1578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D318B-0E04-4FB4-9D91-62C26984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2674-FBBE-4FA4-8129-89236162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B28E-0D6B-436B-81A6-0D531DB9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669D-DFFB-4B81-A8D8-69F0FF09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FBD-25D6-4ADC-A7BC-1FBBD704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9307-CAB4-4DA6-89E6-317C53E2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611B-C13E-4EBD-9D11-FB7907E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0E7D1-51EC-4A4D-8676-0083345C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88CAC-6FF1-4D0C-85F8-898D0274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BED0-6CAD-4AD5-B446-E36CF2C3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5393-DA2F-419B-83F0-61B03617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7D886-F5EE-4617-BA1E-0A0EA11C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9A24-764E-4FBC-8717-9B410C7E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7E4C6-F60B-4236-88A8-75D5055B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5E9FB-E5C3-480B-9AE3-847C0C7B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A05-16B1-459D-B459-A7FFEF20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EA0C1-CF76-4014-BE63-98D4228C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E7CD3-184A-4A1B-B50A-544E71EC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59720-EF21-4092-8293-6F182935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3665B-0CD0-445E-9749-86F326C5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2A953-7899-42A2-91CF-6B8F3F52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76074-E653-4F9B-93DC-4D8D3476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E78D2-1BD5-4C1C-B986-76AB443A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50155-527F-449B-96A3-2062DD3C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D7951-4774-4C9D-A5CD-972A344A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24535-EAC3-4DB6-BA96-B1B8B51E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781-E5DF-4FA3-8836-41A971CF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96690-B248-4D50-82A9-3F2F95C7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F2CAC-5D9E-45D8-AC6F-AC7A94C9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211C8-985E-4714-A2BE-98B3A75C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C4FA1-7527-41CB-8EC6-29782737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8803F-8B2A-4201-BCA2-74F9B529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4AA6D-74B1-418A-A69A-78DDE3D9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3AC77-8D5F-42C3-B924-ED44DA0F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9A14E-0B01-4E81-BA76-5E8F96E9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8DD3D-FE3F-4358-82A8-33A2887B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04437-FD30-4E68-9D21-02EA762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A3B-CC3B-40EA-ABF2-C654DB93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1E251-2552-473F-A1F0-64884834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8B080-4329-4713-B703-D7B0A8B4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63328-EE16-4317-888B-4D5D2487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093307-87FD-42F8-98FD-87FEE1C2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C6009A-310E-41AA-BC05-B5B6AD42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433EC-8308-4487-813D-00484D4D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BBCA2-7C86-412D-BF29-9C5F1B8C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ACD44-13F8-4EFA-AD95-DE60FAAB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E6900-4501-41A1-B1F5-238572EA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27388-29FA-42EE-98C7-552EC329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08F-7735-44A1-BDEF-DDF7C418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32E2B-A32A-404A-8BFB-E783AEE2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23CBC-7DAC-4F55-AAA8-EBCE8B14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5E74B-F9B1-4997-BE9D-22DDC0A0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BC859-D19D-4177-9DB0-EEF31662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606CC-F53A-4893-B562-B0A82AEF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AD2-8880-430A-886C-5DCA92F3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EFDB-61E4-426F-B14F-3ED816D51A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03A4-7A8F-429E-9E14-2762796257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15E8-D295-404A-8B36-7DDFA28310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E49B-3FD6-4D3A-B950-898CC8204F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7DA1-C529-47E0-9604-EDDBDB4804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342F-F4A9-47DC-A760-D30044B663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116B-4F14-4AE2-934E-22FDD0000F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«К ВЕЛИКОМУ ВОСПИТАТЕЛЮ, КАК НА ПРАЗДНИК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олодина Юл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ЛЕКСАНДРИНСКИЙ ТЕАТ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28240" y="152388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режден в 1756 году сенатским указом, подписанным императрицей Елизаветой. С 1832 года располагается на площади Островского, 6. назван в честь супруги императора Никола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267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БОЛЬШОЙ ДРАМАТИЧЕСКИЙ ТЕАТ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крылся 15 февраля 1919 года. С 1920 года располагается на Фонтанке, 65. Первым председателем директории был А. Блок, а идейным вдохновителем М. Горький. С 1992 носит имя Г.А. Товстоного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114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ЕАТР ЮНЫХ ЗРИТЕЛ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600" y="160020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ан в 1922 А.А. Брянцевым. С 1962 располагается на Пионерской площади, 1. Его эмблемой является конёк горбунок. Носит имя своего основателя – А.А Брянце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4419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БАЛТИЙСКИЙ ДО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282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здан в 1932 году на базе 2-х коллективов – красного театра и театра рабочей молодёжи. Он был назван государственным театром им. Ленинского комсомола. Располагается в Александровском парке дом 4. В 1991 был переименован в Балтийский дом. А с 2000 года имеет статус театра-фестивал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419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ТОЧН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kino-teatr.ru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0T15:13:11Z</dcterms:modified>
  <cp:revision>18</cp:revision>
  <dc:subject/>
  <dc:title>Слайд 1</dc:title>
</cp:coreProperties>
</file>