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998-67C2-412A-B2D5-9188B0EA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6A6-E61E-4E43-B319-070621A7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57D-8A00-4B70-83F0-27A6F121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E39-08C5-443A-B68B-39C945CF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B5E7-17C6-4C4F-BB7E-A691CCE7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5C0A-50D6-40E3-9319-41D81B59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FF9C-E593-4551-8066-39CFA514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8AF2-06F0-49DE-BAA9-82686379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97C2-486A-43BE-8B2C-A96D954F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1A2E-D9A6-440C-AC02-96ECF569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7888-77DC-4E55-A673-333AD502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913-2F96-4651-8FBE-DF052E5C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7487-16EC-4151-96E5-06840BA5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918D-217C-4F5D-9638-C1F6040C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0B93-E97E-4085-921D-9D5B75AF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1D6C-753F-43DC-AEA2-FC4A939F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7E11-00EB-4714-96DD-D8D30CE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1386D-B75B-4245-8AFA-8D6D741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ABE1B-DE8E-442F-8FE5-35DCBA37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7FAA2-06C4-4D0F-A45C-4E3C5ED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E4BC6-CB28-4A4B-9856-1C8ACF21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536B4-2E18-4782-AE4A-D83A8893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F40-E5DB-47E1-906C-B57F4B15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0B05D-EC0C-460E-8049-128EEF33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3A7DA-1100-4943-AEEC-1FE2C02A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B4176-519F-4E79-AC6E-2527262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EFA27-6744-4715-BBCD-68491910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0BF03-0153-492D-9F47-90A8A6E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0508F-2FF0-4DDC-B0C1-CA144D3A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EB3E4-C23A-4CA9-81BB-36289992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65AF-47F4-4E16-9B5D-B4F08A12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AC80-7AAF-4B5C-B1F2-8E1D5F8E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1656-26FE-4DB3-82C5-4578CBA2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F7C-FD64-4075-9918-FD22DF2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7D0F-AE6A-4AB3-B680-741FAF6A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D7E9-DFE4-4D4F-B15A-A2B0032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8935-8BA7-4C0C-A054-07B8A8EE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02A6-440B-451A-9537-23E197B6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DFDB-5E1D-41B4-996C-DCF58538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5043-1343-4C2A-84C0-3E7CC1F0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AAE2B-5ED5-41CC-A82A-024F1412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7C3F-0314-43B7-9934-262D3DEC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ED15-EE87-419E-9BF7-F62F890F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09046-D6AD-4CBA-9AAF-AD93719D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EF0-AAB4-4ABE-BFC4-3B0A1E55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D267C-5F7D-4D19-9A15-93327B4C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B3863-E4BD-437D-8235-2D58B655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D905C-2341-4A57-890B-7730B8D6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FE20B-30DC-45E3-A1D3-0531B22E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67ADB-9DA6-4695-BD33-DD4970B8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AA104-CF55-451D-A395-C4B5B5F6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B3886-09EA-4F02-B440-30D6E3FC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10C3B-2018-4CD7-AA08-0F0C5D8E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D2DEC-809D-4FDC-9E7A-3B764169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C91BB-6432-4521-9F16-D64822A1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280-A190-4310-9661-102716DF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4A4E4-330A-42DB-884C-F5FA79F3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CFDB3-FF01-400C-B86C-A41D3E82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405E6-6E85-4D30-9AC7-B81F9422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5C719-61A8-498D-B63D-638C068D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40013-4FEC-4F41-BCCE-607E4A8F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CD2CD-A032-4DDB-AFD0-88EB0080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BF04D-A099-4EF8-B5A0-1ED9043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C8824-A38C-4E17-996F-6B1D0831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D38C9-6268-44A9-A8A9-7F870D08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027EA-4B3D-48DC-904C-56673AD9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DE5-0E65-44F4-85BF-B31D5A5B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691DC-D6BF-465D-B58F-D2518DF6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57785-C628-4C99-9BE3-13565523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9747D-942A-4C77-9D16-947542BF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AD1C4-126A-4F14-88C2-0F59E696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6D6F5-E62F-4F48-AB54-23CEB07F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8CF97-EE8C-480E-BEC2-10A39BB0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C05F1-3134-46EF-BA55-6159380B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D3003-1D87-46DB-8497-DBBDB524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9B4B7-1C7E-4FC6-B88E-1F89648C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59ADE-1FC7-47DC-87DF-3EAFF546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5B7-FBA6-4F03-99B7-60A85829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38372-128B-42A3-AB36-0E6485E2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88FB4-C471-4008-989C-3BCFD7B8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CC65C-423D-4784-BC62-F8FFC2BE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71ECB-FAB1-4B46-84B7-B3CDC6C4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ABD53-6F82-4EC3-BD58-BC05EC6C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C91-1532-4DEE-B765-49B0675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1698-F305-4322-9C38-EB0C9E98BC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3A5E-4558-41C5-920B-B9C53BD59D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D2C7-53B2-40D5-B151-24730BE682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0F12-6C8F-45D7-B586-32D957F8A9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7D3C-E125-4595-A86A-B6B124D0E5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E153-5664-4D1C-AC1C-57D7D5A259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CC14-F72D-4E5A-97C5-FF3A43C34B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«К ВЕЛИКОМУ ВОСПИТАТЕЛЮ, КАК НА ПРАЗДНИК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олодина Юл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ЛЕКСАНДРИНСКИЙ ТЕАТ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28240" y="152388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режден в 1756 году сенатским указом, подписанным императрицей Елизаветой. С 1832 года располагается на площади Островского, 6. назван в честь супруги императора Никола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2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ОЛЬШОЙ ДРАМАТИЧЕСКИЙ ТЕАТ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крылся 15 февраля 1919 года. С 1920 года располагается на Фонтанке, 65. Первым председателем директории был А. Блок, а идейным вдохновителем М. Горький. С 1992 носит имя Г.А. Товстоного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114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ЕАТР ЮНЫХ ЗРИТЕЛ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160020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ан в 1922 А.А. Брянцевым. С 1962 располагается на Пионерской площади, 1. Его эмблемой является конёк горбунок. Носит имя своего основателя – А.А Брянце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4419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БАЛТИЙСКИЙ ДО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2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здан в 1932 году на базе 2-х коллективов – красного театра и театра рабочей молодёжи. Он был назван государственным театром им. Ленинского комсомола. Располагается в Александровском парке дом 4. В 1991 был переименован в Балтийский дом. А с 2000 года имеет статус театра-фестивал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19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ТОЧН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kino-teatr.ru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0T15:13:11Z</dcterms:modified>
  <cp:revision>18</cp:revision>
  <dc:subject/>
  <dc:title>Слайд 1</dc:title>
</cp:coreProperties>
</file>