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709A-3339-491E-9BAB-72862977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78C-3AF9-4969-A80C-2AF1BF52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4AC7-A77F-42E8-A531-9AD02E87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7893-7176-465C-9C76-BA12F8DC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122E-6435-43BE-991A-C99C837A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A43-A8E7-478A-AAC7-0FCAB2B0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AEB-4512-4EE6-B944-D2F767DE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08A-3833-478C-93C1-D70D2E23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0098-30E8-47D3-8C4E-DB695B09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3175-4022-4D37-ADBF-18E9A0BA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15E9-0044-418A-BEF7-B3498E5D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E2B-3367-430D-9D66-B6DA320D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5F88-B840-45BE-B64E-A6C4E99570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9933"/>
                </a:solidFill>
                <a:latin typeface="Eurasia"/>
              </a:rPr>
              <a:t>Культур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26665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9933"/>
                </a:solidFill>
                <a:latin typeface="Eurasia"/>
              </a:rPr>
              <a:t>Киевской Рус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2" descr="01"/>
          <p:cNvPicPr/>
          <p:nvPr/>
        </p:nvPicPr>
        <p:blipFill>
          <a:blip r:embed="rId1"/>
          <a:stretch/>
        </p:blipFill>
        <p:spPr>
          <a:xfrm>
            <a:off x="762120" y="152280"/>
            <a:ext cx="7467480" cy="49784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-360" y="5181120"/>
            <a:ext cx="8915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Eurasia"/>
              </a:rPr>
              <a:t>Многоглавие составляет отличительный признак Софийского собора. Один большой и двенадцать более мелких куполов символизируют Христа и его двенадцать уче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154400" cy="5334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4724280" y="228600"/>
            <a:ext cx="4275360" cy="5334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Eurasia"/>
              </a:rPr>
              <a:t>Обилие пролетов и арок различного характера составляет существенную особенность помещений Софийского соб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702320" y="228600"/>
            <a:ext cx="4162320" cy="63244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47242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Пролеты и арки как бы «рифмуются» друг с другом, растут, ширятся и завершаются в обширном подкупольном пространстве огромной, обрамляющей алтарь триумфальной ар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06"/>
          <p:cNvPicPr/>
          <p:nvPr/>
        </p:nvPicPr>
        <p:blipFill>
          <a:blip r:embed="rId1"/>
          <a:stretch/>
        </p:blipFill>
        <p:spPr>
          <a:xfrm>
            <a:off x="4572000" y="304920"/>
            <a:ext cx="4089240" cy="6248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44197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Eurasia"/>
              </a:rPr>
              <a:t>Внутри здания купол воспринимался не как наибольший объем, а как наивысшее пространство, как главный источник с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04"/>
          <p:cNvPicPr/>
          <p:nvPr/>
        </p:nvPicPr>
        <p:blipFill>
          <a:blip r:embed="rId1"/>
          <a:stretch/>
        </p:blipFill>
        <p:spPr>
          <a:xfrm>
            <a:off x="3352680" y="457200"/>
            <a:ext cx="5639040" cy="5572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35053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Eurasia"/>
              </a:rPr>
              <a:t>Внутри собора, высоко в центре под самым куполом, изображен Христос Вседержи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02"/>
          <p:cNvPicPr/>
          <p:nvPr/>
        </p:nvPicPr>
        <p:blipFill>
          <a:blip r:embed="rId1"/>
          <a:stretch/>
        </p:blipFill>
        <p:spPr>
          <a:xfrm>
            <a:off x="228600" y="228600"/>
            <a:ext cx="4876920" cy="459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5257800" y="228600"/>
            <a:ext cx="367200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600" y="495252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Eurasia"/>
              </a:rPr>
              <a:t>Грандиозная фигура Богоматери  (молящейся), вознесшей руки к своему Божественному сыну в молитве за род людской находится в апси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05"/>
          <p:cNvPicPr/>
          <p:nvPr/>
        </p:nvPicPr>
        <p:blipFill>
          <a:blip r:embed="rId1"/>
          <a:stretch/>
        </p:blipFill>
        <p:spPr>
          <a:xfrm>
            <a:off x="533520" y="304920"/>
            <a:ext cx="8020080" cy="5619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6029640" y="609588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Eurasia"/>
              </a:rPr>
              <a:t>Евхарис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05"/>
          <p:cNvPicPr/>
          <p:nvPr/>
        </p:nvPicPr>
        <p:blipFill>
          <a:blip r:embed="rId1"/>
          <a:stretch/>
        </p:blipFill>
        <p:spPr>
          <a:xfrm>
            <a:off x="3352680" y="457200"/>
            <a:ext cx="5505480" cy="4762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33526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Eurasia"/>
              </a:rPr>
              <a:t>Над алтарем, в качестве прообраза происходящей в храме литургии изображено, как апостолы с протянутыми руками подходят к алтарю; Христос подает им вино и хле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05"/>
          <p:cNvPicPr/>
          <p:nvPr/>
        </p:nvPicPr>
        <p:blipFill>
          <a:blip r:embed="rId1"/>
          <a:stretch/>
        </p:blipFill>
        <p:spPr>
          <a:xfrm>
            <a:off x="3200400" y="1676520"/>
            <a:ext cx="5715000" cy="4919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05"/>
          <p:cNvPicPr/>
          <p:nvPr/>
        </p:nvPicPr>
        <p:blipFill>
          <a:blip r:embed="rId2"/>
          <a:stretch/>
        </p:blipFill>
        <p:spPr>
          <a:xfrm>
            <a:off x="138240" y="228600"/>
            <a:ext cx="2911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05"/>
          <p:cNvPicPr/>
          <p:nvPr/>
        </p:nvPicPr>
        <p:blipFill>
          <a:blip r:embed="rId1"/>
          <a:stretch/>
        </p:blipFill>
        <p:spPr>
          <a:xfrm>
            <a:off x="304920" y="304920"/>
            <a:ext cx="8572320" cy="3533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403848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Eurasia"/>
              </a:rPr>
              <a:t>Главные изображения Софийского собора выполнены мозаикой и сосредоточены в центральной, самой парадной и светлой части хра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426744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Eurasia"/>
              </a:rPr>
              <a:t>Первый расцвет древнерусского искусства связан с эпохой Киевской Руси, которая стала преемницей византийских тради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Users\$ud'j@\Pictures\Рисунок1.jpg"/>
          <p:cNvPicPr/>
          <p:nvPr/>
        </p:nvPicPr>
        <p:blipFill>
          <a:blip r:embed="rId1"/>
          <a:stretch/>
        </p:blipFill>
        <p:spPr>
          <a:xfrm>
            <a:off x="4876920" y="304920"/>
            <a:ext cx="37494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05"/>
          <p:cNvPicPr/>
          <p:nvPr/>
        </p:nvPicPr>
        <p:blipFill>
          <a:blip r:embed="rId1"/>
          <a:stretch/>
        </p:blipFill>
        <p:spPr>
          <a:xfrm>
            <a:off x="3733920" y="609480"/>
            <a:ext cx="5153040" cy="5496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38862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Eurasia"/>
              </a:rPr>
              <a:t>Мозаики, изображающие отцов церкви, отличаются исключительной тонкостью красочных оттенков. Лучезарные краски вносят нечто светлое в эти строгие обра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98680" cy="5333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184640" cy="5333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2518920" y="58672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99"/>
                </a:solidFill>
                <a:latin typeface="Arial"/>
              </a:rPr>
              <a:t>Христ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318800" y="579132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99"/>
                </a:solidFill>
                <a:latin typeface="Arial"/>
              </a:rPr>
              <a:t>Богомат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13712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752480" y="5791320"/>
            <a:ext cx="27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99"/>
                </a:solidFill>
                <a:latin typeface="Arial"/>
              </a:rPr>
              <a:t>Григорий Чудотв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4171680" cy="525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6634800" y="579132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99"/>
                </a:solidFill>
                <a:latin typeface="Arial"/>
              </a:rPr>
              <a:t>Григорий Нис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09"/>
          <p:cNvPicPr/>
          <p:nvPr/>
        </p:nvPicPr>
        <p:blipFill>
          <a:blip r:embed="rId1"/>
          <a:stretch/>
        </p:blipFill>
        <p:spPr>
          <a:xfrm>
            <a:off x="1066680" y="533520"/>
            <a:ext cx="7391520" cy="5591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363000" y="6095880"/>
            <a:ext cx="21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Eurasia"/>
              </a:rPr>
              <a:t>Арханг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11"/>
          <p:cNvPicPr/>
          <p:nvPr/>
        </p:nvPicPr>
        <p:blipFill>
          <a:blip r:embed="rId1"/>
          <a:stretch/>
        </p:blipFill>
        <p:spPr>
          <a:xfrm>
            <a:off x="304920" y="380880"/>
            <a:ext cx="8572320" cy="56199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5227920" y="5943600"/>
            <a:ext cx="37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Благовещ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10"/>
          <p:cNvPicPr/>
          <p:nvPr/>
        </p:nvPicPr>
        <p:blipFill>
          <a:blip r:embed="rId1"/>
          <a:stretch/>
        </p:blipFill>
        <p:spPr>
          <a:xfrm>
            <a:off x="1219320" y="228600"/>
            <a:ext cx="694368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019160" y="617220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Eurasia"/>
              </a:rPr>
              <a:t>Вручение Марии пурпура для храмовой заве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12"/>
          <p:cNvPicPr/>
          <p:nvPr/>
        </p:nvPicPr>
        <p:blipFill>
          <a:blip r:embed="rId1"/>
          <a:stretch/>
        </p:blipFill>
        <p:spPr>
          <a:xfrm>
            <a:off x="3886200" y="533520"/>
            <a:ext cx="4143240" cy="5715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322640" y="6172200"/>
            <a:ext cx="78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Eurasia"/>
              </a:rPr>
              <a:t>Единоборство Иакова с архангелом Михаи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03"/>
          <p:cNvPicPr/>
          <p:nvPr/>
        </p:nvPicPr>
        <p:blipFill>
          <a:blip r:embed="rId1"/>
          <a:stretch/>
        </p:blipFill>
        <p:spPr>
          <a:xfrm>
            <a:off x="1371600" y="1371600"/>
            <a:ext cx="6972480" cy="4921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Eurasia"/>
              </a:rPr>
              <a:t>В росписи храма наряду со священными лицами и событиями нашел себе место и тот реальный мир, который окружал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350600" y="6172200"/>
            <a:ext cx="42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Eurasia"/>
              </a:rPr>
              <a:t>Семья Ярослава Мудр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4948200" cy="63244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7"/>
          <p:cNvSpPr/>
          <p:nvPr/>
        </p:nvSpPr>
        <p:spPr>
          <a:xfrm>
            <a:off x="611640" y="6248520"/>
            <a:ext cx="32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99"/>
                </a:solidFill>
                <a:latin typeface="Arial"/>
              </a:rPr>
              <a:t>Император и придвор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99"/>
                </a:solidFill>
                <a:latin typeface="Arial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"/>
              </a:rPr>
              <a:t>1.Назовите год принятия христианства на Ру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"/>
              </a:rPr>
              <a:t>2.В период правления какого князя построили данное соору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1"/>
          <p:cNvPicPr/>
          <p:nvPr/>
        </p:nvPicPr>
        <p:blipFill>
          <a:blip r:embed="rId1"/>
          <a:stretch/>
        </p:blipFill>
        <p:spPr>
          <a:xfrm>
            <a:off x="2895480" y="32004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Каковы основные особенности культуры Древней Руси, какой промежуток времени занимает этот период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Перечислите языческих богов древних слав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Что такое «капище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С какими событиями связано формирование государства на Рус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Расскажите о первых князьях Древней Ру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" descr="01"/>
          <p:cNvPicPr/>
          <p:nvPr/>
        </p:nvPicPr>
        <p:blipFill>
          <a:blip r:embed="rId1"/>
          <a:stretch/>
        </p:blipFill>
        <p:spPr>
          <a:xfrm>
            <a:off x="4038480" y="2036880"/>
            <a:ext cx="4791240" cy="4478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"/>
              </a:rPr>
              <a:t>3 Назовите количество куполов собора Святой Софии и что они символизиру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cc99"/>
                </a:solidFill>
                <a:latin typeface="Arial"/>
              </a:rPr>
              <a:t>Как называются данные изображения и где они находя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04"/>
          <p:cNvPicPr/>
          <p:nvPr/>
        </p:nvPicPr>
        <p:blipFill>
          <a:blip r:embed="rId1"/>
          <a:stretch/>
        </p:blipFill>
        <p:spPr>
          <a:xfrm>
            <a:off x="609480" y="2286000"/>
            <a:ext cx="3962520" cy="3914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"/>
          <p:cNvPicPr/>
          <p:nvPr/>
        </p:nvPicPr>
        <p:blipFill>
          <a:blip r:embed="rId2"/>
          <a:stretch/>
        </p:blipFill>
        <p:spPr>
          <a:xfrm>
            <a:off x="5518080" y="2209680"/>
            <a:ext cx="3183120" cy="39625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6"/>
          <p:cNvSpPr/>
          <p:nvPr/>
        </p:nvSpPr>
        <p:spPr>
          <a:xfrm>
            <a:off x="0" y="2209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5030640" y="2133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"/>
              </a:rPr>
              <a:t>6 В какой технике выполнены главные изображения Софийского собора и где они сосредоточе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"/>
              </a:rPr>
              <a:t>7 Укажите название фре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03"/>
          <p:cNvPicPr/>
          <p:nvPr/>
        </p:nvPicPr>
        <p:blipFill>
          <a:blip r:embed="rId1"/>
          <a:stretch/>
        </p:blipFill>
        <p:spPr>
          <a:xfrm>
            <a:off x="2438280" y="2743200"/>
            <a:ext cx="529596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пользованн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.П. Львова, Н.Н. Фомина «Мировая художественная культура. От зарождения д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ека» Очерки истории. – М.: Питер, 200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. Любимов «Искусство Древнего Мира» -  М.:  Просвещение, 198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.Н. Куцман «Элективный курс Культура Древнего Мира». – Волгоград «Корифей», 200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.Е. Галушкина «Мировая Художественная Культура». – Волгоград: Учитель, 200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урнал «Искусство» №7 199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.Г. Грушевская «Словарь по МХК» – Москва: «Академия», 200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И. Немировский. «Книга для чтения по истории Древнего мира», 200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ОР «Мировая  художественная культура 10-11 классы» ЗАО «Инфостудия  Э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ОР «Культурология» ЗАО «Новый диск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ОР «МХК от зарождения д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ека» Издательский дом «Пите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Eurasia"/>
              </a:rPr>
              <a:t>До принятия православия языческая Русь поклонялась множеству богов. Крещение Руси в 988г. Дало мощный толчок развитию художественной куль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Users\$ud'j@\Pictures\Рисунок2.jpg"/>
          <p:cNvPicPr/>
          <p:nvPr/>
        </p:nvPicPr>
        <p:blipFill>
          <a:blip r:embed="rId1"/>
          <a:stretch/>
        </p:blipFill>
        <p:spPr>
          <a:xfrm>
            <a:off x="4495680" y="380880"/>
            <a:ext cx="43974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Вопросы к домашнему заданию «Принятие христианства на Руси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Назовите причины, по которым Русь принимает православное (византийское) христи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Каково значение принятия христианства для развития русской куль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Как происходил процесс принятия христианства наро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7"/>
          <p:cNvSpPr/>
          <p:nvPr/>
        </p:nvSpPr>
        <p:spPr>
          <a:xfrm>
            <a:off x="3492720" y="114300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куп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418200" y="1981080"/>
            <a:ext cx="21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бараб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384720" y="2514600"/>
            <a:ext cx="25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заком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504600" y="2819520"/>
            <a:ext cx="14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х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3434040" y="3352680"/>
            <a:ext cx="189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апс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3477960" y="3733920"/>
            <a:ext cx="15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стол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3369960" y="5867280"/>
            <a:ext cx="32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Боковой не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3581280" y="44197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Боковой не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3581280" y="51055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Центральный не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-304920" y="0"/>
            <a:ext cx="97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Eurasia"/>
              </a:rPr>
              <a:t>Устройство крестово - купольного хр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4" descr="C:\Users\$ud'j@\Pictures\Рисунок3.jpg"/>
          <p:cNvPicPr/>
          <p:nvPr/>
        </p:nvPicPr>
        <p:blipFill>
          <a:blip r:embed="rId1"/>
          <a:stretch/>
        </p:blipFill>
        <p:spPr>
          <a:xfrm>
            <a:off x="152280" y="609480"/>
            <a:ext cx="3438720" cy="3594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C:\Users\$ud'j@\Pictures\Рисунок4.jpg"/>
          <p:cNvPicPr/>
          <p:nvPr/>
        </p:nvPicPr>
        <p:blipFill>
          <a:blip r:embed="rId2"/>
          <a:stretch/>
        </p:blipFill>
        <p:spPr>
          <a:xfrm>
            <a:off x="152280" y="4267080"/>
            <a:ext cx="3444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5105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Eurasia"/>
              </a:rPr>
              <a:t>Одним из самых старых каменных сооружений Киева была Десятинная церковь, возведенная в 989 – 996гг. В честь пресвятой Богородицы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970320" y="404028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99"/>
                </a:solidFill>
                <a:latin typeface="Eurasia"/>
              </a:rPr>
              <a:t>Реко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C:\Users\$ud'j@\Pictures\Рисунок5.jpg"/>
          <p:cNvPicPr/>
          <p:nvPr/>
        </p:nvPicPr>
        <p:blipFill>
          <a:blip r:embed="rId1"/>
          <a:stretch/>
        </p:blipFill>
        <p:spPr>
          <a:xfrm>
            <a:off x="5486400" y="228600"/>
            <a:ext cx="3382920" cy="3767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C:\Users\$ud'j@\Pictures\Рисунок6.jpg"/>
          <p:cNvPicPr/>
          <p:nvPr/>
        </p:nvPicPr>
        <p:blipFill>
          <a:blip r:embed="rId2"/>
          <a:stretch/>
        </p:blipFill>
        <p:spPr>
          <a:xfrm>
            <a:off x="457200" y="4267080"/>
            <a:ext cx="2484360" cy="2328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Users\$ud'j@\Pictures\Рисунок7.jpg"/>
          <p:cNvPicPr/>
          <p:nvPr/>
        </p:nvPicPr>
        <p:blipFill>
          <a:blip r:embed="rId3"/>
          <a:stretch/>
        </p:blipFill>
        <p:spPr>
          <a:xfrm>
            <a:off x="3200400" y="4267080"/>
            <a:ext cx="245592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2" descr="01"/>
          <p:cNvPicPr/>
          <p:nvPr/>
        </p:nvPicPr>
        <p:blipFill>
          <a:blip r:embed="rId1"/>
          <a:stretch/>
        </p:blipFill>
        <p:spPr>
          <a:xfrm>
            <a:off x="4495680" y="304920"/>
            <a:ext cx="4343400" cy="27939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4495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Eurasia"/>
              </a:rPr>
              <a:t>Киевская Со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Eurasia"/>
              </a:rPr>
              <a:t>Самым древним из дошедших до нас архитектурных сооружений является Софийский собор (возведен между 1017 – 1037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Eurasia"/>
              </a:rPr>
              <a:t>Строили этот храм в период правления Ярослава Мудрого с помощью греческих масте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C:\Users\$ud'j@\Pictures\Рисунок10.jpg"/>
          <p:cNvPicPr/>
          <p:nvPr/>
        </p:nvPicPr>
        <p:blipFill>
          <a:blip r:embed="rId2"/>
          <a:stretch/>
        </p:blipFill>
        <p:spPr>
          <a:xfrm>
            <a:off x="4572000" y="3200400"/>
            <a:ext cx="42084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1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3033720" cy="3200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"/>
          <p:cNvPicPr/>
          <p:nvPr/>
        </p:nvPicPr>
        <p:blipFill>
          <a:blip r:embed="rId2"/>
          <a:stretch/>
        </p:blipFill>
        <p:spPr>
          <a:xfrm>
            <a:off x="5867280" y="3581280"/>
            <a:ext cx="3030480" cy="3048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01"/>
          <p:cNvPicPr/>
          <p:nvPr/>
        </p:nvPicPr>
        <p:blipFill>
          <a:blip r:embed="rId3"/>
          <a:stretch/>
        </p:blipFill>
        <p:spPr>
          <a:xfrm>
            <a:off x="228600" y="253368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58672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99"/>
              </a:buClr>
              <a:buFont typeface="Euras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Eurasia"/>
              </a:rPr>
              <a:t>Собор был выложен из красного кирпича, чередующегося с розовой цемянк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я</dc:creator>
  <dc:description/>
  <dc:language>en-US</dc:language>
  <cp:lastModifiedBy>Q</cp:lastModifiedBy>
  <dcterms:modified xsi:type="dcterms:W3CDTF">2014-05-06T00:53:05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