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ED3-D317-4A56-902C-B1A79E78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F2A-F50E-404D-84CC-2FDB7244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AC4-6B85-4662-A2CF-50335795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7AD-6A5E-4403-A7AD-CBCB40F1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813-09B6-4AF0-9434-C07CE8BD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470-AEB5-402D-A499-30A6E02A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66E-B73D-424D-B295-63CFAE17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3B9-BAB7-4FCD-ADC0-8AE0322C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BB4-B6B1-4F34-91D1-65E8061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10F-C0BA-4E86-A3A5-59CBF76E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69A-F354-4945-A38A-E32CC228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434-96B0-4C1D-B54D-94DA6B6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AC77-7E65-4263-BB56-0B2D35266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9933"/>
                </a:solidFill>
                <a:latin typeface="Eurasia"/>
              </a:rPr>
              <a:t>Культу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9933"/>
                </a:solidFill>
                <a:latin typeface="Eurasia"/>
              </a:rPr>
              <a:t>Киевской Рус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2" descr="01"/>
          <p:cNvPicPr/>
          <p:nvPr/>
        </p:nvPicPr>
        <p:blipFill>
          <a:blip r:embed="rId1"/>
          <a:stretch/>
        </p:blipFill>
        <p:spPr>
          <a:xfrm>
            <a:off x="762120" y="1522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518112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Многоглавие составляет отличительный признак Софийского собора. Один большой и двенадцать более мелких куполов символизируют Христа и его двенадцать уче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154400" cy="533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427536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Обилие пролетов и арок различного характера составляет существенную особенность помещений Софийского со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702320" y="228600"/>
            <a:ext cx="4162320" cy="6324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4724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Пролеты и арки как бы «рифмуются» друг с другом, растут, ширятся и завершаются в обширном подкупольном пространстве огромной, обрамляющей алтарь триумфальной ар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06"/>
          <p:cNvPicPr/>
          <p:nvPr/>
        </p:nvPicPr>
        <p:blipFill>
          <a:blip r:embed="rId1"/>
          <a:stretch/>
        </p:blipFill>
        <p:spPr>
          <a:xfrm>
            <a:off x="4572000" y="304920"/>
            <a:ext cx="4089240" cy="6248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44197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Внутри здания купол воспринимался не как наибольший объем, а как наивысшее пространство, как главный источник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4"/>
          <p:cNvPicPr/>
          <p:nvPr/>
        </p:nvPicPr>
        <p:blipFill>
          <a:blip r:embed="rId1"/>
          <a:stretch/>
        </p:blipFill>
        <p:spPr>
          <a:xfrm>
            <a:off x="3352680" y="457200"/>
            <a:ext cx="5639040" cy="557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35053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Внутри собора, высоко в центре под самым куполом, изображен Христос Вседерж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2"/>
          <p:cNvPicPr/>
          <p:nvPr/>
        </p:nvPicPr>
        <p:blipFill>
          <a:blip r:embed="rId1"/>
          <a:stretch/>
        </p:blipFill>
        <p:spPr>
          <a:xfrm>
            <a:off x="228600" y="228600"/>
            <a:ext cx="4876920" cy="459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720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Грандиозная фигура Богоматери  (молящейся), вознесшей руки к своему Божественному сыну в молитве за род людской находится в апс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5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5619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6029640" y="6095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Евхарис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5"/>
          <p:cNvPicPr/>
          <p:nvPr/>
        </p:nvPicPr>
        <p:blipFill>
          <a:blip r:embed="rId1"/>
          <a:stretch/>
        </p:blipFill>
        <p:spPr>
          <a:xfrm>
            <a:off x="3352680" y="457200"/>
            <a:ext cx="5505480" cy="4762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3352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Над алтарем, в качестве прообраза происходящей в храме литургии изображено, как апостолы с протянутыми руками подходят к алтарю; Христос подает им вино и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5"/>
          <p:cNvPicPr/>
          <p:nvPr/>
        </p:nvPicPr>
        <p:blipFill>
          <a:blip r:embed="rId1"/>
          <a:stretch/>
        </p:blipFill>
        <p:spPr>
          <a:xfrm>
            <a:off x="3200400" y="1676520"/>
            <a:ext cx="5715000" cy="491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05"/>
          <p:cNvPicPr/>
          <p:nvPr/>
        </p:nvPicPr>
        <p:blipFill>
          <a:blip r:embed="rId2"/>
          <a:stretch/>
        </p:blipFill>
        <p:spPr>
          <a:xfrm>
            <a:off x="138240" y="228600"/>
            <a:ext cx="2911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05"/>
          <p:cNvPicPr/>
          <p:nvPr/>
        </p:nvPicPr>
        <p:blipFill>
          <a:blip r:embed="rId1"/>
          <a:stretch/>
        </p:blipFill>
        <p:spPr>
          <a:xfrm>
            <a:off x="304920" y="304920"/>
            <a:ext cx="8572320" cy="3533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403848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Главные изображения Софийского собора выполнены мозаикой и сосредоточены в центральной, самой парадной и светлой части хра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42674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Первый расцвет древнерусского искусства связан с эпохой Киевской Руси, которая стала преемницей византийских тради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$ud'j@\Pictures\Рисунок1.jpg"/>
          <p:cNvPicPr/>
          <p:nvPr/>
        </p:nvPicPr>
        <p:blipFill>
          <a:blip r:embed="rId1"/>
          <a:stretch/>
        </p:blipFill>
        <p:spPr>
          <a:xfrm>
            <a:off x="4876920" y="304920"/>
            <a:ext cx="37494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5"/>
          <p:cNvPicPr/>
          <p:nvPr/>
        </p:nvPicPr>
        <p:blipFill>
          <a:blip r:embed="rId1"/>
          <a:stretch/>
        </p:blipFill>
        <p:spPr>
          <a:xfrm>
            <a:off x="3733920" y="609480"/>
            <a:ext cx="5153040" cy="5496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38862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Мозаики, изображающие отцов церкви, отличаются исключительной тонкостью красочных оттенков. Лучезарные краски вносят нечто светлое в эти строгие обр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8680" cy="533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184640" cy="5333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518920" y="58672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Христ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318800" y="579132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Богомат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13712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752480" y="5791320"/>
            <a:ext cx="27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Григорий Чудот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417168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6634800" y="579132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Григорий Нис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9"/>
          <p:cNvPicPr/>
          <p:nvPr/>
        </p:nvPicPr>
        <p:blipFill>
          <a:blip r:embed="rId1"/>
          <a:stretch/>
        </p:blipFill>
        <p:spPr>
          <a:xfrm>
            <a:off x="1066680" y="533520"/>
            <a:ext cx="7391520" cy="5591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363000" y="609588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Арханг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1"/>
          <p:cNvPicPr/>
          <p:nvPr/>
        </p:nvPicPr>
        <p:blipFill>
          <a:blip r:embed="rId1"/>
          <a:stretch/>
        </p:blipFill>
        <p:spPr>
          <a:xfrm>
            <a:off x="304920" y="380880"/>
            <a:ext cx="8572320" cy="5619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227920" y="5943600"/>
            <a:ext cx="37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Благове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0"/>
          <p:cNvPicPr/>
          <p:nvPr/>
        </p:nvPicPr>
        <p:blipFill>
          <a:blip r:embed="rId1"/>
          <a:stretch/>
        </p:blipFill>
        <p:spPr>
          <a:xfrm>
            <a:off x="1219320" y="228600"/>
            <a:ext cx="69436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019160" y="617220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Вручение Марии пурпура для храмовой зав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2"/>
          <p:cNvPicPr/>
          <p:nvPr/>
        </p:nvPicPr>
        <p:blipFill>
          <a:blip r:embed="rId1"/>
          <a:stretch/>
        </p:blipFill>
        <p:spPr>
          <a:xfrm>
            <a:off x="3886200" y="533520"/>
            <a:ext cx="414324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322640" y="6172200"/>
            <a:ext cx="78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Единоборство Иакова с архангелом Миха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03"/>
          <p:cNvPicPr/>
          <p:nvPr/>
        </p:nvPicPr>
        <p:blipFill>
          <a:blip r:embed="rId1"/>
          <a:stretch/>
        </p:blipFill>
        <p:spPr>
          <a:xfrm>
            <a:off x="1371600" y="1371600"/>
            <a:ext cx="6972480" cy="4921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В росписи храма наряду со священными лицами и событиями нашел себе место и тот реальный мир, который окружал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350600" y="617220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Семья Ярослава Муд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48200" cy="63244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7"/>
          <p:cNvSpPr/>
          <p:nvPr/>
        </p:nvSpPr>
        <p:spPr>
          <a:xfrm>
            <a:off x="611640" y="624852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Император и придво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99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1.Назовите год принятия христианства на Р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2.В период правления какого князя построили данное соору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1"/>
          <p:cNvPicPr/>
          <p:nvPr/>
        </p:nvPicPr>
        <p:blipFill>
          <a:blip r:embed="rId1"/>
          <a:stretch/>
        </p:blipFill>
        <p:spPr>
          <a:xfrm>
            <a:off x="2895480" y="3200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Каковы основные особенности культуры Древней Руси, какой промежуток времени занимает этот период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Перечислите языческих богов древних слав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Что такое «капище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С какими событиями связано формирование государства на Рус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Расскажите о первых князьях Древней Ру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01"/>
          <p:cNvPicPr/>
          <p:nvPr/>
        </p:nvPicPr>
        <p:blipFill>
          <a:blip r:embed="rId1"/>
          <a:stretch/>
        </p:blipFill>
        <p:spPr>
          <a:xfrm>
            <a:off x="4038480" y="2036880"/>
            <a:ext cx="4791240" cy="4478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3 Назовите количество куполов собора Святой Софии и что они символизир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Как называются данные изображения и где они находя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04"/>
          <p:cNvPicPr/>
          <p:nvPr/>
        </p:nvPicPr>
        <p:blipFill>
          <a:blip r:embed="rId1"/>
          <a:stretch/>
        </p:blipFill>
        <p:spPr>
          <a:xfrm>
            <a:off x="609480" y="2286000"/>
            <a:ext cx="3962520" cy="391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"/>
          <p:cNvPicPr/>
          <p:nvPr/>
        </p:nvPicPr>
        <p:blipFill>
          <a:blip r:embed="rId2"/>
          <a:stretch/>
        </p:blipFill>
        <p:spPr>
          <a:xfrm>
            <a:off x="5518080" y="2209680"/>
            <a:ext cx="3183120" cy="3962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5030640" y="213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6 В какой технике выполнены главные изображения Софийского собора и где они сосредоточ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7 Укажите название фр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3"/>
          <p:cNvPicPr/>
          <p:nvPr/>
        </p:nvPicPr>
        <p:blipFill>
          <a:blip r:embed="rId1"/>
          <a:stretch/>
        </p:blipFill>
        <p:spPr>
          <a:xfrm>
            <a:off x="2438280" y="2743200"/>
            <a:ext cx="52959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.П. Львова, Н.Н. Фомина «Мировая художественная культура. От зарождения д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а» Очерки истории. – М.: Питер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. Любимов «Искусство Древнего Мира» -  М.:  Просвещение, 198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.Н. Куцман «Элективный курс Культура Древнего Мира». – Волгоград «Корифей», 200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.Е. Галушкина «Мировая Художественная Культура». – Волгоград: Учитель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урнал «Искусство» №7 199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Г. Грушевская «Словарь по МХК» – Москва: «Академия», 200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И. Немировский. «Книга для чтения по истории Древнего мира»,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ОР «Мировая  художественная культура 10-11 классы» ЗАО «Инфостудия  Э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ОР «Культурология» ЗАО «Новый диск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ОР «МХК от зарождения д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а» Издательский дом «Пит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До принятия православия языческая Русь поклонялась множеству богов. Крещение Руси в 988г. Дало мощный толчок развитию художественн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$ud'j@\Pictures\Рисунок2.jpg"/>
          <p:cNvPicPr/>
          <p:nvPr/>
        </p:nvPicPr>
        <p:blipFill>
          <a:blip r:embed="rId1"/>
          <a:stretch/>
        </p:blipFill>
        <p:spPr>
          <a:xfrm>
            <a:off x="4495680" y="380880"/>
            <a:ext cx="43974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Вопросы к домашнему заданию «Принятие христианства на Руси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Назовите причины, по которым Русь принимает православное (византийское) христи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Каково значение принятия христианства для развития русск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Как происходил процесс принятия христианства нар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3492720" y="114300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куп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418200" y="198108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бар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384720" y="251460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заком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504600" y="28195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х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434040" y="335268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апс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477960" y="3733920"/>
            <a:ext cx="15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стол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369960" y="5867280"/>
            <a:ext cx="32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Боковой не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3581280" y="44197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Боковой не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581280" y="51055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Центральный не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-304920" y="0"/>
            <a:ext cx="97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Устройство крестово - купольного хр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C:\Users\$ud'j@\Pictures\Рисунок3.jpg"/>
          <p:cNvPicPr/>
          <p:nvPr/>
        </p:nvPicPr>
        <p:blipFill>
          <a:blip r:embed="rId1"/>
          <a:stretch/>
        </p:blipFill>
        <p:spPr>
          <a:xfrm>
            <a:off x="152280" y="609480"/>
            <a:ext cx="3438720" cy="359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Users\$ud'j@\Pictures\Рисунок4.jpg"/>
          <p:cNvPicPr/>
          <p:nvPr/>
        </p:nvPicPr>
        <p:blipFill>
          <a:blip r:embed="rId2"/>
          <a:stretch/>
        </p:blipFill>
        <p:spPr>
          <a:xfrm>
            <a:off x="152280" y="4267080"/>
            <a:ext cx="3444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5105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Одним из самых старых каменных сооружений Киева была Десятинная церковь, возведенная в 989 – 996гг. В честь пресвятой Богородиц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970320" y="404028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Eurasia"/>
              </a:rPr>
              <a:t>Реко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C:\Users\$ud'j@\Pictures\Рисунок5.jpg"/>
          <p:cNvPicPr/>
          <p:nvPr/>
        </p:nvPicPr>
        <p:blipFill>
          <a:blip r:embed="rId1"/>
          <a:stretch/>
        </p:blipFill>
        <p:spPr>
          <a:xfrm>
            <a:off x="5486400" y="228600"/>
            <a:ext cx="3382920" cy="3767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Users\$ud'j@\Pictures\Рисунок6.jpg"/>
          <p:cNvPicPr/>
          <p:nvPr/>
        </p:nvPicPr>
        <p:blipFill>
          <a:blip r:embed="rId2"/>
          <a:stretch/>
        </p:blipFill>
        <p:spPr>
          <a:xfrm>
            <a:off x="457200" y="4267080"/>
            <a:ext cx="2484360" cy="232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$ud'j@\Pictures\Рисунок7.jpg"/>
          <p:cNvPicPr/>
          <p:nvPr/>
        </p:nvPicPr>
        <p:blipFill>
          <a:blip r:embed="rId3"/>
          <a:stretch/>
        </p:blipFill>
        <p:spPr>
          <a:xfrm>
            <a:off x="3200400" y="4267080"/>
            <a:ext cx="2455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2" descr="01"/>
          <p:cNvPicPr/>
          <p:nvPr/>
        </p:nvPicPr>
        <p:blipFill>
          <a:blip r:embed="rId1"/>
          <a:stretch/>
        </p:blipFill>
        <p:spPr>
          <a:xfrm>
            <a:off x="4495680" y="304920"/>
            <a:ext cx="4343400" cy="2793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4495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Eurasia"/>
              </a:rPr>
              <a:t>Киевская Со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Самым древним из дошедших до нас архитектурных сооружений является Софийский собор (возведен между 1017 – 1037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Строили этот храм в период правления Ярослава Мудрого с помощью греческих маст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Users\$ud'j@\Pictures\Рисунок10.jpg"/>
          <p:cNvPicPr/>
          <p:nvPr/>
        </p:nvPicPr>
        <p:blipFill>
          <a:blip r:embed="rId2"/>
          <a:stretch/>
        </p:blipFill>
        <p:spPr>
          <a:xfrm>
            <a:off x="4572000" y="3200400"/>
            <a:ext cx="4208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3372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303048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1"/>
          <p:cNvPicPr/>
          <p:nvPr/>
        </p:nvPicPr>
        <p:blipFill>
          <a:blip r:embed="rId3"/>
          <a:stretch/>
        </p:blipFill>
        <p:spPr>
          <a:xfrm>
            <a:off x="228600" y="253368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8672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Собор был выложен из красного кирпича, чередующегося с розовой цемян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я</dc:creator>
  <dc:description/>
  <dc:language>en-US</dc:language>
  <cp:lastModifiedBy>Q</cp:lastModifiedBy>
  <dcterms:modified xsi:type="dcterms:W3CDTF">2014-05-06T00:53:0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