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68F-B663-4D5A-B58D-5EF9DDE9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20A-79CA-462D-836C-6A438FB7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AF2-94EF-4632-8722-6DF85DD1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281-FCD3-4A1A-894F-7562B050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BC00-A12A-4933-8DB6-5A16B254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0097-C451-4736-B6B3-A30E729F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6A50-2B9E-4AC5-99C9-4792BAEE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48F4-0731-473C-8AB2-6FD00DE0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CA1B-46AB-409B-BE03-99B6AA85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B7E1-59BB-46D0-935D-BCEAE7F2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74A1-BB54-4A4F-B056-1F55307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681-68DC-40C5-BEA0-1478E253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07CD-5B9F-4631-AF91-0B63F8D1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9BEE-18B3-4CE3-BE20-34CFA329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3606-9A4A-4051-8BFA-E7C7D877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E008-374C-49D9-922E-0923EB4A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6F3F-D93B-449F-8343-D59DF7DC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D23-2D16-4789-92ED-F679472B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A86-02B4-4449-8345-7A32B3FD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EA8-7A14-4A94-B230-E094823F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ACE-CCCD-49B7-B30E-7D2451E9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827-028D-42AE-BB96-4C874E9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375-AFF0-4186-BF18-0BAA3BE6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895-1520-45E1-9877-55F0DDFD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16A1-C333-4FF2-923B-D32A8675F4A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E045-6F91-4213-9EE3-753DF820D3A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Презентация по географии </a:t>
            </a:r>
            <a:br>
              <a:rPr sz="4000"/>
            </a:b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на тему: «Латиноамериканская ассоциация интеграции»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7145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21304"/>
                </a:solidFill>
                <a:latin typeface="Times New Roman"/>
              </a:rPr>
              <a:t>Латиноамериканская ассоциация интеграци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50920" y="1844640"/>
            <a:ext cx="8569080" cy="2519280"/>
          </a:xfrm>
          <a:prstGeom prst="horizontalScroll">
            <a:avLst>
              <a:gd name="adj" fmla="val 125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атиноамериканская ассоциация интегра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А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 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динение экономического сотрудниче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2 государств Латинской Америки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Peru"/>
          <p:cNvPicPr/>
          <p:nvPr/>
        </p:nvPicPr>
        <p:blipFill>
          <a:blip r:embed="rId1"/>
          <a:stretch/>
        </p:blipFill>
        <p:spPr>
          <a:xfrm>
            <a:off x="2700360" y="4292640"/>
            <a:ext cx="34560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5"/>
          <p:cNvSpPr/>
          <p:nvPr/>
        </p:nvSpPr>
        <p:spPr>
          <a:xfrm>
            <a:off x="108000" y="1413000"/>
            <a:ext cx="9036000" cy="2881080"/>
          </a:xfrm>
          <a:prstGeom prst="horizontalScroll">
            <a:avLst>
              <a:gd name="adj" fmla="val 12949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ью организа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является развитие региона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ономического сотрудничества и торговли; создание общег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ынка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Юридическая основа ЛА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— Договор Монтевидео (1980 год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таб-квартира ассоциа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находится в Монтевидео, Уругва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4"/>
          <p:cNvSpPr/>
          <p:nvPr/>
        </p:nvSpPr>
        <p:spPr>
          <a:xfrm>
            <a:off x="1979640" y="0"/>
            <a:ext cx="5257800" cy="129528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03640" y="0"/>
            <a:ext cx="31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аны-чле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2195640" y="378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Прямая со стрелкой 16"/>
          <p:cNvCxnSpPr/>
          <p:nvPr/>
        </p:nvCxnSpPr>
        <p:spPr>
          <a:xfrm flipH="1">
            <a:off x="1475640" y="981000"/>
            <a:ext cx="935640" cy="151200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25" name="Прямая со стрелкой 16"/>
          <p:cNvCxnSpPr/>
          <p:nvPr/>
        </p:nvCxnSpPr>
        <p:spPr>
          <a:xfrm flipH="1">
            <a:off x="1726920" y="981000"/>
            <a:ext cx="721440" cy="343944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26" name="Прямая со стрелкой 16"/>
          <p:cNvCxnSpPr/>
          <p:nvPr/>
        </p:nvCxnSpPr>
        <p:spPr>
          <a:xfrm>
            <a:off x="2771280" y="980640"/>
            <a:ext cx="902520" cy="376164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27" name="Прямая со стрелкой 16"/>
          <p:cNvCxnSpPr/>
          <p:nvPr/>
        </p:nvCxnSpPr>
        <p:spPr>
          <a:xfrm flipH="1">
            <a:off x="5076000" y="981000"/>
            <a:ext cx="73800" cy="211680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28" name="Прямая со стрелкой 16"/>
          <p:cNvCxnSpPr/>
          <p:nvPr/>
        </p:nvCxnSpPr>
        <p:spPr>
          <a:xfrm flipH="1">
            <a:off x="2410560" y="980640"/>
            <a:ext cx="361080" cy="477072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29" name="Прямая со стрелкой 16"/>
          <p:cNvCxnSpPr/>
          <p:nvPr/>
        </p:nvCxnSpPr>
        <p:spPr>
          <a:xfrm>
            <a:off x="3492360" y="981000"/>
            <a:ext cx="216720" cy="72000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30" name="Прямая со стрелкой 16"/>
          <p:cNvCxnSpPr/>
          <p:nvPr/>
        </p:nvCxnSpPr>
        <p:spPr>
          <a:xfrm>
            <a:off x="7020000" y="1052280"/>
            <a:ext cx="684720" cy="75636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31" name="Прямая со стрелкой 16"/>
          <p:cNvCxnSpPr/>
          <p:nvPr/>
        </p:nvCxnSpPr>
        <p:spPr>
          <a:xfrm>
            <a:off x="6156000" y="981000"/>
            <a:ext cx="1152720" cy="205308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32" name="Прямая со стрелкой 16"/>
          <p:cNvCxnSpPr/>
          <p:nvPr/>
        </p:nvCxnSpPr>
        <p:spPr>
          <a:xfrm>
            <a:off x="5580000" y="981000"/>
            <a:ext cx="612000" cy="517608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133" name="AutoShape 17"/>
          <p:cNvSpPr/>
          <p:nvPr/>
        </p:nvSpPr>
        <p:spPr>
          <a:xfrm>
            <a:off x="7128000" y="1628640"/>
            <a:ext cx="2016000" cy="100836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угва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7093080" y="2781360"/>
            <a:ext cx="1726920" cy="100800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9"/>
          <p:cNvSpPr/>
          <p:nvPr/>
        </p:nvSpPr>
        <p:spPr>
          <a:xfrm>
            <a:off x="179280" y="2205000"/>
            <a:ext cx="1871640" cy="9367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ргенти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0"/>
          <p:cNvSpPr/>
          <p:nvPr/>
        </p:nvSpPr>
        <p:spPr>
          <a:xfrm>
            <a:off x="3203640" y="1484280"/>
            <a:ext cx="1800000" cy="9349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ил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1"/>
          <p:cNvSpPr/>
          <p:nvPr/>
        </p:nvSpPr>
        <p:spPr>
          <a:xfrm>
            <a:off x="1476360" y="5589720"/>
            <a:ext cx="2017800" cy="9349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разил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2"/>
          <p:cNvSpPr/>
          <p:nvPr/>
        </p:nvSpPr>
        <p:spPr>
          <a:xfrm>
            <a:off x="3780000" y="5229360"/>
            <a:ext cx="1944360" cy="100800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б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3"/>
          <p:cNvSpPr/>
          <p:nvPr/>
        </p:nvSpPr>
        <p:spPr>
          <a:xfrm>
            <a:off x="2771640" y="4508640"/>
            <a:ext cx="1944720" cy="9349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лумб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755640" y="4149720"/>
            <a:ext cx="1943280" cy="107964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олив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5"/>
          <p:cNvSpPr/>
          <p:nvPr/>
        </p:nvSpPr>
        <p:spPr>
          <a:xfrm>
            <a:off x="3564000" y="2852640"/>
            <a:ext cx="1942920" cy="9367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енесуэ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7"/>
          <p:cNvSpPr/>
          <p:nvPr/>
        </p:nvSpPr>
        <p:spPr>
          <a:xfrm>
            <a:off x="7201080" y="4076640"/>
            <a:ext cx="1942920" cy="11527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ил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8"/>
          <p:cNvSpPr/>
          <p:nvPr/>
        </p:nvSpPr>
        <p:spPr>
          <a:xfrm>
            <a:off x="5003640" y="5921280"/>
            <a:ext cx="1943280" cy="93672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кси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Прямая со стрелкой 16"/>
          <p:cNvCxnSpPr/>
          <p:nvPr/>
        </p:nvCxnSpPr>
        <p:spPr>
          <a:xfrm>
            <a:off x="5508360" y="981000"/>
            <a:ext cx="1080" cy="446472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45" name="Прямая со стрелкой 16"/>
          <p:cNvCxnSpPr/>
          <p:nvPr/>
        </p:nvCxnSpPr>
        <p:spPr>
          <a:xfrm>
            <a:off x="6300360" y="980640"/>
            <a:ext cx="1259640" cy="347580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146" name="AutoShape 33"/>
          <p:cNvSpPr/>
          <p:nvPr/>
        </p:nvSpPr>
        <p:spPr>
          <a:xfrm>
            <a:off x="7020000" y="5445000"/>
            <a:ext cx="1800000" cy="935280"/>
          </a:xfrm>
          <a:prstGeom prst="horizontalScroll">
            <a:avLst>
              <a:gd name="adj" fmla="val 25000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вадо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Прямая со стрелкой 16"/>
          <p:cNvCxnSpPr/>
          <p:nvPr/>
        </p:nvCxnSpPr>
        <p:spPr>
          <a:xfrm>
            <a:off x="5796000" y="980640"/>
            <a:ext cx="1550160" cy="4699440"/>
          </a:xfrm>
          <a:prstGeom prst="straightConnector1">
            <a:avLst/>
          </a:prstGeom>
          <a:ln w="11880">
            <a:solidFill>
              <a:srgbClr val="0000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3"/>
          <p:cNvSpPr/>
          <p:nvPr/>
        </p:nvSpPr>
        <p:spPr>
          <a:xfrm>
            <a:off x="0" y="836640"/>
            <a:ext cx="9144000" cy="2881440"/>
          </a:xfrm>
          <a:prstGeom prst="horizontalScroll">
            <a:avLst>
              <a:gd name="adj" fmla="val 12949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рамках ЛАИ заключены двусторонние соглашения об экономич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заимодополняемости, предусматривающие взаимное снижен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отмену таможенных тарифов, сотрудничест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области финансов, налогообложения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моженной и санитарной полити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Kisliak"/>
          <p:cNvPicPr/>
          <p:nvPr/>
        </p:nvPicPr>
        <p:blipFill>
          <a:blip r:embed="rId1"/>
          <a:stretch/>
        </p:blipFill>
        <p:spPr>
          <a:xfrm>
            <a:off x="2484360" y="3429000"/>
            <a:ext cx="41767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179280" y="549360"/>
            <a:ext cx="8964720" cy="2879640"/>
          </a:xfrm>
          <a:prstGeom prst="horizontalScroll">
            <a:avLst>
              <a:gd name="adj" fmla="val 12949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едусмотрена система преференций для государств с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 меньшим экономическим развитием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настоящее время к этой категории относя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оливия, Парагвай и Эквадор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278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187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671550"/>
          <p:cNvPicPr/>
          <p:nvPr/>
        </p:nvPicPr>
        <p:blipFill>
          <a:blip r:embed="rId2"/>
          <a:stretch/>
        </p:blipFill>
        <p:spPr>
          <a:xfrm>
            <a:off x="3419640" y="3716280"/>
            <a:ext cx="2663640" cy="2035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fg_ecuad"/>
          <p:cNvPicPr/>
          <p:nvPr/>
        </p:nvPicPr>
        <p:blipFill>
          <a:blip r:embed="rId3"/>
          <a:stretch/>
        </p:blipFill>
        <p:spPr>
          <a:xfrm>
            <a:off x="6084720" y="4941720"/>
            <a:ext cx="289584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Davydov"/>
          <p:cNvPicPr/>
          <p:nvPr/>
        </p:nvPicPr>
        <p:blipFill>
          <a:blip r:embed="rId1"/>
          <a:stretch/>
        </p:blipFill>
        <p:spPr>
          <a:xfrm>
            <a:off x="2340000" y="3213000"/>
            <a:ext cx="4319640" cy="3241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611280" y="476280"/>
            <a:ext cx="8893080" cy="2879640"/>
          </a:xfrm>
          <a:prstGeom prst="horizontalScroll">
            <a:avLst>
              <a:gd name="adj" fmla="val 12949"/>
            </a:avLst>
          </a:prstGeom>
          <a:solidFill>
            <a:srgbClr val="ead5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егодня ЛАИ все больше рассматривается в регионе как ис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нсультативный механизм, функции которого сводятся 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слеживанию выполнения двусторонних и многосторонни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оргово-экономических соглаше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Галоян Кристина</dc:creator>
  <dc:description/>
  <dc:language>en-US</dc:language>
  <cp:lastModifiedBy>Алексей Пастухов</cp:lastModifiedBy>
  <dcterms:modified xsi:type="dcterms:W3CDTF">2015-02-05T13:17:23Z</dcterms:modified>
  <cp:revision>67</cp:revision>
  <dc:subject/>
  <dc:title>ЛАИ</dc:title>
</cp:coreProperties>
</file>