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379-EC7A-44F5-BF40-38085CDD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251-81AA-4AAA-8B4C-7E102FF5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E39-480B-48EB-A34B-9FFA9A44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B45-2379-4210-812E-B64C4098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2FC5-CDC2-4EFC-B3FC-9A506CB0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E7E0-757D-448A-8DCF-2698E1F2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65A4-0577-46D5-A6F6-1D534992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4237-248F-44F9-BCA0-490C1AC9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6371-705E-4B73-9C1A-C6F78332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EAB9-66CE-4323-8298-37E8FF4F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27C1-5D28-4CBA-91DD-B8B53F5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EF7-C86B-40C9-96EA-8F65092F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4299-F068-40C1-B50E-4E21461D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B782-DD77-4120-9347-6CA618CE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92CC-0EB4-4582-A09A-C4CEB3C6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A087-4CC9-4C8B-B868-8A37114F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8D21-24E3-44F1-B919-1441E1EC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7B2-40BD-486D-994A-B0F5BEB5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F49-B9BD-43CB-9A8E-0D5C3DEC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9B8-2DC8-487B-B165-B4A2631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D95-6350-450F-B558-9D560E84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EF5-709D-4ADF-A995-8B9FBDB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C59-6618-43A1-BF2F-F2C36DF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A70-1187-4975-8891-AFB69105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7B7E-19DE-47F4-A953-5660F4E52BB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1338-B5CC-4361-8849-EFA9132ACB3F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Презентация по географии </a:t>
            </a:r>
            <a:br>
              <a:rPr sz="4000"/>
            </a:b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на тему: «Латиноамериканская ассоциация интеграции»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7145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21304"/>
                </a:solidFill>
                <a:latin typeface="Times New Roman"/>
              </a:rPr>
              <a:t>Латиноамериканская ассоциация интеграци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50920" y="1844640"/>
            <a:ext cx="8569080" cy="2519280"/>
          </a:xfrm>
          <a:prstGeom prst="horizontalScroll">
            <a:avLst>
              <a:gd name="adj" fmla="val 125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атиноамериканская ассоциация интегра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А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 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динение экономического сотрудниче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2 государств Латинской Америки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Peru"/>
          <p:cNvPicPr/>
          <p:nvPr/>
        </p:nvPicPr>
        <p:blipFill>
          <a:blip r:embed="rId1"/>
          <a:stretch/>
        </p:blipFill>
        <p:spPr>
          <a:xfrm>
            <a:off x="2700360" y="4292640"/>
            <a:ext cx="34560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5"/>
          <p:cNvSpPr/>
          <p:nvPr/>
        </p:nvSpPr>
        <p:spPr>
          <a:xfrm>
            <a:off x="108000" y="1413000"/>
            <a:ext cx="9036000" cy="2881080"/>
          </a:xfrm>
          <a:prstGeom prst="horizontalScroll">
            <a:avLst>
              <a:gd name="adj" fmla="val 12949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ью организа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является развитие региона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ономического сотрудничества и торговли; создание общег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ынка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Юридическая основа ЛА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— Договор Монтевидео (1980 год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таб-квартира ассоциа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аходится в Монтевидео, Уругва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/>
          <p:cNvSpPr/>
          <p:nvPr/>
        </p:nvSpPr>
        <p:spPr>
          <a:xfrm>
            <a:off x="1979640" y="0"/>
            <a:ext cx="5257800" cy="129528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03640" y="0"/>
            <a:ext cx="31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аны-чле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2195640" y="378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Прямая со стрелкой 16"/>
          <p:cNvCxnSpPr/>
          <p:nvPr/>
        </p:nvCxnSpPr>
        <p:spPr>
          <a:xfrm flipH="1">
            <a:off x="1475640" y="981000"/>
            <a:ext cx="935640" cy="151200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5" name="Прямая со стрелкой 16"/>
          <p:cNvCxnSpPr/>
          <p:nvPr/>
        </p:nvCxnSpPr>
        <p:spPr>
          <a:xfrm flipH="1">
            <a:off x="1726920" y="981000"/>
            <a:ext cx="721440" cy="343944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6" name="Прямая со стрелкой 16"/>
          <p:cNvCxnSpPr/>
          <p:nvPr/>
        </p:nvCxnSpPr>
        <p:spPr>
          <a:xfrm>
            <a:off x="2771280" y="980640"/>
            <a:ext cx="902520" cy="376164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7" name="Прямая со стрелкой 16"/>
          <p:cNvCxnSpPr/>
          <p:nvPr/>
        </p:nvCxnSpPr>
        <p:spPr>
          <a:xfrm flipH="1">
            <a:off x="5076000" y="981000"/>
            <a:ext cx="73800" cy="211680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8" name="Прямая со стрелкой 16"/>
          <p:cNvCxnSpPr/>
          <p:nvPr/>
        </p:nvCxnSpPr>
        <p:spPr>
          <a:xfrm flipH="1">
            <a:off x="2410560" y="980640"/>
            <a:ext cx="361080" cy="477072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9" name="Прямая со стрелкой 16"/>
          <p:cNvCxnSpPr/>
          <p:nvPr/>
        </p:nvCxnSpPr>
        <p:spPr>
          <a:xfrm>
            <a:off x="3492360" y="981000"/>
            <a:ext cx="216720" cy="72000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30" name="Прямая со стрелкой 16"/>
          <p:cNvCxnSpPr/>
          <p:nvPr/>
        </p:nvCxnSpPr>
        <p:spPr>
          <a:xfrm>
            <a:off x="7020000" y="1052280"/>
            <a:ext cx="684720" cy="75636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31" name="Прямая со стрелкой 16"/>
          <p:cNvCxnSpPr/>
          <p:nvPr/>
        </p:nvCxnSpPr>
        <p:spPr>
          <a:xfrm>
            <a:off x="6156000" y="981000"/>
            <a:ext cx="1152720" cy="205308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32" name="Прямая со стрелкой 16"/>
          <p:cNvCxnSpPr/>
          <p:nvPr/>
        </p:nvCxnSpPr>
        <p:spPr>
          <a:xfrm>
            <a:off x="5580000" y="981000"/>
            <a:ext cx="612000" cy="517608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133" name="AutoShape 17"/>
          <p:cNvSpPr/>
          <p:nvPr/>
        </p:nvSpPr>
        <p:spPr>
          <a:xfrm>
            <a:off x="7128000" y="1628640"/>
            <a:ext cx="2016000" cy="100836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угва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7093080" y="2781360"/>
            <a:ext cx="1726920" cy="100800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179280" y="2205000"/>
            <a:ext cx="1871640" cy="9367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ргенти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0"/>
          <p:cNvSpPr/>
          <p:nvPr/>
        </p:nvSpPr>
        <p:spPr>
          <a:xfrm>
            <a:off x="3203640" y="1484280"/>
            <a:ext cx="1800000" cy="9349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л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1476360" y="5589720"/>
            <a:ext cx="2017800" cy="9349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разил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2"/>
          <p:cNvSpPr/>
          <p:nvPr/>
        </p:nvSpPr>
        <p:spPr>
          <a:xfrm>
            <a:off x="3780000" y="5229360"/>
            <a:ext cx="1944360" cy="100800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б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3"/>
          <p:cNvSpPr/>
          <p:nvPr/>
        </p:nvSpPr>
        <p:spPr>
          <a:xfrm>
            <a:off x="2771640" y="4508640"/>
            <a:ext cx="1944720" cy="9349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лумб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755640" y="4149720"/>
            <a:ext cx="1943280" cy="107964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олив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5"/>
          <p:cNvSpPr/>
          <p:nvPr/>
        </p:nvSpPr>
        <p:spPr>
          <a:xfrm>
            <a:off x="3564000" y="2852640"/>
            <a:ext cx="1942920" cy="9367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енесуэ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7"/>
          <p:cNvSpPr/>
          <p:nvPr/>
        </p:nvSpPr>
        <p:spPr>
          <a:xfrm>
            <a:off x="7201080" y="4076640"/>
            <a:ext cx="1942920" cy="11527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л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8"/>
          <p:cNvSpPr/>
          <p:nvPr/>
        </p:nvSpPr>
        <p:spPr>
          <a:xfrm>
            <a:off x="5003640" y="5921280"/>
            <a:ext cx="1943280" cy="9367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кси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Прямая со стрелкой 16"/>
          <p:cNvCxnSpPr/>
          <p:nvPr/>
        </p:nvCxnSpPr>
        <p:spPr>
          <a:xfrm>
            <a:off x="5508360" y="981000"/>
            <a:ext cx="1080" cy="446472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45" name="Прямая со стрелкой 16"/>
          <p:cNvCxnSpPr/>
          <p:nvPr/>
        </p:nvCxnSpPr>
        <p:spPr>
          <a:xfrm>
            <a:off x="6300360" y="980640"/>
            <a:ext cx="1259640" cy="347580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146" name="AutoShape 33"/>
          <p:cNvSpPr/>
          <p:nvPr/>
        </p:nvSpPr>
        <p:spPr>
          <a:xfrm>
            <a:off x="7020000" y="5445000"/>
            <a:ext cx="1800000" cy="93528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вадо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Прямая со стрелкой 16"/>
          <p:cNvCxnSpPr/>
          <p:nvPr/>
        </p:nvCxnSpPr>
        <p:spPr>
          <a:xfrm>
            <a:off x="5796000" y="980640"/>
            <a:ext cx="1550160" cy="469944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3"/>
          <p:cNvSpPr/>
          <p:nvPr/>
        </p:nvSpPr>
        <p:spPr>
          <a:xfrm>
            <a:off x="0" y="836640"/>
            <a:ext cx="9144000" cy="2881440"/>
          </a:xfrm>
          <a:prstGeom prst="horizontalScroll">
            <a:avLst>
              <a:gd name="adj" fmla="val 12949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рамках ЛАИ заключены двусторонние соглашения об экономич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заимодополняемости, предусматривающие взаимное снижен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отмену таможенных тарифов, сотрудничест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области финансов, налогообложения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моженной и санитарной полити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Kisliak"/>
          <p:cNvPicPr/>
          <p:nvPr/>
        </p:nvPicPr>
        <p:blipFill>
          <a:blip r:embed="rId1"/>
          <a:stretch/>
        </p:blipFill>
        <p:spPr>
          <a:xfrm>
            <a:off x="2484360" y="3429000"/>
            <a:ext cx="41767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179280" y="549360"/>
            <a:ext cx="8964720" cy="2879640"/>
          </a:xfrm>
          <a:prstGeom prst="horizontalScroll">
            <a:avLst>
              <a:gd name="adj" fmla="val 12949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дусмотрена система преференций для государств с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 меньшим экономическим развитием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к этой категории относя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оливия, Парагвай и Эквадор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278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187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671550"/>
          <p:cNvPicPr/>
          <p:nvPr/>
        </p:nvPicPr>
        <p:blipFill>
          <a:blip r:embed="rId2"/>
          <a:stretch/>
        </p:blipFill>
        <p:spPr>
          <a:xfrm>
            <a:off x="3419640" y="3716280"/>
            <a:ext cx="2663640" cy="2035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fg_ecuad"/>
          <p:cNvPicPr/>
          <p:nvPr/>
        </p:nvPicPr>
        <p:blipFill>
          <a:blip r:embed="rId3"/>
          <a:stretch/>
        </p:blipFill>
        <p:spPr>
          <a:xfrm>
            <a:off x="6084720" y="4941720"/>
            <a:ext cx="289584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Davydov"/>
          <p:cNvPicPr/>
          <p:nvPr/>
        </p:nvPicPr>
        <p:blipFill>
          <a:blip r:embed="rId1"/>
          <a:stretch/>
        </p:blipFill>
        <p:spPr>
          <a:xfrm>
            <a:off x="2340000" y="321300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611280" y="476280"/>
            <a:ext cx="8893080" cy="2879640"/>
          </a:xfrm>
          <a:prstGeom prst="horizontalScroll">
            <a:avLst>
              <a:gd name="adj" fmla="val 12949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егодня ЛАИ все больше рассматривается в регионе как ис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нсультативный механизм, функции которого сводятся 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слеживанию выполнения двусторонних и многосторонни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оргово-экономических соглаш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Галоян Кристина</dc:creator>
  <dc:description/>
  <dc:language>en-US</dc:language>
  <cp:lastModifiedBy>Алексей Пастухов</cp:lastModifiedBy>
  <dcterms:modified xsi:type="dcterms:W3CDTF">2015-02-05T13:17:23Z</dcterms:modified>
  <cp:revision>67</cp:revision>
  <dc:subject/>
  <dc:title>ЛАИ</dc:title>
</cp:coreProperties>
</file>