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27.jpeg" ContentType="image/jpeg"/>
  <Override PartName="/ppt/media/image17.png" ContentType="image/png"/>
  <Override PartName="/ppt/media/image26.jpeg" ContentType="image/jpeg"/>
  <Override PartName="/ppt/media/image19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5.png" ContentType="image/png"/>
  <Override PartName="/ppt/media/image3.jpeg" ContentType="image/jpeg"/>
  <Override PartName="/ppt/media/image24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78B-22CE-48CD-9D84-CA3BD5F1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8EF-9BFA-49C5-8A92-814B1DA0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B8A-BD31-4FCF-B035-8939021C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14A-A5E2-4D39-BEB2-351DE480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8B9-2A79-46B2-BF06-7F5D73C7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F94-5ECF-4DBA-908A-65944BDB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8AF-3D2F-48F0-B700-7CE8621F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DDF-3152-4FC1-98EA-6924D183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BC7-F7E7-4BB2-8C9C-050AAE15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92D-1C46-4C9D-ADC7-49A894D7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E92-17C5-439C-87FE-96C5248A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EF0-5C35-4F51-8773-A4B73B88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324-1B97-42B4-9B19-38C9D22A75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Европейская валюта"/>
          <p:cNvPicPr/>
          <p:nvPr/>
        </p:nvPicPr>
        <p:blipFill>
          <a:blip r:embed="rId1"/>
          <a:stretch/>
        </p:blipFill>
        <p:spPr>
          <a:xfrm>
            <a:off x="0" y="3886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Деньги 2"/>
          <p:cNvPicPr/>
          <p:nvPr/>
        </p:nvPicPr>
        <p:blipFill>
          <a:blip r:embed="rId2"/>
          <a:stretch/>
        </p:blipFill>
        <p:spPr>
          <a:xfrm>
            <a:off x="4114800" y="2590920"/>
            <a:ext cx="5029200" cy="426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Доллар США"/>
          <p:cNvPicPr/>
          <p:nvPr/>
        </p:nvPicPr>
        <p:blipFill>
          <a:blip r:embed="rId3"/>
          <a:srcRect l="0" t="13743" r="0" b="13743"/>
          <a:stretch/>
        </p:blipFill>
        <p:spPr>
          <a:xfrm>
            <a:off x="4648320" y="0"/>
            <a:ext cx="4495680" cy="281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Деньги"/>
          <p:cNvPicPr/>
          <p:nvPr/>
        </p:nvPicPr>
        <p:blipFill>
          <a:blip r:embed="rId4"/>
          <a:stretch/>
        </p:blipFill>
        <p:spPr>
          <a:xfrm>
            <a:off x="0" y="0"/>
            <a:ext cx="4648320" cy="4089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230840" y="236160"/>
            <a:ext cx="641556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: Мировое хозяйство и МГР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336840" y="10317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>
            <a:hlinkClick r:id="" action="ppaction://hlinkshowjump?jump=nextslide"/>
          </p:cNvPr>
          <p:cNvSpPr/>
          <p:nvPr/>
        </p:nvSpPr>
        <p:spPr>
          <a:xfrm>
            <a:off x="1828800" y="1600200"/>
            <a:ext cx="563868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нятие о мировом хозяйств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>
            <a:hlinkClick r:id="rId5" action="ppaction://hlinksldjump"/>
          </p:cNvPr>
          <p:cNvSpPr/>
          <p:nvPr/>
        </p:nvSpPr>
        <p:spPr>
          <a:xfrm>
            <a:off x="1812960" y="2214720"/>
            <a:ext cx="5654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Этапы формиро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>
            <a:hlinkClick r:id="rId6" action="ppaction://hlinksldjump"/>
          </p:cNvPr>
          <p:cNvSpPr/>
          <p:nvPr/>
        </p:nvSpPr>
        <p:spPr>
          <a:xfrm>
            <a:off x="1816200" y="2747880"/>
            <a:ext cx="565128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 Современные центры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>
            <a:hlinkClick r:id="rId7" action="ppaction://hlinksldjump"/>
          </p:cNvPr>
          <p:cNvSpPr/>
          <p:nvPr/>
        </p:nvSpPr>
        <p:spPr>
          <a:xfrm>
            <a:off x="1847880" y="3278160"/>
            <a:ext cx="5619600" cy="368280"/>
          </a:xfrm>
          <a:prstGeom prst="rect">
            <a:avLst/>
          </a:prstGeom>
          <a:solidFill>
            <a:srgbClr val="cc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 Международное географическое разделение труд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>
            <a:hlinkClick r:id="rId8" action="ppaction://hlinksldjump"/>
          </p:cNvPr>
          <p:cNvSpPr/>
          <p:nvPr/>
        </p:nvSpPr>
        <p:spPr>
          <a:xfrm>
            <a:off x="1844640" y="3814920"/>
            <a:ext cx="56228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. Международная экономическая интеграц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>
            <a:hlinkClick r:id="rId9" action="ppaction://hlinksldjump"/>
          </p:cNvPr>
          <p:cNvSpPr/>
          <p:nvPr/>
        </p:nvSpPr>
        <p:spPr>
          <a:xfrm>
            <a:off x="1844640" y="4348080"/>
            <a:ext cx="5622840" cy="642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6. Интернационализация хозяйственной жизни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ранснациональные корпорации (ТНК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>
            <a:hlinkClick r:id="rId10" action="ppaction://hlinksldjump"/>
          </p:cNvPr>
          <p:cNvSpPr/>
          <p:nvPr/>
        </p:nvSpPr>
        <p:spPr>
          <a:xfrm>
            <a:off x="504360" y="5189040"/>
            <a:ext cx="827784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: Стадии развития мировой экономи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Схема урока Мировое хозяйство"/>
          <p:cNvPicPr/>
          <p:nvPr/>
        </p:nvPicPr>
        <p:blipFill>
          <a:blip r:embed="rId1"/>
          <a:srcRect l="0" t="0" r="1019" b="1512"/>
          <a:stretch/>
        </p:blipFill>
        <p:spPr>
          <a:xfrm>
            <a:off x="152280" y="228600"/>
            <a:ext cx="883944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9" name="Text Box 3"/>
          <p:cNvSpPr/>
          <p:nvPr/>
        </p:nvSpPr>
        <p:spPr>
          <a:xfrm>
            <a:off x="445680" y="-108000"/>
            <a:ext cx="75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-схема изученной тем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ьзуясь схемой, проанализируй и перескажи пройденный материал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first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Европейская валюта"/>
          <p:cNvPicPr/>
          <p:nvPr/>
        </p:nvPicPr>
        <p:blipFill>
          <a:blip r:embed="rId1"/>
          <a:stretch/>
        </p:blipFill>
        <p:spPr>
          <a:xfrm>
            <a:off x="0" y="3886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Деньги 2"/>
          <p:cNvPicPr/>
          <p:nvPr/>
        </p:nvPicPr>
        <p:blipFill>
          <a:blip r:embed="rId2"/>
          <a:stretch/>
        </p:blipFill>
        <p:spPr>
          <a:xfrm>
            <a:off x="4114800" y="2590920"/>
            <a:ext cx="5029200" cy="4267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Доллар США"/>
          <p:cNvPicPr/>
          <p:nvPr/>
        </p:nvPicPr>
        <p:blipFill>
          <a:blip r:embed="rId3"/>
          <a:srcRect l="0" t="13743" r="0" b="13743"/>
          <a:stretch/>
        </p:blipFill>
        <p:spPr>
          <a:xfrm>
            <a:off x="4648320" y="0"/>
            <a:ext cx="4495680" cy="28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Деньги"/>
          <p:cNvPicPr/>
          <p:nvPr/>
        </p:nvPicPr>
        <p:blipFill>
          <a:blip r:embed="rId4"/>
          <a:stretch/>
        </p:blipFill>
        <p:spPr>
          <a:xfrm>
            <a:off x="0" y="0"/>
            <a:ext cx="4648320" cy="4089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02760" y="236160"/>
            <a:ext cx="827784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: Стадии развития мировой экономи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336840" y="10317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>
            <a:hlinkClick r:id="" action="ppaction://hlinkshowjump?jump=nextslide"/>
          </p:cNvPr>
          <p:cNvSpPr/>
          <p:nvPr/>
        </p:nvSpPr>
        <p:spPr>
          <a:xfrm>
            <a:off x="1828800" y="1600200"/>
            <a:ext cx="563868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ри стадии развития и три сектора мировой экономик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4">
            <a:hlinkClick r:id="" action="ppaction://hlinkshowjump?jump=firs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66ffff"/>
            </a:gs>
            <a:gs pos="100000">
              <a:srgbClr val="ffcc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и стадии развития мировой эконом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066680"/>
            <a:ext cx="4572000" cy="2362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сторический  опыт  говорит  о  том, что в своем   развитии  человеческое  общество  проходит три последовательные стади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доидустриальную (аграрную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индустриальную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постиндустриальну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аждый   из   них  соответствует  свой  вид отраслевой структуры хозяйст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9" descr="Стадии развития общества"/>
          <p:cNvPicPr/>
          <p:nvPr/>
        </p:nvPicPr>
        <p:blipFill>
          <a:blip r:embed="rId1"/>
          <a:srcRect l="6819" t="1966" r="6819" b="2457"/>
          <a:stretch/>
        </p:blipFill>
        <p:spPr>
          <a:xfrm>
            <a:off x="228600" y="1066680"/>
            <a:ext cx="3505320" cy="546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962520" y="3695760"/>
            <a:ext cx="487656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АГРАРНАЯ СТРУКТУРА ХОЗЯЙ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979800" y="4229280"/>
            <a:ext cx="4859280" cy="30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НДУСТРИАЛЬНАЯ СТРУКТУРА ХОЗЯЙ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005720" y="4838760"/>
            <a:ext cx="4813560" cy="30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СТИНДУСТРИАЛЬНАЯ СТРУКТУРА ХОЗЯЙ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Стадии развития общества"/>
          <p:cNvPicPr/>
          <p:nvPr/>
        </p:nvPicPr>
        <p:blipFill>
          <a:blip r:embed="rId1">
            <a:lum contrast="20000"/>
          </a:blip>
          <a:srcRect l="6819" t="36371" r="6819" b="2457"/>
          <a:stretch/>
        </p:blipFill>
        <p:spPr>
          <a:xfrm>
            <a:off x="152280" y="838080"/>
            <a:ext cx="4648320" cy="5765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3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ГРАРНАЯ СТРУКТУРА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013360" y="800280"/>
            <a:ext cx="397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аграрной структуре хозяйства основным   источником  материаль- ных  благ является сельское хозяйс- тво  и смежные с  ним отрасли (лес-ное хозяйство, охота,  рыболовство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ая структура  хозяйства преоб- ладает  в  наименее  развитых  стра-нах   Африки   и   Юго  -  Восточной Ази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пример.  В  структуре  ВВП Со-мали,  Танзании, Афганистана, Лао-са на долю сельского  хозяйства при-ходится более 50%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035320" y="4684680"/>
            <a:ext cx="3932640" cy="794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ТРАН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ГДЕ ДОЛЯ ЗАНЯТОСТИ НАСЕ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НИЯ В СЕЛЬСКОМ ХОЗЯЙСТВЕ БОЛЕ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%,  НАЗЫВАЮТСЯ 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АГРАРНЫ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>
            <a:hlinkClick r:id="" action="ppaction://hlinkshowjump?jump=nex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769608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6076" y="10800"/>
                </a:moveTo>
                <a:lnTo>
                  <a:pt x="20089" y="3794"/>
                </a:lnTo>
                <a:lnTo>
                  <a:pt x="200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7034040" y="6248520"/>
            <a:ext cx="662040" cy="60948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2" h="21600">
                <a:moveTo>
                  <a:pt x="11731" y="3837"/>
                </a:moveTo>
                <a:lnTo>
                  <a:pt x="14307" y="6448"/>
                </a:lnTo>
                <a:lnTo>
                  <a:pt x="14307" y="4707"/>
                </a:lnTo>
                <a:lnTo>
                  <a:pt x="16083" y="4707"/>
                </a:lnTo>
                <a:lnTo>
                  <a:pt x="16083" y="8224"/>
                </a:lnTo>
                <a:lnTo>
                  <a:pt x="18694" y="10800"/>
                </a:lnTo>
                <a:lnTo>
                  <a:pt x="17040" y="10800"/>
                </a:lnTo>
                <a:lnTo>
                  <a:pt x="17040" y="17989"/>
                </a:lnTo>
                <a:lnTo>
                  <a:pt x="6422" y="17989"/>
                </a:lnTo>
                <a:lnTo>
                  <a:pt x="6422" y="10800"/>
                </a:lnTo>
                <a:lnTo>
                  <a:pt x="4768" y="10800"/>
                </a:lnTo>
                <a:close/>
              </a:path>
              <a:path fill="darkenLess" w="23462" h="21600">
                <a:moveTo>
                  <a:pt x="14307" y="6448"/>
                </a:moveTo>
                <a:lnTo>
                  <a:pt x="14307" y="4707"/>
                </a:lnTo>
                <a:lnTo>
                  <a:pt x="16083" y="4707"/>
                </a:lnTo>
                <a:lnTo>
                  <a:pt x="16083" y="8224"/>
                </a:lnTo>
                <a:close/>
              </a:path>
              <a:path fill="darkenLess" w="23462" h="21600">
                <a:moveTo>
                  <a:pt x="10808" y="14299"/>
                </a:moveTo>
                <a:lnTo>
                  <a:pt x="12653" y="14299"/>
                </a:lnTo>
                <a:lnTo>
                  <a:pt x="12653" y="17989"/>
                </a:lnTo>
                <a:lnTo>
                  <a:pt x="17040" y="17989"/>
                </a:lnTo>
                <a:lnTo>
                  <a:pt x="17040" y="10800"/>
                </a:lnTo>
                <a:lnTo>
                  <a:pt x="6422" y="10800"/>
                </a:lnTo>
                <a:lnTo>
                  <a:pt x="6422" y="17989"/>
                </a:lnTo>
                <a:lnTo>
                  <a:pt x="10808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66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Стадии развития общества"/>
          <p:cNvPicPr/>
          <p:nvPr/>
        </p:nvPicPr>
        <p:blipFill>
          <a:blip r:embed="rId1">
            <a:lum contrast="36000"/>
          </a:blip>
          <a:srcRect l="6819" t="18185" r="6819" b="62420"/>
          <a:stretch/>
        </p:blipFill>
        <p:spPr>
          <a:xfrm>
            <a:off x="228600" y="3276720"/>
            <a:ext cx="457200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3" name="Text Box 3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УСТРИАЛЬНАЯ СТРУКТУРА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723960"/>
            <a:ext cx="85345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ле промышленных переворотов второй половины 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- первой половин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веков  в  странах  Европы  и  США  сложилась  индустриальная  структу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озяйства. Для неё характерно преобладание промышленного производства. В середине ХХ века индустриальная структура экономики  преобладала во всех экономически развитых странах. Затем доля промышленности в ВВП стала уменьшаться. В настоящее время в мире практически не осталось стран, в которых эта отрасль обеспечивала бы более 50% ВВП. Это относится и к доли занятости экономически активного насел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035320" y="3236760"/>
            <a:ext cx="3931200" cy="794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ТРАН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ГДЕ ДОЛЯ ЗАНЯТОСТИ НАСЕ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НИЯ В ПРОМЫШЛЕННОСТИ БОЛЕЕ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0%, НАЗЫВАЮТ 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ИНДУСТРИАЛЬНЫМ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013360" y="4114800"/>
            <a:ext cx="397836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жно выделить группу стран 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ливо  выраженной  индустриа-льной  структурой.  Это  некоторые страны  СНГ,   Восточной   Европы, Китай и  нефтедобывающие страны Аз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7">
            <a:hlinkClick r:id="" action="ppaction://hlinkshowjump?jump=nextslide"/>
          </p:cNvPr>
          <p:cNvSpPr/>
          <p:nvPr/>
        </p:nvSpPr>
        <p:spPr>
          <a:xfrm>
            <a:off x="8634240" y="6095880"/>
            <a:ext cx="509760" cy="7383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738360"/>
              <a:gd name="textAreaBottom" fmla="*/ 705600 h 738360"/>
            </a:gdLst>
            <a:ahLst/>
            <a:rect l="textAreaLeft" t="textAreaTop" r="textAreaRight" b="textAreaBottom"/>
            <a:pathLst>
              <a:path w="21600" h="31280">
                <a:moveTo>
                  <a:pt x="0" y="0"/>
                </a:moveTo>
                <a:lnTo>
                  <a:pt x="21600" y="0"/>
                </a:lnTo>
                <a:lnTo>
                  <a:pt x="21600" y="31280"/>
                </a:lnTo>
                <a:lnTo>
                  <a:pt x="0" y="31280"/>
                </a:lnTo>
                <a:close/>
              </a:path>
              <a:path fill="lightenLess" w="21600" h="312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280">
                <a:moveTo>
                  <a:pt x="21600" y="0"/>
                </a:moveTo>
                <a:lnTo>
                  <a:pt x="21600" y="31280"/>
                </a:lnTo>
                <a:lnTo>
                  <a:pt x="20200" y="29880"/>
                </a:lnTo>
                <a:lnTo>
                  <a:pt x="20200" y="1400"/>
                </a:lnTo>
                <a:close/>
              </a:path>
              <a:path fill="darkenLess" w="21600" h="31280">
                <a:moveTo>
                  <a:pt x="21600" y="31280"/>
                </a:moveTo>
                <a:lnTo>
                  <a:pt x="0" y="31280"/>
                </a:lnTo>
                <a:lnTo>
                  <a:pt x="1400" y="29880"/>
                </a:lnTo>
                <a:lnTo>
                  <a:pt x="20200" y="29880"/>
                </a:lnTo>
                <a:close/>
              </a:path>
              <a:path fill="lighten" w="21600" h="31280">
                <a:moveTo>
                  <a:pt x="0" y="312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880"/>
                </a:lnTo>
                <a:close/>
              </a:path>
              <a:path fill="darken" w="21600" h="31280">
                <a:moveTo>
                  <a:pt x="3794" y="8633"/>
                </a:moveTo>
                <a:lnTo>
                  <a:pt x="17806" y="15640"/>
                </a:lnTo>
                <a:lnTo>
                  <a:pt x="3794" y="226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8">
            <a:hlinkClick r:id="" action="ppaction://hlinkshowjump?jump=previousslide"/>
          </p:cNvPr>
          <p:cNvSpPr/>
          <p:nvPr/>
        </p:nvSpPr>
        <p:spPr>
          <a:xfrm>
            <a:off x="8077320" y="6095880"/>
            <a:ext cx="533160" cy="7383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738360"/>
              <a:gd name="textAreaBottom" fmla="*/ 703800 h 738360"/>
            </a:gdLst>
            <a:ahLst/>
            <a:rect l="textAreaLeft" t="textAreaTop" r="textAreaRight" b="textAreaBottom"/>
            <a:pathLst>
              <a:path w="21600" h="29908">
                <a:moveTo>
                  <a:pt x="0" y="0"/>
                </a:moveTo>
                <a:lnTo>
                  <a:pt x="21600" y="0"/>
                </a:lnTo>
                <a:lnTo>
                  <a:pt x="21600" y="29908"/>
                </a:lnTo>
                <a:lnTo>
                  <a:pt x="0" y="29908"/>
                </a:lnTo>
                <a:close/>
              </a:path>
              <a:path fill="lightenLess" w="21600" h="29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08">
                <a:moveTo>
                  <a:pt x="21600" y="0"/>
                </a:moveTo>
                <a:lnTo>
                  <a:pt x="21600" y="29908"/>
                </a:lnTo>
                <a:lnTo>
                  <a:pt x="20200" y="28508"/>
                </a:lnTo>
                <a:lnTo>
                  <a:pt x="20200" y="1400"/>
                </a:lnTo>
                <a:close/>
              </a:path>
              <a:path fill="darkenLess" w="21600" h="29908">
                <a:moveTo>
                  <a:pt x="21600" y="29908"/>
                </a:moveTo>
                <a:lnTo>
                  <a:pt x="0" y="29908"/>
                </a:lnTo>
                <a:lnTo>
                  <a:pt x="1400" y="28508"/>
                </a:lnTo>
                <a:lnTo>
                  <a:pt x="20200" y="28508"/>
                </a:lnTo>
                <a:close/>
              </a:path>
              <a:path fill="lighten" w="21600" h="29908">
                <a:moveTo>
                  <a:pt x="0" y="29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08"/>
                </a:lnTo>
                <a:close/>
              </a:path>
              <a:path fill="darken" w="21600" h="29908">
                <a:moveTo>
                  <a:pt x="3794" y="14954"/>
                </a:moveTo>
                <a:lnTo>
                  <a:pt x="17806" y="7947"/>
                </a:lnTo>
                <a:lnTo>
                  <a:pt x="17806" y="2196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7162920" y="6095880"/>
            <a:ext cx="890640" cy="762120"/>
          </a:xfrm>
          <a:custGeom>
            <a:avLst/>
            <a:gdLst>
              <a:gd name="textAreaLeft" fmla="*/ 49320 w 890640"/>
              <a:gd name="textAreaRight" fmla="*/ 841320 w 890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241" h="21600">
                <a:moveTo>
                  <a:pt x="0" y="0"/>
                </a:moveTo>
                <a:lnTo>
                  <a:pt x="25241" y="0"/>
                </a:lnTo>
                <a:lnTo>
                  <a:pt x="25241" y="21600"/>
                </a:lnTo>
                <a:lnTo>
                  <a:pt x="0" y="21600"/>
                </a:lnTo>
                <a:close/>
              </a:path>
              <a:path fill="lightenLess" w="25241" h="21600">
                <a:moveTo>
                  <a:pt x="0" y="0"/>
                </a:moveTo>
                <a:lnTo>
                  <a:pt x="25241" y="0"/>
                </a:lnTo>
                <a:lnTo>
                  <a:pt x="23841" y="1400"/>
                </a:lnTo>
                <a:lnTo>
                  <a:pt x="1400" y="1400"/>
                </a:lnTo>
                <a:close/>
              </a:path>
              <a:path fill="darken" w="25241" h="21600">
                <a:moveTo>
                  <a:pt x="25241" y="0"/>
                </a:moveTo>
                <a:lnTo>
                  <a:pt x="25241" y="21600"/>
                </a:lnTo>
                <a:lnTo>
                  <a:pt x="23841" y="20200"/>
                </a:lnTo>
                <a:lnTo>
                  <a:pt x="23841" y="1400"/>
                </a:lnTo>
                <a:close/>
              </a:path>
              <a:path fill="darkenLess" w="25241" h="21600">
                <a:moveTo>
                  <a:pt x="25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1" y="20200"/>
                </a:lnTo>
                <a:close/>
              </a:path>
              <a:path fill="lighten" w="25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1" h="21600">
                <a:moveTo>
                  <a:pt x="12620" y="3837"/>
                </a:moveTo>
                <a:lnTo>
                  <a:pt x="15197" y="6448"/>
                </a:lnTo>
                <a:lnTo>
                  <a:pt x="15197" y="4707"/>
                </a:lnTo>
                <a:lnTo>
                  <a:pt x="16972" y="4707"/>
                </a:lnTo>
                <a:lnTo>
                  <a:pt x="16972" y="8224"/>
                </a:lnTo>
                <a:lnTo>
                  <a:pt x="19583" y="10800"/>
                </a:lnTo>
                <a:lnTo>
                  <a:pt x="17930" y="10800"/>
                </a:lnTo>
                <a:lnTo>
                  <a:pt x="17930" y="17989"/>
                </a:lnTo>
                <a:lnTo>
                  <a:pt x="7311" y="17989"/>
                </a:lnTo>
                <a:lnTo>
                  <a:pt x="7311" y="10800"/>
                </a:lnTo>
                <a:lnTo>
                  <a:pt x="5657" y="10800"/>
                </a:lnTo>
                <a:close/>
              </a:path>
              <a:path fill="darkenLess" w="25241" h="21600">
                <a:moveTo>
                  <a:pt x="15197" y="6448"/>
                </a:moveTo>
                <a:lnTo>
                  <a:pt x="15197" y="4707"/>
                </a:lnTo>
                <a:lnTo>
                  <a:pt x="16972" y="4707"/>
                </a:lnTo>
                <a:lnTo>
                  <a:pt x="16972" y="8224"/>
                </a:lnTo>
                <a:close/>
              </a:path>
              <a:path fill="darkenLess" w="25241" h="21600">
                <a:moveTo>
                  <a:pt x="11698" y="14299"/>
                </a:moveTo>
                <a:lnTo>
                  <a:pt x="13543" y="14299"/>
                </a:lnTo>
                <a:lnTo>
                  <a:pt x="13543" y="17989"/>
                </a:lnTo>
                <a:lnTo>
                  <a:pt x="17930" y="17989"/>
                </a:lnTo>
                <a:lnTo>
                  <a:pt x="17930" y="10800"/>
                </a:lnTo>
                <a:lnTo>
                  <a:pt x="7311" y="10800"/>
                </a:lnTo>
                <a:lnTo>
                  <a:pt x="7311" y="17989"/>
                </a:lnTo>
                <a:lnTo>
                  <a:pt x="11698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2360" y="228600"/>
            <a:ext cx="85867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ИНДУСТРИАЛЬНАЯ СТРУКТУРА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723960"/>
            <a:ext cx="86104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  второй  половине  ХХ  века под влиянием научно-технической революции началось формирование   принципиально  новой структуры хозяйства.  Для  неё характерно  преобладание  непроизводственной сферы, переход от производства товаров  к  производству  услуг,  преобладание  работников  умственного  труда, использование  новых информационных технологий. Такая структура получила наименование постиндустриальной или информационной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пример. В конце ХХ века в США,  Бельгии,  Франции доля сферы услуг в ВВП достигла  70 % .  Самую  высокую  долю  сферы   услуг  в  структуре  ВВП  имеют микрогосударства,   живущие   за   счет туризма   и   финансовой   деятельности (Монако, Мальдивы)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Стадии развития общества"/>
          <p:cNvPicPr/>
          <p:nvPr/>
        </p:nvPicPr>
        <p:blipFill>
          <a:blip r:embed="rId2">
            <a:lum contrast="20000"/>
          </a:blip>
          <a:srcRect l="6819" t="1966" r="6819" b="79623"/>
          <a:stretch/>
        </p:blipFill>
        <p:spPr>
          <a:xfrm>
            <a:off x="228600" y="3733920"/>
            <a:ext cx="45720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4901760" y="3733920"/>
            <a:ext cx="3931200" cy="794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ТРАН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ГДЕ ДОЛЯ ЗАНЯТОСТИ НАСЕ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НИЯ В СФЕРЕ УСЛУГ БОЛЕЕ  60%,  НА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ЫВАЮТСЯ  </a:t>
            </a:r>
            <a:r>
              <a:rPr b="1" lang="ru-RU" sz="1400" spc="-1" strike="noStrike">
                <a:solidFill>
                  <a:srgbClr val="660033"/>
                </a:solidFill>
                <a:latin typeface="Times New Roman"/>
              </a:rPr>
              <a:t>ПОСТИНДУСТРИАЛЬНЫ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0"/>
          <p:cNvGraphicFramePr/>
          <p:nvPr/>
        </p:nvGraphicFramePr>
        <p:xfrm>
          <a:off x="4952880" y="5257800"/>
          <a:ext cx="38862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5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5257800"/>
                    <a:ext cx="3886200" cy="1143000"/>
                  </a:xfrm>
                  <a:prstGeom prst="rect">
                    <a:avLst/>
                  </a:prstGeom>
                  <a:ln w="32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4952880" y="4913280"/>
            <a:ext cx="3886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: Структура ВВП некоторых стран  мир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8634240" y="6477120"/>
            <a:ext cx="509760" cy="380880"/>
          </a:xfrm>
          <a:custGeom>
            <a:avLst/>
            <a:gdLst>
              <a:gd name="textAreaLeft" fmla="*/ 24480 w 509760"/>
              <a:gd name="textAreaRight" fmla="*/ 485280 w 509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902" h="21600">
                <a:moveTo>
                  <a:pt x="0" y="0"/>
                </a:moveTo>
                <a:lnTo>
                  <a:pt x="28902" y="0"/>
                </a:lnTo>
                <a:lnTo>
                  <a:pt x="28902" y="21600"/>
                </a:lnTo>
                <a:lnTo>
                  <a:pt x="0" y="21600"/>
                </a:lnTo>
                <a:close/>
              </a:path>
              <a:path fill="lightenLess" w="28902" h="21600">
                <a:moveTo>
                  <a:pt x="0" y="0"/>
                </a:moveTo>
                <a:lnTo>
                  <a:pt x="28902" y="0"/>
                </a:lnTo>
                <a:lnTo>
                  <a:pt x="27502" y="1400"/>
                </a:lnTo>
                <a:lnTo>
                  <a:pt x="1400" y="1400"/>
                </a:lnTo>
                <a:close/>
              </a:path>
              <a:path fill="darken" w="28902" h="21600">
                <a:moveTo>
                  <a:pt x="28902" y="0"/>
                </a:moveTo>
                <a:lnTo>
                  <a:pt x="28902" y="21600"/>
                </a:lnTo>
                <a:lnTo>
                  <a:pt x="27502" y="20200"/>
                </a:lnTo>
                <a:lnTo>
                  <a:pt x="27502" y="1400"/>
                </a:lnTo>
                <a:close/>
              </a:path>
              <a:path fill="darkenLess" w="28902" h="21600">
                <a:moveTo>
                  <a:pt x="28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2" y="20200"/>
                </a:lnTo>
                <a:close/>
              </a:path>
              <a:path fill="lighten" w="28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2" h="21600">
                <a:moveTo>
                  <a:pt x="7445" y="3794"/>
                </a:moveTo>
                <a:lnTo>
                  <a:pt x="21457" y="10800"/>
                </a:lnTo>
                <a:lnTo>
                  <a:pt x="74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0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509760" cy="380880"/>
          </a:xfrm>
          <a:custGeom>
            <a:avLst/>
            <a:gdLst>
              <a:gd name="textAreaLeft" fmla="*/ 24480 w 509760"/>
              <a:gd name="textAreaRight" fmla="*/ 485280 w 509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902" h="21600">
                <a:moveTo>
                  <a:pt x="0" y="0"/>
                </a:moveTo>
                <a:lnTo>
                  <a:pt x="28902" y="0"/>
                </a:lnTo>
                <a:lnTo>
                  <a:pt x="28902" y="21600"/>
                </a:lnTo>
                <a:lnTo>
                  <a:pt x="0" y="21600"/>
                </a:lnTo>
                <a:close/>
              </a:path>
              <a:path fill="lightenLess" w="28902" h="21600">
                <a:moveTo>
                  <a:pt x="0" y="0"/>
                </a:moveTo>
                <a:lnTo>
                  <a:pt x="28902" y="0"/>
                </a:lnTo>
                <a:lnTo>
                  <a:pt x="27502" y="1400"/>
                </a:lnTo>
                <a:lnTo>
                  <a:pt x="1400" y="1400"/>
                </a:lnTo>
                <a:close/>
              </a:path>
              <a:path fill="darken" w="28902" h="21600">
                <a:moveTo>
                  <a:pt x="28902" y="0"/>
                </a:moveTo>
                <a:lnTo>
                  <a:pt x="28902" y="21600"/>
                </a:lnTo>
                <a:lnTo>
                  <a:pt x="27502" y="20200"/>
                </a:lnTo>
                <a:lnTo>
                  <a:pt x="27502" y="1400"/>
                </a:lnTo>
                <a:close/>
              </a:path>
              <a:path fill="darkenLess" w="28902" h="21600">
                <a:moveTo>
                  <a:pt x="28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2" y="20200"/>
                </a:lnTo>
                <a:close/>
              </a:path>
              <a:path fill="lighten" w="28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2" h="21600">
                <a:moveTo>
                  <a:pt x="7445" y="10800"/>
                </a:moveTo>
                <a:lnTo>
                  <a:pt x="21457" y="3794"/>
                </a:lnTo>
                <a:lnTo>
                  <a:pt x="2145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304920" y="71280"/>
          <a:ext cx="8458200" cy="66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1280"/>
                    <a:ext cx="845820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" action="ppaction://hlinkshowjump?jump=previousslide"/>
          </p:cNvPr>
          <p:cNvSpPr/>
          <p:nvPr/>
        </p:nvSpPr>
        <p:spPr>
          <a:xfrm>
            <a:off x="78487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4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НПЗ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4800600"/>
            <a:ext cx="380988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Добывающая промышленность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3809880" y="4000680"/>
            <a:ext cx="5334120" cy="2857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Ракета Протон"/>
          <p:cNvPicPr/>
          <p:nvPr/>
        </p:nvPicPr>
        <p:blipFill>
          <a:blip r:embed="rId3">
            <a:lum bright="50000"/>
          </a:blip>
          <a:stretch/>
        </p:blipFill>
        <p:spPr>
          <a:xfrm>
            <a:off x="0" y="2781360"/>
            <a:ext cx="4876920" cy="2857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Сфера услуг"/>
          <p:cNvPicPr/>
          <p:nvPr/>
        </p:nvPicPr>
        <p:blipFill>
          <a:blip r:embed="rId4">
            <a:lum bright="50000"/>
          </a:blip>
          <a:stretch/>
        </p:blipFill>
        <p:spPr>
          <a:xfrm>
            <a:off x="3809880" y="3816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Сельское хозяйство"/>
          <p:cNvPicPr/>
          <p:nvPr/>
        </p:nvPicPr>
        <p:blipFill>
          <a:blip r:embed="rId5">
            <a:lum bright="50000"/>
          </a:blip>
          <a:stretch/>
        </p:blipFill>
        <p:spPr>
          <a:xfrm>
            <a:off x="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152280" y="190440"/>
            <a:ext cx="868680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И СЕКТОРА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85800"/>
            <a:ext cx="868680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 выявили, что в истории общества есть три стадии развития от аграрной д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ой.  Таким  образом  в  мировом  хозяйстве  можно  выделить  три сектор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05600" y="1905120"/>
            <a:ext cx="17305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ВИЧ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ТО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543480" y="1905120"/>
            <a:ext cx="1788480" cy="642600"/>
          </a:xfrm>
          <a:prstGeom prst="rect">
            <a:avLst/>
          </a:prstGeom>
          <a:solidFill>
            <a:srgbClr val="00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ИЧНЫЙ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ТО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464880" y="1905120"/>
            <a:ext cx="1762560" cy="6426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ТИЧНЫЙ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ТО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228600" y="3124080"/>
            <a:ext cx="2743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бывающая промышленност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228600" y="2666880"/>
            <a:ext cx="2743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льское и лесное хозяй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228600" y="3581280"/>
            <a:ext cx="2743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хота и рыболов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124080" y="2666880"/>
            <a:ext cx="2743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3124080" y="3124080"/>
            <a:ext cx="2743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6019920" y="26668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ссажирский транспор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6019920" y="31240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говл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6019920" y="35812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нансовая деятельность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6019920" y="40384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ука и образова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6019920" y="44956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дравоохран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6019920" y="49528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ультур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019920" y="54100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6019920" y="5867280"/>
            <a:ext cx="274320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нообразные услуг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2" descr="Товарный штрих код"/>
          <p:cNvPicPr/>
          <p:nvPr/>
        </p:nvPicPr>
        <p:blipFill>
          <a:blip r:embed="rId3">
            <a:lum bright="36000"/>
          </a:blip>
          <a:srcRect l="0" t="59221" r="0" b="0"/>
          <a:stretch/>
        </p:blipFill>
        <p:spPr>
          <a:xfrm>
            <a:off x="152280" y="763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04920" y="1360440"/>
            <a:ext cx="8534160" cy="140436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РОВОЕ ХОЗЯЙСТВ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СТОРИЧЕСКИ     СЛОЖИВШАЯ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ВОКУПНОСТЬ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ЫХ   ХОЗЯЙСТ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ВСЕХ   СТРАН  МИРА, СВЯЗАННЫХ МЕЖДУ СОБОЙ РАЗНООБРАЗНЫМИ ЭКОНОМИЧЕСКИМИ ОТНОШЕНИЯМ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429560" y="2986200"/>
            <a:ext cx="6119640" cy="6732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Э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ТАПЫ ФОРМИРОВАНИЯ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«Географическая модель»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40" y="4022640"/>
            <a:ext cx="92041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РОВОЕ ХОЗЯЙСТВО ФОРМИРОВАЛОСЬ ПОСТЕПЕННО С ВОЗНИКНОВЕНИ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М 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ВЕКЕ МИРОВОГО РЫНКА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 МЕРЕ РАЗВИТИЯ И УСЛОЖНЕ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Х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ЗМЕНЯЛАСЬ И ЕГО 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ОГРАФИЧЕСКАЯ МОДЕЛЬ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8">
            <a:hlinkClick r:id="" action="ppaction://hlinkshowjump?jump=nextslide"/>
          </p:cNvPr>
          <p:cNvSpPr/>
          <p:nvPr/>
        </p:nvSpPr>
        <p:spPr>
          <a:xfrm>
            <a:off x="5257800" y="5815080"/>
            <a:ext cx="3886200" cy="1042920"/>
          </a:xfrm>
          <a:custGeom>
            <a:avLst/>
            <a:gdLst>
              <a:gd name="textAreaLeft" fmla="*/ 67320 w 3886200"/>
              <a:gd name="textAreaRight" fmla="*/ 3818880 w 38862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80467" h="21600">
                <a:moveTo>
                  <a:pt x="0" y="0"/>
                </a:moveTo>
                <a:lnTo>
                  <a:pt x="80467" y="0"/>
                </a:lnTo>
                <a:lnTo>
                  <a:pt x="80467" y="21600"/>
                </a:lnTo>
                <a:lnTo>
                  <a:pt x="0" y="21600"/>
                </a:lnTo>
                <a:close/>
              </a:path>
              <a:path fill="lightenLess" w="80467" h="21600">
                <a:moveTo>
                  <a:pt x="0" y="0"/>
                </a:moveTo>
                <a:lnTo>
                  <a:pt x="80467" y="0"/>
                </a:lnTo>
                <a:lnTo>
                  <a:pt x="79067" y="1400"/>
                </a:lnTo>
                <a:lnTo>
                  <a:pt x="1400" y="1400"/>
                </a:lnTo>
                <a:close/>
              </a:path>
              <a:path fill="darken" w="80467" h="21600">
                <a:moveTo>
                  <a:pt x="80467" y="0"/>
                </a:moveTo>
                <a:lnTo>
                  <a:pt x="80467" y="21600"/>
                </a:lnTo>
                <a:lnTo>
                  <a:pt x="79067" y="20200"/>
                </a:lnTo>
                <a:lnTo>
                  <a:pt x="79067" y="1400"/>
                </a:lnTo>
                <a:close/>
              </a:path>
              <a:path fill="darkenLess" w="80467" h="21600">
                <a:moveTo>
                  <a:pt x="8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67" y="20200"/>
                </a:lnTo>
                <a:close/>
              </a:path>
              <a:path fill="lighten" w="8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467" h="21600">
                <a:moveTo>
                  <a:pt x="33227" y="3794"/>
                </a:moveTo>
                <a:lnTo>
                  <a:pt x="47240" y="10800"/>
                </a:lnTo>
                <a:lnTo>
                  <a:pt x="3322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ОГРАФИЧЕСКАЯ МОДЕЛЬ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9">
            <a:hlinkClick r:id="" action="ppaction://hlinkshowjump?jump=first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451880" y="157320"/>
            <a:ext cx="6119640" cy="6732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Э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ТАПЫ ФОРМИРОВАНИЯ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«Географическая модель»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44480" y="1071720"/>
            <a:ext cx="7485120" cy="368280"/>
          </a:xfrm>
          <a:prstGeom prst="rect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ч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Х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ек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дноцентровое, европоцентрическое М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46280" y="1681200"/>
            <a:ext cx="7483320" cy="36828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торая половина ХХ век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хцентровое (Европа, США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62360" y="2247840"/>
            <a:ext cx="68648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ослевоенный период МХ подразделялось на две подсист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066680" y="2884320"/>
            <a:ext cx="3021120" cy="1890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ОВО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ИТАЛИСТИЧЕСКО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ЗЯЙСТВ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включало в себя хозяйств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капиталистических и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звивающихся стран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808880" y="2884320"/>
            <a:ext cx="3353760" cy="189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РОВО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ИСТИЧЕСКО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ЗЯЙСТВ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включало в себя хозяйств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5 социалистических стран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ССР, Польша, Венгрия, Болгария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Югославия, ГДР, ЧССР и др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243828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64771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62120" y="4957920"/>
            <a:ext cx="74833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настоящее время МХ стало полицентрическое (поли - много). В составе МХ можно выделить 10 главных центр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5">
            <a:hlinkClick r:id="" action="ppaction://hlinkshowjump?jump=nextslide"/>
          </p:cNvPr>
          <p:cNvSpPr/>
          <p:nvPr/>
        </p:nvSpPr>
        <p:spPr>
          <a:xfrm>
            <a:off x="6477120" y="5815080"/>
            <a:ext cx="2666880" cy="1042920"/>
          </a:xfrm>
          <a:custGeom>
            <a:avLst/>
            <a:gdLst>
              <a:gd name="textAreaLeft" fmla="*/ 67320 w 2666880"/>
              <a:gd name="textAreaRight" fmla="*/ 2599560 w 26668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5222" h="21600">
                <a:moveTo>
                  <a:pt x="0" y="0"/>
                </a:moveTo>
                <a:lnTo>
                  <a:pt x="55222" y="0"/>
                </a:lnTo>
                <a:lnTo>
                  <a:pt x="55222" y="21600"/>
                </a:lnTo>
                <a:lnTo>
                  <a:pt x="0" y="21600"/>
                </a:lnTo>
                <a:close/>
              </a:path>
              <a:path fill="lightenLess" w="55222" h="21600">
                <a:moveTo>
                  <a:pt x="0" y="0"/>
                </a:moveTo>
                <a:lnTo>
                  <a:pt x="55222" y="0"/>
                </a:lnTo>
                <a:lnTo>
                  <a:pt x="53822" y="1400"/>
                </a:lnTo>
                <a:lnTo>
                  <a:pt x="1400" y="1400"/>
                </a:lnTo>
                <a:close/>
              </a:path>
              <a:path fill="darken" w="55222" h="21600">
                <a:moveTo>
                  <a:pt x="55222" y="0"/>
                </a:moveTo>
                <a:lnTo>
                  <a:pt x="55222" y="21600"/>
                </a:lnTo>
                <a:lnTo>
                  <a:pt x="53822" y="20200"/>
                </a:lnTo>
                <a:lnTo>
                  <a:pt x="53822" y="1400"/>
                </a:lnTo>
                <a:close/>
              </a:path>
              <a:path fill="darkenLess" w="55222" h="21600">
                <a:moveTo>
                  <a:pt x="55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822" y="20200"/>
                </a:lnTo>
                <a:close/>
              </a:path>
              <a:path fill="lighten" w="55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5222" h="21600">
                <a:moveTo>
                  <a:pt x="22084" y="3985"/>
                </a:moveTo>
                <a:lnTo>
                  <a:pt x="29082" y="3985"/>
                </a:lnTo>
                <a:lnTo>
                  <a:pt x="33138" y="7484"/>
                </a:lnTo>
                <a:lnTo>
                  <a:pt x="33138" y="17615"/>
                </a:lnTo>
                <a:lnTo>
                  <a:pt x="22084" y="17615"/>
                </a:lnTo>
                <a:close/>
              </a:path>
              <a:path fill="darken" w="55222" h="21600">
                <a:moveTo>
                  <a:pt x="29082" y="3985"/>
                </a:moveTo>
                <a:lnTo>
                  <a:pt x="33138" y="7484"/>
                </a:lnTo>
                <a:lnTo>
                  <a:pt x="29082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 главных центр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6">
            <a:hlinkClick r:id="" action="ppaction://hlinkshowjump?jump=first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1" descr="Центры мировой экономики"/>
          <p:cNvPicPr/>
          <p:nvPr/>
        </p:nvPicPr>
        <p:blipFill>
          <a:blip r:embed="rId1"/>
          <a:srcRect l="2970" t="8072" r="2953" b="0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057400" y="449568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219320" y="152280"/>
            <a:ext cx="68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ВНЫЕ ЦЕНТРЫ МИРОВОГО ХОЗЯЙ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307520" y="40528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РАЗИЛ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10"/>
          <p:cNvGraphicFramePr/>
          <p:nvPr/>
        </p:nvGraphicFramePr>
        <p:xfrm>
          <a:off x="0" y="3789360"/>
          <a:ext cx="6902280" cy="407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89360"/>
                    <a:ext cx="690228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Oval 13"/>
          <p:cNvSpPr/>
          <p:nvPr/>
        </p:nvSpPr>
        <p:spPr>
          <a:xfrm>
            <a:off x="380880" y="2743200"/>
            <a:ext cx="304920" cy="304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60280" y="473868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я главных центров мирового хозяйства в мировом ВВП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8">
            <a:hlinkClick r:id="" action="ppaction://hlinkshowjump?jump=firstslide"/>
          </p:cNvPr>
          <p:cNvSpPr/>
          <p:nvPr/>
        </p:nvSpPr>
        <p:spPr>
          <a:xfrm>
            <a:off x="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9">
            <a:hlinkClick r:id="" action="ppaction://hlinkshowjump?jump=nextslide"/>
          </p:cNvPr>
          <p:cNvSpPr/>
          <p:nvPr/>
        </p:nvSpPr>
        <p:spPr>
          <a:xfrm>
            <a:off x="8786880" y="6272280"/>
            <a:ext cx="357120" cy="5857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85720"/>
              <a:gd name="textAreaBottom" fmla="*/ 562680 h 585720"/>
            </a:gdLst>
            <a:ahLst/>
            <a:rect l="textAreaLeft" t="textAreaTop" r="textAreaRight" b="textAreaBottom"/>
            <a:pathLst>
              <a:path w="21600" h="35413">
                <a:moveTo>
                  <a:pt x="0" y="0"/>
                </a:moveTo>
                <a:lnTo>
                  <a:pt x="21600" y="0"/>
                </a:lnTo>
                <a:lnTo>
                  <a:pt x="21600" y="35413"/>
                </a:lnTo>
                <a:lnTo>
                  <a:pt x="0" y="35413"/>
                </a:lnTo>
                <a:close/>
              </a:path>
              <a:path fill="lightenLess" w="21600" h="35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413">
                <a:moveTo>
                  <a:pt x="21600" y="0"/>
                </a:moveTo>
                <a:lnTo>
                  <a:pt x="21600" y="35413"/>
                </a:lnTo>
                <a:lnTo>
                  <a:pt x="20200" y="34013"/>
                </a:lnTo>
                <a:lnTo>
                  <a:pt x="20200" y="1400"/>
                </a:lnTo>
                <a:close/>
              </a:path>
              <a:path fill="darkenLess" w="21600" h="35413">
                <a:moveTo>
                  <a:pt x="21600" y="35413"/>
                </a:moveTo>
                <a:lnTo>
                  <a:pt x="0" y="35413"/>
                </a:lnTo>
                <a:lnTo>
                  <a:pt x="1400" y="34013"/>
                </a:lnTo>
                <a:lnTo>
                  <a:pt x="20200" y="34013"/>
                </a:lnTo>
                <a:close/>
              </a:path>
              <a:path fill="lighten" w="21600" h="35413">
                <a:moveTo>
                  <a:pt x="0" y="35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4013"/>
                </a:lnTo>
                <a:close/>
              </a:path>
              <a:path fill="darken" w="21600" h="35413">
                <a:moveTo>
                  <a:pt x="3794" y="10700"/>
                </a:moveTo>
                <a:lnTo>
                  <a:pt x="17806" y="17706"/>
                </a:lnTo>
                <a:lnTo>
                  <a:pt x="3794" y="247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655560" y="2743200"/>
            <a:ext cx="132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МЕКСИКА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62880" y="117360"/>
            <a:ext cx="838296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ЖДУНАРОДНОЕ ГЕОГРАФИЧЕСКОЕ РАЗДЕЛЕНИЕ ТРУДА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ГР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400" y="609480"/>
            <a:ext cx="8939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избежным результатом развития человеческого общества, связанным с рост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изводства и обмена является -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ГР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91520" y="1336680"/>
            <a:ext cx="8799120" cy="7340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МГР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то процесс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ализаци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хозяйства отдельных стран на производств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ределенных видов продукции или услуг, которыми он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мениваютс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85800" y="2209680"/>
            <a:ext cx="2895480" cy="1676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Работа разны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 друг для друга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.Н. Барански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4572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5486400" y="2209680"/>
            <a:ext cx="2895480" cy="1676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Главными составными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частями МГРТ являются: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специализация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обме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861048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4"/>
          <p:cNvSpPr/>
          <p:nvPr/>
        </p:nvSpPr>
        <p:spPr>
          <a:xfrm flipH="1">
            <a:off x="8381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74600" y="4003560"/>
            <a:ext cx="881712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того чтобы возникла подобная специализация, необходимы определенные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228600" y="4952880"/>
            <a:ext cx="2438280" cy="122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ЧИЕ У СТРАН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ИМУЩЕСТВ В ПРО-ИЗВОДСТВЕ  СООТВЕТ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ВУЮЩЕЙ   ПРОДУК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352680" y="4952880"/>
            <a:ext cx="2438640" cy="122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ЛЖНЫ СУЩЕСТВ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АТЬ  СТРАНЫ,   ИСПЫ- ТЫВАЮЩИЕ    ПОТРЕБ-НОСТЬ В ЭТОЙ ПРОДУК-Ц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477120" y="4952880"/>
            <a:ext cx="2438280" cy="122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ТРАТЫ  НА ДОСТАВ- КУ ПРОДУКЦИИ К МЕС-ТУ ПРОДАЖИ ДОЛЖНЫ БЫТЬ ВЫГОДНЫ  СТРА-НЕ - ПРОИЗВОДИТЕЛЮ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12952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76960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228600" y="4952880"/>
            <a:ext cx="556272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АСЛИ МЕЖДУНАРОДНОЙ СПЕЦИАЛИЗАЦИИ ОРИЕН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ИРОВАНЫ НА ЭКСПОРТ И ОПРЕДЕЛЯЮТ ЛИЦО СТРАН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ОВОМ ХОЗЯЙСТВ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5943600" y="5562720"/>
            <a:ext cx="2971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ьша - судостро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5943600" y="5943600"/>
            <a:ext cx="2971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уд. Аравия - нефтяная промыш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5943600" y="4952880"/>
            <a:ext cx="2971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пония  - автомобилестро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5943600" y="5257800"/>
            <a:ext cx="29718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нада - зерновое хозяйств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6"/>
          <p:cNvSpPr/>
          <p:nvPr/>
        </p:nvSpPr>
        <p:spPr>
          <a:xfrm>
            <a:off x="579132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579132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0"/>
          <p:cNvSpPr/>
          <p:nvPr/>
        </p:nvSpPr>
        <p:spPr>
          <a:xfrm>
            <a:off x="57913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57913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2">
            <a:hlinkClick r:id="" action="ppaction://hlinkshowjump?jump=firstslide"/>
          </p:cNvPr>
          <p:cNvSpPr/>
          <p:nvPr/>
        </p:nvSpPr>
        <p:spPr>
          <a:xfrm>
            <a:off x="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159560" y="166680"/>
            <a:ext cx="642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ЖДУНАРОДНАЯ ЭКОНОМИЧЕСКАЯ ИНТЕГРАЦ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0080" y="609480"/>
            <a:ext cx="873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хватив все страны мира, мировое хозяйство и МГРТ в последние десятилети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жняются,  приобретают новые  формы.  Так развитие  международной специ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изации и обмена привело к «сращиванию» национальных хозяйств ряда стран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никла новая, высшая ступень МГРТ -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                 </a:t>
            </a:r>
            <a:r>
              <a:rPr b="1" lang="ru-RU" sz="1800" spc="-1" strike="noStrike" u="sng">
                <a:solidFill>
                  <a:srgbClr val="660033"/>
                </a:solidFill>
                <a:uFillTx/>
                <a:latin typeface="Times New Roman"/>
              </a:rPr>
              <a:t>МЕЖДУНАРОДНАЯ ЭКОНОМИЧЕСКАЯ ИНТЕГРАЦИЯ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МЭИ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4920" y="2095560"/>
            <a:ext cx="8534160" cy="1281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  ПРОЦЕСС РАЗВИТИЯ  ГЛУБОКИХ  И  УСТОЙЧИВЫХ  ВЗАИМОСВЯЗЕЙ  ОТДЕЛЬНЫХ ГРУПП СТРАН, ОСНОВАННОЕ НА ПРОВЕДЕНИИ ИМИ СОГЛАСОВАННОЙ МЕЖГОСУДАРСТ-ВЕННОЙ ПОЛИТИКИ.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ЕЗУЛЬТАТ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Э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ОСТЕПЕННО В ЕДИНЫЙ ЭКОНОМИЧЕСКИЙ КОМПЛЕКС   ОБЪЕДИНЯЮТСЯ   НАЦИОНАЛЬНЫЕ   ХОЗЯЙСТВА   ДВУХ   И   БОЛЕ Е СТРАН ПУТЕМ УСТАНОВЛЕНИЯ ОДНОРОДНЫХ УСЛОВИЙ МЕЖГОСУДАРСТВЕННОГО ОБМЕ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33880" y="3516480"/>
            <a:ext cx="442044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ГРАЦИОННЫЕ ГРУППИРОВ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30760" y="4125960"/>
            <a:ext cx="219384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АЛЬНЫ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206160" y="4114800"/>
            <a:ext cx="183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РАСЛЕВЫ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1148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">
            <a:hlinkClick r:id="rId1" action="ppaction://hlinksldjump"/>
          </p:cNvPr>
          <p:cNvSpPr/>
          <p:nvPr/>
        </p:nvSpPr>
        <p:spPr>
          <a:xfrm>
            <a:off x="228600" y="464832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юз (ЕС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5">
            <a:hlinkClick r:id="rId2" action="ppaction://hlinksldjump"/>
          </p:cNvPr>
          <p:cNvSpPr/>
          <p:nvPr/>
        </p:nvSpPr>
        <p:spPr>
          <a:xfrm>
            <a:off x="1371600" y="464832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ЕА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6">
            <a:hlinkClick r:id="rId3" action="ppaction://hlinksldjump"/>
          </p:cNvPr>
          <p:cNvSpPr/>
          <p:nvPr/>
        </p:nvSpPr>
        <p:spPr>
          <a:xfrm>
            <a:off x="228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ТЭ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7">
            <a:hlinkClick r:id="rId4" action="ppaction://hlinksldjump"/>
          </p:cNvPr>
          <p:cNvSpPr/>
          <p:nvPr/>
        </p:nvSpPr>
        <p:spPr>
          <a:xfrm>
            <a:off x="1371600" y="5181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НГ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9">
            <a:hlinkClick r:id="" action="ppaction://hlinkshowjump?jump=firstslide"/>
          </p:cNvPr>
          <p:cNvSpPr/>
          <p:nvPr/>
        </p:nvSpPr>
        <p:spPr>
          <a:xfrm>
            <a:off x="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495288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0866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2">
            <a:hlinkClick r:id="rId5" action="ppaction://hlinksldjump"/>
          </p:cNvPr>
          <p:cNvSpPr/>
          <p:nvPr/>
        </p:nvSpPr>
        <p:spPr>
          <a:xfrm>
            <a:off x="3200400" y="4648320"/>
            <a:ext cx="1828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3">
            <a:hlinkClick r:id="rId6" action="ppaction://hlinksldjump"/>
          </p:cNvPr>
          <p:cNvSpPr/>
          <p:nvPr/>
        </p:nvSpPr>
        <p:spPr>
          <a:xfrm>
            <a:off x="6172200" y="411480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ународны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нополии (ТНК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1450800" y="1397160"/>
          <a:ext cx="624240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97160"/>
                    <a:ext cx="62424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571680" y="76320"/>
          <a:ext cx="8572320" cy="6781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76320"/>
                    <a:ext cx="8572320" cy="6781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 rot="16177800">
            <a:off x="-2331360" y="3094920"/>
            <a:ext cx="54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: ИНТЕГРАЦИОННЫЕ ГРУППИРОВК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>
            <a:hlinkClick r:id="" action="ppaction://hlinkshowjump?jump=previousslide"/>
          </p:cNvPr>
          <p:cNvSpPr/>
          <p:nvPr/>
        </p:nvSpPr>
        <p:spPr>
          <a:xfrm>
            <a:off x="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Европейская валюта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1483560" y="79200"/>
            <a:ext cx="66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национализация хозяйственной жизни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нснациональные корпорации (ТНК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04920" y="2701800"/>
            <a:ext cx="8550000" cy="1465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Это процесс формирования всемировой системы взаимоотношений между элементами мирового хозяйства, расширение международных потоков капита-ла  в форме  прямых инвестиций, слияние предприятий разных стран, развитие системы     международного     порядка,     возникновение    глобальных   систем транспорта и коммуникац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89080" y="1257480"/>
            <a:ext cx="8550000" cy="947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цесс развития мирового хозяйства и углубления международного географи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еского   разделения   труда   и   экономической   интеграции   влечет   за   собой 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интернационализацию (глобализацию) хозяйственной жизни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 -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04920" y="4317840"/>
            <a:ext cx="8550000" cy="1923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ешающую роль в этом процессе играют  </a:t>
            </a:r>
            <a:r>
              <a:rPr b="1" i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транснациональные корпораци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ТНК  -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игантские   финансово-промышленные  объединения  интерна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иональные по капиталу.  Они построены по принципу централизован-ного   планирования   и   управления.   Отличаются  от  простых  фирм наличием широкой сети заграничных филиалов и дочерних компаний. В мире насчитывается более 40 тысяч ТН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>
            <a:hlinkClick r:id="" action="ppaction://hlinkshowjump?jump=nextslide"/>
          </p:cNvPr>
          <p:cNvSpPr/>
          <p:nvPr/>
        </p:nvSpPr>
        <p:spPr>
          <a:xfrm>
            <a:off x="5815080" y="6348240"/>
            <a:ext cx="3024000" cy="433440"/>
          </a:xfrm>
          <a:custGeom>
            <a:avLst/>
            <a:gdLst>
              <a:gd name="textAreaLeft" fmla="*/ 28080 w 3024000"/>
              <a:gd name="textAreaRight" fmla="*/ 2995920 w 302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50591" h="21600">
                <a:moveTo>
                  <a:pt x="0" y="0"/>
                </a:moveTo>
                <a:lnTo>
                  <a:pt x="150591" y="0"/>
                </a:lnTo>
                <a:lnTo>
                  <a:pt x="150591" y="21600"/>
                </a:lnTo>
                <a:lnTo>
                  <a:pt x="0" y="21600"/>
                </a:lnTo>
                <a:close/>
              </a:path>
              <a:path fill="lightenLess" w="150591" h="21600">
                <a:moveTo>
                  <a:pt x="0" y="0"/>
                </a:moveTo>
                <a:lnTo>
                  <a:pt x="150591" y="0"/>
                </a:lnTo>
                <a:lnTo>
                  <a:pt x="149191" y="1400"/>
                </a:lnTo>
                <a:lnTo>
                  <a:pt x="1400" y="1400"/>
                </a:lnTo>
                <a:close/>
              </a:path>
              <a:path fill="darken" w="150591" h="21600">
                <a:moveTo>
                  <a:pt x="150591" y="0"/>
                </a:moveTo>
                <a:lnTo>
                  <a:pt x="150591" y="21600"/>
                </a:lnTo>
                <a:lnTo>
                  <a:pt x="149191" y="20200"/>
                </a:lnTo>
                <a:lnTo>
                  <a:pt x="149191" y="1400"/>
                </a:lnTo>
                <a:close/>
              </a:path>
              <a:path fill="darkenLess" w="150591" h="21600">
                <a:moveTo>
                  <a:pt x="150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191" y="20200"/>
                </a:lnTo>
                <a:close/>
              </a:path>
              <a:path fill="lighten" w="150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0591" h="21600">
                <a:moveTo>
                  <a:pt x="68289" y="3794"/>
                </a:moveTo>
                <a:lnTo>
                  <a:pt x="82302" y="10800"/>
                </a:lnTo>
                <a:lnTo>
                  <a:pt x="68289" y="1780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должени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4648320" y="6248520"/>
            <a:ext cx="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4648320" y="655308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Доллар США"/>
          <p:cNvPicPr/>
          <p:nvPr/>
        </p:nvPicPr>
        <p:blipFill>
          <a:blip r:embed="rId1"/>
          <a:srcRect l="0" t="13743" r="0" b="137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"/>
          <p:cNvSpPr/>
          <p:nvPr/>
        </p:nvSpPr>
        <p:spPr>
          <a:xfrm>
            <a:off x="196200" y="266760"/>
            <a:ext cx="87883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жегодно финансовые издания мира публикуют список 100 крупнейших ТНК. Он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няется, но уже несколько лет в этот список входят следующие компани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988920" y="988920"/>
          <a:ext cx="7385040" cy="512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988920"/>
                    <a:ext cx="738504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5">
            <a:hlinkClick r:id="" action="ppaction://hlinkshowjump?jump=previousslide"/>
          </p:cNvPr>
          <p:cNvSpPr/>
          <p:nvPr/>
        </p:nvSpPr>
        <p:spPr>
          <a:xfrm>
            <a:off x="7772400" y="609588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>
            <a:hlinkClick r:id="" action="ppaction://hlinkshowjump?jump=nextslide"/>
          </p:cNvPr>
          <p:cNvSpPr/>
          <p:nvPr/>
        </p:nvSpPr>
        <p:spPr>
          <a:xfrm>
            <a:off x="845820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HP</cp:lastModifiedBy>
  <dcterms:modified xsi:type="dcterms:W3CDTF">2009-01-17T09:19:18Z</dcterms:modified>
  <cp:revision>47</cp:revision>
  <dc:subject/>
  <dc:title>Заголовок слайда отсутствует</dc:title>
</cp:coreProperties>
</file>