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4F17-90DC-4B94-99C1-EC11A610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079-D9A3-47F9-8FF8-EB1C29BD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FA6E-75EA-4888-AA07-E4DDE6E7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223-6532-4AD1-89FD-1099D1B8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E15D-8A4F-4DDB-A238-4A5AD93B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C43C-659E-4F22-8C06-F5DB5AFE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865B-2831-4BFF-AC67-FD22200C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129D-EE40-4F4F-BDEB-895946CD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1DB4-81D2-405D-B1FA-400E4A9C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399F-9950-4E77-BE99-BEC9BA45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F7B8-4D64-482D-AC99-193A4D26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92E-C580-471D-A025-F652DE83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ECC7-CFF8-4411-9798-F7735A43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680D-2C93-4206-AFEE-3323837D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474B-C5A4-4388-AB92-DD1A1172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2A03-6834-4E51-A445-AC60C533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1D0B-9BEE-4C97-BEE5-AB7793AC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81B96-BDD2-4107-B61B-0B316AAE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DA781-A388-4D26-B496-8327B4BE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3ABE0-013D-461A-8EBA-79D7B18D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009B0-88F7-4186-AB3A-040FCB16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5BE20-897F-4C74-BB59-D3F5AC30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6EF-00AC-4AF0-B807-DB09FFEB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35956-7A8E-4224-B666-0091BE70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14B8E-A610-4D18-83BA-4743A8E9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75A3C-C5BF-457D-B335-707A8AA9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0E314-92C5-4F88-BCB9-789736B0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F6906-BD3B-417E-8CDD-ADA08E20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EE8AC-43A0-4035-A1DE-E8A9CA11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D1E76-7013-4C0F-BD55-D3D64D86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001E2-E7E6-4966-96CE-1B044BA4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7A444-99D3-4D34-AB1A-C64386E0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26C2A-453C-4AFE-B01E-91168505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ED3F-FF2F-48F5-9B3E-EFD7F35E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0FE71-FA56-4F21-8084-986218DC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5AEA4-E763-4AAB-A801-5E279C04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44DA3-827F-47E4-9319-CA3F48BE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7ED20-C174-44C1-A096-DC17BEF1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1F423-1B60-44A2-B7C4-DCC651F3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0F966-B2D6-4EEF-8DFE-7243090E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D26A0-203E-4E8B-9F53-552DE787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CBBFA-7695-40BA-9782-2B9CC89D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50F37-CFD0-4435-9C3D-96272158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AE25D-1DA7-4B43-9504-0C2CAFBF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8F85-2A99-4B56-9C29-901412D5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4D750-F97F-4B9C-993D-BD0AEBCC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841C0-647C-468D-9253-032BA2E4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27B45-7F66-4272-845C-72E98E59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175DB-D25C-4C1D-8E49-8DCC6C50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32DA5-4512-4F49-B41C-7C036F07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06159-0045-417A-B6BB-AFEFBE2D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0FD9E-B1EE-41E2-AD4E-107A7F9C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DA156-B863-409D-B819-5B56F473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CF42D-47FC-46DD-844F-296B53D8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E1AB3-DD78-4139-939A-5A8DB939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98D1-E6D7-415B-AEB0-185F8DEC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0D0BC-E959-403E-983F-4FE42C37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777-0C05-4F5D-A43F-DDEC9C91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1B99-DE2C-4175-98B9-0ACC8BCF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716-4C1B-43A5-A529-12173CEA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0FF2-F961-4B9D-B8BE-458925BA0D6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400C-2A8F-45FD-BEE3-24075A6E111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850A-6175-4397-89E2-8C40019E066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4293-4562-4ADA-8216-13FBD0E1E4E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13F9-6C6E-4769-A262-FDAE1ECF431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«Интеграционные группировки. НАФТА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евероамериканская зона свободной торговл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57120" y="1500120"/>
            <a:ext cx="45007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НАФТА,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англ. North American Free Trade Agreement, NAFTA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) - соглашение о свободной торговле между Канадой, США и Мексикой, основывающееся на модели Европейского Сообщества (Европейского союза)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2" name="Рисунок 3" descr="550px-North_American_Agreement_(orthographic_projection).svg.png"/>
          <p:cNvPicPr/>
          <p:nvPr/>
        </p:nvPicPr>
        <p:blipFill>
          <a:blip r:embed="rId1"/>
          <a:stretch/>
        </p:blipFill>
        <p:spPr>
          <a:xfrm>
            <a:off x="4929120" y="1357200"/>
            <a:ext cx="40482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редпосылки создания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00008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ервым шагом стал «план Эббота», принятый в 1947 г., целью которого являлось стимулирование инвестиций США в ведущие отрасли канадской экономик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ctr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торым шагом стало заключение в 1965 г. соглашения о либерализации торговли продукцией автомобилестроения, которое способствовало интеграции многих других отраслей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ctr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сентябре 1988 после нелёгких трёхлетних переговоров было подписано американо-канадское соглашение о свободной торговле (CUSFTA), согласно которому в течение десяти лет США и Канада должны были сформировать зону свободной торговл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писание соглаш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оглашение о создании Североамериканской ассоциации свободной торговли (НАФТА) вступило в силу 1 января 1994 г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7" name="Рисунок 3" descr="NAFTA_signing.jpg"/>
          <p:cNvPicPr/>
          <p:nvPr/>
        </p:nvPicPr>
        <p:blipFill>
          <a:blip r:embed="rId1"/>
          <a:stretch/>
        </p:blipFill>
        <p:spPr>
          <a:xfrm>
            <a:off x="2214720" y="2970360"/>
            <a:ext cx="471456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Цели НАФТ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14240" y="857160"/>
            <a:ext cx="79725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странение таможенных и паспортных барьеров и стимулирование движения товаров и услуг между странами-участницами соглашени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оздание и поддержание условия для справедливой конкуренции в зоне свободной торговли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ивлечение инвестиций в страны-члены соглашени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беспечение должной и эффективной защиты и охраны прав интеллектуальной собственности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оздание действенных механизмов внедрения и использования Соглашения, совместного решения споров и управлени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оздание базы для будущей трёхсторонней, региональной и международной кооперации в целях расширения и улучшения Соглашени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оздание единого континентального рынк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49968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труктура НАФТ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Блок-схема: альтернативный процесс 4"/>
          <p:cNvSpPr/>
          <p:nvPr/>
        </p:nvSpPr>
        <p:spPr>
          <a:xfrm>
            <a:off x="2500200" y="1357200"/>
            <a:ext cx="4572000" cy="1714680"/>
          </a:xfrm>
          <a:prstGeom prst="flowChartAlternateProcess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НАФ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Выгнутая вправо стрелка 5"/>
          <p:cNvSpPr/>
          <p:nvPr/>
        </p:nvSpPr>
        <p:spPr>
          <a:xfrm rot="21134400">
            <a:off x="7197840" y="2144520"/>
            <a:ext cx="1285920" cy="3000240"/>
          </a:xfrm>
          <a:custGeom>
            <a:avLst/>
            <a:gdLst>
              <a:gd name="textAreaLeft" fmla="*/ 172080 w 1285920"/>
              <a:gd name="textAreaRight" fmla="*/ 1113840 w 1285920"/>
              <a:gd name="textAreaTop" fmla="*/ 629280 h 3000240"/>
              <a:gd name="textAreaBottom" fmla="*/ 2210040 h 300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4" stAng="-5400000" swAng="5400000"/>
                <a:lnTo>
                  <a:pt x="21600" y="11379"/>
                </a:lnTo>
                <a:arcTo wR="21600" hR="9064" stAng="0" swAng="3503756"/>
                <a:lnTo>
                  <a:pt x="5400" y="21312"/>
                </a:lnTo>
                <a:lnTo>
                  <a:pt x="0" y="19286"/>
                </a:lnTo>
                <a:lnTo>
                  <a:pt x="5400" y="16683"/>
                </a:lnTo>
                <a:lnTo>
                  <a:pt x="5400" y="17840"/>
                </a:lnTo>
                <a:arcTo wR="21600" hR="9064" stAng="3503756" swAng="-3318194"/>
                <a:lnTo>
                  <a:pt x="21423" y="10222"/>
                </a:lnTo>
                <a:arcTo wR="21600" hR="9064" stAng="-185562" swAng="-5214438"/>
                <a:close/>
              </a:path>
              <a:path fill="darkenLess" w="21600" h="21600">
                <a:moveTo>
                  <a:pt x="0" y="0"/>
                </a:moveTo>
                <a:arcTo wR="21600" hR="9064" stAng="-5400000" swAng="5400000"/>
                <a:lnTo>
                  <a:pt x="21600" y="11379"/>
                </a:lnTo>
                <a:arcTo wR="21600" hR="9064" stAng="0" swAng="-185562"/>
                <a:lnTo>
                  <a:pt x="21423" y="10222"/>
                </a:lnTo>
                <a:arcTo wR="21600" hR="9064" stAng="-185562" swAng="-5214438"/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Выгнутая влево стрелка 7"/>
          <p:cNvSpPr/>
          <p:nvPr/>
        </p:nvSpPr>
        <p:spPr>
          <a:xfrm rot="520800">
            <a:off x="979200" y="2087640"/>
            <a:ext cx="1382760" cy="2997000"/>
          </a:xfrm>
          <a:custGeom>
            <a:avLst/>
            <a:gdLst>
              <a:gd name="textAreaLeft" fmla="*/ 185040 w 1382760"/>
              <a:gd name="textAreaRight" fmla="*/ 1197720 w 1382760"/>
              <a:gd name="textAreaTop" fmla="*/ 619560 h 2997000"/>
              <a:gd name="textAreaBottom" fmla="*/ 2204640 h 29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32" stAng="-5400000" swAng="-5400000"/>
                <a:lnTo>
                  <a:pt x="0" y="11424"/>
                </a:lnTo>
                <a:arcTo wR="21600" hR="8932" stAng="10800000" swAng="-3481087"/>
                <a:lnTo>
                  <a:pt x="16200" y="21316"/>
                </a:lnTo>
                <a:lnTo>
                  <a:pt x="21600" y="19109"/>
                </a:lnTo>
                <a:lnTo>
                  <a:pt x="16200" y="16334"/>
                </a:lnTo>
                <a:lnTo>
                  <a:pt x="16200" y="17579"/>
                </a:lnTo>
                <a:arcTo wR="21600" hR="8932" stAng="7318913" swAng="3281047"/>
                <a:lnTo>
                  <a:pt x="211" y="10178"/>
                </a:lnTo>
                <a:arcTo wR="21600" hR="8932" stAng="-10599961" swAng="5199961"/>
                <a:close/>
              </a:path>
              <a:path fill="darkenLess" w="21600" h="21600">
                <a:moveTo>
                  <a:pt x="21600" y="0"/>
                </a:moveTo>
                <a:arcTo wR="21600" hR="8932" stAng="-5400000" swAng="-5400000"/>
                <a:lnTo>
                  <a:pt x="0" y="8932"/>
                </a:lnTo>
                <a:arcTo wR="21600" hR="8932" stAng="10800000" swAng="-200039"/>
                <a:lnTo>
                  <a:pt x="211" y="10178"/>
                </a:lnTo>
                <a:arcTo wR="21600" hR="8932" stAng="-10599961" swAng="5199961"/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Блок-схема: альтернативный процесс 8"/>
          <p:cNvSpPr/>
          <p:nvPr/>
        </p:nvSpPr>
        <p:spPr>
          <a:xfrm>
            <a:off x="2143080" y="4500720"/>
            <a:ext cx="2214720" cy="1214280"/>
          </a:xfrm>
          <a:prstGeom prst="flowChartAlternateProcess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Комиссия по свободной торгов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Блок-схема: альтернативный процесс 9"/>
          <p:cNvSpPr/>
          <p:nvPr/>
        </p:nvSpPr>
        <p:spPr>
          <a:xfrm>
            <a:off x="5214960" y="4500720"/>
            <a:ext cx="2143080" cy="1214280"/>
          </a:xfrm>
          <a:prstGeom prst="flowChartAlternateProcess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Секретари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20:22:12Z</dcterms:created>
  <dc:creator>Customer</dc:creator>
  <dc:description/>
  <dc:language>en-US</dc:language>
  <cp:lastModifiedBy>Алексей Пастухов</cp:lastModifiedBy>
  <dcterms:modified xsi:type="dcterms:W3CDTF">2015-02-05T13:18:24Z</dcterms:modified>
  <cp:revision>7</cp:revision>
  <dc:subject/>
  <dc:title>Презентация по географии на тему: «Интеграционные группировки. НАФТА.»</dc:title>
</cp:coreProperties>
</file>