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E1F3-15D3-493A-AE99-0443205E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AB27-A1F8-4FC6-B66B-897C42A8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3338-C9C8-4C15-ABFC-BF61EA0A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9F75-C97F-40C6-B2B3-A94C9C7A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1A1F-8780-42D8-8C3A-6E51CAB0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5A76-70BB-444A-95E0-DDF80C6C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B93F-142F-41CC-87D0-00CE38C5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BD6F-18DC-4AF5-B5D7-11417AB1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6AF5-1CE7-47FB-82A5-22D4FE67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B3B2-1720-41CC-808A-843D0146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4982-DE84-492B-A636-90107834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4F9C-68AB-4174-96B4-8278FACA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0DEC-2347-40AE-9AB6-02A6C461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29C6-AA3C-4285-B899-3C540CD8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7B35-92E8-41F3-A37C-B899130C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E88B-C32E-4A56-AC14-2702ECE1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5EA2-AFCC-4101-ADB2-D291BFD4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D77CE-4F28-406D-975A-20E42D1B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1F504-BFCC-49D3-9A74-E8A2D789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745BE-ADAE-477E-B514-E87355E4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9900C-3358-4140-BDFE-F47FB0FB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2A2BF-B868-43F9-B35D-9D03F435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BECA-33CE-46CB-90D3-B205B677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976C7-4255-473D-82CF-9BB1BC78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F2150-903A-4C9D-8ACC-9CC6FDD9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114D5-CF44-4821-B34B-35369E4B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B77D2-F02D-4793-9CB0-8D62F0A0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4AE8D-0683-4A03-BF3A-22F74101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BD292-882A-474A-9652-1DBD5DD9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57B4B-97F1-4D3C-ACBD-0715E27D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1A989-101A-45A1-94DF-3D54395B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F07D7-0299-4D81-AFE7-1F995672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AA619-E95F-46DF-99CA-FF68E1E6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9B3D-04DD-48C5-B335-94BC6894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E21A4-4BCB-41FB-A8A1-A4D9E251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9F5B3-B5C6-4D4F-8D36-A3705BA2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4EF62-0A57-44F4-9ADE-02E1D900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09409-8175-4B56-8E55-314564CC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0A61D-648F-49E1-BAFE-61FDB0A8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09E64-7B28-4D9A-9F65-74431969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018C0-E2AF-459F-9B6D-064E0121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28F61-F149-40E5-896A-4E862C5A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9E88D-9D78-4FEC-932C-C55D41E1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4B4DB-F576-4729-BEE0-380CFB2D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9CD-D39B-426E-A6BF-E47EB311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5DF57-0636-4650-A82E-621A3A46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16058-9F56-4859-90D0-80EF4EA0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68504-D922-4DDA-9E7F-85011F2C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7E005-626B-4622-BE86-857F1C2A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CB73C-265C-4CD4-A8C8-C438B623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8CDC6-ECA9-4FA2-A78F-B1B403B2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49103-348E-45EC-B646-ECF1BC4E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ABD54-A061-444B-A0EF-68EABA49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9F44A-285F-4991-8537-62BFC480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2EA2C-198D-4120-AF46-5D71BD15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B487-232B-461B-AABC-7B1333B2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50BFB-F7D6-4CA8-8BC4-F3747457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6D64-1744-45E1-A8A8-67BEF94D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A693-F18A-451F-9484-539D63F8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03D1-1DA0-450D-8D44-2E2702BB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5845-C81D-4B8F-B543-7C7B8659480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55AA-7A27-4029-9865-04B60866759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3959-ACF3-45B5-9B9C-A81466EFC5E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7A09-0785-4C44-A2D7-DBCA64A947A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D6F7-F246-4802-90FE-548ED7E4ED2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«Интеграционные группировки. НАФТА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696464"/>
              </a:solidFill>
              <a:latin typeface="Cambri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евероамериканская зона свободной торговл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57120" y="1500120"/>
            <a:ext cx="45007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НАФТА,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англ. North American Free Trade Agreement, NAFTA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) - соглашение о свободной торговле между Канадой, США и Мексикой, основывающееся на модели Европейского Сообщества (Европейского союза)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2" name="Рисунок 3" descr="550px-North_American_Agreement_(orthographic_projection).svg.png"/>
          <p:cNvPicPr/>
          <p:nvPr/>
        </p:nvPicPr>
        <p:blipFill>
          <a:blip r:embed="rId1"/>
          <a:stretch/>
        </p:blipFill>
        <p:spPr>
          <a:xfrm>
            <a:off x="4929120" y="1357200"/>
            <a:ext cx="40482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редпосылки создания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00008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ервым шагом стал «план Эббота», принятый в 1947 г., целью которого являлось стимулирование инвестиций США в ведущие отрасли канадской экономик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ctr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торым шагом стало заключение в 1965 г. соглашения о либерализации торговли продукцией автомобилестроения, которое способствовало интеграции многих других отраслей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 algn="ctr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сентябре 1988 после нелёгких трёхлетних переговоров было подписано американо-канадское соглашение о свободной торговле (CUSFTA), согласно которому в течение десяти лет США и Канада должны были сформировать зону свободной торговл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дписание соглашен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Соглашение о создании Североамериканской ассоциации свободной торговли (НАФТА) вступило в силу 1 января 1994 г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7" name="Рисунок 3" descr="NAFTA_signing.jpg"/>
          <p:cNvPicPr/>
          <p:nvPr/>
        </p:nvPicPr>
        <p:blipFill>
          <a:blip r:embed="rId1"/>
          <a:stretch/>
        </p:blipFill>
        <p:spPr>
          <a:xfrm>
            <a:off x="2214720" y="2970360"/>
            <a:ext cx="4714560" cy="32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Цели НАФТ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14240" y="857160"/>
            <a:ext cx="79725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устранение таможенных и паспортных барьеров и стимулирование движения товаров и услуг между странами-участницами соглашения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оздание и поддержание условия для справедливой конкуренции в зоне свободной торговли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ивлечение инвестиций в страны-члены соглашения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беспечение должной и эффективной защиты и охраны прав интеллектуальной собственности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оздание действенных механизмов внедрения и использования Соглашения, совместного решения споров и управления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оздание базы для будущей трёхсторонней, региональной и международной кооперации в целях расширения и улучшения Соглашения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оздание единого континентального рынк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49968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труктура НАФТ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1" name="Блок-схема: альтернативный процесс 4"/>
          <p:cNvSpPr/>
          <p:nvPr/>
        </p:nvSpPr>
        <p:spPr>
          <a:xfrm>
            <a:off x="2500200" y="1357200"/>
            <a:ext cx="4572000" cy="1714680"/>
          </a:xfrm>
          <a:prstGeom prst="flowChartAlternateProcess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НАФ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Выгнутая вправо стрелка 5"/>
          <p:cNvSpPr/>
          <p:nvPr/>
        </p:nvSpPr>
        <p:spPr>
          <a:xfrm rot="21134400">
            <a:off x="7197840" y="2144520"/>
            <a:ext cx="1285920" cy="3000240"/>
          </a:xfrm>
          <a:custGeom>
            <a:avLst/>
            <a:gdLst>
              <a:gd name="textAreaLeft" fmla="*/ 172080 w 1285920"/>
              <a:gd name="textAreaRight" fmla="*/ 1113840 w 1285920"/>
              <a:gd name="textAreaTop" fmla="*/ 629280 h 3000240"/>
              <a:gd name="textAreaBottom" fmla="*/ 2210040 h 300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64" stAng="-5400000" swAng="5400000"/>
                <a:lnTo>
                  <a:pt x="21600" y="11379"/>
                </a:lnTo>
                <a:arcTo wR="21600" hR="9064" stAng="0" swAng="3503756"/>
                <a:lnTo>
                  <a:pt x="5400" y="21312"/>
                </a:lnTo>
                <a:lnTo>
                  <a:pt x="0" y="19286"/>
                </a:lnTo>
                <a:lnTo>
                  <a:pt x="5400" y="16683"/>
                </a:lnTo>
                <a:lnTo>
                  <a:pt x="5400" y="17840"/>
                </a:lnTo>
                <a:arcTo wR="21600" hR="9064" stAng="3503756" swAng="-3318194"/>
                <a:lnTo>
                  <a:pt x="21423" y="10222"/>
                </a:lnTo>
                <a:arcTo wR="21600" hR="9064" stAng="-185562" swAng="-5214438"/>
                <a:close/>
              </a:path>
              <a:path fill="darkenLess" w="21600" h="21600">
                <a:moveTo>
                  <a:pt x="0" y="0"/>
                </a:moveTo>
                <a:arcTo wR="21600" hR="9064" stAng="-5400000" swAng="5400000"/>
                <a:lnTo>
                  <a:pt x="21600" y="11379"/>
                </a:lnTo>
                <a:arcTo wR="21600" hR="9064" stAng="0" swAng="-185562"/>
                <a:lnTo>
                  <a:pt x="21423" y="10222"/>
                </a:lnTo>
                <a:arcTo wR="21600" hR="9064" stAng="-185562" swAng="-5214438"/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Выгнутая влево стрелка 7"/>
          <p:cNvSpPr/>
          <p:nvPr/>
        </p:nvSpPr>
        <p:spPr>
          <a:xfrm rot="520800">
            <a:off x="979200" y="2087640"/>
            <a:ext cx="1382760" cy="2997000"/>
          </a:xfrm>
          <a:custGeom>
            <a:avLst/>
            <a:gdLst>
              <a:gd name="textAreaLeft" fmla="*/ 185040 w 1382760"/>
              <a:gd name="textAreaRight" fmla="*/ 1197720 w 1382760"/>
              <a:gd name="textAreaTop" fmla="*/ 619560 h 2997000"/>
              <a:gd name="textAreaBottom" fmla="*/ 2204640 h 29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32" stAng="-5400000" swAng="-5400000"/>
                <a:lnTo>
                  <a:pt x="0" y="11424"/>
                </a:lnTo>
                <a:arcTo wR="21600" hR="8932" stAng="10800000" swAng="-3481087"/>
                <a:lnTo>
                  <a:pt x="16200" y="21316"/>
                </a:lnTo>
                <a:lnTo>
                  <a:pt x="21600" y="19109"/>
                </a:lnTo>
                <a:lnTo>
                  <a:pt x="16200" y="16334"/>
                </a:lnTo>
                <a:lnTo>
                  <a:pt x="16200" y="17579"/>
                </a:lnTo>
                <a:arcTo wR="21600" hR="8932" stAng="7318913" swAng="3281047"/>
                <a:lnTo>
                  <a:pt x="211" y="10178"/>
                </a:lnTo>
                <a:arcTo wR="21600" hR="8932" stAng="-10599961" swAng="5199961"/>
                <a:close/>
              </a:path>
              <a:path fill="darkenLess" w="21600" h="21600">
                <a:moveTo>
                  <a:pt x="21600" y="0"/>
                </a:moveTo>
                <a:arcTo wR="21600" hR="8932" stAng="-5400000" swAng="-5400000"/>
                <a:lnTo>
                  <a:pt x="0" y="8932"/>
                </a:lnTo>
                <a:arcTo wR="21600" hR="8932" stAng="10800000" swAng="-200039"/>
                <a:lnTo>
                  <a:pt x="211" y="10178"/>
                </a:lnTo>
                <a:arcTo wR="21600" hR="8932" stAng="-10599961" swAng="5199961"/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Блок-схема: альтернативный процесс 8"/>
          <p:cNvSpPr/>
          <p:nvPr/>
        </p:nvSpPr>
        <p:spPr>
          <a:xfrm>
            <a:off x="2143080" y="4500720"/>
            <a:ext cx="2214720" cy="1214280"/>
          </a:xfrm>
          <a:prstGeom prst="flowChartAlternateProcess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Комиссия по свободной торгов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Блок-схема: альтернативный процесс 9"/>
          <p:cNvSpPr/>
          <p:nvPr/>
        </p:nvSpPr>
        <p:spPr>
          <a:xfrm>
            <a:off x="5214960" y="4500720"/>
            <a:ext cx="2143080" cy="1214280"/>
          </a:xfrm>
          <a:prstGeom prst="flowChartAlternateProcess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Секретари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20:22:12Z</dcterms:created>
  <dc:creator>Customer</dc:creator>
  <dc:description/>
  <dc:language>en-US</dc:language>
  <cp:lastModifiedBy>Алексей Пастухов</cp:lastModifiedBy>
  <dcterms:modified xsi:type="dcterms:W3CDTF">2015-02-05T13:18:24Z</dcterms:modified>
  <cp:revision>7</cp:revision>
  <dc:subject/>
  <dc:title>Презентация по географии на тему: «Интеграционные группировки. НАФТА.»</dc:title>
</cp:coreProperties>
</file>