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517320"/>
            <a:ext cx="7805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2165400"/>
            <a:ext cx="780588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8872560"/>
            <a:ext cx="780588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517320"/>
            <a:ext cx="7805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2165400"/>
            <a:ext cx="3809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2165400"/>
            <a:ext cx="3809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8872560"/>
            <a:ext cx="3809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8872560"/>
            <a:ext cx="3809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517320"/>
            <a:ext cx="7805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2165400"/>
            <a:ext cx="2513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200" y="2165400"/>
            <a:ext cx="2513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9360" y="2165400"/>
            <a:ext cx="2513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8872560"/>
            <a:ext cx="2513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200" y="8872560"/>
            <a:ext cx="2513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9360" y="8872560"/>
            <a:ext cx="2513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517320"/>
            <a:ext cx="7805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2165400"/>
            <a:ext cx="7805880" cy="128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517320"/>
            <a:ext cx="7805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2165400"/>
            <a:ext cx="7805880" cy="1284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517320"/>
            <a:ext cx="7805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2165400"/>
            <a:ext cx="3809160" cy="1284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2165400"/>
            <a:ext cx="3809160" cy="1284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517320"/>
            <a:ext cx="7805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517320"/>
            <a:ext cx="78058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17320"/>
            <a:ext cx="7805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2165400"/>
            <a:ext cx="3809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2165400"/>
            <a:ext cx="3809160" cy="1284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8872560"/>
            <a:ext cx="3809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17320"/>
            <a:ext cx="7805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2165400"/>
            <a:ext cx="3809160" cy="1284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2165400"/>
            <a:ext cx="3809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8872560"/>
            <a:ext cx="3809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517320"/>
            <a:ext cx="7805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2165400"/>
            <a:ext cx="3809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2165400"/>
            <a:ext cx="380916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8872560"/>
            <a:ext cx="7805880" cy="612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1859040"/>
            <a:ext cx="555480" cy="4998960"/>
          </a:xfrm>
          <a:custGeom>
            <a:avLst/>
            <a:gdLst>
              <a:gd name="textAreaLeft" fmla="*/ 360 w 555480"/>
              <a:gd name="textAreaRight" fmla="*/ 555120 w 555480"/>
              <a:gd name="textAreaTop" fmla="*/ 360 h 4998960"/>
              <a:gd name="textAreaBottom" fmla="*/ 4998600 h 4998960"/>
            </a:gdLst>
            <a:ahLst/>
            <a:rect l="textAreaLeft" t="textAreaTop" r="textAreaRight" b="textAreaBottom"/>
            <a:pathLst>
              <a:path w="21600" h="194274">
                <a:moveTo>
                  <a:pt x="61" y="0"/>
                </a:moveTo>
                <a:arcTo wR="61" hR="61" stAng="16200000" swAng="-5400000"/>
                <a:lnTo>
                  <a:pt x="0" y="194213"/>
                </a:lnTo>
                <a:arcTo wR="61" hR="61" stAng="10800000" swAng="-5400000"/>
                <a:lnTo>
                  <a:pt x="21539" y="194274"/>
                </a:lnTo>
                <a:arcTo wR="61" hR="61" stAng="5400000" swAng="-5400000"/>
                <a:lnTo>
                  <a:pt x="21600" y="61"/>
                </a:lnTo>
                <a:arcTo wR="61" hR="61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650880" y="0"/>
            <a:ext cx="8493120" cy="1739880"/>
          </a:xfrm>
          <a:prstGeom prst="roundRect">
            <a:avLst>
              <a:gd name="adj" fmla="val 8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1040" y="517320"/>
            <a:ext cx="7805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71040" y="2165400"/>
            <a:ext cx="7805880" cy="1284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1728720"/>
            <a:ext cx="9144000" cy="177840"/>
          </a:xfrm>
          <a:prstGeom prst="roundRect">
            <a:avLst>
              <a:gd name="adj" fmla="val 88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496800" y="0"/>
            <a:ext cx="165240" cy="68580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894569">
                <a:moveTo>
                  <a:pt x="207" y="0"/>
                </a:moveTo>
                <a:arcTo wR="207" hR="207" stAng="16200000" swAng="-5400000"/>
                <a:lnTo>
                  <a:pt x="0" y="894362"/>
                </a:lnTo>
                <a:arcTo wR="207" hR="207" stAng="10800000" swAng="-5400000"/>
                <a:lnTo>
                  <a:pt x="21393" y="894569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5857920" y="2286000"/>
            <a:ext cx="328608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"/>
          <p:cNvSpPr/>
          <p:nvPr/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-1500120" y="2000160"/>
            <a:ext cx="9980640" cy="13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664d"/>
                </a:solidFill>
                <a:latin typeface="Comic Sans MS"/>
              </a:rPr>
              <a:t>«Народные промыслы 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664d"/>
                </a:solidFill>
                <a:latin typeface="Comic Sans MS"/>
              </a:rPr>
              <a:t>России»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5" descr="vam.jpg"/>
          <p:cNvPicPr/>
          <p:nvPr/>
        </p:nvPicPr>
        <p:blipFill>
          <a:blip r:embed="rId1"/>
          <a:stretch/>
        </p:blipFill>
        <p:spPr>
          <a:xfrm>
            <a:off x="5929200" y="4500720"/>
            <a:ext cx="2938680" cy="2203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"/>
          <p:cNvSpPr/>
          <p:nvPr/>
        </p:nvSpPr>
        <p:spPr>
          <a:xfrm>
            <a:off x="671400" y="517680"/>
            <a:ext cx="78073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. Податливые в обработке материал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143000" y="2214720"/>
            <a:ext cx="7807320" cy="12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стилин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ен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л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Рисунок 3" descr="916722.jpg"/>
          <p:cNvPicPr/>
          <p:nvPr/>
        </p:nvPicPr>
        <p:blipFill>
          <a:blip r:embed="rId2"/>
          <a:stretch/>
        </p:blipFill>
        <p:spPr>
          <a:xfrm>
            <a:off x="6215040" y="2214720"/>
            <a:ext cx="2467080" cy="16603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191993700051beea2edea87cf5d4895f377b4cbc43.jpg"/>
          <p:cNvPicPr/>
          <p:nvPr/>
        </p:nvPicPr>
        <p:blipFill>
          <a:blip r:embed="rId3"/>
          <a:stretch/>
        </p:blipFill>
        <p:spPr>
          <a:xfrm>
            <a:off x="3786120" y="3286080"/>
            <a:ext cx="26575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500" autoRev="1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500" autoRev="1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7" dur="500" autoRev="1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. Назови промысе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44880" y="2143080"/>
            <a:ext cx="3027240" cy="45007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3"/>
          <p:cNvSpPr/>
          <p:nvPr/>
        </p:nvSpPr>
        <p:spPr>
          <a:xfrm>
            <a:off x="7074360" y="242892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жел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 Назови промысе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928960" y="214308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6864120" y="2428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хлом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1. Убери лишнее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671400" y="2165400"/>
            <a:ext cx="7807320" cy="12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, талант, завод, глина, инструмент, рабочий, мастер, изделие, сноровка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011240" y="214308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ушка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4857840" y="307188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сел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2942640" y="3071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марка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Рисунок 6" descr="204777655.jpg"/>
          <p:cNvPicPr/>
          <p:nvPr/>
        </p:nvPicPr>
        <p:blipFill>
          <a:blip r:embed="rId1"/>
          <a:stretch/>
        </p:blipFill>
        <p:spPr>
          <a:xfrm>
            <a:off x="3571920" y="3857760"/>
            <a:ext cx="208908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9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5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6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2" dur="5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642960" y="163440"/>
            <a:ext cx="78073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2. На каких основных ярмарках России торговали изделиями народных промыслов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928880" y="2143080"/>
            <a:ext cx="7807320" cy="12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битск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гиево-Посадск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жегородск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ятск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овск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ярск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5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6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1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2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3. Назови промысе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71400" y="2165400"/>
            <a:ext cx="7807320" cy="12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7219440" y="250020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остов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Рисунок 5" descr="lak_gostovo-11.jpg"/>
          <p:cNvPicPr/>
          <p:nvPr/>
        </p:nvPicPr>
        <p:blipFill>
          <a:blip r:embed="rId1"/>
          <a:stretch/>
        </p:blipFill>
        <p:spPr>
          <a:xfrm>
            <a:off x="1714680" y="2143080"/>
            <a:ext cx="5357520" cy="43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4. Подумай и дополни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336680" y="2143080"/>
            <a:ext cx="7807320" cy="130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месленник работал один или со своей семьёй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ли продукции он мог произвести? Что предпринимали для успешной деятельности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ъединялись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рывали секрет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га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5. Вид издел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2857680" y="2071800"/>
            <a:ext cx="3284280" cy="4613040"/>
            <a:chOff x="2857680" y="2071800"/>
            <a:chExt cx="3284280" cy="4613040"/>
          </a:xfrm>
        </p:grpSpPr>
        <p:pic>
          <p:nvPicPr>
            <p:cNvPr id="103" name="Picture 3" descr=""/>
            <p:cNvPicPr/>
            <p:nvPr/>
          </p:nvPicPr>
          <p:blipFill>
            <a:blip r:embed="rId1"/>
            <a:stretch/>
          </p:blipFill>
          <p:spPr>
            <a:xfrm>
              <a:off x="2857680" y="2071800"/>
              <a:ext cx="328428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"/>
            <p:cNvSpPr/>
            <p:nvPr/>
          </p:nvSpPr>
          <p:spPr>
            <a:xfrm>
              <a:off x="2857680" y="2071800"/>
              <a:ext cx="3284280" cy="46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5" name="Прямоугольник 5"/>
          <p:cNvSpPr/>
          <p:nvPr/>
        </p:nvSpPr>
        <p:spPr>
          <a:xfrm>
            <a:off x="6404760" y="242892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слинское литьё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6. О чём речь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36680" y="2000160"/>
            <a:ext cx="7807320" cy="132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ивляя, прорастая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-то празднично жива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дая, непростая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но-красная трава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реют, не реде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дыхания зимы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им в царство Берендея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ир волшебной…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714920" y="600084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ОХЛОМ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Рисунок 4" descr="012.jpg"/>
          <p:cNvPicPr/>
          <p:nvPr/>
        </p:nvPicPr>
        <p:blipFill>
          <a:blip r:embed="rId1"/>
          <a:stretch/>
        </p:blipFill>
        <p:spPr>
          <a:xfrm>
            <a:off x="5786280" y="2000160"/>
            <a:ext cx="3000600" cy="30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928800" y="357120"/>
            <a:ext cx="82152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каком городке появился этот народный промысел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14720" y="2214720"/>
            <a:ext cx="7807320" cy="12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жель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пин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мково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хлома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ец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у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2" descr="E:\мегера\Мои документы (раб стол)\Мои рисунки\1885.jpg"/>
          <p:cNvPicPr/>
          <p:nvPr/>
        </p:nvPicPr>
        <p:blipFill>
          <a:blip r:embed="rId1"/>
          <a:stretch/>
        </p:blipFill>
        <p:spPr>
          <a:xfrm>
            <a:off x="5143680" y="1928880"/>
            <a:ext cx="3333600" cy="45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500" autoRev="1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5" dur="500" autoRev="1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6" dur="500" autoRev="1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Назови промысе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86080" y="2214720"/>
            <a:ext cx="2962440" cy="43052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5272920" y="3500280"/>
            <a:ext cx="36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илимоновска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грушка - свистуль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Рисунок 4" descr="flash.png"/>
          <p:cNvPicPr/>
          <p:nvPr/>
        </p:nvPicPr>
        <p:blipFill>
          <a:blip r:embed="rId2"/>
          <a:stretch/>
        </p:blipFill>
        <p:spPr>
          <a:xfrm>
            <a:off x="857160" y="2286000"/>
            <a:ext cx="316080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928800" y="357120"/>
            <a:ext cx="82152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какому виду ДПИ относятся народные промыслы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214720" y="2214720"/>
            <a:ext cx="7807320" cy="12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жель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пин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мково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хлома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ец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сь-Хрустальны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928800" y="357120"/>
            <a:ext cx="82152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какому виду ДПИ относятся народные промыслы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2214720" y="2214720"/>
            <a:ext cx="7807320" cy="12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жель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пин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мково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хлома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ец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сь-Хрустальны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5011920" y="2143080"/>
            <a:ext cx="36766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ЕРАМИ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4650480" y="3714840"/>
            <a:ext cx="4818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Arial"/>
              </a:rPr>
              <a:t>РОСПИСЬ ПО ДЕРЕВ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4775760" y="4500720"/>
            <a:ext cx="4696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</a:rPr>
              <a:t>СТЕКЛОДЕЛ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20" name="Прямая со стрелкой 8"/>
          <p:cNvCxnSpPr>
            <a:stCxn id="117" idx="1"/>
          </p:cNvCxnSpPr>
          <p:nvPr/>
        </p:nvCxnSpPr>
        <p:spPr>
          <a:xfrm flipH="1">
            <a:off x="3928320" y="2475000"/>
            <a:ext cx="1429560" cy="25920"/>
          </a:xfrm>
          <a:prstGeom prst="straightConnector1">
            <a:avLst/>
          </a:prstGeom>
          <a:ln w="76320">
            <a:solidFill>
              <a:srgbClr val="ff9933"/>
            </a:solidFill>
            <a:miter/>
            <a:tailEnd len="med" type="arrow" w="med"/>
          </a:ln>
        </p:spPr>
      </p:cxnSp>
      <p:cxnSp>
        <p:nvCxnSpPr>
          <p:cNvPr id="121" name="Прямая со стрелкой 11"/>
          <p:cNvCxnSpPr/>
          <p:nvPr/>
        </p:nvCxnSpPr>
        <p:spPr>
          <a:xfrm flipH="1">
            <a:off x="4142520" y="2714760"/>
            <a:ext cx="1715400" cy="357840"/>
          </a:xfrm>
          <a:prstGeom prst="straightConnector1">
            <a:avLst/>
          </a:prstGeom>
          <a:ln w="76320">
            <a:solidFill>
              <a:srgbClr val="ff9933"/>
            </a:solidFill>
            <a:miter/>
            <a:tailEnd len="med" type="arrow" w="med"/>
          </a:ln>
        </p:spPr>
      </p:cxnSp>
      <p:cxnSp>
        <p:nvCxnSpPr>
          <p:cNvPr id="122" name="Прямая со стрелкой 14"/>
          <p:cNvCxnSpPr/>
          <p:nvPr/>
        </p:nvCxnSpPr>
        <p:spPr>
          <a:xfrm flipH="1">
            <a:off x="4428720" y="2714760"/>
            <a:ext cx="1858320" cy="1072080"/>
          </a:xfrm>
          <a:prstGeom prst="straightConnector1">
            <a:avLst/>
          </a:prstGeom>
          <a:ln w="76320">
            <a:solidFill>
              <a:srgbClr val="ff9933"/>
            </a:solidFill>
            <a:miter/>
            <a:tailEnd len="med" type="arrow" w="med"/>
          </a:ln>
        </p:spPr>
      </p:cxnSp>
      <p:cxnSp>
        <p:nvCxnSpPr>
          <p:cNvPr id="123" name="Прямая со стрелкой 16"/>
          <p:cNvCxnSpPr/>
          <p:nvPr/>
        </p:nvCxnSpPr>
        <p:spPr>
          <a:xfrm flipH="1">
            <a:off x="4357440" y="4143240"/>
            <a:ext cx="1072080" cy="215280"/>
          </a:xfrm>
          <a:prstGeom prst="straightConnector1">
            <a:avLst/>
          </a:prstGeom>
          <a:ln w="7632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24" name="Прямая со стрелкой 20"/>
          <p:cNvCxnSpPr/>
          <p:nvPr/>
        </p:nvCxnSpPr>
        <p:spPr>
          <a:xfrm flipH="1">
            <a:off x="4285800" y="4214880"/>
            <a:ext cx="1286640" cy="714960"/>
          </a:xfrm>
          <a:prstGeom prst="straightConnector1">
            <a:avLst/>
          </a:prstGeom>
          <a:ln w="7632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25" name="Прямая со стрелкой 22"/>
          <p:cNvCxnSpPr/>
          <p:nvPr/>
        </p:nvCxnSpPr>
        <p:spPr>
          <a:xfrm flipH="1">
            <a:off x="6286320" y="5142600"/>
            <a:ext cx="1429200" cy="500760"/>
          </a:xfrm>
          <a:prstGeom prst="straightConnector1">
            <a:avLst/>
          </a:prstGeom>
          <a:ln w="7632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26" name="Рисунок 13" descr="flash.png"/>
          <p:cNvPicPr/>
          <p:nvPr/>
        </p:nvPicPr>
        <p:blipFill>
          <a:blip r:embed="rId1"/>
          <a:stretch/>
        </p:blipFill>
        <p:spPr>
          <a:xfrm>
            <a:off x="857160" y="2286000"/>
            <a:ext cx="1150920" cy="1300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5" descr="563e7f1fff24.jpg"/>
          <p:cNvPicPr/>
          <p:nvPr/>
        </p:nvPicPr>
        <p:blipFill>
          <a:blip r:embed="rId2"/>
          <a:stretch/>
        </p:blipFill>
        <p:spPr>
          <a:xfrm>
            <a:off x="1000080" y="3929040"/>
            <a:ext cx="1071720" cy="17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671400" y="517680"/>
            <a:ext cx="78073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7. В каком стиле выполнена аэрография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2071800" y="1928880"/>
            <a:ext cx="5751360" cy="4217760"/>
            <a:chOff x="2071800" y="1928880"/>
            <a:chExt cx="5751360" cy="4217760"/>
          </a:xfrm>
        </p:grpSpPr>
        <p:pic>
          <p:nvPicPr>
            <p:cNvPr id="130" name="Picture 3" descr=""/>
            <p:cNvPicPr/>
            <p:nvPr/>
          </p:nvPicPr>
          <p:blipFill>
            <a:blip r:embed="rId1"/>
            <a:stretch/>
          </p:blipFill>
          <p:spPr>
            <a:xfrm>
              <a:off x="2071800" y="1928880"/>
              <a:ext cx="5751360" cy="42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4"/>
            <p:cNvSpPr/>
            <p:nvPr/>
          </p:nvSpPr>
          <p:spPr>
            <a:xfrm>
              <a:off x="2071800" y="1928880"/>
              <a:ext cx="5751360" cy="42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2" name="Прямоугольник 5"/>
          <p:cNvSpPr/>
          <p:nvPr/>
        </p:nvSpPr>
        <p:spPr>
          <a:xfrm>
            <a:off x="4214880" y="62150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ХЛОМ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remove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928800" y="357120"/>
            <a:ext cx="82152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де Федоскино, а где Палех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214720" y="2214720"/>
            <a:ext cx="7807320" cy="12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E:\мегера\Мои документы (раб стол)\Мои рисунки\fd2.jpg"/>
          <p:cNvPicPr/>
          <p:nvPr/>
        </p:nvPicPr>
        <p:blipFill>
          <a:blip r:embed="rId1"/>
          <a:stretch/>
        </p:blipFill>
        <p:spPr>
          <a:xfrm>
            <a:off x="1000080" y="2000160"/>
            <a:ext cx="3786120" cy="320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E:\мегера\Мои документы (раб стол)\Мои рисунки\Голиков+И_И_+Тройка+с+волками_.jpg"/>
          <p:cNvPicPr/>
          <p:nvPr/>
        </p:nvPicPr>
        <p:blipFill>
          <a:blip r:embed="rId2"/>
          <a:stretch/>
        </p:blipFill>
        <p:spPr>
          <a:xfrm>
            <a:off x="4929120" y="2071800"/>
            <a:ext cx="3881520" cy="32144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7"/>
          <p:cNvSpPr/>
          <p:nvPr/>
        </p:nvSpPr>
        <p:spPr>
          <a:xfrm>
            <a:off x="5143680" y="5572080"/>
            <a:ext cx="31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1143000" y="5500800"/>
            <a:ext cx="31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2433240" y="57862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оскино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6432120" y="57862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ех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1. Что вы знаете о подносном промысле на Урале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994040" y="2206800"/>
            <a:ext cx="552924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671400" y="0"/>
            <a:ext cx="780732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2. Назови любой народный промысел, не прозвучавший в проверочной работе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2143080" y="4857840"/>
            <a:ext cx="5357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0" spc="-1" strike="noStrike" u="sng">
                <a:solidFill>
                  <a:srgbClr val="ff0000"/>
                </a:solidFill>
                <a:uFillTx/>
                <a:latin typeface="Arial"/>
              </a:rPr>
              <a:t>Удачи!</a:t>
            </a:r>
            <a:endParaRPr b="0" lang="en-US" sz="1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Рисунок 4" descr="d49c5a81e609ef5c686a88332bc720b9.jpg"/>
          <p:cNvPicPr/>
          <p:nvPr/>
        </p:nvPicPr>
        <p:blipFill>
          <a:blip r:embed="rId1"/>
          <a:stretch/>
        </p:blipFill>
        <p:spPr>
          <a:xfrm>
            <a:off x="3492360" y="1920960"/>
            <a:ext cx="2659320" cy="33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Назови промысе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357280" y="2143080"/>
            <a:ext cx="4927680" cy="36925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2786040" y="6143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огородская резная игрушк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Назови промысе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85960" y="2000160"/>
            <a:ext cx="4452840" cy="46198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6069240" y="2786040"/>
            <a:ext cx="301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влово – посадски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латок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671400" y="206280"/>
            <a:ext cx="780732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Продолжи фразу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671400" y="2165400"/>
            <a:ext cx="7807320" cy="12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енбургский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годское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мковская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остовский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хломск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ая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воим …                  в Тулу не ездя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4150800" y="2143080"/>
            <a:ext cx="27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уховый платок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857760" y="28576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ружев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3797280" y="35002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игруш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3719520" y="407196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однос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3502080" y="471492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осу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3078720" y="535788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хохлом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3295800" y="592920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амовар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 Вид деятельно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071880" y="1928880"/>
            <a:ext cx="3429000" cy="4562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863760" y="3714840"/>
            <a:ext cx="212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нчарна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671400" y="517680"/>
            <a:ext cx="78073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. Убери лишнее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000080" y="2000160"/>
            <a:ext cx="6621480" cy="13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ях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дель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ужево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клюшк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тк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лавк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Рисунок 5" descr="41.jpg"/>
          <p:cNvPicPr/>
          <p:nvPr/>
        </p:nvPicPr>
        <p:blipFill>
          <a:blip r:embed="rId1"/>
          <a:stretch/>
        </p:blipFill>
        <p:spPr>
          <a:xfrm>
            <a:off x="4143240" y="2143080"/>
            <a:ext cx="4775400" cy="31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671400" y="56988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. Назови промысе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4857480" cy="48578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5312880" y="2143080"/>
            <a:ext cx="36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мковская игруш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671400" y="517680"/>
            <a:ext cx="78073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. Податливые в обработке материал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143000" y="2214720"/>
            <a:ext cx="7807320" cy="12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стилин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ен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л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Рисунок 7" descr="59036894_POTOCKIY.jpg"/>
          <p:cNvPicPr/>
          <p:nvPr/>
        </p:nvPicPr>
        <p:blipFill>
          <a:blip r:embed="rId1"/>
          <a:stretch/>
        </p:blipFill>
        <p:spPr>
          <a:xfrm>
            <a:off x="3857760" y="2143080"/>
            <a:ext cx="507996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6" dur="500" autoRev="1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28:21Z</dcterms:created>
  <dc:creator>iddqd</dc:creator>
  <dc:description/>
  <dc:language>en-US</dc:language>
  <cp:lastModifiedBy>Марина</cp:lastModifiedBy>
  <dcterms:modified xsi:type="dcterms:W3CDTF">2012-04-27T12:44:09Z</dcterms:modified>
  <cp:revision>43</cp:revision>
  <dc:subject/>
  <dc:title>Слайд 1</dc:title>
</cp:coreProperties>
</file>