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F0B-218A-41C3-9F03-E17396D3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CDF-E93F-4249-BD8D-15F31909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369-F7AC-4409-A15F-B1E52C88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4F5-5032-42A0-8F5E-759593C8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A8B-D24C-4B77-B15B-074F733D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3AE-796E-413F-91EC-53C75AFE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1CE-BDFA-4857-8222-CC6EBB09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565-0E33-49F7-8419-D6C737B9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804-A938-4EE8-8DF7-5F77E5AA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D3E-7D78-4575-B076-0BE69DF9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705-E489-46E7-BE83-757B270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859-89E6-4C27-9CEC-AE2181A0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FFEE-38B7-4543-AB03-58777E0D0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880" y="642600"/>
            <a:ext cx="557208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ОБ ОТВЕТСТВЕННОСТИ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РОДИТЕЛЕЙ…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нормативно-правовая база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1280" y="3500280"/>
            <a:ext cx="3720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Calibri"/>
              </a:rPr>
              <a:t>Подготовила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Calibri"/>
              </a:rPr>
              <a:t>Учитель-логопед ГБОУ СОШ №16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Calibri"/>
              </a:rPr>
              <a:t>ИВАНОВА Е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ОН ОБ ОБРАЗОВАН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 29.12.2012 № 273-ФЗ ( ред.от 31.12.20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Статья 44. Права,обязанности и ответсвенность в сфере образования родителей (законных представителей)несовершеннолетних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обучающих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одители (законные представители) несовершеннолетних обучающихс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меют преимущественное прав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обучение, воспитание детей перед всеми другими лицами. Он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яза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ложить основ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изического, нравственного и интеллектуального развит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сти ребё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3.Родители(законные представители) несовершеннолетних обучающихся имеют прав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Выбирать до завершения получения ребёнком основного общего образования с учётом мнения ребёнка , а также с учётом рекомендаци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й комисси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ы получения образования и формы обучения, организации, осуществляющие образовательную деятельность, «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4.Родители (законные представители)несовершеннолетних обучающихся обяза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получение детьми общего образо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ать правила внутреннего распорядка организации, осуществляющей образовательную деятельность «…»,требования локальных нормативных актов «…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ажать честь и достоинство обучающихся и работников организации, осуществляющей образовательную деятель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8000"/>
              </a:solidFill>
              <a:latin typeface="Courier New"/>
              <a:ea typeface="Courier New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За неисполнение или ненадлежащее исполнение обязанностей, установленных настоящим Федеральным законом и иными Федеральными законами, родители (законные представители) несовершеннолетних обучающих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ут ответ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редусмотренную законодательством 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Декларация прав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Конституция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Кодекс об административных правонарушениях (КоАП РФ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Гражданский кодекс  РФ ( ГК РФ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Уголовный кодекс РФ (УК РФ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Семейный кодекс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Закон «Об образовании»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Для шаблона использован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интернет ресур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Ученики  </a:t>
            </a:r>
            <a:r>
              <a:rPr b="0" lang="en-US" sz="1200" spc="-1" strike="noStrike">
                <a:solidFill>
                  <a:srgbClr val="ebf1de"/>
                </a:solidFill>
                <a:latin typeface="Book Antiqua"/>
              </a:rPr>
              <a:t>http://fotki.yandex.ru/users/bagira0401/view/415700/?page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Тетрадный лист  </a:t>
            </a:r>
            <a:r>
              <a:rPr b="0" lang="en-US" sz="1200" spc="-1" strike="noStrike">
                <a:solidFill>
                  <a:srgbClr val="ebf1de"/>
                </a:solidFill>
                <a:latin typeface="Book Antiqua"/>
              </a:rPr>
              <a:t>http://detsad-kitty.ru/shablon/klipart/34358-klipart-na-prozrachnom-fone-tetradnye-list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ebf1de"/>
                </a:solidFill>
                <a:uFillTx/>
                <a:latin typeface="Book Antiqua"/>
              </a:rPr>
              <a:t>Автор шабл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Бобкова Ирина Валентин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учитель начальных классов ГКОУ СО «Богдановичская СКО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екларация прав ребё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Ребенок должен быть защищен 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ех форм небрежного отнош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стокости и эксплуатаци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0 ноября 1959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НСТИТУЦИЯ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ья 38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Забота о детях , их воспитание – равное право и обязанность ро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ья 4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Основное общее образование обязательно. Родители или лица, их заменяющие, обеспечивают получение детьми основного общего образ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АДМИНИСТРАТИВНАЯ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ОТВЕТСТВЕННОСТЬ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1483920"/>
            <a:ext cx="74739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декс об административных правонарушениях (КоАП РФ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тья 5.35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еисполнение родителями или иными законными представителями несовершеннолетних обязанностей по содержанию и воспитанию несовершеннолетних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Неисполнение или ненадлежащее исполнение родителями или иными  законными представителями  несовершеннолетних  обязанносте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по содержанию, воспитанию, обучению, защите прав и интересов несовершеннолетни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ечёт предупреждение или наложение административного штрафа в размере от ста до пятисот руб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ГРАЖДАНСКО-ПРАВОВАЯ ОТВЕТСТВ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Гражданский кодекс РФ </a:t>
            </a:r>
            <a:br>
              <a:rPr sz="3600"/>
            </a:br>
            <a:r>
              <a:rPr b="1" lang="ru-RU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ст.ст.1073-1075 ГК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.1073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ветственность за вред, причинённый  несовершеннолетними в возрасте до четырнадцати ле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За вред, причинённый несовершеннолетними, не достигшими четырнадцати лет (малолетним)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чают его родители (усыновители) или опеку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не докажут, что вред возник не по их ви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urier New"/>
                <a:ea typeface="Courier New"/>
              </a:rPr>
              <a:t>Уголовная ответственность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Courier New"/>
                <a:ea typeface="Courier New"/>
              </a:rPr>
              <a:t>уголовный кодекс РФ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Courier New"/>
                <a:ea typeface="Courier New"/>
              </a:rPr>
              <a:t>(УК РФ ст.15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ья 156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исполнение обязанностей по воспитанию несовершеннолетне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 привлечение к уголовной ответственности за неисполнение или ненадлежащее исполнение обязанностей по воспитанию несовершеннолетнего , соединённое с жестоким обращением с несовершеннолет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ЕМЕЙНЫЙ КОДЕКС Р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тья 63.Права и обязанности родителей по воспитанию и образованию дет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тели имеют право 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язаны воспиты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воих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тели несут ответственность за воспитание и развитие своих детей. Он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язаны заботиться о здоровье, физическом, психическом, духовном и нравственном развитии своих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тели имеют преимущественное право на воспитание своих детей перед всеми другими лиц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UR</dc:creator>
  <dc:description/>
  <dc:language>en-US</dc:language>
  <cp:lastModifiedBy>ZHUR</cp:lastModifiedBy>
  <dcterms:modified xsi:type="dcterms:W3CDTF">2015-02-02T23:02:48Z</dcterms:modified>
  <cp:revision>74</cp:revision>
  <dc:subject/>
  <dc:title>Слайд 1</dc:title>
</cp:coreProperties>
</file>