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405F-C3E1-468B-83DA-15783C6231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956-04C4-4943-9B0E-35D3AE76B6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448F-5155-4AF8-8AE5-AA8950F148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2371-1B0E-471B-A27C-972DBDEFB4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E59-2665-4024-9ABD-A549EAD4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460-372A-486B-AEE3-B6758F06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324-5BFF-4CE1-8819-2C03DF63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E78-F542-4260-A59F-754F9C2B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CC00-38DF-4F36-9AFB-130E3DA2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E13-5433-4791-93B6-A62E394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93E3-A830-4343-954D-7D59923F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B8E5-D077-4074-9D3D-71EF94D6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8944-D3E2-404B-9B2F-D12AF453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FD91-AC56-4B8C-9414-FDB27FAE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58EE-EB3C-4182-9FF6-80612582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E5B-791C-4D85-A32F-61F91332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A275-CC66-488E-8143-1BC486B8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F728-71A1-4A8E-A42F-BEAB820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E939-DEB4-4F9C-A174-0F6E4F2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106E-7865-453F-9A72-1AB7DEDD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D675-F64E-4844-B4D2-3F987256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396-5149-4444-8E01-01C57762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A20-9CAD-4821-8ED5-F6CEDDA8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7A2-BEC0-411F-BACC-AD7F0534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4A6-5999-417D-AD3D-B725C56E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62E-C066-473E-ADC8-9A3A6019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9B2-CFEA-459D-81C1-7D7F1BC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38C-2349-4072-8492-6ED1CC8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F29D-F109-4703-A4CA-0CF52C35B0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CA39-04A0-4C53-9894-424A94AA0A2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OPEC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052;&#1080;&#1088;&#1086;&#1074;&#1086;&#1077;%20&#1093;&#1086;&#1079;&#1103;&#1081;&#1089;&#1090;&#1074;&#1086;.PPT" TargetMode="External"/><Relationship Id="rId3" Type="http://schemas.openxmlformats.org/officeDocument/2006/relationships/hyperlink" Target="http://ru.wikipedia.org/wiki/&#1060;&#1072;&#1081;&#1083;:Flag_of_Algeria.svg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60;&#1072;&#1081;&#1083;:Flag_of_Venezuela.sv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60;&#1072;&#1081;&#1083;:Flag_of_Iraq.svg" TargetMode="External"/><Relationship Id="rId8" Type="http://schemas.openxmlformats.org/officeDocument/2006/relationships/image" Target="../media/image8.png"/><Relationship Id="rId9" Type="http://schemas.openxmlformats.org/officeDocument/2006/relationships/hyperlink" Target="http://ru.wikipedia.org/wiki/&#1060;&#1072;&#1081;&#1083;:Flag_of_Iran.svg" TargetMode="External"/><Relationship Id="rId10" Type="http://schemas.openxmlformats.org/officeDocument/2006/relationships/image" Target="../media/image9.png"/><Relationship Id="rId11" Type="http://schemas.openxmlformats.org/officeDocument/2006/relationships/hyperlink" Target="http://ru.wikipedia.org/wiki/&#1060;&#1072;&#1081;&#1083;:Flag_of_Qatar.svg" TargetMode="External"/><Relationship Id="rId12" Type="http://schemas.openxmlformats.org/officeDocument/2006/relationships/image" Target="../media/image10.png"/><Relationship Id="rId13" Type="http://schemas.openxmlformats.org/officeDocument/2006/relationships/hyperlink" Target="http://ru.wikipedia.org/wiki/&#1060;&#1072;&#1081;&#1083;:Flag_of_Kuwait.svg" TargetMode="External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6"/>
          <p:cNvSpPr/>
          <p:nvPr/>
        </p:nvSpPr>
        <p:spPr>
          <a:xfrm>
            <a:off x="755640" y="15717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«ОПЕК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3"/>
          <p:cNvSpPr/>
          <p:nvPr/>
        </p:nvSpPr>
        <p:spPr>
          <a:xfrm>
            <a:off x="2556000" y="189000"/>
            <a:ext cx="633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ПЕ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OPEC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zation of the Petroleum Exporting Countries) </a:t>
            </a:r>
            <a:r>
              <a:rPr b="1" lang="en-US" sz="2400" spc="-1" strike="noStrike">
                <a:solidFill>
                  <a:srgbClr val="9383b3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рганизация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тран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экспортеров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ефти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50920" y="1844640"/>
            <a:ext cx="8424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ПЕК была учреждена после того, как «Семь сестер» – картель, объединявший компании «Бритиш петролеум», «Шеврон», «Эксон», «Галф», «Мобил», «Ройал датч шелл» и «Тексако» и контролировавший переработку сырой нефти и продажу нефтепродуктов во всем мире, – в одностороннем порядке снизили закупочные цены на нефть, исходя из которой они выплачивали налоги и проценты за право разработки природных ресурсов нефтедобывающим странам. В 1960-х годах на мировых рынках существовало избыточное предложение нефти, и целью создания ОПЕК являлось предотвращение дальнейшего падения цен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6" descr="250px-Flag_of_OPE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700360" cy="16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7"/>
          <p:cNvSpPr/>
          <p:nvPr/>
        </p:nvSpPr>
        <p:spPr>
          <a:xfrm>
            <a:off x="541440" y="155736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лаг ОПЕ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5741"/>
          <p:cNvPicPr/>
          <p:nvPr/>
        </p:nvPicPr>
        <p:blipFill>
          <a:blip r:embed="rId1"/>
          <a:stretch/>
        </p:blipFill>
        <p:spPr>
          <a:xfrm>
            <a:off x="324000" y="4653000"/>
            <a:ext cx="2663640" cy="198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97" name="Picture 3" descr="5743"/>
          <p:cNvPicPr/>
          <p:nvPr/>
        </p:nvPicPr>
        <p:blipFill>
          <a:blip r:embed="rId2"/>
          <a:stretch/>
        </p:blipFill>
        <p:spPr>
          <a:xfrm>
            <a:off x="6227640" y="4724280"/>
            <a:ext cx="2592360" cy="1936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98" name="Picture 4" descr="5744"/>
          <p:cNvPicPr/>
          <p:nvPr/>
        </p:nvPicPr>
        <p:blipFill>
          <a:blip r:embed="rId3"/>
          <a:stretch/>
        </p:blipFill>
        <p:spPr>
          <a:xfrm>
            <a:off x="3276720" y="4670280"/>
            <a:ext cx="2735280" cy="2043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9" name="Text Box 5"/>
          <p:cNvSpPr/>
          <p:nvPr/>
        </p:nvSpPr>
        <p:spPr>
          <a:xfrm>
            <a:off x="250920" y="11592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К была сформирована на международной конференции в Багдаде, состоявшейся 10-14 сентября 1960 г. Первоначально в организацию вошли пять стран: Иран, Ирак, Кувейт, Саудовская Аравия и Венесуэла. В период с 1960 по 1975 гг. было принято еще 8 стран: Катар, Индонезия, Ливия, Объединенные Арабские Эмираты, Алжир, Нигерия, Эквадор и Габон. В декабре 1992 г. Эквадор вышел из состава ОПЕК, а в январе 1995 г. из нее был исключен Габо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68436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жи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611280" y="16128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несуэ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611280" y="23335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онез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684360" y="306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р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3276720" y="9079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3276720" y="1612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3276720" y="23335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вей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3276720" y="30542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5148360" y="9079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ге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5148360" y="1612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А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5148360" y="233352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удовская Ара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3" descr="docu0003"/>
          <p:cNvPicPr/>
          <p:nvPr/>
        </p:nvPicPr>
        <p:blipFill>
          <a:blip r:embed="rId1"/>
          <a:stretch/>
        </p:blipFill>
        <p:spPr>
          <a:xfrm>
            <a:off x="0" y="3649680"/>
            <a:ext cx="9144000" cy="32083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4"/>
          <p:cNvSpPr/>
          <p:nvPr/>
        </p:nvSpPr>
        <p:spPr>
          <a:xfrm>
            <a:off x="500040" y="214200"/>
            <a:ext cx="828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e"/>
                </a:solidFill>
                <a:latin typeface="Times New Roman"/>
              </a:rPr>
              <a:t>В настоящее время в ОПЕК входит 11 стран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AutoShape 15">
            <a:hlinkClick r:id="rId2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17" descr="Алжи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981000"/>
            <a:ext cx="540000" cy="368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9" descr="Венесуэл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700280"/>
            <a:ext cx="505080" cy="344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1" descr="Ирак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3141720"/>
            <a:ext cx="540000" cy="3664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3" descr="Иран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771640" y="981000"/>
            <a:ext cx="505080" cy="298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5" descr="Катар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71640" y="1700280"/>
            <a:ext cx="503280" cy="279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7" descr="Кувейт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71640" y="241920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9" descr="Ливия"/>
          <p:cNvPicPr/>
          <p:nvPr/>
        </p:nvPicPr>
        <p:blipFill>
          <a:blip r:embed="rId15"/>
          <a:stretch/>
        </p:blipFill>
        <p:spPr>
          <a:xfrm>
            <a:off x="2700360" y="3141720"/>
            <a:ext cx="576360" cy="288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1" descr="Нигерия"/>
          <p:cNvPicPr/>
          <p:nvPr/>
        </p:nvPicPr>
        <p:blipFill>
          <a:blip r:embed="rId16"/>
          <a:stretch/>
        </p:blipFill>
        <p:spPr>
          <a:xfrm>
            <a:off x="4572000" y="98100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3" descr="Объединённые Арабские Эмираты"/>
          <p:cNvPicPr/>
          <p:nvPr/>
        </p:nvPicPr>
        <p:blipFill>
          <a:blip r:embed="rId17"/>
          <a:stretch/>
        </p:blipFill>
        <p:spPr>
          <a:xfrm>
            <a:off x="4572000" y="1700280"/>
            <a:ext cx="576360" cy="288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5" descr="Саудовская Аравия"/>
          <p:cNvPicPr/>
          <p:nvPr/>
        </p:nvPicPr>
        <p:blipFill>
          <a:blip r:embed="rId18"/>
          <a:stretch/>
        </p:blipFill>
        <p:spPr>
          <a:xfrm>
            <a:off x="4716360" y="2421000"/>
            <a:ext cx="503280" cy="342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7" descr="Индонезия"/>
          <p:cNvPicPr/>
          <p:nvPr/>
        </p:nvPicPr>
        <p:blipFill>
          <a:blip r:embed="rId19"/>
          <a:stretch/>
        </p:blipFill>
        <p:spPr>
          <a:xfrm>
            <a:off x="179280" y="2349360"/>
            <a:ext cx="5050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17160" y="228240"/>
            <a:ext cx="87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Легкие» доходы от нефти весьма «тяжелы»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ля стран ОПЕК, национализировавших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ефтяную промышленность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6" name="Picture 3" descr="Рисунок16"/>
          <p:cNvPicPr/>
          <p:nvPr/>
        </p:nvPicPr>
        <p:blipFill>
          <a:blip r:embed="rId1"/>
          <a:stretch/>
        </p:blipFill>
        <p:spPr>
          <a:xfrm>
            <a:off x="252360" y="1484280"/>
            <a:ext cx="870264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4"/>
          <p:cNvSpPr/>
          <p:nvPr/>
        </p:nvSpPr>
        <p:spPr>
          <a:xfrm>
            <a:off x="466560" y="6524640"/>
            <a:ext cx="1152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EA7A-3CFA-4BAA-98B9-1CC784DA5310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cc"/>
                </a:solidFill>
                <a:latin typeface="Tahoma"/>
              </a:rPr>
              <a:t>ОПЕК – 11: квоты, фактическая добыча, загрузка мощностей</a:t>
            </a:r>
            <a:endParaRPr b="0" lang="en-US" sz="4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684360" y="655308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Источник: МЭА,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Министерство Энергетики США, оценки ИЭФ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900000" y="3141720"/>
            <a:ext cx="3816360" cy="155412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кие цены на нефть в значительной степени обеспечиваются низкими квотами ОПЕК, хотя их фактическое выполнение ослабляется по мере роста ц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612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реднегодовые темпы прироста ВВП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 трех группах стран до и после 1973 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3" name="Picture 3" descr="Рисунок13"/>
          <p:cNvPicPr/>
          <p:nvPr/>
        </p:nvPicPr>
        <p:blipFill>
          <a:blip r:embed="rId1"/>
          <a:stretch/>
        </p:blipFill>
        <p:spPr>
          <a:xfrm>
            <a:off x="471600" y="1352520"/>
            <a:ext cx="8672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2000" y="228240"/>
            <a:ext cx="86454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ПЕК ограничивает поставки нефти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тогда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огда мировая экономика нуждается в ней, и увеличивает ее добычу тогда, когда нефти достаточно (1980–2001 гг.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5" name="Picture 3" descr="Рисунок43"/>
          <p:cNvPicPr/>
          <p:nvPr/>
        </p:nvPicPr>
        <p:blipFill>
          <a:blip r:embed="rId1"/>
          <a:stretch/>
        </p:blipFill>
        <p:spPr>
          <a:xfrm>
            <a:off x="384120" y="1773360"/>
            <a:ext cx="8510760" cy="484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8:30:30Z</dcterms:created>
  <dc:creator>Анна</dc:creator>
  <dc:description/>
  <dc:language>en-US</dc:language>
  <cp:lastModifiedBy>Алексей Пастухов</cp:lastModifiedBy>
  <dcterms:modified xsi:type="dcterms:W3CDTF">2015-02-05T13:16:32Z</dcterms:modified>
  <cp:revision>8</cp:revision>
  <dc:subject/>
  <dc:title>Слайд 1</dc:title>
</cp:coreProperties>
</file>