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A545-BF50-4AD4-B46A-E82A9EC33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6E43-DB84-4132-BF79-A438409A7A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AC91-EFB3-4F31-9176-3794A08503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5723-1044-4EBC-B598-2FFB70B0F5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5EA-AA8C-43EC-90B7-6CACFF82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427-52C4-42D4-9B9E-911F3704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499-FB4D-4517-886F-BD7BD25B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F23-5396-43A1-9CA3-D8EE6A10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D3BF-9EBA-4F96-B44C-CAB3FC40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CF56-A6C9-485B-BA8F-9FA9F173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3585-FDF6-4643-90AD-8877212D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FC07-13C2-4A0A-B898-AD1C3FDC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78AF-6CC1-48F1-AC52-929A4D47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8814-F07E-4B1E-B5B8-10EA823A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4B24-DDCD-4F55-A81B-212F9F2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44A-8129-4B81-8E2E-C777FD40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7247-0E4E-4BA1-A68E-5AA67063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8721-ABE4-4CC1-96E3-1609B414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FF91-A6ED-4E80-8F7A-2075E26F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9B51-175F-46EF-B619-698E7CE8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7542-5201-4719-9B53-216EB2CB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737-EA41-4C4D-95A0-A90A4D84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02A-F220-477C-B23B-E3914AA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8B0-3B50-44FD-8241-73BF5DC8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A81-AF1C-4949-9ACA-2B160544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4A8-BB09-46AC-8760-E3456534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A4A-B5A1-41D2-8495-BEBEF013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5DE-74AC-41C1-800C-8AFB9833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627D-D505-48C7-BF3C-ED72ECCE94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0D6E-054B-4B14-92F1-17035605164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OPEC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1052;&#1080;&#1088;&#1086;&#1074;&#1086;&#1077;%20&#1093;&#1086;&#1079;&#1103;&#1081;&#1089;&#1090;&#1074;&#1086;.PPT" TargetMode="External"/><Relationship Id="rId3" Type="http://schemas.openxmlformats.org/officeDocument/2006/relationships/hyperlink" Target="http://ru.wikipedia.org/wiki/&#1060;&#1072;&#1081;&#1083;:Flag_of_Algeria.svg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60;&#1072;&#1081;&#1083;:Flag_of_Venezuela.sv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60;&#1072;&#1081;&#1083;:Flag_of_Iraq.svg" TargetMode="External"/><Relationship Id="rId8" Type="http://schemas.openxmlformats.org/officeDocument/2006/relationships/image" Target="../media/image8.png"/><Relationship Id="rId9" Type="http://schemas.openxmlformats.org/officeDocument/2006/relationships/hyperlink" Target="http://ru.wikipedia.org/wiki/&#1060;&#1072;&#1081;&#1083;:Flag_of_Iran.svg" TargetMode="External"/><Relationship Id="rId10" Type="http://schemas.openxmlformats.org/officeDocument/2006/relationships/image" Target="../media/image9.png"/><Relationship Id="rId11" Type="http://schemas.openxmlformats.org/officeDocument/2006/relationships/hyperlink" Target="http://ru.wikipedia.org/wiki/&#1060;&#1072;&#1081;&#1083;:Flag_of_Qatar.svg" TargetMode="External"/><Relationship Id="rId12" Type="http://schemas.openxmlformats.org/officeDocument/2006/relationships/image" Target="../media/image10.png"/><Relationship Id="rId13" Type="http://schemas.openxmlformats.org/officeDocument/2006/relationships/hyperlink" Target="http://ru.wikipedia.org/wiki/&#1060;&#1072;&#1081;&#1083;:Flag_of_Kuwait.svg" TargetMode="External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6"/>
          <p:cNvSpPr/>
          <p:nvPr/>
        </p:nvSpPr>
        <p:spPr>
          <a:xfrm>
            <a:off x="755640" y="15717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«ОПЕК»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3"/>
          <p:cNvSpPr/>
          <p:nvPr/>
        </p:nvSpPr>
        <p:spPr>
          <a:xfrm>
            <a:off x="2556000" y="189000"/>
            <a:ext cx="633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ПЕ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OPEC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zation of the Petroleum Exporting Countries) </a:t>
            </a:r>
            <a:r>
              <a:rPr b="1" lang="en-US" sz="2400" spc="-1" strike="noStrike">
                <a:solidFill>
                  <a:srgbClr val="9383b3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рганизация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тран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экспортеров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нефти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250920" y="1844640"/>
            <a:ext cx="8424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ПЕК была учреждена после того, как «Семь сестер» – картель, объединявший компании «Бритиш петролеум», «Шеврон», «Эксон», «Галф», «Мобил», «Ройал датч шелл» и «Тексако» и контролировавший переработку сырой нефти и продажу нефтепродуктов во всем мире, – в одностороннем порядке снизили закупочные цены на нефть, исходя из которой они выплачивали налоги и проценты за право разработки природных ресурсов нефтедобывающим странам. В 1960-х годах на мировых рынках существовало избыточное предложение нефти, и целью создания ОПЕК являлось предотвращение дальнейшего падения цен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6" descr="250px-Flag_of_OPE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700360" cy="16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7"/>
          <p:cNvSpPr/>
          <p:nvPr/>
        </p:nvSpPr>
        <p:spPr>
          <a:xfrm>
            <a:off x="541440" y="155736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лаг ОПЕ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5741"/>
          <p:cNvPicPr/>
          <p:nvPr/>
        </p:nvPicPr>
        <p:blipFill>
          <a:blip r:embed="rId1"/>
          <a:stretch/>
        </p:blipFill>
        <p:spPr>
          <a:xfrm>
            <a:off x="324000" y="4653000"/>
            <a:ext cx="2663640" cy="198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97" name="Picture 3" descr="5743"/>
          <p:cNvPicPr/>
          <p:nvPr/>
        </p:nvPicPr>
        <p:blipFill>
          <a:blip r:embed="rId2"/>
          <a:stretch/>
        </p:blipFill>
        <p:spPr>
          <a:xfrm>
            <a:off x="6227640" y="4724280"/>
            <a:ext cx="2592360" cy="1936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98" name="Picture 4" descr="5744"/>
          <p:cNvPicPr/>
          <p:nvPr/>
        </p:nvPicPr>
        <p:blipFill>
          <a:blip r:embed="rId3"/>
          <a:stretch/>
        </p:blipFill>
        <p:spPr>
          <a:xfrm>
            <a:off x="3276720" y="4670280"/>
            <a:ext cx="2735280" cy="2043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99" name="Text Box 5"/>
          <p:cNvSpPr/>
          <p:nvPr/>
        </p:nvSpPr>
        <p:spPr>
          <a:xfrm>
            <a:off x="250920" y="11592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ЕК была сформирована на международной конференции в Багдаде, состоявшейся 10-14 сентября 1960 г. Первоначально в организацию вошли пять стран: Иран, Ирак, Кувейт, Саудовская Аравия и Венесуэла. В период с 1960 по 1975 гг. было принято еще 8 стран: Катар, Индонезия, Ливия, Объединенные Арабские Эмираты, Алжир, Нигерия, Эквадор и Габон. В декабре 1992 г. Эквадор вышел из состава ОПЕК, а в январе 1995 г. из нее был исключен Габо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68436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жи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611280" y="16128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несуэ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611280" y="23335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онез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684360" y="306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р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3276720" y="9079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3276720" y="1612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3276720" y="23335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вей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3276720" y="30542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5148360" y="9079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ге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5148360" y="1612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А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5148360" y="233352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удовская Ара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3" descr="docu0003"/>
          <p:cNvPicPr/>
          <p:nvPr/>
        </p:nvPicPr>
        <p:blipFill>
          <a:blip r:embed="rId1"/>
          <a:stretch/>
        </p:blipFill>
        <p:spPr>
          <a:xfrm>
            <a:off x="0" y="3649680"/>
            <a:ext cx="9144000" cy="32083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4"/>
          <p:cNvSpPr/>
          <p:nvPr/>
        </p:nvSpPr>
        <p:spPr>
          <a:xfrm>
            <a:off x="500040" y="214200"/>
            <a:ext cx="828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e"/>
                </a:solidFill>
                <a:latin typeface="Times New Roman"/>
              </a:rPr>
              <a:t>В настоящее время в ОПЕК входит 11 стран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AutoShape 15">
            <a:hlinkClick r:id="rId2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17" descr="Алжи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981000"/>
            <a:ext cx="540000" cy="368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9" descr="Венесуэл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1700280"/>
            <a:ext cx="505080" cy="344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1" descr="Ирак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3141720"/>
            <a:ext cx="540000" cy="3664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3" descr="Иран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771640" y="981000"/>
            <a:ext cx="505080" cy="298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5" descr="Катар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71640" y="1700280"/>
            <a:ext cx="503280" cy="279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7" descr="Кувейт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71640" y="2419200"/>
            <a:ext cx="576360" cy="290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9" descr="Ливия"/>
          <p:cNvPicPr/>
          <p:nvPr/>
        </p:nvPicPr>
        <p:blipFill>
          <a:blip r:embed="rId15"/>
          <a:stretch/>
        </p:blipFill>
        <p:spPr>
          <a:xfrm>
            <a:off x="2700360" y="3141720"/>
            <a:ext cx="576360" cy="288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1" descr="Нигерия"/>
          <p:cNvPicPr/>
          <p:nvPr/>
        </p:nvPicPr>
        <p:blipFill>
          <a:blip r:embed="rId16"/>
          <a:stretch/>
        </p:blipFill>
        <p:spPr>
          <a:xfrm>
            <a:off x="4572000" y="98100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3" descr="Объединённые Арабские Эмираты"/>
          <p:cNvPicPr/>
          <p:nvPr/>
        </p:nvPicPr>
        <p:blipFill>
          <a:blip r:embed="rId17"/>
          <a:stretch/>
        </p:blipFill>
        <p:spPr>
          <a:xfrm>
            <a:off x="4572000" y="1700280"/>
            <a:ext cx="576360" cy="288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5" descr="Саудовская Аравия"/>
          <p:cNvPicPr/>
          <p:nvPr/>
        </p:nvPicPr>
        <p:blipFill>
          <a:blip r:embed="rId18"/>
          <a:stretch/>
        </p:blipFill>
        <p:spPr>
          <a:xfrm>
            <a:off x="4716360" y="2421000"/>
            <a:ext cx="503280" cy="342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7" descr="Индонезия"/>
          <p:cNvPicPr/>
          <p:nvPr/>
        </p:nvPicPr>
        <p:blipFill>
          <a:blip r:embed="rId19"/>
          <a:stretch/>
        </p:blipFill>
        <p:spPr>
          <a:xfrm>
            <a:off x="179280" y="2349360"/>
            <a:ext cx="5050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17160" y="228240"/>
            <a:ext cx="87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Легкие» доходы от нефти весьма «тяжелы»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ля стран ОПЕК, национализировавших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ефтяную промышленность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6" name="Picture 3" descr="Рисунок16"/>
          <p:cNvPicPr/>
          <p:nvPr/>
        </p:nvPicPr>
        <p:blipFill>
          <a:blip r:embed="rId1"/>
          <a:stretch/>
        </p:blipFill>
        <p:spPr>
          <a:xfrm>
            <a:off x="252360" y="1484280"/>
            <a:ext cx="870264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4"/>
          <p:cNvSpPr/>
          <p:nvPr/>
        </p:nvSpPr>
        <p:spPr>
          <a:xfrm>
            <a:off x="466560" y="6524640"/>
            <a:ext cx="1152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0651-00FC-4194-A29B-3E4EE29189C6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cc"/>
                </a:solidFill>
                <a:latin typeface="Tahoma"/>
              </a:rPr>
              <a:t>ОПЕК – 11: квоты, фактическая добыча, загрузка мощностей</a:t>
            </a:r>
            <a:endParaRPr b="0" lang="en-US" sz="4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684360" y="655308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Источник: МЭА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Министерство Энергетики США, оценки ИЭФ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5"/>
          <p:cNvSpPr/>
          <p:nvPr/>
        </p:nvSpPr>
        <p:spPr>
          <a:xfrm>
            <a:off x="900000" y="3141720"/>
            <a:ext cx="3816360" cy="1554120"/>
          </a:xfrm>
          <a:prstGeom prst="rect">
            <a:avLst/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кие цены на нефть в значительной степени обеспечиваются низкими квотами ОПЕК, хотя их фактическое выполнение ослабляется по мере роста ц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612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реднегодовые темпы прироста ВВП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 трех группах стран до и после 1973 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3" name="Picture 3" descr="Рисунок13"/>
          <p:cNvPicPr/>
          <p:nvPr/>
        </p:nvPicPr>
        <p:blipFill>
          <a:blip r:embed="rId1"/>
          <a:stretch/>
        </p:blipFill>
        <p:spPr>
          <a:xfrm>
            <a:off x="471600" y="1352520"/>
            <a:ext cx="8672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2000" y="228240"/>
            <a:ext cx="86454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ПЕК ограничивает поставки нефти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тогда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огда мировая экономика нуждается в ней, и увеличивает ее добычу тогда, когда нефти достаточно (1980–2001 гг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5" name="Picture 3" descr="Рисунок43"/>
          <p:cNvPicPr/>
          <p:nvPr/>
        </p:nvPicPr>
        <p:blipFill>
          <a:blip r:embed="rId1"/>
          <a:stretch/>
        </p:blipFill>
        <p:spPr>
          <a:xfrm>
            <a:off x="384120" y="1773360"/>
            <a:ext cx="8510760" cy="484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8:30:30Z</dcterms:created>
  <dc:creator>Анна</dc:creator>
  <dc:description/>
  <dc:language>en-US</dc:language>
  <cp:lastModifiedBy>Алексей Пастухов</cp:lastModifiedBy>
  <dcterms:modified xsi:type="dcterms:W3CDTF">2015-02-05T13:16:32Z</dcterms:modified>
  <cp:revision>8</cp:revision>
  <dc:subject/>
  <dc:title>Слайд 1</dc:title>
</cp:coreProperties>
</file>