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5F05-7814-4948-B23E-2A77DFA8B7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6C09-BF31-4E77-9FA7-04CA4B065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593-CB91-4E5F-8F4F-E28E7EF5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41A-FD01-44B6-B56D-C11DD4E8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D20-BC03-49C7-97C6-57D383C7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83F-1EAC-4BC8-BEAE-7C16C0CF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CE49-A8F6-47AD-A14A-D7A96E63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0F9-16E1-404B-8BF7-72492D01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4C8-175C-4AE9-94DB-0BD054F9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FB7-7906-489B-9135-AC9996CB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2D8-0E79-4FBD-A14E-3698F17A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ACA-7D2B-40D0-A004-602D170E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6275-DA2C-448A-862A-8D0251F7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8A12-31DD-41B9-94C8-F074EA9A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070E-118C-41EA-8F3F-A6261D3834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ое общеобразовательное бюджетное учреждение Центр образования №153 Фрунзен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шибки развит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нова И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лияние ядохимикатов на орга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тициды, гербициды, дефолианты, применяемые в сельском хозяйстве многих стран, обладают доказанной способностью вызывать уродства у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авление ртутью вызывает серьезные поломки хромо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авление свинцом выражается в увеличении количества мертворождений и спонтанных абортов, у родившихся детей отмечаются неврологические нарушения и торможение умственного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о опасный тератог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, родившиеся от пьющих или выпивающих родителей, имеют весьма специфичный комплекс уродств – алкогольный синдром плода (АСП): несоответствие роста и развития возрасту, черепно-лицевые уродства в сочетании с аномалиями конечностей, сердца, половых органов и другими наруш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алкоголиков часто страдают эпилепсией, шизофренией, расстройствами речи, невроз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родыш и сигар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инство детей, рожденных от заядлых курильщиков, появляются на свет с теми или иными отклонениями от нормы: вес при рождении меньше, часто наблюдается неполноценность психического развития, одышка, высокий процент синдрома внезапной смерти – довольно загадочного явления, когда ребенок в возрасте до года вдруг, без видимых причин, умир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ические тератог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онизирующее излучение – при умеренной дозе -  задержка развития, уродства скелета и половых органов, нарушения строения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ертермия – нарушения отделов головного мозга и аномалии в строении глаз и лицевой части чере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Ч – облучение приводит к увеличению гибели эмбрионов, замедлению роста зароды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иологические тератог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русные инфекции – краснуха (врожденная катаракта, глухонемота, порок сердца, отставание в психическом и умственном развитии), цитомегалия (гибель плода или врожденные поро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альные инфекции – сифилис, клостридии, хламидии, микоплазмы –вызывают пороки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озойные инфекции –токсоплазмоз, малярия – поражения центральной нервной системы и органов чув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чить больного ребенка с врожденными пороками очень и очень трудно!!! Поэтому самым разумным является использовать полученные знания, чтобы предотвратить появление пороков разви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Разумное использование лекарственных сред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Защита окружающей среды от загрязнения: ядохимикатами, нефтью, промышленными и бытовыми сточными водами, от ради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е курить, не пить, не употреблять другие нарко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снование 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гда развитие зародышей отклоняется от нормы и в результате рождается уродливый реб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ждение аномального ребенка – тяжелое горе для семь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годня мы выясним некоторые причины, приводящие к аномалиям в развитии, чтобы уберечь себя и будущих детей от их неблагоприятного воз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ки терат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ки тератологии уходят в такую же даль веков, что и истоки медицины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древнее изображение уродливого ребенка, дошедшее до нашего времени, найдено в Египте. На наскальном рисунке изображен ребенок с аномалиями кост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наружены и каменные таблицы, изготовленные примерно 1700 лет до нашей эры в древнем Вавилоне, в которых описаны 62 типа различных пороков развит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разные времена по-разному относились к появлению уро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нтичные – были распространены представления, что уроды появляются из-за скрещивания богов с людьми или животными – легенды о Кентавре,Русалках, Химер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редние – считали, что уродства – следствие игры потусторонних сил, происходят из-за скрещивания людей с дьяволом, ведь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7 – 19 веках – огромный интерес и любопытство к уродам: их даже специально получали, показывали публ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3960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омалии, обусловленные генетическими факто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зародыша протекает по программе, закодированной в генетическом аппарате оплодотворенной яйцеклетки. Если эта наследственная информация искажается, нормальное развитие становится невозмож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нны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у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часто встречаются генные мутации, именно они создают основу для эволюционных изменений, они также могут в разной степени искажать ход развития, либо приводить к гибели зародыша (летальные ген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 некоторых болезней – сахарный диабет, идиотизм, гемофилия, дальтонизм, серповидноклеточная анемия, полидактилия и многие друг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ромосомные му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омосомные мутации – это количественные или структурные изменения хромо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инство организмов с хромосомными аномалиями гибнет еще в утробе мате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омосомные болезни – синдром Дауна, Эдвардса, Патау, Шерешевского-Тернера, Клайнфельтера и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омосомные аномалии могут возникать и в момент самого оплодотворения, и в самом начале развития при дроблении зиготы и при образовании половых кл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родыш 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ек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которые лекарственные препараты могут влиять на нормальный ход беременности: начиная от досрочного прерывания беременности из-за выкидыша или гибели плода, различных уродств и до отдаленных последствий в виде биохимических и функциональных отклонений у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асность представляют противоопухолевые препараты, иммунодепрессоры, салицилаты, половые гормоны, спермициды и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07:27:23Z</dcterms:created>
  <dc:creator>Ирина</dc:creator>
  <dc:description/>
  <dc:language>en-US</dc:language>
  <cp:lastModifiedBy>Биология</cp:lastModifiedBy>
  <dcterms:modified xsi:type="dcterms:W3CDTF">2014-12-12T12:40:44Z</dcterms:modified>
  <cp:revision>9</cp:revision>
  <dc:subject/>
  <dc:title>Презентация  «Ошибки развития»</dc:title>
</cp:coreProperties>
</file>