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E2E2-DEDD-4629-A061-46244DC86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C3A1-C7AC-410F-931E-35F0E4E4F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96B-C4A8-4CAD-BE94-4F56E771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35E-3120-4CC3-91E3-10CEB9F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632-4238-421B-90BF-96E28C44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127-0369-4CA9-9ED9-2C29283D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615-F46B-4EB9-8760-82AAF9B9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2B7-CB00-4FB2-8DD3-033A344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378-573C-4BEF-96F0-EF37921A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E6A-0B47-49EA-A96D-CF274E81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F13-1161-4C8A-A123-6A585A55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7D8-79D0-4327-83F8-D124432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9D1-1759-41E5-AED1-B87A6A5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AF6-B124-41DA-B3AE-2A24963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4741-CDF0-41A5-AB3C-69D61691E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е общеобразовательное бюджетное учреждение Центр образования №153 Фрунзе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шибки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нова И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лияние ядохимикатов 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тициды, гербициды, дефолианты, применяемые в сельском хозяйстве многих стран, обладают доказанной способностью вызывать уродства у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вление ртутью вызывает серьезные поломки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вление свинцом выражается в увеличении количества мертворождений и спонтанных абортов, у родившихся детей отмечаются неврологические нарушения и торможение умствен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 опасный тератог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, родившиеся от пьющих или выпивающих родителей, имеют весьма специфичный комплекс уродств – алкогольный синдром плода (АСП): несоответствие роста и развития возрасту, черепно-лицевые уродства в сочетании с аномалиями конечностей, сердца, половых органов и другими нару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алкоголиков часто страдают эпилепсией, шизофренией, расстройствами речи, невро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родыш и сигар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детей, рожденных от заядлых курильщиков, появляются на свет с теми или иными отклонениями от нормы: вес при рождении меньше, часто наблюдается неполноценность психического развития, одышка, высокий процент синдрома внезапной смерти – довольно загадочного явления, когда ребенок в возрасте до года вдруг, без видимых причин, умир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ческие тератог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онизирующее излучение – при умеренной дозе -  задержка развития, уродства скелета и половых органов, нарушения строени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термия – нарушения отделов головного мозга и аномалии в строении глаз и лицевой части чере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Ч – облучение приводит к увеличению гибели эмбрионов, замедлению роста зарод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ческие тератог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усные инфекции – краснуха (врожденная катаракта, глухонемота, порок сердца, отставание в психическом и умственном развитии), цитомегалия (гибель плода или врожденные поро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альные инфекции – сифилис, клостридии, хламидии, микоплазмы –вызывают пороки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зойные инфекции –токсоплазмоз, малярия – поражения центральной нервной системы и органов чув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ить больного ребенка с врожденными пороками очень и очень трудно!!! Поэтому самым разумным является использовать полученные знания, чтобы предотвратить появление пороков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зумное использование лекарственных сред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Защита окружающей среды от загрязнения: ядохимикатами, нефтью, промышленными и бытовыми сточными водами, от ради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е курить, не пить, не употреблять другие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нование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развитие зародышей отклоняется от нормы и в результате рождается уродливый реб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ждение аномального ребенка – тяжелое горе для семь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мы выясним некоторые причины, приводящие к аномалиям в развитии, чтобы уберечь себя и будущих детей от их неблагоприятн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ки терат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ки тератологии уходят в такую же даль веков, что и истоки медицины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древнее изображение уродливого ребенка, дошедшее до нашего времени, найдено в Египте. На наскальном рисунке изображен ребенок с аномалиями кост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ы и каменные таблицы, изготовленные примерно 1700 лет до нашей эры в древнем Вавилоне, в которых описаны 62 типа различных пороков развит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разные времена по-разному относились к появлению ур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нтичные – были распространены представления, что уроды появляются из-за скрещивания богов с людьми или животными – легенды о Кентавре,Русалках, Химер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ие – считали, что уродства – следствие игры потусторонних сил, происходят из-за скрещивания людей с дьяволом, ведь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7 – 19 веках – огромный интерес и любопытство к уродам: их даже специально получали, показывали публ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396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омалии, обусловленные генетическими факто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зародыша протекает по программе, закодированной в генетическом аппарате оплодотворенной яйцеклетки. Если эта наследственная информация искажается, нормальное развитие становится невозмож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нны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о встречаются генные мутации, именно они создают основу для эволюционных изменений, они также могут в разной степени искажать ход развития, либо приводить к гибели зародыша (летальные ге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некоторых болезней – сахарный диабет, идиотизм, гемофилия, дальтонизм, серповидноклеточная анемия, полидактилия и многие дру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ромосомные му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осомные мутации – это количественные или структурные изменения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организмов с хромосомными аномалиями гибнет еще в утробе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осомные болезни – синдром Дауна, Эдвардса, Патау, Шерешевского-Тернера, Клайнфельтера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осомные аномалии могут возникать и в момент самого оплодотворения, и в самом начале развития при дроблении зиготы и при образовании половых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родыш 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е лекарственные препараты могут влиять на нормальный ход беременности: начиная от досрочного прерывания беременности из-за выкидыша или гибели плода, различных уродств и до отдаленных последствий в виде биохимических и функциональных отклонений у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асность представляют противоопухолевые препараты, иммунодепрессоры, салицилаты, половые гормоны, спермициды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07:27:23Z</dcterms:created>
  <dc:creator>Ирина</dc:creator>
  <dc:description/>
  <dc:language>en-US</dc:language>
  <cp:lastModifiedBy>Биология</cp:lastModifiedBy>
  <dcterms:modified xsi:type="dcterms:W3CDTF">2014-12-12T12:40:44Z</dcterms:modified>
  <cp:revision>9</cp:revision>
  <dc:subject/>
  <dc:title>Презентация  «Ошибки развития»</dc:title>
</cp:coreProperties>
</file>