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DD2-F915-49BD-B8D8-3C8C4C11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703-B4C1-49A8-8D5A-243967A1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C1E-3610-4447-AC7B-C82CFD47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913-A848-4C37-BBC0-1CDBCC52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25B00-25D8-45BE-9967-923A34EE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46811-C193-496D-B5D1-C6CA7F75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0A0CA-3376-4B22-974A-C05A263B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012C6-839A-4C51-A55A-52BC0EEE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F4BA3-45B0-4165-BB43-3D4600F2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556B7-8237-49F9-B907-BC2DF55A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21EA3-EA41-4FF5-9266-2ECC406C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0D6-4380-44A0-BC3B-CED41D45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46BD0-D0E1-402E-B1BE-3FF19232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849E6-2E17-4EB4-87C1-6E59DA4E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44E25-1396-4027-AD06-525719C0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5254-BC41-4EB1-BBD1-F3638053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055FF-222B-4E68-803F-D44D9116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FBD-E3F7-4B94-87F6-383FCFA0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1FD-DDE0-4514-A887-1210AFC4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552-C603-4909-8F2B-31F636A7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929-8AB7-4975-BF2D-BB086A13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783-896B-4B0A-AD86-ED3E3C58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E97-2B72-4252-BDE1-EB1330E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2A4-B7AD-4CC8-8D64-5679C2B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D598-F2E9-466E-B75D-4B1C464D5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18B6-658A-4CDC-9D0F-D20B1BAA4A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8600" y="76212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5" descr="Параллелограмм"/>
          <p:cNvPicPr/>
          <p:nvPr/>
        </p:nvPicPr>
        <p:blipFill>
          <a:blip r:embed="rId1"/>
          <a:stretch/>
        </p:blipFill>
        <p:spPr>
          <a:xfrm>
            <a:off x="1219320" y="2819520"/>
            <a:ext cx="6705360" cy="330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ишо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ких это школьных программах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. . . за какие грех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сать о парАллЕ- ло- грамм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али вдруг стих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3429000" y="3352680"/>
            <a:ext cx="449568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геометрии и интер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C900234160[1]"/>
          <p:cNvPicPr/>
          <p:nvPr/>
        </p:nvPicPr>
        <p:blipFill>
          <a:blip r:embed="rId1"/>
          <a:stretch/>
        </p:blipFill>
        <p:spPr>
          <a:xfrm>
            <a:off x="4038480" y="320040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у выполнил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5120" y="243792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ница 8-го класса МКОУ СОШ школы деревня – Авдее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гинова ан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– Ивашкевич Наталья Михайловна, 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3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8" descr="MC900292134[1]"/>
          <p:cNvPicPr/>
          <p:nvPr/>
        </p:nvPicPr>
        <p:blipFill>
          <a:blip r:embed="rId1"/>
          <a:stretch/>
        </p:blipFill>
        <p:spPr>
          <a:xfrm>
            <a:off x="6019920" y="358128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752480" y="762120"/>
            <a:ext cx="571500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6" descr="MC900429803[1]"/>
          <p:cNvPicPr/>
          <p:nvPr/>
        </p:nvPicPr>
        <p:blipFill>
          <a:blip r:embed="rId1"/>
          <a:stretch/>
        </p:blipFill>
        <p:spPr>
          <a:xfrm>
            <a:off x="3733920" y="3505320"/>
            <a:ext cx="3124080" cy="3047760"/>
          </a:xfrm>
          <a:prstGeom prst="rect">
            <a:avLst/>
          </a:prstGeom>
          <a:ln w="0">
            <a:noFill/>
          </a:ln>
        </p:spPr>
      </p:pic>
      <p:pic>
        <p:nvPicPr>
          <p:cNvPr id="122" name="j0214098.wav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редел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аллелограммом называется четырехугольник, у которого противоположные стороны попарно параллель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параллелограмм"/>
          <p:cNvPicPr/>
          <p:nvPr/>
        </p:nvPicPr>
        <p:blipFill>
          <a:blip r:embed="rId1"/>
          <a:stretch/>
        </p:blipFill>
        <p:spPr>
          <a:xfrm>
            <a:off x="2743200" y="3352680"/>
            <a:ext cx="4419720" cy="233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знаки параллелограмм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Параллелограммом называется четырехугольник, у которого противолежащие стороны попарно параллель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3124080" y="3505320"/>
            <a:ext cx="4724640" cy="234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ротивоположные стороны рав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2057400" y="3048120"/>
            <a:ext cx="5105520" cy="28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Противоположные углы рав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1676520" y="2955960"/>
            <a:ext cx="5105160" cy="261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Диагонали делятся попол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1981080" y="3048120"/>
            <a:ext cx="5486400" cy="236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знаки параллелограмм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диагонали четырехугольника пересекаются и точкой пересечения делятся пополам, то этот четырехугольник – параллелограм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параллелограмм"/>
          <p:cNvPicPr/>
          <p:nvPr/>
        </p:nvPicPr>
        <p:blipFill>
          <a:blip r:embed="rId1"/>
          <a:stretch/>
        </p:blipFill>
        <p:spPr>
          <a:xfrm>
            <a:off x="6172200" y="1981080"/>
            <a:ext cx="2362320" cy="1217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838080" y="3155040"/>
            <a:ext cx="7239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тырехугольника пара противоположных сторон параллельны и равны, то четырехугольник – параллелограмм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параллелограмм"/>
          <p:cNvPicPr/>
          <p:nvPr/>
        </p:nvPicPr>
        <p:blipFill>
          <a:blip r:embed="rId2"/>
          <a:stretch/>
        </p:blipFill>
        <p:spPr>
          <a:xfrm>
            <a:off x="6019920" y="37339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762120" y="487656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 четырехугольнике противолежащие углы равны, такой четырехугольник – параллелограмм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параллелограмм"/>
          <p:cNvPicPr/>
          <p:nvPr/>
        </p:nvPicPr>
        <p:blipFill>
          <a:blip r:embed="rId3"/>
          <a:stretch/>
        </p:blipFill>
        <p:spPr>
          <a:xfrm>
            <a:off x="5562720" y="5410080"/>
            <a:ext cx="243828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осворд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Кроссворд по геометрии"/>
          <p:cNvPicPr/>
          <p:nvPr/>
        </p:nvPicPr>
        <p:blipFill>
          <a:blip r:embed="rId1"/>
          <a:stretch/>
        </p:blipFill>
        <p:spPr>
          <a:xfrm>
            <a:off x="0" y="1600200"/>
            <a:ext cx="4038480" cy="2530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191120" y="1296720"/>
            <a:ext cx="4952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Отрезок соединяющий вершину прямоугольника с серединой противоположной сторо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Геометрическая фигура, состоит  из всех точек плоскости, расположенных на заданном расстоянии от точ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Параллелограмм, у которого все стороны рав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Сумма всех сторон. Что эт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Четырехугольник, у которого 2 стороны параллельны, 2 две другие н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точки не лежащие на одной прямой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Какую форму имеет консервная банк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45691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Медиа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б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Периме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п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Треуго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емного из истор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ного из истории параллелограмма Термин "ПАРАЛЛЕЛОГРАММ" греческого происхождения и был введен Евклидом. Евклидом доказывается теорема о том, что в параллелограмме противоположные стороны равны и противоположные углы равны, а диагональ разделяет его пополам, но Евклид не упоминает о том, что точка пересечения диагоналей делит их пополам. Термин "ПАРАЛЛЕЛОГРАММ" греческого происхождения и был введен Евклидом. Евклидом доказывается теорема о том, что в параллелограмме противоположные стороны равны и противоположные углы равны, а диагональ разделяет его пополам, но Евклид не упоминает о том, что точка пересечения диагоналей делит их попол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19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30T16:29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