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8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6979-36F8-40EB-9E94-D472056AD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321B-063E-4CA9-8CEB-9A0B7CCCC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2105-6B7E-4635-9F19-17F8F9BD4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A6F3-D972-45FC-9C6C-1B8A7D67C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E9A3D1-44F2-4C39-AD4F-CB83B5E60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8F2D11-2458-4FFE-AFA2-5BE16EDDB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FF86A8-162A-4D6C-85F2-6E665E055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02A8D6-B2D1-43B0-94AA-03C3CB393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4B5863-428F-4AD6-83A0-204FDF14E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245D43-6009-4ED7-ADD9-AE3254BD8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8769D4-735C-440C-9FBE-90575F4B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F9BC-D2E3-494E-86DB-66980737C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F17E10-49F9-4D59-9AE9-B35CE584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00479F-FDEF-4A3D-B80B-D84D4D44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241FF3-301C-46E5-B51A-566775677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21C23B-07E5-44BF-8647-50932EF70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991E4A-7DBA-4657-BEBB-622C299F0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A730-1F57-4E4B-8CEF-360A6E1C3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AB88-04FD-446B-9064-623EA5E94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65E9-3583-43D6-94F2-0FF12DEE9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26F5-57F6-4A0C-8167-0C0151B12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C41B-C390-4329-92D6-BE79312F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628B-0A15-470D-BEB4-CAF27A91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8237-165F-4D2F-9945-97E0600F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1E0A2-98C7-406C-8E6A-EA65560269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FEA99-5E4A-483D-A080-7D19B5C1C5E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4"/>
          <p:cNvSpPr txBox="1"/>
          <p:nvPr/>
        </p:nvSpPr>
        <p:spPr>
          <a:xfrm>
            <a:off x="228600" y="762120"/>
            <a:ext cx="82296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араллелограм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4" name="Picture 5" descr="Параллелограмм"/>
          <p:cNvPicPr/>
          <p:nvPr/>
        </p:nvPicPr>
        <p:blipFill>
          <a:blip r:embed="rId1"/>
          <a:stretch/>
        </p:blipFill>
        <p:spPr>
          <a:xfrm>
            <a:off x="1219320" y="2819520"/>
            <a:ext cx="6705360" cy="3305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тишок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каких это школьных программах..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. . . за какие грехи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исать о парАллЕ- ло- граммах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дали вдруг стих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4" descr="Параллелограмм"/>
          <p:cNvPicPr/>
          <p:nvPr/>
        </p:nvPicPr>
        <p:blipFill>
          <a:blip r:embed="rId1"/>
          <a:stretch/>
        </p:blipFill>
        <p:spPr>
          <a:xfrm>
            <a:off x="3429000" y="3352680"/>
            <a:ext cx="4495680" cy="2619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Литератур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ебник геометрии и интерн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6" descr="MC900234160[1]"/>
          <p:cNvPicPr/>
          <p:nvPr/>
        </p:nvPicPr>
        <p:blipFill>
          <a:blip r:embed="rId1"/>
          <a:stretch/>
        </p:blipFill>
        <p:spPr>
          <a:xfrm>
            <a:off x="4038480" y="3200400"/>
            <a:ext cx="4038840" cy="2666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аботу выполнил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905120" y="2437920"/>
            <a:ext cx="3657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ченица 8-го класса МКОУ СОШ школы деревня – Авдеев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огинова анн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уководитель – Ивашкевич Наталья Михайловна, учитель математи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013 год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8" descr="MC900292134[1]"/>
          <p:cNvPicPr/>
          <p:nvPr/>
        </p:nvPicPr>
        <p:blipFill>
          <a:blip r:embed="rId1"/>
          <a:stretch/>
        </p:blipFill>
        <p:spPr>
          <a:xfrm>
            <a:off x="6019920" y="3581280"/>
            <a:ext cx="2514600" cy="2590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4"/>
          <p:cNvSpPr txBox="1"/>
          <p:nvPr/>
        </p:nvSpPr>
        <p:spPr>
          <a:xfrm>
            <a:off x="1752480" y="762120"/>
            <a:ext cx="5715000" cy="28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внимание!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1" name="Picture 6" descr="MC900429803[1]"/>
          <p:cNvPicPr/>
          <p:nvPr/>
        </p:nvPicPr>
        <p:blipFill>
          <a:blip r:embed="rId1"/>
          <a:stretch/>
        </p:blipFill>
        <p:spPr>
          <a:xfrm>
            <a:off x="3733920" y="3505320"/>
            <a:ext cx="3124080" cy="3047760"/>
          </a:xfrm>
          <a:prstGeom prst="rect">
            <a:avLst/>
          </a:prstGeom>
          <a:ln w="0">
            <a:noFill/>
          </a:ln>
        </p:spPr>
      </p:pic>
      <p:pic>
        <p:nvPicPr>
          <p:cNvPr id="122" name="j0214098.wav" descr=""/>
          <p:cNvPicPr/>
          <p:nvPr/>
        </p:nvPicPr>
        <p:blipFill>
          <a:blip r:embed="rId2"/>
          <a:stretch/>
        </p:blipFill>
        <p:spPr>
          <a:xfrm>
            <a:off x="79246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пределение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араллелограммом называется четырехугольник, у которого противоположные стороны попарно параллельн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5" descr="параллелограмм"/>
          <p:cNvPicPr/>
          <p:nvPr/>
        </p:nvPicPr>
        <p:blipFill>
          <a:blip r:embed="rId1"/>
          <a:stretch/>
        </p:blipFill>
        <p:spPr>
          <a:xfrm>
            <a:off x="2743200" y="3352680"/>
            <a:ext cx="4419720" cy="2333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изнаки параллелограмм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Параллелограммом называется четырехугольник, у которого противолежащие стороны попарно параллельн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4" descr="параллелограмм"/>
          <p:cNvPicPr/>
          <p:nvPr/>
        </p:nvPicPr>
        <p:blipFill>
          <a:blip r:embed="rId1"/>
          <a:stretch/>
        </p:blipFill>
        <p:spPr>
          <a:xfrm>
            <a:off x="3124080" y="3505320"/>
            <a:ext cx="4724640" cy="2349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.Противоположные стороны равн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4" descr="параллелограмм"/>
          <p:cNvPicPr/>
          <p:nvPr/>
        </p:nvPicPr>
        <p:blipFill>
          <a:blip r:embed="rId1"/>
          <a:stretch/>
        </p:blipFill>
        <p:spPr>
          <a:xfrm>
            <a:off x="2057400" y="3048120"/>
            <a:ext cx="5105520" cy="2803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.Противоположные углы равн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4" descr="параллелограмм"/>
          <p:cNvPicPr/>
          <p:nvPr/>
        </p:nvPicPr>
        <p:blipFill>
          <a:blip r:embed="rId1"/>
          <a:stretch/>
        </p:blipFill>
        <p:spPr>
          <a:xfrm>
            <a:off x="1676520" y="2955960"/>
            <a:ext cx="5105160" cy="2616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.Диагонали делятся пополам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4" descr="параллелограмм"/>
          <p:cNvPicPr/>
          <p:nvPr/>
        </p:nvPicPr>
        <p:blipFill>
          <a:blip r:embed="rId1"/>
          <a:stretch/>
        </p:blipFill>
        <p:spPr>
          <a:xfrm>
            <a:off x="1981080" y="3048120"/>
            <a:ext cx="5486400" cy="2361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изнаки параллелограмма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Если диагонали четырехугольника пересекаются и точкой пересечения делятся пополам, то этот четырехугольник – параллелограмм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4" descr="параллелограмм"/>
          <p:cNvPicPr/>
          <p:nvPr/>
        </p:nvPicPr>
        <p:blipFill>
          <a:blip r:embed="rId1"/>
          <a:stretch/>
        </p:blipFill>
        <p:spPr>
          <a:xfrm>
            <a:off x="6172200" y="1981080"/>
            <a:ext cx="2362320" cy="12178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5"/>
          <p:cNvSpPr/>
          <p:nvPr/>
        </p:nvSpPr>
        <p:spPr>
          <a:xfrm>
            <a:off x="838080" y="3155040"/>
            <a:ext cx="72392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у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четырехугольника пара противоположных сторон параллельны и равны, то четырехугольник – параллелограмм.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6" descr="параллелограмм"/>
          <p:cNvPicPr/>
          <p:nvPr/>
        </p:nvPicPr>
        <p:blipFill>
          <a:blip r:embed="rId2"/>
          <a:stretch/>
        </p:blipFill>
        <p:spPr>
          <a:xfrm>
            <a:off x="6019920" y="3733920"/>
            <a:ext cx="2286000" cy="10666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7"/>
          <p:cNvSpPr/>
          <p:nvPr/>
        </p:nvSpPr>
        <p:spPr>
          <a:xfrm>
            <a:off x="762120" y="487656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в четырехугольнике противолежащие углы равны, такой четырехугольник – параллелограмм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8" descr="параллелограмм"/>
          <p:cNvPicPr/>
          <p:nvPr/>
        </p:nvPicPr>
        <p:blipFill>
          <a:blip r:embed="rId3"/>
          <a:stretch/>
        </p:blipFill>
        <p:spPr>
          <a:xfrm>
            <a:off x="5562720" y="5410080"/>
            <a:ext cx="2438280" cy="1143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Кросворд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4" descr="Кроссворд по геометрии"/>
          <p:cNvPicPr/>
          <p:nvPr/>
        </p:nvPicPr>
        <p:blipFill>
          <a:blip r:embed="rId1"/>
          <a:stretch/>
        </p:blipFill>
        <p:spPr>
          <a:xfrm>
            <a:off x="0" y="1600200"/>
            <a:ext cx="4038480" cy="253044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4191120" y="1296720"/>
            <a:ext cx="49528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прос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Отрезок соединяющий вершину прямоугольника с серединой противоположной стороны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Геометрическая фигура, состоит  из всех точек плоскости, расположенных на заданном расстоянии от точки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Параллелограмм, у которого все стороны равны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Сумма всех сторон. Что это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Четырехугольник, у которого 2 стороны параллельны, 2 две другие нет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 точки не лежащие на одной прямой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Какую форму имеет консервная банка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0" y="4569120"/>
            <a:ext cx="3962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вет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Медиан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круж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мб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Перимет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апец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Треугольни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Цилинд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Немного из истории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много из истории параллелограмма Термин "ПАРАЛЛЕЛОГРАММ" греческого происхождения и был введен Евклидом. Евклидом доказывается теорема о том, что в параллелограмме противоположные стороны равны и противоположные углы равны, а диагональ разделяет его пополам, но Евклид не упоминает о том, что точка пересечения диагоналей делит их пополам. Термин "ПАРАЛЛЕЛОГРАММ" греческого происхождения и был введен Евклидом. Евклидом доказывается теорема о том, что в параллелограмме противоположные стороны равны и противоположные углы равны, а диагональ разделяет его пополам, но Евклид не упоминает о том, что точка пересечения диагоналей делит их пополам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6734160" y="0"/>
            <a:ext cx="2409840" cy="1981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5-01-30T16:29:43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