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385E-A76D-4BD1-8E5E-BEEF8C26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0ED-3CD6-42D8-8668-2183E1CB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23F-F5BC-4EDF-B46F-2FA06938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253-977E-4D97-8A8F-19ABFADE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F79E-2B1E-4CEB-A7CE-14515E87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BE64-AD6E-4BAA-B597-62B3AB99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739D-9ED9-44B1-9E2B-6471BE89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69B3-2F2A-4438-B34F-F3E6FBEF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372B-79CF-466C-A439-A1D791F9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66BD-62C5-4271-90C4-0E9644F7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C261-DD9B-4CE3-9D88-0DFF6F06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508-BB6A-4C74-AC91-E0CC25CA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4F55-2381-4600-BA1F-E2D40F06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6A02-3346-4EA2-A1E3-334E0719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F180-6F54-48DB-B5F9-5271965C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2395-8C84-44D4-88A1-494EAF1C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9DFE-7B57-4FA1-9085-BB129221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57192-1A42-4602-BBAE-5443F02B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E5931-72F3-4CCC-9B00-7162F9F2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5C85-4057-48E2-B9AC-612D49F3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5A31E-85BA-4516-BA29-9EF5CE01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9D64-94E6-4B79-81B0-97AAE877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478-2A5A-40E5-A35B-586A4D25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B5F01-FADF-40A1-B10E-28E4779F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19ED6-768F-4D8F-9E3E-F63BCBD7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9DC7-8942-48AA-BE32-9C755AB6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26A5A-3CA3-4139-A432-DF30C787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53B93-9773-4A15-8655-6E598172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710D2-7D7C-4010-9D5D-7012A763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62A3B-23C7-4A72-8A41-ED3BB1CB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B85-D6A1-4443-9EB4-ED061295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EAF-C75B-43A4-AF27-6FCB3374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509-72EA-4EB2-A02F-5F3421BF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9D1-7233-48E7-88F4-6B2F8281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A5D-E957-4C6D-BA6C-C3BC0931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6CE-DB4F-45C6-84A7-AE3F1890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4FEB-4D92-4882-8EAD-8C07A9B57E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1AED-B2C1-4526-8ADD-0B1EA43A39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30EF-83AD-4648-82DB-9F72F47E0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3" descr=""/>
          <p:cNvPicPr/>
          <p:nvPr/>
        </p:nvPicPr>
        <p:blipFill>
          <a:blip r:embed="rId1"/>
          <a:stretch/>
        </p:blipFill>
        <p:spPr>
          <a:xfrm>
            <a:off x="-334800" y="1206360"/>
            <a:ext cx="98136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09440"/>
            <a:ext cx="9156960" cy="19382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214200" y="1357200"/>
            <a:ext cx="8929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Мирового оке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491C6CBA-0A01-01E1-0068-097DAC9514C2"/>
          <p:cNvPicPr/>
          <p:nvPr/>
        </p:nvPicPr>
        <p:blipFill>
          <a:blip r:embed="rId2"/>
          <a:stretch/>
        </p:blipFill>
        <p:spPr>
          <a:xfrm>
            <a:off x="719280" y="2143080"/>
            <a:ext cx="770544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яние лед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2" descr="491C6C29-0A01-01E1-0134-681280D309B5"/>
          <p:cNvPicPr/>
          <p:nvPr/>
        </p:nvPicPr>
        <p:blipFill>
          <a:blip r:embed="rId1"/>
          <a:stretch/>
        </p:blipFill>
        <p:spPr>
          <a:xfrm>
            <a:off x="0" y="1571760"/>
            <a:ext cx="4581360" cy="4606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491C6C4F-0A01-01E1-00A5-F99BBCFAD21E"/>
          <p:cNvPicPr/>
          <p:nvPr/>
        </p:nvPicPr>
        <p:blipFill>
          <a:blip r:embed="rId2"/>
          <a:stretch/>
        </p:blipFill>
        <p:spPr>
          <a:xfrm>
            <a:off x="4786200" y="1581120"/>
            <a:ext cx="43578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4" descr="D:\Мои документы\Мои рисунки\Рисунок2.jpg"/>
          <p:cNvPicPr/>
          <p:nvPr/>
        </p:nvPicPr>
        <p:blipFill>
          <a:blip r:embed="rId1"/>
          <a:stretch/>
        </p:blipFill>
        <p:spPr>
          <a:xfrm>
            <a:off x="0" y="-17640"/>
            <a:ext cx="9156600" cy="6875640"/>
          </a:xfrm>
          <a:prstGeom prst="rect">
            <a:avLst/>
          </a:prstGeom>
          <a:ln w="0">
            <a:noFill/>
          </a:ln>
        </p:spPr>
      </p:pic>
      <p:sp>
        <p:nvSpPr>
          <p:cNvPr id="166" name="Oval 5"/>
          <p:cNvSpPr/>
          <p:nvPr/>
        </p:nvSpPr>
        <p:spPr>
          <a:xfrm>
            <a:off x="5148360" y="2349360"/>
            <a:ext cx="936360" cy="79236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4716360" y="2492280"/>
            <a:ext cx="576360" cy="5763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7020000" y="2708280"/>
            <a:ext cx="144360" cy="1443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2268360" y="5084640"/>
            <a:ext cx="144720" cy="144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4932360" y="907920"/>
            <a:ext cx="144360" cy="144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4284720" y="1341360"/>
            <a:ext cx="144360" cy="144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4356000" y="1700280"/>
            <a:ext cx="144720" cy="1443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500040" y="6072120"/>
            <a:ext cx="571680" cy="57168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143000" y="6143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зоны экологического бедствия при таянии ле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биосфер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круговоротов главных биогенных элем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тические измен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распределения осадков по регион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зон пусты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тынивание и заболачиваемость территор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491C6C8C-0A01-01E1-0079-404ABD7A6C48"/>
          <p:cNvPicPr/>
          <p:nvPr/>
        </p:nvPicPr>
        <p:blipFill>
          <a:blip r:embed="rId1"/>
          <a:stretch/>
        </p:blipFill>
        <p:spPr>
          <a:xfrm>
            <a:off x="0" y="1643040"/>
            <a:ext cx="4586400" cy="4535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491C6CD2-0A01-01E1-005B-3E5DA72C2C3E"/>
          <p:cNvPicPr/>
          <p:nvPr/>
        </p:nvPicPr>
        <p:blipFill>
          <a:blip r:embed="rId2"/>
          <a:srcRect l="0" t="1547" r="0" b="0"/>
          <a:stretch/>
        </p:blipFill>
        <p:spPr>
          <a:xfrm>
            <a:off x="4743360" y="1643040"/>
            <a:ext cx="440064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заболеваний, связанный с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м маляри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м тепловых ударов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м некачественной воды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еданием и голодом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ссовыми ситуация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роблемы парникового эффекта в следующем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кращении выбросов в атмосферу углекислого газ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на экологически чистые источники энерги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лесов-экосистем, способствующих оттоку углекислого газа из атмосфер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е экологические последствия парникового эфф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пление климата, скорее всего, благоприятно отразится на растительности, в частности на лесных экосистемах и сельском хозяйстве. При этом потеплении изменится и режим атмосферных осадков в сторону их увеличения, что также улучшит условия произрастания растений во многих регионах. Специалисты предполагают, что при повышении температуры воздуха на 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оличество осадков над континентами в среднем возрастёт на 10%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онцентрации СО2 в атмосфере может увеличить интенсивность фотосинтеза и, значит, способствовать росту и развитию раст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концентрации диоксида углерода в атмосфере может оказать благоприятное воздействие на урожайность многих сельскохозяйственных культу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ными на основе исследований составляются прогнозы изменения растительных природных зон при увеличении температуры на 1,4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(2000 год) и на 2,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(к 2025 году). Согласно этому прогнозу учёных, при глобальном потеплении будет наблюдаться существенное уменьшение площадей наших тундры и лесотундры - более чем в 2 раза при потеплении на 1,4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и более чем в 6 раз при повышении температуры на 2,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. При этом будут изменяться природные зо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demian_nebo"/>
          <p:cNvPicPr/>
          <p:nvPr/>
        </p:nvPicPr>
        <p:blipFill>
          <a:blip r:embed="rId1"/>
          <a:stretch/>
        </p:blipFill>
        <p:spPr>
          <a:xfrm>
            <a:off x="6084720" y="450864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4254_1"/>
          <p:cNvPicPr/>
          <p:nvPr/>
        </p:nvPicPr>
        <p:blipFill>
          <a:blip r:embed="rId2"/>
          <a:stretch/>
        </p:blipFill>
        <p:spPr>
          <a:xfrm>
            <a:off x="3059280" y="450864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Forest"/>
          <p:cNvPicPr/>
          <p:nvPr/>
        </p:nvPicPr>
        <p:blipFill>
          <a:blip r:embed="rId3"/>
          <a:stretch/>
        </p:blipFill>
        <p:spPr>
          <a:xfrm>
            <a:off x="179280" y="4508640"/>
            <a:ext cx="275292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Вертикальный свиток 1"/>
          <p:cNvSpPr/>
          <p:nvPr/>
        </p:nvSpPr>
        <p:spPr>
          <a:xfrm>
            <a:off x="0" y="0"/>
            <a:ext cx="9144000" cy="6858000"/>
          </a:xfrm>
          <a:prstGeom prst="verticalScroll">
            <a:avLst>
              <a:gd name="adj" fmla="val 12500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отский прото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 документ, принятый в Киото (Япония) в декабре 1997 года в дополнение к Рамочной конвенции ООН об изменении климата. Период подписания протокола открылся 16 марта 1998 года и завершился 15 марта 1999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Блок-схема: процесс 6"/>
          <p:cNvSpPr/>
          <p:nvPr/>
        </p:nvSpPr>
        <p:spPr>
          <a:xfrm>
            <a:off x="249120" y="619200"/>
            <a:ext cx="8645760" cy="5619600"/>
          </a:xfrm>
          <a:prstGeom prst="flowChartProcess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1314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нико́вый эффе́кт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овышение температуры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я Киотского протоко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3840" y="642600"/>
            <a:ext cx="86439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стоянию на 14 феврал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Протокол бы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тифицирован 161 страной мира (совокупно ответственными 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чем 61 % общемировых выбросов). Замет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м из этого списка являютс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Kyoto"/>
          <p:cNvPicPr/>
          <p:nvPr/>
        </p:nvPicPr>
        <p:blipFill>
          <a:blip r:embed="rId1"/>
          <a:stretch/>
        </p:blipFill>
        <p:spPr>
          <a:xfrm>
            <a:off x="0" y="2500200"/>
            <a:ext cx="91026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Горизонтальный свиток 3"/>
          <p:cNvSpPr/>
          <p:nvPr/>
        </p:nvSpPr>
        <p:spPr>
          <a:xfrm>
            <a:off x="0" y="571680"/>
            <a:ext cx="9144000" cy="5786280"/>
          </a:xfrm>
          <a:prstGeom prst="horizontalScroll">
            <a:avLst>
              <a:gd name="adj" fmla="val 12500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"/>
          <p:cNvSpPr/>
          <p:nvPr/>
        </p:nvSpPr>
        <p:spPr>
          <a:xfrm>
            <a:off x="2208600" y="214200"/>
            <a:ext cx="472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ли согла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714240" y="1285920"/>
            <a:ext cx="842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ц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гидрофторуглеводороды, перфторуглеводороды, N2O, SF6) на 5,2 % по сравнению с уровнем 1990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мифов о глобальном потеплени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14200" y="71424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глобальным потеплением</a:t>
            </a:r>
            <a:r>
              <a:rPr b="0" lang="en-US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. Вот распространенные заблуждения, связанные с ним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Глобального потепления вообще не происход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Глобальное потепление - естественный проце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В любом случае последствия будут постепенн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14200" y="320760"/>
            <a:ext cx="8715600" cy="62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Глобальное потепление приведет к всемирному потоп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4200" y="642960"/>
            <a:ext cx="8715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. От глобального потепления мы получим только вы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. Сельскому хозяйству это будет только на ру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. Правительство о нас позаботи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). Проблема не так серьезна, как национальная безопас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480" y="713880"/>
            <a:ext cx="86439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). Причины глобального потепления известны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). Мы знаем, как бороться с глобальным потеплением, у нас есть техноло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). Мы не можем ничего с этим подел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же сейчас может внести свой вклад в борьбу с глобальным потеплением хотя 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 соблюдая рационализм в своей потребительской деятель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Вертикальный свиток 3"/>
          <p:cNvSpPr/>
          <p:nvPr/>
        </p:nvSpPr>
        <p:spPr>
          <a:xfrm>
            <a:off x="0" y="0"/>
            <a:ext cx="9144000" cy="6858000"/>
          </a:xfrm>
          <a:prstGeom prst="verticalScrol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"/>
          <p:cNvSpPr/>
          <p:nvPr/>
        </p:nvSpPr>
        <p:spPr>
          <a:xfrm>
            <a:off x="714240" y="357120"/>
            <a:ext cx="7643880" cy="65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691F-82B4-415C-9B96-9EE526D8E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то происходи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CLIMATE_CHANGE"/>
          <p:cNvPicPr/>
          <p:nvPr/>
        </p:nvPicPr>
        <p:blipFill>
          <a:blip r:embed="rId1"/>
          <a:srcRect l="0" t="7501" r="0" b="0"/>
          <a:stretch/>
        </p:blipFill>
        <p:spPr>
          <a:xfrm>
            <a:off x="684360" y="2643120"/>
            <a:ext cx="7775280" cy="4025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249120" y="714240"/>
            <a:ext cx="86457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е углекислого газа в атмосфере - одна из основны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механизм пэ.gif"/>
          <p:cNvPicPr/>
          <p:nvPr/>
        </p:nvPicPr>
        <p:blipFill>
          <a:blip r:embed="rId1"/>
          <a:srcRect l="7582" t="10353" r="9089" b="10353"/>
          <a:stretch/>
        </p:blipFill>
        <p:spPr>
          <a:xfrm>
            <a:off x="2071800" y="112680"/>
            <a:ext cx="492912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никовые га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яной пар — основной естественный парниковый газ, ответственный более, чем  60 % эфф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кислый газ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 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н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 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ными антропогенными источниками метана являю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еварительная ферментаци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кота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одст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ор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асс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. ч. сведение лес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он (О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 углерода (С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ео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Organization Chart 2"/>
          <p:cNvGrpSpPr/>
          <p:nvPr/>
        </p:nvGrpSpPr>
        <p:grpSpPr>
          <a:xfrm>
            <a:off x="250920" y="214200"/>
            <a:ext cx="8640720" cy="6383160"/>
            <a:chOff x="250920" y="214200"/>
            <a:chExt cx="8640720" cy="6383160"/>
          </a:xfrm>
        </p:grpSpPr>
        <p:cxnSp>
          <p:nvCxnSpPr>
            <p:cNvPr id="135" name="_s1028"/>
            <p:cNvCxnSpPr>
              <a:stCxn id="136" idx="3"/>
              <a:endCxn id="137" idx="2"/>
            </p:cNvCxnSpPr>
            <p:nvPr/>
          </p:nvCxnSpPr>
          <p:spPr>
            <a:xfrm flipV="1">
              <a:off x="5435280" y="852120"/>
              <a:ext cx="864720" cy="159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1029"/>
            <p:cNvCxnSpPr>
              <a:stCxn id="139" idx="3"/>
              <a:endCxn id="137" idx="2"/>
            </p:cNvCxnSpPr>
            <p:nvPr/>
          </p:nvCxnSpPr>
          <p:spPr>
            <a:xfrm flipV="1">
              <a:off x="5435280" y="852120"/>
              <a:ext cx="864720" cy="255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30"/>
            <p:cNvCxnSpPr>
              <a:stCxn id="141" idx="3"/>
              <a:endCxn id="137" idx="2"/>
            </p:cNvCxnSpPr>
            <p:nvPr/>
          </p:nvCxnSpPr>
          <p:spPr>
            <a:xfrm flipV="1">
              <a:off x="5435280" y="851760"/>
              <a:ext cx="864720" cy="542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1"/>
            <p:cNvCxnSpPr>
              <a:stCxn id="143" idx="3"/>
              <a:endCxn id="137" idx="2"/>
            </p:cNvCxnSpPr>
            <p:nvPr/>
          </p:nvCxnSpPr>
          <p:spPr>
            <a:xfrm flipV="1">
              <a:off x="5435280" y="852120"/>
              <a:ext cx="864720" cy="4469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2"/>
            <p:cNvCxnSpPr>
              <a:stCxn id="145" idx="3"/>
              <a:endCxn id="137" idx="2"/>
            </p:cNvCxnSpPr>
            <p:nvPr/>
          </p:nvCxnSpPr>
          <p:spPr>
            <a:xfrm flipV="1">
              <a:off x="5435280" y="852120"/>
              <a:ext cx="864720" cy="3511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1033"/>
            <p:cNvCxnSpPr>
              <a:stCxn id="147" idx="3"/>
              <a:endCxn id="137" idx="2"/>
            </p:cNvCxnSpPr>
            <p:nvPr/>
          </p:nvCxnSpPr>
          <p:spPr>
            <a:xfrm flipV="1">
              <a:off x="5435280" y="851760"/>
              <a:ext cx="864720" cy="63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1034"/>
            <p:cNvSpPr/>
            <p:nvPr/>
          </p:nvSpPr>
          <p:spPr>
            <a:xfrm>
              <a:off x="3707280" y="214200"/>
              <a:ext cx="5184360" cy="638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Парниковые газы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35"/>
            <p:cNvSpPr/>
            <p:nvPr/>
          </p:nvSpPr>
          <p:spPr>
            <a:xfrm>
              <a:off x="250920" y="1171440"/>
              <a:ext cx="5184360" cy="638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6"/>
            <p:cNvSpPr/>
            <p:nvPr/>
          </p:nvSpPr>
          <p:spPr>
            <a:xfrm>
              <a:off x="250920" y="4043880"/>
              <a:ext cx="5184360" cy="638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Хлорфторуглероды-12%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7"/>
            <p:cNvSpPr/>
            <p:nvPr/>
          </p:nvSpPr>
          <p:spPr>
            <a:xfrm>
              <a:off x="250920" y="5001480"/>
              <a:ext cx="5184360" cy="638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Оксиды азота-6%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8"/>
            <p:cNvSpPr/>
            <p:nvPr/>
          </p:nvSpPr>
          <p:spPr>
            <a:xfrm>
              <a:off x="250920" y="5959080"/>
              <a:ext cx="5184360" cy="638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Озон О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- 8%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9"/>
            <p:cNvSpPr/>
            <p:nvPr/>
          </p:nvSpPr>
          <p:spPr>
            <a:xfrm>
              <a:off x="250920" y="3086640"/>
              <a:ext cx="5184360" cy="638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Метан СН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-15%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0"/>
            <p:cNvSpPr/>
            <p:nvPr/>
          </p:nvSpPr>
          <p:spPr>
            <a:xfrm>
              <a:off x="250920" y="2129040"/>
              <a:ext cx="5184360" cy="638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Углекислый газ-25%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8"/>
          <p:cNvSpPr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парникового эффекта на климат Зем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187280" y="242100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14200" y="164304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ё 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лнечное тепл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градусов холодне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ем сейчас, и жизнь бы на ней практически замер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32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повышение концентрации парниковых газов обусловлено рядом причин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Global_Warming"/>
          <p:cNvPicPr/>
          <p:nvPr/>
        </p:nvPicPr>
        <p:blipFill>
          <a:blip r:embed="rId1"/>
          <a:stretch/>
        </p:blipFill>
        <p:spPr>
          <a:xfrm>
            <a:off x="4572000" y="3813120"/>
            <a:ext cx="4572000" cy="304488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214200" y="4429080"/>
            <a:ext cx="43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 в атмосфере увеличивается содержание мет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еднем на 1% в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9"/>
          <p:cNvSpPr/>
          <p:nvPr/>
        </p:nvSpPr>
        <p:spPr>
          <a:xfrm>
            <a:off x="214200" y="1268280"/>
            <a:ext cx="87156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масса диоксида углерода образуется при сжигании ископаемого топлива (уголь, нефть, природный газ), использование которого с каждым годом увеличивается. Ныне ежегодно выбросы СО2 в атмосферу в мире составляют примерно 25 млрд. тонн, причем основной«вклад» (около 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общего количества выбросов) вносят промышленно развитые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885640508"/>
          <p:cNvPicPr/>
          <p:nvPr/>
        </p:nvPicPr>
        <p:blipFill>
          <a:blip r:embed="rId1"/>
          <a:stretch/>
        </p:blipFill>
        <p:spPr>
          <a:xfrm>
            <a:off x="5286240" y="1857240"/>
            <a:ext cx="3378240" cy="26434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285840" y="214200"/>
            <a:ext cx="857232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содержания в атмосфере оксида аз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мерно на 0,3% в год) объясняется в основ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м производства и применения азо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рений в сельском хозяй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онцентрации парниковых газов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е привело к тому, что средняя глоба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оздуха повысилась по сравнению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индустриальным периодом на 0,5 - 0,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. А к 20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у может достигнуть 2,2 - 2,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01.jpg"/>
          <p:cNvPicPr/>
          <p:nvPr/>
        </p:nvPicPr>
        <p:blipFill>
          <a:blip r:embed="rId2"/>
          <a:srcRect l="0" t="8658" r="0" b="11247"/>
          <a:stretch/>
        </p:blipFill>
        <p:spPr>
          <a:xfrm>
            <a:off x="1285920" y="1857240"/>
            <a:ext cx="24764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4:06:50Z</dcterms:created>
  <dc:creator>Елена</dc:creator>
  <dc:description/>
  <dc:language>en-US</dc:language>
  <cp:lastModifiedBy>HP</cp:lastModifiedBy>
  <dcterms:modified xsi:type="dcterms:W3CDTF">2010-03-01T15:13:47Z</dcterms:modified>
  <cp:revision>19</cp:revision>
  <dc:subject/>
  <dc:title>Слайд 1</dc:title>
</cp:coreProperties>
</file>