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617-21B0-4C5D-8B38-78D0169B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5B60-C8C1-4A0E-B148-96C40B53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4159-59FC-468E-B0EE-C38F24E8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281-03ED-43A5-BF60-680B4D98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11E7-A85F-4121-9328-EFDBA966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EF1C-60DA-4F9C-9FFD-75C720F6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2E6D-AED9-4BF3-AD28-1941B746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36D6-C30F-46D8-9519-DDE0A997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EF0B-8204-4B39-8E29-F4A243C3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6D37-1E0B-4676-8732-1504BDBF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9C56-3CCF-4B78-88F6-F535646A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B67-B8A0-4189-81E0-79588F4A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500F-4416-4E81-8BC5-84CE893A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5B1B-D372-4B63-BD9A-1FF41ACE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B03E-6028-452F-8B29-4C8AE228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C8E5-D9B2-41C5-9E6F-A824F755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869C-A620-47ED-AF41-D28730E0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D2B6F-2D7C-4AB2-AACE-7DB94B1C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28F96-E290-4191-899C-5FC0FBEF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41E2E-7542-4437-A687-519AD735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802C6-4B7A-4540-9E8A-513881E5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74B8F-7F6E-4C1D-BA03-06F9D205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2A76-FB7B-4B95-8448-F6B3E592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93647-844D-443B-BC19-2C7E3D58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5010B-A188-4993-A8FF-9ACFAB5E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7359C-7415-4C99-8828-889C96E5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0BA02-B225-41E4-8CDE-54428C25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1AC58-A844-4921-B5D2-C1C4F66E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CCB3B-128E-4202-AAD5-D1206F94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A5326-D008-4167-9D0F-7D654083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F37-B545-4EEA-A64A-DB677215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6024-51B4-4789-9A36-AAB5B7B6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5A90-41FA-4409-BA14-A65BA25C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5CE1-2D65-41DD-B987-2F8AEB8D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64B-5D50-43FC-A028-CE6F749B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359D-B651-46D3-8EE9-98B04745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2AEE-74E3-44A9-A5A0-ECD7A1A498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4BFC-2BF6-484F-AF49-991B9E5D1C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CA45-69A8-42C5-AE75-5DC4AD09E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3" descr=""/>
          <p:cNvPicPr/>
          <p:nvPr/>
        </p:nvPicPr>
        <p:blipFill>
          <a:blip r:embed="rId1"/>
          <a:stretch/>
        </p:blipFill>
        <p:spPr>
          <a:xfrm>
            <a:off x="-334800" y="1206360"/>
            <a:ext cx="98136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09440"/>
            <a:ext cx="9156960" cy="19382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214200" y="1357200"/>
            <a:ext cx="8929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Мирового оке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491C6CBA-0A01-01E1-0068-097DAC9514C2"/>
          <p:cNvPicPr/>
          <p:nvPr/>
        </p:nvPicPr>
        <p:blipFill>
          <a:blip r:embed="rId2"/>
          <a:stretch/>
        </p:blipFill>
        <p:spPr>
          <a:xfrm>
            <a:off x="719280" y="2143080"/>
            <a:ext cx="770544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яние лед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2" descr="491C6C29-0A01-01E1-0134-681280D309B5"/>
          <p:cNvPicPr/>
          <p:nvPr/>
        </p:nvPicPr>
        <p:blipFill>
          <a:blip r:embed="rId1"/>
          <a:stretch/>
        </p:blipFill>
        <p:spPr>
          <a:xfrm>
            <a:off x="0" y="1571760"/>
            <a:ext cx="4581360" cy="4606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491C6C4F-0A01-01E1-00A5-F99BBCFAD21E"/>
          <p:cNvPicPr/>
          <p:nvPr/>
        </p:nvPicPr>
        <p:blipFill>
          <a:blip r:embed="rId2"/>
          <a:stretch/>
        </p:blipFill>
        <p:spPr>
          <a:xfrm>
            <a:off x="4786200" y="1581120"/>
            <a:ext cx="43578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4" descr="D:\Мои документы\Мои рисунки\Рисунок2.jpg"/>
          <p:cNvPicPr/>
          <p:nvPr/>
        </p:nvPicPr>
        <p:blipFill>
          <a:blip r:embed="rId1"/>
          <a:stretch/>
        </p:blipFill>
        <p:spPr>
          <a:xfrm>
            <a:off x="0" y="-17640"/>
            <a:ext cx="9156600" cy="6875640"/>
          </a:xfrm>
          <a:prstGeom prst="rect">
            <a:avLst/>
          </a:prstGeom>
          <a:ln w="0">
            <a:noFill/>
          </a:ln>
        </p:spPr>
      </p:pic>
      <p:sp>
        <p:nvSpPr>
          <p:cNvPr id="166" name="Oval 5"/>
          <p:cNvSpPr/>
          <p:nvPr/>
        </p:nvSpPr>
        <p:spPr>
          <a:xfrm>
            <a:off x="5148360" y="2349360"/>
            <a:ext cx="936360" cy="79236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6"/>
          <p:cNvSpPr/>
          <p:nvPr/>
        </p:nvSpPr>
        <p:spPr>
          <a:xfrm>
            <a:off x="4716360" y="2492280"/>
            <a:ext cx="576360" cy="5763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7020000" y="2708280"/>
            <a:ext cx="144360" cy="1443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2268360" y="5084640"/>
            <a:ext cx="144720" cy="1447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9"/>
          <p:cNvSpPr/>
          <p:nvPr/>
        </p:nvSpPr>
        <p:spPr>
          <a:xfrm>
            <a:off x="4932360" y="907920"/>
            <a:ext cx="144360" cy="1447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4284720" y="1341360"/>
            <a:ext cx="144360" cy="1447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4356000" y="1700280"/>
            <a:ext cx="144720" cy="1443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500040" y="6072120"/>
            <a:ext cx="571680" cy="57168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143000" y="6143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зоны экологического бедствия при таянии ле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биосфер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круговоротов главных биогенных элеме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атические измен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распределения осадков по регион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зон пусты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стынивание и заболачиваемость территор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7" descr="491C6C8C-0A01-01E1-0079-404ABD7A6C48"/>
          <p:cNvPicPr/>
          <p:nvPr/>
        </p:nvPicPr>
        <p:blipFill>
          <a:blip r:embed="rId1"/>
          <a:stretch/>
        </p:blipFill>
        <p:spPr>
          <a:xfrm>
            <a:off x="0" y="1643040"/>
            <a:ext cx="4586400" cy="4535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491C6CD2-0A01-01E1-005B-3E5DA72C2C3E"/>
          <p:cNvPicPr/>
          <p:nvPr/>
        </p:nvPicPr>
        <p:blipFill>
          <a:blip r:embed="rId2"/>
          <a:srcRect l="0" t="1547" r="0" b="0"/>
          <a:stretch/>
        </p:blipFill>
        <p:spPr>
          <a:xfrm>
            <a:off x="4743360" y="1643040"/>
            <a:ext cx="440064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заболеваний, связанный с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м малярии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ем тепловых ударов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ением некачественной воды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еданием и голодом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ссовыми ситуация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проблемы парникового эффекта в следующем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кращении выбросов в атмосферу углекислого газ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на экологически чистые источники энергии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лесов-экосистем, способствующих оттоку углекислого газа из атмосфер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е экологические последствия парникового эфф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пление климата, скорее всего, благоприятно отразится на растительности, в частности на лесных экосистемах и сельском хозяйстве. При этом потеплении изменится и режим атмосферных осадков в сторону их увеличения, что также улучшит условия произрастания растений во многих регионах. Специалисты предполагают, что при повышении температуры воздуха на 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оличество осадков над континентами в среднем возрастёт на 10%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онцентрации СО2 в атмосфере может увеличить интенсивность фотосинтеза и, значит, способствовать росту и развитию раст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концентрации диоксида углерода в атмосфере может оказать благоприятное воздействие на урожайность многих сельскохозяйственных культу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ёными на основе исследований составляются прогнозы изменения растительных природных зон при увеличении температуры на 1,4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(2000 год) и на 2,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(к 2025 году). Согласно этому прогнозу учёных, при глобальном потеплении будет наблюдаться существенное уменьшение площадей наших тундры и лесотундры - более чем в 2 раза при потеплении на 1,4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и более чем в 6 раз при повышении температуры на 2,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. При этом будут изменяться природные зо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demian_nebo"/>
          <p:cNvPicPr/>
          <p:nvPr/>
        </p:nvPicPr>
        <p:blipFill>
          <a:blip r:embed="rId1"/>
          <a:stretch/>
        </p:blipFill>
        <p:spPr>
          <a:xfrm>
            <a:off x="6084720" y="450864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4254_1"/>
          <p:cNvPicPr/>
          <p:nvPr/>
        </p:nvPicPr>
        <p:blipFill>
          <a:blip r:embed="rId2"/>
          <a:stretch/>
        </p:blipFill>
        <p:spPr>
          <a:xfrm>
            <a:off x="3059280" y="450864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Forest"/>
          <p:cNvPicPr/>
          <p:nvPr/>
        </p:nvPicPr>
        <p:blipFill>
          <a:blip r:embed="rId3"/>
          <a:stretch/>
        </p:blipFill>
        <p:spPr>
          <a:xfrm>
            <a:off x="179280" y="4508640"/>
            <a:ext cx="275292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влияния парникового эффекта на климат земли является одной из важнейших задач, требующих скорейшего решения. Начальным этапом решения проблемы стали международные договорённости по сокращению выбросов парниковых газов в атмосфер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Вертикальный свиток 1"/>
          <p:cNvSpPr/>
          <p:nvPr/>
        </p:nvSpPr>
        <p:spPr>
          <a:xfrm>
            <a:off x="0" y="0"/>
            <a:ext cx="9144000" cy="6858000"/>
          </a:xfrm>
          <a:prstGeom prst="verticalScroll">
            <a:avLst>
              <a:gd name="adj" fmla="val 12500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отский проток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й документ, принятый в Киото (Япония) в декабре 1997 года в дополнение к Рамочной конвенции ООН об изменении климата. Период подписания протокола открылся 16 марта 1998 года и завершился 15 марта 1999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Блок-схема: процесс 6"/>
          <p:cNvSpPr/>
          <p:nvPr/>
        </p:nvSpPr>
        <p:spPr>
          <a:xfrm>
            <a:off x="249120" y="619200"/>
            <a:ext cx="8645760" cy="5619600"/>
          </a:xfrm>
          <a:prstGeom prst="flowChartProcess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13148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нико́вый эффе́кт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овышение температуры нижних слоёв атмосферы планеты по сравнению с эффективной температурой, т. е. температурой теплового излучения планеты, наблюдаемого из космос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я Киотского протоко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3840" y="642600"/>
            <a:ext cx="864396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стоянию на 14 феврал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 Протокол бы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тифицирован 161 страной мира (совокупно ответственными з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чем 61 % общемировых выбросов). Замет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м из этого списка являютс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Kyoto"/>
          <p:cNvPicPr/>
          <p:nvPr/>
        </p:nvPicPr>
        <p:blipFill>
          <a:blip r:embed="rId1"/>
          <a:stretch/>
        </p:blipFill>
        <p:spPr>
          <a:xfrm>
            <a:off x="0" y="2500200"/>
            <a:ext cx="91026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Горизонтальный свиток 3"/>
          <p:cNvSpPr/>
          <p:nvPr/>
        </p:nvSpPr>
        <p:spPr>
          <a:xfrm>
            <a:off x="0" y="571680"/>
            <a:ext cx="9144000" cy="5786280"/>
          </a:xfrm>
          <a:prstGeom prst="horizontalScroll">
            <a:avLst>
              <a:gd name="adj" fmla="val 12500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"/>
          <p:cNvSpPr/>
          <p:nvPr/>
        </p:nvSpPr>
        <p:spPr>
          <a:xfrm>
            <a:off x="2208600" y="214200"/>
            <a:ext cx="472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али согла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714240" y="1285920"/>
            <a:ext cx="842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отский протокол стал первым глобальным соглашением об охране окружающей среды, основанным на рыночных механизмах регулирования — механизме международной торговли квотами на выбросы парниковых газ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ц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окола определили для себя количественные обязательства по ограничению либо сокращению выбросов на период с 1 января 2008 до 31 декабря 2012 года. Цель ограничений — снизить в этот период совокупный средний уровень выбросов 6 типов газов (CO2, CH4, гидрофторуглеводороды, перфторуглеводороды, N2O, SF6) на 5,2 % по сравнению с уровнем 1990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мифов о глобальном потеплени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14200" y="714240"/>
            <a:ext cx="8715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Человек с древних времен склонен верить мифам. Часть из них не лишена логики, но все таки большая половина оказывается полным бредом. То же самое и с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глобальным потеплением</a:t>
            </a:r>
            <a:r>
              <a:rPr b="0" lang="en-US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. Вот распространенные заблуждения, связанные с ним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 Глобального потепления вообще не происход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жалению происходит. Наукой не раз доказано, а фактами подтверждено, что температура быстро раст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. Глобальное потепление - естественный процес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ее всего нет (повышение температуры, особенно с 70-х годов, намного превышают естественные измене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 В любом случае последствия будут постепенн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е штормы становятся все чаще, а историей доказано, резкое изменение климатических условий может наступить внезапно, буквально за несколько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14200" y="320760"/>
            <a:ext cx="8715600" cy="62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. Глобальное потепление приведет к всемирному потоп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тепление будет идти теми же темпами, то уровень мирового океана поднимется на 1 метр. Если же допустить, что все ледники растают, что конечно же невозможно, то вода поднимется на 10 метров. И если учесть, что средняя высота суши над уровнем океана - 840 метров, то переживать так сильно по поводу затопления не сто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. Глобальное потепление - единственная причина резких, непредсказуемых изменений пог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ко не единственная. Существует ряд естественных, циклических процессов, к которым глобальное потепление не имеет никакого отношения. И именно они являются тем, что может вызвать резкое потепление или похолодание. Такими факторами могут послужить океанские течения, циклоны, изменение магнитного поля Земли и просто совпа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4200" y="642960"/>
            <a:ext cx="8715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. Выбросы углекислого газа слишком незначительны, чтобы спровоцировать глобальное потепление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елось бы верить, но пока факты это отрицают. По статистическим данным, которым можно доверять были построены графики концентрации углекислого газа в атмосфере и температуры в это время. Они совпадаю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. Из-за глобального потепления температура скоро вырастет настолько, что мы все погибнем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столько и не скоро. За последние 100 лет температура выросла на 0,7°С, - 1° С. И по самым смелым прогнозам в ближайшие 100 лет может вырасти еще на 4,6° С, но скорее всего это увеличение не превысит 2°С. С меньшей вероятностью, но есть модели, предсказывающие да же похолода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. От глобального потепления мы получим только выг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которых районах можно будет порадоваться необычно теплой погодой, но цена негативных последствий превысит любые выгоды. Число болезней и смертей из-за жары выраст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6426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. Сельскому хозяйству это будет только на ру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кислый газ может повысить урожайность ряда культур, но так же возрастет и количество сорняков и вредителей. Растения не смогут хорошо расти на том же месте из-за климатического сдви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. Правительство о нас позаботи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мо прянятия Киотского протокола (который только ограничивает выбросы) несколькими странами, исключая США (крупнейший источник вредным выбросов) больше ничего сделано не было. Правительства боятся экономических последствий борьбы с глобальным потеплен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). Проблема не так серьезна, как национальная безопас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как посмотреть. Если учесть, что потепление затронет каждого жителя планеты (при чем больно ударив по нему), то думаю будет посерьезне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480" y="713880"/>
            <a:ext cx="864396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). Причины глобального потепления известны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верят, что в глобальном потеплении полностью виновен человек и что только остановив промышленную деятельность, можно избежать катастрофы. В действительности же проблема изменения климата настолько нова, что сейчас невозможно с точностью сказать о ее причинах. То, что оно происходит - это факт, но то что это результат антропогенной деятельности человека далеко не единственная версия. Так, например, существует версия, что это результат естественных процессов, происходящих в системе Солнце - Земля - Космо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). Мы знаем, как бороться с глобальным потеплением, у нас есть технолог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ческий план находится в разработке. Существует несколько масштабных вариантов борьбы с глобальным потеплением, но все они из области фантастики, да и требуют колоссальных вложений, сравнимых с бюджетом США, но лучше много мелких изменений, чем одно больш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). Мы не можем ничего с этим подел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уже сейчас может внести свой вклад в борьбу с глобальным потеплением хотя 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 соблюдая рационализм в своей потребительской деятель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Вертикальный свиток 3"/>
          <p:cNvSpPr/>
          <p:nvPr/>
        </p:nvSpPr>
        <p:spPr>
          <a:xfrm>
            <a:off x="0" y="0"/>
            <a:ext cx="9144000" cy="6858000"/>
          </a:xfrm>
          <a:prstGeom prst="verticalScroll">
            <a:avLst>
              <a:gd name="adj" fmla="val 1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"/>
          <p:cNvSpPr/>
          <p:nvPr/>
        </p:nvSpPr>
        <p:spPr>
          <a:xfrm>
            <a:off x="714240" y="357120"/>
            <a:ext cx="7643880" cy="65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ении хочется отметить, что существует версия, о том, что влияние парникового эффекта на глобальное  потепление климата не так значительно, а нынешнее потепление – это лишь очередной этап в циклическом изменении климата нашей планеты. Ведь не стоит забывать, что по геологическим меркам последний ледниковый период на Земле был не так уж и дав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A910-3923-41F6-9241-E64A7B231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это происходи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CLIMATE_CHANGE"/>
          <p:cNvPicPr/>
          <p:nvPr/>
        </p:nvPicPr>
        <p:blipFill>
          <a:blip r:embed="rId1"/>
          <a:srcRect l="0" t="7501" r="0" b="0"/>
          <a:stretch/>
        </p:blipFill>
        <p:spPr>
          <a:xfrm>
            <a:off x="684360" y="2643120"/>
            <a:ext cx="7775280" cy="40258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249120" y="714240"/>
            <a:ext cx="86457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е углекислого газа в атмосфере - одна из основны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 парникового эффекта. Углекислый газ действует в атмосфере, как стекло в оранжерее: он пропускает солнечную радиацию и не пропускает обратно в космос инфракрасное (тепловое) излучение 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механизм пэ.gif"/>
          <p:cNvPicPr/>
          <p:nvPr/>
        </p:nvPicPr>
        <p:blipFill>
          <a:blip r:embed="rId1"/>
          <a:srcRect l="7582" t="10353" r="9089" b="10353"/>
          <a:stretch/>
        </p:blipFill>
        <p:spPr>
          <a:xfrm>
            <a:off x="2071800" y="112680"/>
            <a:ext cx="492912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никовые га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яной пар — основной естественный парниковый газ, ответственный более, чем  60 % эфф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кислый газ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 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чниками углекислого газа в атмосфере Земли являются вулканические выбросы, жизнедеятельность организмов, деятельность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н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 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ными антропогенными источниками метана являю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щеварительная ферментаци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кота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одст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ор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асс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. ч. сведение лес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он (О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 углерода (С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ео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Organization Chart 2"/>
          <p:cNvGrpSpPr/>
          <p:nvPr/>
        </p:nvGrpSpPr>
        <p:grpSpPr>
          <a:xfrm>
            <a:off x="250920" y="214200"/>
            <a:ext cx="8640720" cy="6383160"/>
            <a:chOff x="250920" y="214200"/>
            <a:chExt cx="8640720" cy="6383160"/>
          </a:xfrm>
        </p:grpSpPr>
        <p:cxnSp>
          <p:nvCxnSpPr>
            <p:cNvPr id="135" name="_s1028"/>
            <p:cNvCxnSpPr>
              <a:stCxn id="136" idx="3"/>
              <a:endCxn id="137" idx="2"/>
            </p:cNvCxnSpPr>
            <p:nvPr/>
          </p:nvCxnSpPr>
          <p:spPr>
            <a:xfrm flipV="1">
              <a:off x="5435280" y="852120"/>
              <a:ext cx="864720" cy="159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1029"/>
            <p:cNvCxnSpPr>
              <a:stCxn id="139" idx="3"/>
              <a:endCxn id="137" idx="2"/>
            </p:cNvCxnSpPr>
            <p:nvPr/>
          </p:nvCxnSpPr>
          <p:spPr>
            <a:xfrm flipV="1">
              <a:off x="5435280" y="852120"/>
              <a:ext cx="864720" cy="255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30"/>
            <p:cNvCxnSpPr>
              <a:stCxn id="141" idx="3"/>
              <a:endCxn id="137" idx="2"/>
            </p:cNvCxnSpPr>
            <p:nvPr/>
          </p:nvCxnSpPr>
          <p:spPr>
            <a:xfrm flipV="1">
              <a:off x="5435280" y="851760"/>
              <a:ext cx="864720" cy="542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031"/>
            <p:cNvCxnSpPr>
              <a:stCxn id="143" idx="3"/>
              <a:endCxn id="137" idx="2"/>
            </p:cNvCxnSpPr>
            <p:nvPr/>
          </p:nvCxnSpPr>
          <p:spPr>
            <a:xfrm flipV="1">
              <a:off x="5435280" y="852120"/>
              <a:ext cx="864720" cy="4469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32"/>
            <p:cNvCxnSpPr>
              <a:stCxn id="145" idx="3"/>
              <a:endCxn id="137" idx="2"/>
            </p:cNvCxnSpPr>
            <p:nvPr/>
          </p:nvCxnSpPr>
          <p:spPr>
            <a:xfrm flipV="1">
              <a:off x="5435280" y="852120"/>
              <a:ext cx="864720" cy="3511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1033"/>
            <p:cNvCxnSpPr>
              <a:stCxn id="147" idx="3"/>
              <a:endCxn id="137" idx="2"/>
            </p:cNvCxnSpPr>
            <p:nvPr/>
          </p:nvCxnSpPr>
          <p:spPr>
            <a:xfrm flipV="1">
              <a:off x="5435280" y="851760"/>
              <a:ext cx="864720" cy="63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7" name="_s1034"/>
            <p:cNvSpPr/>
            <p:nvPr/>
          </p:nvSpPr>
          <p:spPr>
            <a:xfrm>
              <a:off x="3707280" y="214200"/>
              <a:ext cx="5184360" cy="6382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Парниковые газы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035"/>
            <p:cNvSpPr/>
            <p:nvPr/>
          </p:nvSpPr>
          <p:spPr>
            <a:xfrm>
              <a:off x="250920" y="1171440"/>
              <a:ext cx="5184360" cy="6382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Водяной пар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6"/>
            <p:cNvSpPr/>
            <p:nvPr/>
          </p:nvSpPr>
          <p:spPr>
            <a:xfrm>
              <a:off x="250920" y="4043880"/>
              <a:ext cx="5184360" cy="6382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Хлорфторуглероды-12%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7"/>
            <p:cNvSpPr/>
            <p:nvPr/>
          </p:nvSpPr>
          <p:spPr>
            <a:xfrm>
              <a:off x="250920" y="5001480"/>
              <a:ext cx="5184360" cy="6382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Оксиды азота-6%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8"/>
            <p:cNvSpPr/>
            <p:nvPr/>
          </p:nvSpPr>
          <p:spPr>
            <a:xfrm>
              <a:off x="250920" y="5959080"/>
              <a:ext cx="5184360" cy="6382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Озон О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- 8%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9"/>
            <p:cNvSpPr/>
            <p:nvPr/>
          </p:nvSpPr>
          <p:spPr>
            <a:xfrm>
              <a:off x="250920" y="3086640"/>
              <a:ext cx="5184360" cy="6382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Метан СН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-15%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40"/>
            <p:cNvSpPr/>
            <p:nvPr/>
          </p:nvSpPr>
          <p:spPr>
            <a:xfrm>
              <a:off x="250920" y="2129040"/>
              <a:ext cx="5184360" cy="6382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Углекислый газ-25%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8"/>
          <p:cNvSpPr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парникового эффекта на климат Зем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187280" y="242100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214200" y="164304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ё 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2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у французский физик Жозеф Фурье предположил, что атмосфера земли выполняет функцию своего рода стекла в теплице: воздух пропуска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лнечное тепл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 давая ему при этом испариться обратно в космос. Этот эффект достигается благодаря некоторым атмосферным газам второстепенного значения, каковыми являются, например, водяные испарения и углекислый газ. Они пропускают видимый и «ближний» инфракрасный свет, излучаемый солнцем, но поглощают «далекое» инфракрасное излучение, имеющее более низкую частоту и образующееся при нагревании земной поверхности солнечными лучами. Если бы этого не происходило, Земля была бы примерно 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градусов холодне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ем сейчас, и жизнь бы на ней практически замер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32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е повышение концентрации парниковых газов обусловлено рядом причин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Global_Warming"/>
          <p:cNvPicPr/>
          <p:nvPr/>
        </p:nvPicPr>
        <p:blipFill>
          <a:blip r:embed="rId1"/>
          <a:stretch/>
        </p:blipFill>
        <p:spPr>
          <a:xfrm>
            <a:off x="4572000" y="3813120"/>
            <a:ext cx="4572000" cy="304488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214200" y="4429080"/>
            <a:ext cx="435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о в атмосфере увеличивается содержание мет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еднем на 1% в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9"/>
          <p:cNvSpPr/>
          <p:nvPr/>
        </p:nvSpPr>
        <p:spPr>
          <a:xfrm>
            <a:off x="214200" y="1268280"/>
            <a:ext cx="871560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масса диоксида углерода образуется при сжигании ископаемого топлива (уголь, нефть, природный газ), использование которого с каждым годом увеличивается. Ныне ежегодно выбросы СО2 в атмосферу в мире составляют примерно 25 млрд. тонн, причем основной«вклад» (около 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общего количества выбросов) вносят промышленно развитые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885640508"/>
          <p:cNvPicPr/>
          <p:nvPr/>
        </p:nvPicPr>
        <p:blipFill>
          <a:blip r:embed="rId1"/>
          <a:stretch/>
        </p:blipFill>
        <p:spPr>
          <a:xfrm>
            <a:off x="5286240" y="1857240"/>
            <a:ext cx="3378240" cy="26434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8"/>
          <p:cNvSpPr/>
          <p:nvPr/>
        </p:nvSpPr>
        <p:spPr>
          <a:xfrm>
            <a:off x="285840" y="214200"/>
            <a:ext cx="8572320" cy="66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содержания в атмосфере оксида аз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мерно на 0,3% в год) объясняется в основ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м производства и применения азо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рений в сельском хозяй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онцентрации парниковых газов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е привело к тому, что средняя глоба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воздуха повысилась по сравнению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индустриальным периодом на 0,5 - 0,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. А к 20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у может достигнуть 2,2 - 2,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3" descr="01.jpg"/>
          <p:cNvPicPr/>
          <p:nvPr/>
        </p:nvPicPr>
        <p:blipFill>
          <a:blip r:embed="rId2"/>
          <a:srcRect l="0" t="8658" r="0" b="11247"/>
          <a:stretch/>
        </p:blipFill>
        <p:spPr>
          <a:xfrm>
            <a:off x="1285920" y="1857240"/>
            <a:ext cx="247644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4:06:50Z</dcterms:created>
  <dc:creator>Елена</dc:creator>
  <dc:description/>
  <dc:language>en-US</dc:language>
  <cp:lastModifiedBy>HP</cp:lastModifiedBy>
  <dcterms:modified xsi:type="dcterms:W3CDTF">2010-03-01T15:13:47Z</dcterms:modified>
  <cp:revision>19</cp:revision>
  <dc:subject/>
  <dc:title>Слайд 1</dc:title>
</cp:coreProperties>
</file>