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7.png" ContentType="image/png"/>
  <Override PartName="/ppt/media/image1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3.gif" ContentType="image/gif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5DE30-74E3-466D-A41B-7F80F712D3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11B0F-070E-40BA-9E94-F2D7632F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B613F-965E-42A3-84CC-27B90E48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71ED9-2D32-4533-9402-B4158FB000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DD7F8-8F30-4D4C-A795-5AF5B4BA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2C9A6-B591-4720-8774-853FBFD3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0EA6D-6E3B-4D17-995F-16DFDB85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F750E-9D5A-4D66-82B0-F95824DD5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5ADB1-0C72-4D13-86E3-155C026C1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565F1-8C06-4D05-A7BE-8E71DA20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52DFA-C97E-4BED-A322-15C06D26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5564A-6270-4A86-B3C2-3B95FDC7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95CC259-C110-4ECA-9693-DA14C4E0C756}" type="slidenum"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57160" y="485640"/>
            <a:ext cx="7772400" cy="2530440"/>
          </a:xfrm>
          <a:prstGeom prst="rect">
            <a:avLst/>
          </a:prstGeom>
          <a:gradFill rotWithShape="0">
            <a:gsLst>
              <a:gs pos="0">
                <a:srgbClr val="f2dcdb"/>
              </a:gs>
              <a:gs pos="50000">
                <a:srgbClr val="fdeada"/>
              </a:gs>
              <a:gs pos="100000">
                <a:srgbClr val="f2dcdb"/>
              </a:gs>
            </a:gsLst>
            <a:lin ang="8100000"/>
          </a:gra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Calibri"/>
              </a:rPr>
              <a:t>Политическая карта мир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419640" y="3357720"/>
            <a:ext cx="3958920" cy="3047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116000" y="3645000"/>
            <a:ext cx="1704960" cy="2232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ложности современных международных отнош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12640" indent="-512640">
              <a:lnSpc>
                <a:spcPct val="100000"/>
              </a:lnSpc>
              <a:spcBef>
                <a:spcPts val="1100"/>
              </a:spcBef>
              <a:buClr>
                <a:srgbClr val="c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Региональные конфлик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spcBef>
                <a:spcPts val="1100"/>
              </a:spcBef>
              <a:buClr>
                <a:srgbClr val="c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Расширение блока НА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spcBef>
                <a:spcPts val="1100"/>
              </a:spcBef>
              <a:buClr>
                <a:srgbClr val="c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Распространение ядерного оруж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spcBef>
                <a:spcPts val="1100"/>
              </a:spcBef>
              <a:buClr>
                <a:srgbClr val="c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Мировой террори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71680" y="-842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онфликты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 современном ми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24000" y="1341360"/>
            <a:ext cx="8555040" cy="5283360"/>
            <a:chOff x="324000" y="1341360"/>
            <a:chExt cx="8555040" cy="5283360"/>
          </a:xfrm>
        </p:grpSpPr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324000" y="1341360"/>
              <a:ext cx="8555040" cy="5283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73" name=""/>
            <p:cNvSpPr/>
            <p:nvPr/>
          </p:nvSpPr>
          <p:spPr>
            <a:xfrm>
              <a:off x="324000" y="1341360"/>
              <a:ext cx="8555040" cy="52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14200" y="428760"/>
            <a:ext cx="5214960" cy="61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93480" indent="699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3463360"/>
                <a:tab algn="l" pos="24377760"/>
                <a:tab algn="l" pos="25292160"/>
                <a:tab algn="l" pos="26206560"/>
                <a:tab algn="l" pos="27120960"/>
                <a:tab algn="l" pos="28035360"/>
                <a:tab algn="l" pos="28949760"/>
                <a:tab algn="l" pos="29864160"/>
                <a:tab algn="l" pos="30778560"/>
                <a:tab algn="l" pos="31692960"/>
                <a:tab algn="l" pos="32607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НАТ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93480" indent="69984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23463360"/>
                <a:tab algn="l" pos="24377760"/>
                <a:tab algn="l" pos="25292160"/>
                <a:tab algn="l" pos="26206560"/>
                <a:tab algn="l" pos="27120960"/>
                <a:tab algn="l" pos="28035360"/>
                <a:tab algn="l" pos="28949760"/>
                <a:tab algn="l" pos="29864160"/>
                <a:tab algn="l" pos="30778560"/>
                <a:tab algn="l" pos="31692960"/>
                <a:tab algn="l" pos="32607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енно-политический союз, создан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93480" indent="699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3463360"/>
                <a:tab algn="l" pos="24377760"/>
                <a:tab algn="l" pos="25292160"/>
                <a:tab algn="l" pos="26206560"/>
                <a:tab algn="l" pos="27120960"/>
                <a:tab algn="l" pos="28035360"/>
                <a:tab algn="l" pos="28949760"/>
                <a:tab algn="l" pos="29864160"/>
                <a:tab algn="l" pos="30778560"/>
                <a:tab algn="l" pos="31692960"/>
                <a:tab algn="l" pos="32607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основе Североатлантического договора, подписан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93480" indent="699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3463360"/>
                <a:tab algn="l" pos="24377760"/>
                <a:tab algn="l" pos="25292160"/>
                <a:tab algn="l" pos="26206560"/>
                <a:tab algn="l" pos="27120960"/>
                <a:tab algn="l" pos="28035360"/>
                <a:tab algn="l" pos="28949760"/>
                <a:tab algn="l" pos="29864160"/>
                <a:tab algn="l" pos="30778560"/>
                <a:tab algn="l" pos="31692960"/>
                <a:tab algn="l" pos="32607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 апреля 1949 в Вашингто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93480" indent="699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3463360"/>
                <a:tab algn="l" pos="24377760"/>
                <a:tab algn="l" pos="25292160"/>
                <a:tab algn="l" pos="26206560"/>
                <a:tab algn="l" pos="27120960"/>
                <a:tab algn="l" pos="28035360"/>
                <a:tab algn="l" pos="28949760"/>
                <a:tab algn="l" pos="29864160"/>
                <a:tab algn="l" pos="30778560"/>
                <a:tab algn="l" pos="31692960"/>
                <a:tab algn="l" pos="32607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ъединяет в настоящее время 26 государст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93480" indent="699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3463360"/>
                <a:tab algn="l" pos="24377760"/>
                <a:tab algn="l" pos="25292160"/>
                <a:tab algn="l" pos="26206560"/>
                <a:tab algn="l" pos="27120960"/>
                <a:tab algn="l" pos="28035360"/>
                <a:tab algn="l" pos="28949760"/>
                <a:tab algn="l" pos="29864160"/>
                <a:tab algn="l" pos="30778560"/>
                <a:tab algn="l" pos="31692960"/>
                <a:tab algn="l" pos="32607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вропы и Северной Амер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rcRect l="2032" t="23736" r="2032" b="21910"/>
          <a:stretch/>
        </p:blipFill>
        <p:spPr>
          <a:xfrm>
            <a:off x="5000760" y="1143000"/>
            <a:ext cx="2492280" cy="1571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286240" y="3071880"/>
            <a:ext cx="3637080" cy="27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7" name=""/>
          <p:cNvGrpSpPr/>
          <p:nvPr/>
        </p:nvGrpSpPr>
        <p:grpSpPr>
          <a:xfrm>
            <a:off x="7000920" y="214200"/>
            <a:ext cx="1855800" cy="1203480"/>
            <a:chOff x="7000920" y="214200"/>
            <a:chExt cx="1855800" cy="1203480"/>
          </a:xfrm>
        </p:grpSpPr>
        <p:pic>
          <p:nvPicPr>
            <p:cNvPr id="78" name="" descr=""/>
            <p:cNvPicPr/>
            <p:nvPr/>
          </p:nvPicPr>
          <p:blipFill>
            <a:blip r:embed="rId4"/>
            <a:stretch/>
          </p:blipFill>
          <p:spPr>
            <a:xfrm>
              <a:off x="7000920" y="214200"/>
              <a:ext cx="1855800" cy="120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7000920" y="214200"/>
              <a:ext cx="185580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5204160" y="6093000"/>
            <a:ext cx="36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Штаб-квартира НАТО в Брюссе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28760" y="285840"/>
            <a:ext cx="4574880" cy="61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ОРГАНИЗАЦИЯ ОБЪЕДИНЕННЫХ НАЦИЙ (ООН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ждународная организация государст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нная в целях поддержания и укрепления мира, безопасности и развития сотрудничества между государств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 2007 году в состав ООН входило 192 государ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929200" y="571680"/>
            <a:ext cx="2465640" cy="1658880"/>
            <a:chOff x="5929200" y="571680"/>
            <a:chExt cx="2465640" cy="1658880"/>
          </a:xfrm>
        </p:grpSpPr>
        <p:pic>
          <p:nvPicPr>
            <p:cNvPr id="83" name="" descr=""/>
            <p:cNvPicPr/>
            <p:nvPr/>
          </p:nvPicPr>
          <p:blipFill>
            <a:blip r:embed="rId2"/>
            <a:srcRect l="2032" t="21910" r="2032" b="20084"/>
            <a:stretch/>
          </p:blipFill>
          <p:spPr>
            <a:xfrm>
              <a:off x="5929200" y="571680"/>
              <a:ext cx="2465640" cy="16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5929200" y="571680"/>
              <a:ext cx="2465640" cy="16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429160" y="2571840"/>
            <a:ext cx="3286080" cy="365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5023080" y="6308640"/>
            <a:ext cx="37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Calibri"/>
              </a:rPr>
              <a:t>Штаб-квартира ООН в Нью-Йор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4200" y="317520"/>
            <a:ext cx="8715600" cy="63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Политическая география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 – это наука, изучающая пространственную организацию политической жизни общества и  территориальные сочетания политических сил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Она рассматрива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57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формирование политической карты мира и его отдельных регион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57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зменение в политических границ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57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собенности государственного стро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57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итические партии, группировки и бло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риториальные аспекты массовых избирательных кампаний (так называемая «электронная географи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2920" y="525600"/>
            <a:ext cx="87868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  <a:ea typeface="Times New Roman"/>
              </a:rPr>
              <a:t>   </a:t>
            </a:r>
            <a:r>
              <a:rPr b="1" lang="ru-RU" sz="4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Геополитика</a:t>
            </a:r>
            <a:r>
              <a:rPr b="0" lang="ru-RU" sz="4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– это теория и практика государственной  внешней политики страны по отношению к ее собственным границам и взаимодействию с другими странами, основанная на максимальном учете географических факторов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28760" y="642960"/>
            <a:ext cx="82152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4f6228"/>
                </a:solidFill>
                <a:uFillTx/>
                <a:latin typeface="Arial"/>
                <a:ea typeface="Times New Roman"/>
              </a:rPr>
              <a:t>Политико-географическое положение</a:t>
            </a:r>
            <a:r>
              <a:rPr b="1" lang="ru-RU" sz="4000" spc="-1" strike="noStrike">
                <a:solidFill>
                  <a:srgbClr val="4f6228"/>
                </a:solidFill>
                <a:latin typeface="Arial"/>
                <a:ea typeface="Times New Roman"/>
              </a:rPr>
              <a:t>  </a:t>
            </a:r>
            <a:r>
              <a:rPr b="0" lang="ru-RU" sz="4000" spc="-1" strike="noStrike">
                <a:solidFill>
                  <a:srgbClr val="4f6228"/>
                </a:solidFill>
                <a:latin typeface="Arial"/>
                <a:ea typeface="Times New Roman"/>
              </a:rPr>
              <a:t>- это положение страны (ее части, группы стран) по отношению к другим государствам (политическим союзникам или противникам), очагам политических конфликтов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85840" y="1279440"/>
            <a:ext cx="871524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7920" algn="ctr">
              <a:lnSpc>
                <a:spcPct val="150000"/>
              </a:lnSpc>
              <a:buClr>
                <a:srgbClr val="376092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 u="sng">
                <a:solidFill>
                  <a:srgbClr val="376092"/>
                </a:solidFill>
                <a:uFillTx/>
                <a:latin typeface="Arial"/>
                <a:ea typeface="Times New Roman"/>
              </a:rPr>
              <a:t>Общие сведения о политической ориентации современной страны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участие страны в политических, военно-политических и экономических организаци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 u="sng">
                <a:solidFill>
                  <a:srgbClr val="376092"/>
                </a:solidFill>
                <a:uFillTx/>
                <a:latin typeface="Arial"/>
                <a:ea typeface="Times New Roman"/>
              </a:rPr>
              <a:t>2. Политическая и экономическая оценка государственных границ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а) уровень экономического развития соседних стра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б) принадлежность соседних стран к политически блока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) стратегическая оценка государственной границ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 u="sng">
                <a:solidFill>
                  <a:srgbClr val="376092"/>
                </a:solidFill>
                <a:uFillTx/>
                <a:latin typeface="Arial"/>
                <a:ea typeface="Times New Roman"/>
              </a:rPr>
              <a:t>3.  Отношение к транспортным путям, рынкам сырья и продукц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а) возможность использования морского и речного транспор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б) торговые отношения с соседними стран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) обеспеченность страны сырь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 u="sng">
                <a:solidFill>
                  <a:srgbClr val="376092"/>
                </a:solidFill>
                <a:uFillTx/>
                <a:latin typeface="Arial"/>
                <a:ea typeface="Times New Roman"/>
              </a:rPr>
              <a:t>4.  Отношение к «горячим точкам планеты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а) прямое или косвенное отношение страны к региональным конфликта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б) военно-стратегический потенциал и наличие военных баз за рубежо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) отношение страны к международной разрядке и разоружен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 algn="ctr">
              <a:lnSpc>
                <a:spcPct val="150000"/>
              </a:lnSpc>
              <a:buClr>
                <a:srgbClr val="37609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 u="sng">
                <a:solidFill>
                  <a:srgbClr val="376092"/>
                </a:solidFill>
                <a:uFillTx/>
                <a:latin typeface="Arial"/>
                <a:ea typeface="Times New Roman"/>
              </a:rPr>
              <a:t>Общая оценка современного ПГП страны и перспективы его разви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8760" y="5400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Times New Roman"/>
              </a:rPr>
              <a:t>Характеристика ПГП страны, его изменений во времен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00040" y="500040"/>
            <a:ext cx="8286840" cy="57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Стран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практической рабо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Times New Roman"/>
              </a:rPr>
              <a:t>I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  <a:ea typeface="Times New Roman"/>
              </a:rPr>
              <a:t> вариант – Афганистан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Times New Roman"/>
              </a:rPr>
              <a:t>II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  <a:ea typeface="Times New Roman"/>
              </a:rPr>
              <a:t> вариант – Бразилия;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Times New Roman"/>
              </a:rPr>
              <a:t>III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  <a:ea typeface="Times New Roman"/>
              </a:rPr>
              <a:t> вариант – Южно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  <a:ea typeface="Times New Roman"/>
              </a:rPr>
              <a:t>Африканская республика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Times New Roman"/>
              </a:rPr>
              <a:t>IV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  <a:ea typeface="Times New Roman"/>
              </a:rPr>
              <a:t> вариант – Канада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Times New Roman"/>
              </a:rPr>
              <a:t>V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  <a:ea typeface="Times New Roman"/>
              </a:rPr>
              <a:t> вариант – Польша;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Times New Roman"/>
              </a:rPr>
              <a:t>VI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  <a:ea typeface="Times New Roman"/>
              </a:rPr>
              <a:t> вариант – Кита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71680" y="5868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Федерации в современном ми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28760" y="1285920"/>
            <a:ext cx="8427960" cy="5418000"/>
            <a:chOff x="428760" y="1285920"/>
            <a:chExt cx="8427960" cy="5418000"/>
          </a:xfrm>
        </p:grpSpPr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428760" y="1285920"/>
              <a:ext cx="8427960" cy="5418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96" name=""/>
            <p:cNvSpPr/>
            <p:nvPr/>
          </p:nvSpPr>
          <p:spPr>
            <a:xfrm>
              <a:off x="428760" y="1285920"/>
              <a:ext cx="8427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лощадь крупнейших стран ми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50720" y="1596960"/>
            <a:ext cx="8240760" cy="4978440"/>
            <a:chOff x="450720" y="1596960"/>
            <a:chExt cx="8240760" cy="4978440"/>
          </a:xfrm>
        </p:grpSpPr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450720" y="1596960"/>
              <a:ext cx="8240760" cy="497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450720" y="1596960"/>
              <a:ext cx="8240760" cy="497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амые населенные страны ми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50720" y="1596960"/>
            <a:ext cx="8240760" cy="4905360"/>
            <a:chOff x="450720" y="1596960"/>
            <a:chExt cx="8240760" cy="4905360"/>
          </a:xfrm>
        </p:grpSpPr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450720" y="1596960"/>
              <a:ext cx="8240760" cy="49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450720" y="1596960"/>
              <a:ext cx="8240760" cy="49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214200" y="214200"/>
            <a:ext cx="8737560" cy="6427800"/>
            <a:chOff x="214200" y="214200"/>
            <a:chExt cx="8737560" cy="6427800"/>
          </a:xfrm>
        </p:grpSpPr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214200" y="214200"/>
              <a:ext cx="8737560" cy="6427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4" name=""/>
            <p:cNvSpPr/>
            <p:nvPr/>
          </p:nvSpPr>
          <p:spPr>
            <a:xfrm>
              <a:off x="214200" y="214200"/>
              <a:ext cx="8737560" cy="642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298440" y="1596960"/>
            <a:ext cx="8406000" cy="4533840"/>
            <a:chOff x="298440" y="1596960"/>
            <a:chExt cx="8406000" cy="453384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298440" y="1596960"/>
              <a:ext cx="8406000" cy="45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298440" y="1596960"/>
              <a:ext cx="8406000" cy="453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лассификация стран по тип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12640" y="317520"/>
            <a:ext cx="8326440" cy="110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28760" y="1428840"/>
            <a:ext cx="8429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Большая «семерка» стран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ВВП из расчета на душу населения 20-30 тыс. $ : США, Япония, Германия, Франция, Великобритания, Канад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Малые высокоразвитые страны  Западной Европы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Австрия, Нидерланды, Швейцария, Швец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траны «переселенческого капитализма»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Австралия, Новая Зеландия, ЮАР, Израи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траны Западной Европы, отставшие в своем развит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Греция, Португа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Микрогосударства Западной Европы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Андорра, Ватикан, Лихтенштейн, Мальта, Монако, Сан-Мари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траны с «переходной экономикой»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бывшие социалистические страны и  страны СНГ, Россия (2460 $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12640" y="317520"/>
            <a:ext cx="8326440" cy="1109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85840" y="1247760"/>
            <a:ext cx="864396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1370160"/>
                <a:tab algn="l" pos="2284560"/>
                <a:tab algn="l" pos="3198960"/>
                <a:tab algn="l" pos="4113360"/>
                <a:tab algn="l" pos="5027760"/>
                <a:tab algn="l" pos="5942160"/>
                <a:tab algn="l" pos="6856560"/>
                <a:tab algn="l" pos="7770960"/>
                <a:tab algn="l" pos="8685360"/>
                <a:tab algn="l" pos="9599760"/>
                <a:tab algn="l" pos="10514160"/>
                <a:tab algn="l" pos="1078236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Ключевые страны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 ВВП из расчета на душу населения 300-350 тыс. $ : Индия, Бразилия и Мекс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1370160"/>
                <a:tab algn="l" pos="2284560"/>
                <a:tab algn="l" pos="3198960"/>
                <a:tab algn="l" pos="4113360"/>
                <a:tab algn="l" pos="5027760"/>
                <a:tab algn="l" pos="5942160"/>
                <a:tab algn="l" pos="6856560"/>
                <a:tab algn="l" pos="7770960"/>
                <a:tab algn="l" pos="8685360"/>
                <a:tab algn="l" pos="9599760"/>
                <a:tab algn="l" pos="10514160"/>
                <a:tab algn="l" pos="1078236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Относительно высокоразвитые страны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траны Латинской Америки (Аргентина, Уругвай, Чили, Венесуэла, Сальвадор), страны Северной Африки, страны Азии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1370160"/>
                <a:tab algn="l" pos="2284560"/>
                <a:tab algn="l" pos="3198960"/>
                <a:tab algn="l" pos="4113360"/>
                <a:tab algn="l" pos="5027760"/>
                <a:tab algn="l" pos="5942160"/>
                <a:tab algn="l" pos="6856560"/>
                <a:tab algn="l" pos="7770960"/>
                <a:tab algn="l" pos="8685360"/>
                <a:tab algn="l" pos="9599760"/>
                <a:tab algn="l" pos="10514160"/>
                <a:tab algn="l" pos="1078236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Новые индустриальные страны (НИС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1980-90 гг. – «азиатские тигры» - первой волны – Республика Корея, Сингапур, Тайвань, Гонконг; и второй волны – Малайзия, Таиланд, Индонез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1370160"/>
                <a:tab algn="l" pos="2284560"/>
                <a:tab algn="l" pos="3198960"/>
                <a:tab algn="l" pos="4113360"/>
                <a:tab algn="l" pos="5027760"/>
                <a:tab algn="l" pos="5942160"/>
                <a:tab algn="l" pos="6856560"/>
                <a:tab algn="l" pos="7770960"/>
                <a:tab algn="l" pos="8685360"/>
                <a:tab algn="l" pos="9599760"/>
                <a:tab algn="l" pos="10514160"/>
                <a:tab algn="l" pos="1078236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Нефтеэкспортирующие страны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 Саудовская Аравия, Кувейт, Катар, ОАЭ, Иран, Ливия, Бруней. Благодаря притоку «нефтедолларов» душевой показатель ВВП достигает 10-20 тыс. доллар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1370160"/>
                <a:tab algn="l" pos="2284560"/>
                <a:tab algn="l" pos="3198960"/>
                <a:tab algn="l" pos="4113360"/>
                <a:tab algn="l" pos="5027760"/>
                <a:tab algn="l" pos="5942160"/>
                <a:tab algn="l" pos="6856560"/>
                <a:tab algn="l" pos="7770960"/>
                <a:tab algn="l" pos="8685360"/>
                <a:tab algn="l" pos="9599760"/>
                <a:tab algn="l" pos="10514160"/>
                <a:tab algn="l" pos="1078236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«Классические развивающиеся» (страны «третьего мира»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это страны, отстающие в своем развитии, с душевым ВВП менее 1000 долларов. Больше всего таких стран в Африке, есть в Азии и Латинской Америк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1370160"/>
                <a:tab algn="l" pos="2284560"/>
                <a:tab algn="l" pos="3198960"/>
                <a:tab algn="l" pos="4113360"/>
                <a:tab algn="l" pos="5027760"/>
                <a:tab algn="l" pos="5942160"/>
                <a:tab algn="l" pos="6856560"/>
                <a:tab algn="l" pos="7770960"/>
                <a:tab algn="l" pos="8685360"/>
                <a:tab algn="l" pos="9599760"/>
                <a:tab algn="l" pos="10514160"/>
                <a:tab algn="l" pos="1078236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«Наименее развитые страны» (страны «четвертого мира»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 ВВП 100-300 $ в год, это 42 страны мира: Афганистан, Бангладеш, Бенин, Бутан, Ботсвана, Буркина-Фасо, Бурунди, Кабо-Верде, Камбоджа, ЦАР, Чад, Коморские острова, Джибути, Экваториальная Гвинея, Гвинея-Бисау, Гаити, Лаос, Лесото, Либерия, Мадагаскар, Мали, Малави, Мальдивы, Мавритания, Мозамбик, Мьянма, Непал, Нигерия, Руанда, Западное Самоа, Сан-Томе и Принсипи, Сьерра-Леоне, Соломоновы Острова, Сомали, Судан, Танзания, Того, Уганда, Вануату, Йемен, Конго (б/ш Заир), Замбия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1370160"/>
                <a:tab algn="l" pos="2284560"/>
                <a:tab algn="l" pos="3198960"/>
                <a:tab algn="l" pos="4113360"/>
                <a:tab algn="l" pos="5027760"/>
                <a:tab algn="l" pos="5942160"/>
                <a:tab algn="l" pos="6856560"/>
                <a:tab algn="l" pos="7770960"/>
                <a:tab algn="l" pos="8685360"/>
                <a:tab algn="l" pos="9599760"/>
                <a:tab algn="l" pos="1051416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«Страны- квартиросдатчики»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Кипр, Багамские острова, Либер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85880" y="1928880"/>
          <a:ext cx="7715160" cy="4645080"/>
        </p:xfrm>
        <a:graphic>
          <a:graphicData uri="http://schemas.openxmlformats.org/drawingml/2006/table">
            <a:tbl>
              <a:tblPr/>
              <a:tblGrid>
                <a:gridCol w="1928880"/>
                <a:gridCol w="1928520"/>
                <a:gridCol w="1928880"/>
                <a:gridCol w="1928880"/>
              </a:tblGrid>
              <a:tr h="361440">
                <a:tc>
                  <a:txBody>
                    <a:bodyPr lIns="64440" rIns="64440" tIns="212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4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Стра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212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4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ВВП ↑, 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212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тра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212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ВВП ↓, 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Швейцар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0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г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96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орвег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1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ан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98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ФР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75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ьерра-Лео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69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ав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Австр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68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рунд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4560">
                <a:tc>
                  <a:txBody>
                    <a:bodyPr lIns="64440" rIns="64440" tIns="17640" bIns="0" anchor="t">
                      <a:noAutofit/>
                    </a:bodyPr>
                    <a:p>
                      <a:pPr marL="18660960" indent="4932360" algn="ctr">
                        <a:lnSpc>
                          <a:spcPct val="93000"/>
                        </a:lnSpc>
                        <a:tabLst>
                          <a:tab algn="l" pos="0"/>
                          <a:tab algn="l" pos="18660960"/>
                          <a:tab algn="l" pos="19575360"/>
                          <a:tab algn="l" pos="20489760"/>
                          <a:tab algn="l" pos="21404160"/>
                          <a:tab algn="l" pos="22318560"/>
                          <a:tab algn="l" pos="23232960"/>
                          <a:tab algn="l" pos="24147360"/>
                          <a:tab algn="l" pos="25061760"/>
                          <a:tab algn="l" pos="25976160"/>
                          <a:tab algn="l" pos="26890560"/>
                          <a:tab algn="l" pos="27804960"/>
                          <a:tab algn="l" pos="2871936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ингапу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67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нз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17640" bIns="0" anchor="t">
                      <a:noAutofit/>
                    </a:bodyPr>
                    <a:p>
                      <a:pPr marL="9212400" indent="-9210960" algn="ctr">
                        <a:lnSpc>
                          <a:spcPct val="93000"/>
                        </a:lnSpc>
                        <a:tabLst>
                          <a:tab algn="l" pos="0"/>
                          <a:tab algn="l" pos="9212400"/>
                          <a:tab algn="l" pos="10126800"/>
                          <a:tab algn="l" pos="11041200"/>
                          <a:tab algn="l" pos="11955600"/>
                          <a:tab algn="l" pos="12870000"/>
                          <a:tab algn="l" pos="13784400"/>
                          <a:tab algn="l" pos="14698800"/>
                          <a:tab algn="l" pos="15613200"/>
                          <a:tab algn="l" pos="16527600"/>
                          <a:tab algn="l" pos="17442000"/>
                          <a:tab algn="l" pos="18356400"/>
                          <a:tab algn="l" pos="192708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4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фиоп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Бельг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47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замб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785880" y="290160"/>
            <a:ext cx="7643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Arial"/>
                <a:ea typeface="Times New Roman"/>
              </a:rPr>
              <a:t>Страны с самым высоким и самым низким показателем ВВП из расчета на душу населения (</a:t>
            </a:r>
            <a:r>
              <a:rPr b="1" lang="ru-RU" sz="2800" spc="-1" strike="noStrike">
                <a:solidFill>
                  <a:srgbClr val="376092"/>
                </a:solidFill>
                <a:latin typeface="Arial"/>
              </a:rPr>
              <a:t>граница 6000 </a:t>
            </a:r>
            <a:r>
              <a:rPr b="1" lang="ru-RU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$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95280" y="24408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Укажите «+» и «-» Росс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следующим показателям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0" y="1700280"/>
          <a:ext cx="9144000" cy="4632120"/>
        </p:xfrm>
        <a:graphic>
          <a:graphicData uri="http://schemas.openxmlformats.org/drawingml/2006/table">
            <a:tbl>
              <a:tblPr/>
              <a:tblGrid>
                <a:gridCol w="4788000"/>
                <a:gridCol w="2178000"/>
                <a:gridCol w="2178000"/>
              </a:tblGrid>
              <a:tr h="172008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480" bIns="46800" anchor="t">
                      <a:noAutofit/>
                    </a:bodyPr>
                    <a:p>
                      <a:pPr marL="23461560" indent="131760" algn="ctr">
                        <a:lnSpc>
                          <a:spcPct val="98000"/>
                        </a:lnSpc>
                        <a:tabLst>
                          <a:tab algn="l" pos="0"/>
                          <a:tab algn="l" pos="23461560"/>
                          <a:tab algn="l" pos="24375960"/>
                          <a:tab algn="l" pos="25290360"/>
                          <a:tab algn="l" pos="26204760"/>
                          <a:tab algn="l" pos="27119160"/>
                          <a:tab algn="l" pos="28033560"/>
                          <a:tab algn="l" pos="28947960"/>
                          <a:tab algn="l" pos="29862360"/>
                          <a:tab algn="l" pos="30776760"/>
                          <a:tab algn="l" pos="31691160"/>
                          <a:tab algn="l" pos="32605560"/>
                          <a:tab algn="l" pos="3351996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«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60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«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853560"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номико-географическое положени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000"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ные ресурс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000"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елени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8400"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зяйств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ключая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развития экономики, промышленность, сельское хозяйство, транспорт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0" y="78375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19:46:40Z</dcterms:created>
  <dc:creator>Admin</dc:creator>
  <dc:description/>
  <dc:language>en-US</dc:language>
  <cp:lastModifiedBy>starostina</cp:lastModifiedBy>
  <dcterms:modified xsi:type="dcterms:W3CDTF">2010-05-07T07:08:01Z</dcterms:modified>
  <cp:revision>30</cp:revision>
  <dc:subject/>
  <dc:title>Площадь крупнейших стран мира</dc:title>
</cp:coreProperties>
</file>