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D31D-727F-429E-9F01-6E4EE8238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5E9A-AA8C-4A43-B7FE-51068C3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E86E-764E-4657-BBB4-E30A819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C0AB-39CA-4F47-A1A7-D285D3FDE8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D391-1727-4B8A-B60F-5D09093C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E80C-A6D7-43DF-BE69-60B312F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38EF-2B58-4AD3-BEC9-951FAE6C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5A3E-C74B-4EE9-823C-BDEBB79F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CC2A-5903-418D-A9CD-5838A8DD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1851-4DFB-434E-884F-C103F01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978A-AD21-4148-962B-CC53499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C2AE-BA17-496D-B25D-6F3C5CF6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64E98B-4474-4647-9144-68FE610471C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485640"/>
            <a:ext cx="7772400" cy="2530440"/>
          </a:xfrm>
          <a:prstGeom prst="rect">
            <a:avLst/>
          </a:prstGeom>
          <a:gradFill rotWithShape="0">
            <a:gsLst>
              <a:gs pos="0">
                <a:srgbClr val="f2dcdb"/>
              </a:gs>
              <a:gs pos="50000">
                <a:srgbClr val="fdeada"/>
              </a:gs>
              <a:gs pos="100000">
                <a:srgbClr val="f2dcdb"/>
              </a:gs>
            </a:gsLst>
            <a:lin ang="81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Политическая карта ми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3958920" cy="304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16000" y="3645000"/>
            <a:ext cx="1704960" cy="223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ности современных международны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гиональные конфли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сширение блока НА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спространение ядерного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ровой террор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1680" y="-842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флик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современ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4000" y="1341360"/>
            <a:ext cx="8555040" cy="5283360"/>
            <a:chOff x="324000" y="1341360"/>
            <a:chExt cx="8555040" cy="528336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8555040" cy="5283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24000" y="1341360"/>
              <a:ext cx="8555040" cy="52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200" y="428760"/>
            <a:ext cx="521496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енно-политический союз, созда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Североатлантического договора, подписа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апреля 1949 в Вашингт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диняет в настоящее время 26 государ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ропы и Северной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032" t="23736" r="2032" b="21910"/>
          <a:stretch/>
        </p:blipFill>
        <p:spPr>
          <a:xfrm>
            <a:off x="5000760" y="1143000"/>
            <a:ext cx="2492280" cy="1571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86240" y="3071880"/>
            <a:ext cx="363708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7000920" y="214200"/>
            <a:ext cx="1855800" cy="1203480"/>
            <a:chOff x="7000920" y="214200"/>
            <a:chExt cx="1855800" cy="1203480"/>
          </a:xfrm>
        </p:grpSpPr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7000920" y="214200"/>
              <a:ext cx="185580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00920" y="214200"/>
              <a:ext cx="18558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204160" y="6093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Штаб-квартира НАТО в Брюс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28760" y="285840"/>
            <a:ext cx="45748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Я ОБЪЕДИНЕННЫХ НАЦИЙ (ОО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ая организация государст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ная в целях поддержания и укрепления мира, безопасности и развития сотрудничества между государ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2007 году в состав ООН входило 192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29200" y="571680"/>
            <a:ext cx="2465640" cy="1658880"/>
            <a:chOff x="5929200" y="571680"/>
            <a:chExt cx="2465640" cy="16588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2032" t="21910" r="2032" b="20084"/>
            <a:stretch/>
          </p:blipFill>
          <p:spPr>
            <a:xfrm>
              <a:off x="5929200" y="571680"/>
              <a:ext cx="24656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929200" y="571680"/>
              <a:ext cx="246564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29160" y="2571840"/>
            <a:ext cx="328608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023080" y="630864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Штаб-квартира ООН в Нью-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200" y="317520"/>
            <a:ext cx="87156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олитическая географ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– это наука, изучающая пространственную организацию политической жизни общества и  территориальные сочетания политических си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на рассматр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политической карты мира и его отдельных регио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в политических границ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государственного стро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итические партии, группировки и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ые аспекты массовых избирательных кампаний (так называемая «электронная географ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2920" y="525600"/>
            <a:ext cx="8786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Геополитика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– это теория и практика государственной  внешней политики страны по отношению к ее собственным границам и взаимодействию с другими странами, основанная на максимальном учете географических фактор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760" y="64296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4f6228"/>
                </a:solidFill>
                <a:uFillTx/>
                <a:latin typeface="Arial"/>
                <a:ea typeface="Times New Roman"/>
              </a:rPr>
              <a:t>Политико-географическое положение</a:t>
            </a:r>
            <a:r>
              <a:rPr b="1" lang="ru-RU" sz="4000" spc="-1" strike="noStrike">
                <a:solidFill>
                  <a:srgbClr val="4f6228"/>
                </a:solidFill>
                <a:latin typeface="Arial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4f6228"/>
                </a:solidFill>
                <a:latin typeface="Arial"/>
                <a:ea typeface="Times New Roman"/>
              </a:rPr>
              <a:t>- это положение страны (ее части, группы стран) по отношению к другим государствам (политическим союзникам или противникам), очагам политических конфликтов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840" y="1279440"/>
            <a:ext cx="87152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7920" algn="ctr">
              <a:lnSpc>
                <a:spcPct val="150000"/>
              </a:lnSpc>
              <a:buClr>
                <a:srgbClr val="376092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Общие сведения о политической ориентации современной страны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страны в политических, военно-политических и экономических организ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2. Политическая и экономическая оценка государственных грани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ровень экономического развития соседних стр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принадлежность соседних стран к политически бло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тратегическая оценка государственной гран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3.  Отношение к транспортным путям, рынкам сырья и проду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возможность использования морского и речного транс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торговые отношения с соседними стра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) обеспеченность страны сырь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4.  Отношение к «горячим точкам планеты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прямое или косвенное отношение страны к региональным конфлик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военно-стратегический потенциал и наличие военных баз за рубеж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) отношение страны к международной разрядке и разоруж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 algn="ctr">
              <a:lnSpc>
                <a:spcPct val="150000"/>
              </a:lnSpc>
              <a:buClr>
                <a:srgbClr val="37609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Общая оценка современного ПГП страны и перспективы е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540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Характеристика ПГП страны, его изменений в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0040" y="500040"/>
            <a:ext cx="828684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Афганистан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Бразилия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I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Юж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Африканская республик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V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Канад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V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Польша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V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Кит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1680" y="586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едерации в современ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28760" y="1285920"/>
            <a:ext cx="8427960" cy="5418000"/>
            <a:chOff x="428760" y="1285920"/>
            <a:chExt cx="8427960" cy="54180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28760" y="1285920"/>
              <a:ext cx="8427960" cy="5418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6" name=""/>
            <p:cNvSpPr/>
            <p:nvPr/>
          </p:nvSpPr>
          <p:spPr>
            <a:xfrm>
              <a:off x="428760" y="1285920"/>
              <a:ext cx="8427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ощадь крупнейших стран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0720" y="1596960"/>
            <a:ext cx="8240760" cy="4978440"/>
            <a:chOff x="450720" y="1596960"/>
            <a:chExt cx="8240760" cy="49784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450720" y="1596960"/>
              <a:ext cx="8240760" cy="49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0720" y="1596960"/>
              <a:ext cx="824076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ые населенные страны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0720" y="1596960"/>
            <a:ext cx="8240760" cy="4905360"/>
            <a:chOff x="450720" y="1596960"/>
            <a:chExt cx="8240760" cy="49053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450720" y="1596960"/>
              <a:ext cx="824076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0720" y="1596960"/>
              <a:ext cx="8240760" cy="49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4200" y="214200"/>
            <a:ext cx="8737560" cy="6427800"/>
            <a:chOff x="214200" y="214200"/>
            <a:chExt cx="8737560" cy="6427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214200" y="214200"/>
              <a:ext cx="8737560" cy="642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214200" y="214200"/>
              <a:ext cx="8737560" cy="64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98440" y="1596960"/>
            <a:ext cx="8406000" cy="4533840"/>
            <a:chOff x="298440" y="1596960"/>
            <a:chExt cx="8406000" cy="45338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98440" y="1596960"/>
              <a:ext cx="84060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98440" y="1596960"/>
              <a:ext cx="8406000" cy="45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ассификация стран по тип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640" y="317520"/>
            <a:ext cx="8326440" cy="110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1428840"/>
            <a:ext cx="8429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ьшая «семерка» стран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ВП из расчета на душу населения 20-30 тыс. $ : США, Япония, Германия, Франция, Великобритания, Кан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лые высокоразвитые страны  Западной Европ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Австрия, Нидерланды, Швейцария, Шве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ны «переселенческого капитализма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Австралия, Новая Зеландия, ЮАР, Израи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ны Западной Европы, отставшие в своем развит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Греция, Португ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икрогосударства Западной Европ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Андорра, Ватикан, Лихтенштейн, Мальта, Монако, Сан-Мар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ны с «переходной экономикой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шие социалистические страны и  страны СНГ, Россия (2460 $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2640" y="317520"/>
            <a:ext cx="8326440" cy="110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5840" y="1247760"/>
            <a:ext cx="86439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лючевые стра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ВП из расчета на душу населения 300-350 тыс. $ : Индия, Бразилия и Мек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тносительно высокоразвитые стра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ы Латинской Америки (Аргентина, Уругвай, Чили, Венесуэла, Сальвадор), страны Северной Африки, страны Аз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овые индустриальные страны (НИС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1980-90 гг. – «азиатские тигры» - первой волны – Республика Корея, Сингапур, Тайвань, Гонконг; и второй волны – Малайзия, Таиланд, Индонез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фтеэкспортирующие стра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Саудовская Аравия, Кувейт, Катар, ОАЭ, Иран, Ливия, Бруней. Благодаря притоку «нефтедолларов» душевой показатель ВВП достигает 10-20 тыс. долла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Классические развивающиеся» (страны «третьего мира»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это страны, отстающие в своем развитии, с душевым ВВП менее 1000 долларов. Больше всего таких стран в Африке, есть в Азии и Латинской Амер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Наименее развитые страны» (страны «четвертого мира»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ВП 100-300 $ в год, это 42 страны мира: Афганистан, Бангладеш, Бенин, Бутан, Ботсвана, Буркина-Фасо, Бурунди, Кабо-Верде, Камбоджа, ЦАР, Чад, Коморские острова, Джибути, Экваториальная Гвинея, Гвинея-Бисау, Гаити, Лаос, Лесото, Либерия, Мадагаскар, Мали, Малави, Мальдивы, Мавритания, Мозамбик, Мьянма, Непал, Нигерия, Руанда, Западное Самоа, Сан-Томе и Принсипи, Сьерра-Леоне, Соломоновы Острова, Сомали, Судан, Танзания, Того, Уганда, Вануату, Йемен, Конго (б/ш Заир), Замбия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Страны- квартиросдатчик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ипр, Багамские острова, Либер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85880" y="1928880"/>
          <a:ext cx="7715160" cy="4645080"/>
        </p:xfrm>
        <a:graphic>
          <a:graphicData uri="http://schemas.openxmlformats.org/drawingml/2006/table">
            <a:tbl>
              <a:tblPr/>
              <a:tblGrid>
                <a:gridCol w="1928880"/>
                <a:gridCol w="1928520"/>
                <a:gridCol w="1928880"/>
                <a:gridCol w="1928880"/>
              </a:tblGrid>
              <a:tr h="361440"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ВП ↑, 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ВП ↓, 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0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9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7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ьерра-Лео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вст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ун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64440" rIns="64440" tIns="17640" bIns="0" anchor="t">
                      <a:noAutofit/>
                    </a:bodyPr>
                    <a:p>
                      <a:pPr marL="18660960" indent="4932360" algn="ctr">
                        <a:lnSpc>
                          <a:spcPct val="93000"/>
                        </a:lnSpc>
                        <a:tabLst>
                          <a:tab algn="l" pos="0"/>
                          <a:tab algn="l" pos="18660960"/>
                          <a:tab algn="l" pos="19575360"/>
                          <a:tab algn="l" pos="20489760"/>
                          <a:tab algn="l" pos="21404160"/>
                          <a:tab algn="l" pos="22318560"/>
                          <a:tab algn="l" pos="23232960"/>
                          <a:tab algn="l" pos="24147360"/>
                          <a:tab algn="l" pos="25061760"/>
                          <a:tab algn="l" pos="25976160"/>
                          <a:tab algn="l" pos="26890560"/>
                          <a:tab algn="l" pos="27804960"/>
                          <a:tab algn="l" pos="28719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ингап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marL="9212400" indent="-9210960" algn="ctr">
                        <a:lnSpc>
                          <a:spcPct val="93000"/>
                        </a:lnSpc>
                        <a:tabLst>
                          <a:tab algn="l" pos="0"/>
                          <a:tab algn="l" pos="9212400"/>
                          <a:tab algn="l" pos="10126800"/>
                          <a:tab algn="l" pos="11041200"/>
                          <a:tab algn="l" pos="11955600"/>
                          <a:tab algn="l" pos="12870000"/>
                          <a:tab algn="l" pos="13784400"/>
                          <a:tab algn="l" pos="14698800"/>
                          <a:tab algn="l" pos="15613200"/>
                          <a:tab algn="l" pos="16527600"/>
                          <a:tab algn="l" pos="17442000"/>
                          <a:tab algn="l" pos="18356400"/>
                          <a:tab algn="l" pos="192708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ио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амб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85880" y="29016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Страны с самым высоким и самым низким показателем ВВП из расчета на душу населения (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граница 6000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2440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жите «+» и «-»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ледующим показател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00280"/>
          <a:ext cx="9144000" cy="4632120"/>
        </p:xfrm>
        <a:graphic>
          <a:graphicData uri="http://schemas.openxmlformats.org/drawingml/2006/table">
            <a:tbl>
              <a:tblPr/>
              <a:tblGrid>
                <a:gridCol w="4788000"/>
                <a:gridCol w="2178000"/>
                <a:gridCol w="2178000"/>
              </a:tblGrid>
              <a:tr h="17200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 marL="23461560" indent="131760" algn="ctr">
                        <a:lnSpc>
                          <a:spcPct val="98000"/>
                        </a:lnSpc>
                        <a:tabLst>
                          <a:tab algn="l" pos="0"/>
                          <a:tab algn="l" pos="23461560"/>
                          <a:tab algn="l" pos="24375960"/>
                          <a:tab algn="l" pos="25290360"/>
                          <a:tab algn="l" pos="26204760"/>
                          <a:tab algn="l" pos="27119160"/>
                          <a:tab algn="l" pos="28033560"/>
                          <a:tab algn="l" pos="28947960"/>
                          <a:tab algn="l" pos="29862360"/>
                          <a:tab algn="l" pos="30776760"/>
                          <a:tab algn="l" pos="31691160"/>
                          <a:tab algn="l" pos="32605560"/>
                          <a:tab algn="l" pos="335199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356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о-географическое полож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ресур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4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ключа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экономики, промышленность, сельское хозяйство, транспорт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7837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46:40Z</dcterms:created>
  <dc:creator>Admin</dc:creator>
  <dc:description/>
  <dc:language>en-US</dc:language>
  <cp:lastModifiedBy>starostina</cp:lastModifiedBy>
  <dcterms:modified xsi:type="dcterms:W3CDTF">2010-05-07T07:08:01Z</dcterms:modified>
  <cp:revision>30</cp:revision>
  <dc:subject/>
  <dc:title>Площадь крупнейших стран мира</dc:title>
</cp:coreProperties>
</file>