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C4C-79B6-4887-83CF-E4B0B6FC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9D0-DEC5-4844-BE77-B1A558DF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44F-4C79-46CC-BD09-B5BE75FD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876-B12F-48F4-B86F-7352D9EF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DF1B-0F81-4D71-8676-73480616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209B-38D1-4037-A372-DA8BCD87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7E3A-7AA0-4443-9506-92B85C4B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B843-774F-4AF5-92AB-CDBBD675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DD32-55D6-4F48-B315-93D3B76E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F1EC-F761-4023-A9FF-DAE01CB7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C612-9EC8-4430-9554-75EABFDF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5B0-6A0E-493D-ABA1-5E25E40A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C884-1D6E-4FD3-BB74-2474238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A927-1B72-412D-9A99-2E7DA93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AE47-42A9-43E2-89ED-4217A24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1BF3-F361-46FF-A75B-055A14B4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247-5C46-4099-942D-606B6489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903-6078-4CA7-B108-78C3ABCF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8EE-89EE-48B6-B415-4AED8F85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F1B-8533-478E-B665-8829E4F7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9B7-7CE3-45D6-B31F-CBF99215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944-36B5-43D6-86C8-AF711EC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D1E-9807-444B-ABBB-C0CD895C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F4C-092E-4F14-B099-C54427D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859E-37CE-4BD3-948A-ED962B8D8E1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AF25-084D-4A23-83B7-129DAE1FE7A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авильные многогранник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траэд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таэд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косаэд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декаэд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ьмем икосаэдр и рассмотрим многогранник с вершинами в центрах его граней . Очевидно, что центры пяти граней икосаэдра, имеющих общую вершину, лежат в одной плоскости и служат вершинами правильного пятиугольника . Итак, каждой вершине икосаэдра соответствует грань нового многогранника, грани которого – правильные пятиугольники, а все двугранные углы равны. Из всего вышесказанного следует, что полученный многогранник является правильным и имеет 12 граней, 30 ребер и 20 вершин. Такой многогранник и называется додекаэ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0800301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1828800" cy="1752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4419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ак, в трехмерном пространстве существует только пять видов правильных многогранников. Мы определили их вид и установили, что все многогранники имеют двойственные к ним. Куб двойственен к октаэдру и наоборот. Икосаэдр – к додекаэдру и наоборот. Тетраэдр двойственен сам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авильные многогранники в хими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cos (-1/3)=109°27'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наком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личина из курса химии: это угол между связями С–Н в молекуле метана, который удается очень точно измерить в эксперименте, а поскольку ни один атом водорода в молекуле СН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очевидно, ничем не выделен, то разумно предположить, что эта молекула имеет форму правильного тетраэдра. Этот факт подтверждается фотографиями молекулы метана, полученными при помощи электронного микроскоп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0800502" descr=""/>
          <p:cNvPicPr/>
          <p:nvPr/>
        </p:nvPicPr>
        <p:blipFill>
          <a:blip r:embed="rId1"/>
          <a:stretch/>
        </p:blipFill>
        <p:spPr>
          <a:xfrm>
            <a:off x="0" y="1752480"/>
            <a:ext cx="8839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Тест по теме правильные многогранник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граней у гексаэдр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о ли определение: многогранник называется правильным, если все его грани – равные между собой правильные многоугольники, все двугранные углы которых рав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правильным многогранник с вершинами в серединах ребер правильного тетраэдр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иды правильных многограннико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3" name="0800101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848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762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ще в древней Греции были известны пять удивительных многогр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828800"/>
            <a:ext cx="883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 изучали ученые, ювелиры, священники, архитекторы. Этим многогранникам даже приписывали магические свойства. Древнегреческий ученый и философ Платон (IV–V в до н. э.) считал, что эти тела олицетворяют сущность природы. В своем диалоге «Тимей» Платон говорит, что атом огня имеет вид тетраэдра, земли – гексаэдра (куба), воздуха – октаэдра, воды – икосаэдра. В этом соответствии не нашлось места только додекаэдру и Платон предположил существование еще одной, пятой сущности – эфира, атомы которого как раз и имеют форму додекаэдра. Ученики Платона продолжили его дело в изучении перечисленных тел. Поэтому эти многогранники называют </a:t>
            </a: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платоновыми тел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нятие правильного многогранник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ногогранник называется правильным, если все его грани – равные между собой правильные многоугольники, из каждой его вершины выходит одинаковое число ребер и все двугранные углы рав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уют пять типов правильных многогранников: тетраэдр (треугольная пирамида), гексаэдр (куб), октаэдр, додекаэдр, икосаэдр. Можно доказать, что других правильных многогранников не существует.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198108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Тетраэд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etra – четыре, hedra – грань). Правильный тетраэдр – правильный четырехгранник, то есть тетраэдр с равными ребрами, представляет собой правильный многогранник, все грани которого – правильные треугольники и из каждой вершины которого выходит ровно три реб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67320" y="4343400"/>
            <a:ext cx="2646360" cy="1811160"/>
            <a:chOff x="4567320" y="4343400"/>
            <a:chExt cx="2646360" cy="1811160"/>
          </a:xfrm>
        </p:grpSpPr>
        <p:sp>
          <p:nvSpPr>
            <p:cNvPr id="220" name=""/>
            <p:cNvSpPr/>
            <p:nvPr/>
          </p:nvSpPr>
          <p:spPr>
            <a:xfrm>
              <a:off x="4567320" y="4343400"/>
              <a:ext cx="264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67320" y="4343400"/>
              <a:ext cx="2646360" cy="18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80880" y="6094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Гексаэд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ку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exa – шесть). Гексаэдр – правильный многогранник, все грани которого – квадраты, и из каждой вершины выходит три реб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57524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Октаэд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kto – восемь). Это правильный многогранник, все грани которого – правильные треугольники и к каждой вершине прилегают четыре грани. Покажем, что этот многогранник имеет восемь граней, указав способ его постро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200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правильный многогранник, у которого все грани – правильные треугольники, и из каждой вершины выходит 5 ребер. Этот многогранник имеет 20 граней, 30 ребер, 12 вершин и называется </a:t>
            </a: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икосаэд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cosi – двадц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94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правильный многогранник, у которого все грани правильные пятиугольники и из каждой вершины выходит 3 ребра. Этот многогранник имеет 12 граней, 30 ребер и 20 вершин и называется </a:t>
            </a:r>
            <a:r>
              <a:rPr b="1" i="1" lang="en-US" sz="2400" spc="-1" strike="noStrike">
                <a:solidFill>
                  <a:srgbClr val="862727"/>
                </a:solidFill>
                <a:latin typeface="Arial"/>
              </a:rPr>
              <a:t>додекаэд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odeka – двенадц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м квадрат ABCD и построим на нем, как на основании, по обе стороны от его плоскости четырехугольные пирамиды, боковые ребра которых равны сторонам квадрата. Полученный многогранник и будет октаэ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0800201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22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не более пяти различных видов правильных многогра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457880" y="4626000"/>
            <a:ext cx="228600" cy="171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1752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определения правильного многогранника следует, что его гранями могут быть лишь треугольники, четырехугольники и пятиугольники. Действительно, докажем например, что грани не могут быть правильными шестиугольниками. По определению правильного многогранника, в каждой его вершине должны сходиться не менее трех граней. Однако, в правильном шестиугольнике углы равны 120°. Получается, что сумма трех плоских углов выпуклого многогранного угла равна 360°, а это невозможно, так как эта сумма всегда меньше 360°. Тем более грани правильного многогранника не могут оказаться многоугольниками с большим числом стор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ясним, сколько граней может сходиться в вершине правильного многогранника. Если все его грани – правильные треугольники, то к каждой вершине могут прилегать не более пяти треугольников, так как иначе сумма плоских углов при этой вершине будет не менее 360°, что, как мы убедились, невозможно. Итак, если все грани правильного многогранника – правильные треугольники, то к каждой вершине прилегают три, четыре или пять треугольников. Аналогичными рассуждениями убеждаемся, что в каждой вершине правильного многогранника, грани которого – правильные четырехугольники и пятиугольники, сходятся ровно три ре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войственные многогранник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6765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метим интересный факт, связанный с гексаэдром (кубом) и октаэдром. Куб имеет 6 граней, 12 ребер и 8 вершин, а октаэдр – 8 граней, 12 ребер и 6 вершин. То есть число граней одного многогранника равно числу вершин другого и наоборот. Как говорят, куб и гексаэдр являются двойственными друг к другу. Это также проявляется в том, что если взять куб и построить многогранник с вершинами в центрах его граней, то, как несложно убедиться, получится октаэдр. Верно и обратное – центры граней октаэдра служат вершинами куба. В этом-то и состоит двойственность октаэдра и куб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и взять центры граней правильного тетраэдра, то мы вновь получим правильный тетраэдр. Таким образом, тетраэдр двойственен самому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0800202" descr=""/>
          <p:cNvPicPr/>
          <p:nvPr/>
        </p:nvPicPr>
        <p:blipFill>
          <a:blip r:embed="rId1"/>
          <a:stretch/>
        </p:blipFill>
        <p:spPr>
          <a:xfrm>
            <a:off x="0" y="1295280"/>
            <a:ext cx="6095880" cy="4114800"/>
          </a:xfrm>
          <a:prstGeom prst="rect">
            <a:avLst/>
          </a:prstGeom>
          <a:ln w="0">
            <a:noFill/>
          </a:ln>
        </p:spPr>
      </p:pic>
      <p:pic>
        <p:nvPicPr>
          <p:cNvPr id="236" name="0800203" descr=""/>
          <p:cNvPicPr/>
          <p:nvPr/>
        </p:nvPicPr>
        <p:blipFill>
          <a:blip r:embed="rId2"/>
          <a:stretch/>
        </p:blipFill>
        <p:spPr>
          <a:xfrm>
            <a:off x="5943600" y="12952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1:53:39Z</dcterms:created>
  <dc:creator>MORPHEY</dc:creator>
  <dc:description/>
  <dc:language>en-US</dc:language>
  <cp:lastModifiedBy>MORPHEY</cp:lastModifiedBy>
  <dcterms:modified xsi:type="dcterms:W3CDTF">2006-04-18T19:21:00Z</dcterms:modified>
  <cp:revision>6</cp:revision>
  <dc:subject/>
  <dc:title>Правильные многогранники</dc:title>
</cp:coreProperties>
</file>