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2C2-ACE2-459B-8561-E36A4CE5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B9F6-6CBC-4729-9EC2-545CA32F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081-9B3F-4788-9C99-3D887743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491D-883B-4400-A368-B9503549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B765-2301-4D3D-AD16-036FB070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4436-ED9F-41CD-BEFD-708C051F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4692-F076-4508-A8F3-3BC86514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81D0-55F0-442C-8733-66BA4CA0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563A-580F-419C-BB75-C9AB58BA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1D38-C9DF-48E1-B49E-8E9DC372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5AE4-FD49-475E-B882-52083114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66D2-FDDE-4709-B42E-4134F266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9430-A066-49B2-9CD4-D1060219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7347-0434-40C7-B4FF-45516E53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C292-5678-4042-B8D9-D3EFB65B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8710-AB5A-4F76-A581-9CC81850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AF66-58F4-41F7-BD04-F669D063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2AE8-A985-4344-8CB6-7D5A2EEB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4D6-B2BC-4ABB-A984-E2C6BA62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497-E382-48B2-B68F-814AD04E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125-DD22-4B5E-A17A-74F161F6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FF0-AD1C-4ECB-8621-B94BA4D8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977-892D-4DAF-868F-E83E3E72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7E5F-7B7E-4D07-B601-5A1D70F4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3F20-1BBF-4D8F-9197-D00C2C95CB2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C096-C005-42FB-9AD8-365234AA572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авильные многогранник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траэд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таэд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косаэд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декаэд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ьмем икосаэдр и рассмотрим многогранник с вершинами в центрах его граней . Очевидно, что центры пяти граней икосаэдра, имеющих общую вершину, лежат в одной плоскости и служат вершинами правильного пятиугольника . Итак, каждой вершине икосаэдра соответствует грань нового многогранника, грани которого – правильные пятиугольники, а все двугранные углы равны. Из всего вышесказанного следует, что полученный многогранник является правильным и имеет 12 граней, 30 ребер и 20 вершин. Такой многогранник и называется додекаэд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0800301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1828800" cy="1752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4419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так, в трехмерном пространстве существует только пять видов правильных многогранников. Мы определили их вид и установили, что все многогранники имеют двойственные к ним. Куб двойственен к октаэдру и наоборот. Икосаэдр – к додекаэдру и наоборот. Тетраэдр двойственен сам се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авильные многогранники в хими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33200" y="1904760"/>
            <a:ext cx="81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ccos (-1/3)=109°27'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наком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личина из курса химии: это угол между связями С–Н в молекуле метана, который удается очень точно измерить в эксперименте, а поскольку ни один атом водорода в молекуле СН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очевидно, ничем не выделен, то разумно предположить, что эта молекула имеет форму правильного тетраэдра. Этот факт подтверждается фотографиями молекулы метана, полученными при помощи электронного микроскоп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0800502" descr=""/>
          <p:cNvPicPr/>
          <p:nvPr/>
        </p:nvPicPr>
        <p:blipFill>
          <a:blip r:embed="rId1"/>
          <a:stretch/>
        </p:blipFill>
        <p:spPr>
          <a:xfrm>
            <a:off x="0" y="1752480"/>
            <a:ext cx="8839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Тест по теме правильные многогранник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граней у гексаэдр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о ли определение: многогранник называется правильным, если все его грани – равные между собой правильные многоугольники, все двугранные углы которых равн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ли правильным многогранник с вершинами в серединах ребер правильного тетраэдр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Виды правильных многогранников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3" name="0800101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848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7621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ще в древней Греции были известны пять удивительных многогра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1828800"/>
            <a:ext cx="883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х изучали ученые, ювелиры, священники, архитекторы. Этим многогранникам даже приписывали магические свойства. Древнегреческий ученый и философ Платон (IV–V в до н. э.) считал, что эти тела олицетворяют сущность природы. В своем диалоге «Тимей» Платон говорит, что атом огня имеет вид тетраэдра, земли – гексаэдра (куба), воздуха – октаэдра, воды – икосаэдра. В этом соответствии не нашлось места только додекаэдру и Платон предположил существование еще одной, пятой сущности – эфира, атомы которого как раз и имеют форму додекаэдра. Ученики Платона продолжили его дело в изучении перечисленных тел. Поэтому эти многогранники называют </a:t>
            </a:r>
            <a:r>
              <a:rPr b="1" i="1" lang="en-US" sz="2400" spc="-1" strike="noStrike">
                <a:solidFill>
                  <a:srgbClr val="862727"/>
                </a:solidFill>
                <a:latin typeface="Arial"/>
              </a:rPr>
              <a:t>платоновыми тел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онятие правильного многогранника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ногогранник называется правильным, если все его грани – равные между собой правильные многоугольники, из каждой его вершины выходит одинаковое число ребер и все двугранные углы рав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ществуют пять типов правильных многогранников: тетраэдр (треугольная пирамида), гексаэдр (куб), октаэдр, додекаэдр, икосаэдр. Можно доказать, что других правильных многогранников не существует.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1981080"/>
            <a:ext cx="853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62727"/>
                </a:solidFill>
                <a:latin typeface="Arial"/>
              </a:rPr>
              <a:t>Тетраэд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etra – четыре, hedra – грань). Правильный тетраэдр – правильный четырехгранник, то есть тетраэдр с равными ребрами, представляет собой правильный многогранник, все грани которого – правильные треугольники и из каждой вершины которого выходит ровно три реб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67320" y="4343400"/>
            <a:ext cx="2646360" cy="1811160"/>
            <a:chOff x="4567320" y="4343400"/>
            <a:chExt cx="2646360" cy="1811160"/>
          </a:xfrm>
        </p:grpSpPr>
        <p:sp>
          <p:nvSpPr>
            <p:cNvPr id="220" name=""/>
            <p:cNvSpPr/>
            <p:nvPr/>
          </p:nvSpPr>
          <p:spPr>
            <a:xfrm>
              <a:off x="4567320" y="4343400"/>
              <a:ext cx="2646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67320" y="4343400"/>
              <a:ext cx="2646360" cy="18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80880" y="6094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62727"/>
                </a:solidFill>
                <a:latin typeface="Arial"/>
              </a:rPr>
              <a:t>Гексаэд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862727"/>
                </a:solidFill>
                <a:latin typeface="Arial"/>
              </a:rPr>
              <a:t>ку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exa – шесть). Гексаэдр – правильный многогранник, все грани которого – квадраты, и из каждой вершины выходит три реб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457524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62727"/>
                </a:solidFill>
                <a:latin typeface="Arial"/>
              </a:rPr>
              <a:t>Октаэд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kto – восемь). Это правильный многогранник, все грани которого – правильные треугольники и к каждой вершине прилегают четыре грани. Покажем, что этот многогранник имеет восемь граней, указав способ его постро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32004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правильный многогранник, у которого все грани – правильные треугольники, и из каждой вершины выходит 5 ребер. Этот многогранник имеет 20 граней, 30 ребер, 12 вершин и называется </a:t>
            </a:r>
            <a:r>
              <a:rPr b="1" i="1" lang="en-US" sz="2400" spc="-1" strike="noStrike">
                <a:solidFill>
                  <a:srgbClr val="862727"/>
                </a:solidFill>
                <a:latin typeface="Arial"/>
              </a:rPr>
              <a:t>икосаэдр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cosi – двадцат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940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правильный многогранник, у которого все грани правильные пятиугольники и из каждой вершины выходит 3 ребра. Этот многогранник имеет 12 граней, 30 ребер и 20 вершин и называется </a:t>
            </a:r>
            <a:r>
              <a:rPr b="1" i="1" lang="en-US" sz="2400" spc="-1" strike="noStrike">
                <a:solidFill>
                  <a:srgbClr val="862727"/>
                </a:solidFill>
                <a:latin typeface="Arial"/>
              </a:rPr>
              <a:t>додекаэдр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odeka – двенадцат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мотрим квадрат ABCD и построим на нем, как на основании, по обе стороны от его плоскости четырехугольные пирамиды, боковые ребра которых равны сторонам квадрата. Полученный многогранник и будет октаэд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0800201" descr=""/>
          <p:cNvPicPr/>
          <p:nvPr/>
        </p:nvPicPr>
        <p:blipFill>
          <a:blip r:embed="rId1"/>
          <a:stretch/>
        </p:blipFill>
        <p:spPr>
          <a:xfrm>
            <a:off x="6781680" y="1219320"/>
            <a:ext cx="2057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228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орема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не более пяти различных видов правильных многогран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457880" y="4626000"/>
            <a:ext cx="228600" cy="1713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1752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з определения правильного многогранника следует, что его гранями могут быть лишь треугольники, четырехугольники и пятиугольники. Действительно, докажем например, что грани не могут быть правильными шестиугольниками. По определению правильного многогранника, в каждой его вершине должны сходиться не менее трех граней. Однако, в правильном шестиугольнике углы равны 120°. Получается, что сумма трех плоских углов выпуклого многогранного угла равна 360°, а это невозможно, так как эта сумма всегда меньше 360°. Тем более грани правильного многогранника не могут оказаться многоугольниками с большим числом стор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ыясним, сколько граней может сходиться в вершине правильного многогранника. Если все его грани – правильные треугольники, то к каждой вершине могут прилегать не более пяти треугольников, так как иначе сумма плоских углов при этой вершине будет не менее 360°, что, как мы убедились, невозможно. Итак, если все грани правильного многогранника – правильные треугольники, то к каждой вершине прилегают три, четыре или пять треугольников. Аналогичными рассуждениями убеждаемся, что в каждой вершине правильного многогранника, грани которого – правильные четырехугольники и пятиугольники, сходятся ровно три реб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Двойственные многогранник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6765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метим интересный факт, связанный с гексаэдром (кубом) и октаэдром. Куб имеет 6 граней, 12 ребер и 8 вершин, а октаэдр – 8 граней, 12 ребер и 6 вершин. То есть число граней одного многогранника равно числу вершин другого и наоборот. Как говорят, куб и гексаэдр являются двойственными друг к другу. Это также проявляется в том, что если взять куб и построить многогранник с вершинами в центрах его граней, то, как несложно убедиться, получится октаэдр. Верно и обратное – центры граней октаэдра служат вершинами куба. В этом-то и состоит двойственность октаэдра и куб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и взять центры граней правильного тетраэдра, то мы вновь получим правильный тетраэдр. Таким образом, тетраэдр двойственен самому се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0800202" descr=""/>
          <p:cNvPicPr/>
          <p:nvPr/>
        </p:nvPicPr>
        <p:blipFill>
          <a:blip r:embed="rId1"/>
          <a:stretch/>
        </p:blipFill>
        <p:spPr>
          <a:xfrm>
            <a:off x="0" y="1295280"/>
            <a:ext cx="6095880" cy="4114800"/>
          </a:xfrm>
          <a:prstGeom prst="rect">
            <a:avLst/>
          </a:prstGeom>
          <a:ln w="0">
            <a:noFill/>
          </a:ln>
        </p:spPr>
      </p:pic>
      <p:pic>
        <p:nvPicPr>
          <p:cNvPr id="236" name="0800203" descr=""/>
          <p:cNvPicPr/>
          <p:nvPr/>
        </p:nvPicPr>
        <p:blipFill>
          <a:blip r:embed="rId2"/>
          <a:stretch/>
        </p:blipFill>
        <p:spPr>
          <a:xfrm>
            <a:off x="5943600" y="1295280"/>
            <a:ext cx="3200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1:53:39Z</dcterms:created>
  <dc:creator>MORPHEY</dc:creator>
  <dc:description/>
  <dc:language>en-US</dc:language>
  <cp:lastModifiedBy>MORPHEY</cp:lastModifiedBy>
  <dcterms:modified xsi:type="dcterms:W3CDTF">2006-04-18T19:21:00Z</dcterms:modified>
  <cp:revision>6</cp:revision>
  <dc:subject/>
  <dc:title>Правильные многогранники</dc:title>
</cp:coreProperties>
</file>