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A3E0-6D4D-42AD-BF78-51B2911D62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0294-17FC-4B2B-98F3-DE25D917B4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D14-2545-4416-8D0C-6A26154B5D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31C2-753E-4BE2-90CC-25F86EF59A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5ED5-597B-4A2D-B538-35BAC75512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ED6C-9AFC-4292-AB53-AED13772EA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8DC0-86FA-4D73-AF68-25EDB2801D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47EB-4600-47FD-882E-455073A026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EAC2-3996-4800-AC77-B958EE1247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7729-EB34-4C29-9DB1-6571955F56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B393-130B-4700-B57D-3091E1CFF6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AFCE-8845-4563-BCD5-DAD20F1E90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93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Номер слайда 3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5965-465C-4D34-BB12-769FF9FD05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B114-D8CB-452E-940F-05EBF4A0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98DE-F67F-4AF3-8830-15F44D3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CD6E5-0523-47A2-BCF9-1010BF01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2CDB7-951D-450A-949B-1538539E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806B0-7F49-44D8-B749-0698C7CE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42AD0-D6DD-40E0-BE50-72624CB9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9C15B-5921-4F40-84BA-F6819FC3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8E686-9C7A-4BA0-989D-DE0D50A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99EDD-4E2B-443D-A941-5224BC70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FC952-3458-4CE2-AA2E-CC3C7FF0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9571C-A15C-4371-B0E0-BE925CAB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08F2F-ABDC-4B03-9169-9943D457E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043-DF8C-4356-9004-BBC571536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03943-2BB8-4AE9-9F61-2B8F7F41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473D4-EFF0-4B88-8F47-60F74453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8620A-A724-4D49-9956-C16DA8F7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09FAE-E259-424B-BFCE-EB17456E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FB89A-9D4C-4D5B-BCC3-7FC20DAD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92F5D-BCD8-4BF7-B890-934FA63E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DA893-63CD-4865-9D41-3CF7490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B76F3-CDC4-45CD-BB40-7AE29272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DE9814-B409-459C-A519-13F33594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A4A816-5EC2-4CC0-8046-8C890EA0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809-6BCD-45FB-8E92-62139516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61315-4DEE-4AB7-BBCE-2714F832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8879A-4871-4AC8-BAB9-97EF41037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AD686-38AC-473B-9C7E-3F11E6F4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1FDAA-DC47-4289-B675-9CE700D9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DDE0F-7D52-4C98-8EEF-46DCCA43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A2BC1-1389-424B-A715-88556409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746DF-5F9C-4932-91BB-34E5D96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1D722-90B2-4652-A71E-FD9350D6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B599B-DB25-4BF7-B9F5-60C28BE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1F527-5703-4B5E-9CF8-0DFB5C0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A54F-BF61-473A-9E15-3ED6D721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BCF8D-2511-4588-A394-2DF979DB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79FAA-106C-46EB-96BA-1C291B82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886C8-E926-4210-92A6-BCBCEB29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2AC879-0C16-46AF-B1E4-2D12D586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5D1F3-8E88-4142-88B9-4D91D8D4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8B73D9-26AF-4555-B364-E690C57F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9F040-FD2B-4D37-A46D-38F0E2C4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F2F8B-C288-4904-A4E5-4EA86C80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3DA40-1E48-4592-A76B-7BE0CAAE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E13AD-49FF-4195-A0EF-65F39E57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79CB-5CC6-4244-AC49-0F4E5E31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C0B6E-F05A-46A9-B58A-183313ED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9483C-CD97-4F80-A3B1-16333DB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3B46F3-3AC6-4483-945C-5C3F0746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DF0C3-098D-4D1E-84C1-A9763793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29710-B6D0-4387-86B2-D0D6FB8E4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3FDEE-1958-4B61-BAF4-7832F3F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B24400-F152-4E5C-A8A9-0D465470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D6E3D-B7F9-4864-92E0-BE9AEC14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12327-E92C-4BA0-95E5-F6DB0BAA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8478C-BFD2-434C-B4E5-5107ECDA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A7EB-A1E3-40B9-B80D-AC0703D8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49E78-4569-483D-B8AC-0A72CF1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5AE39-9178-49AC-BD48-74E9AEAA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D02A9-6875-45BB-AA2F-E50B2C74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8E33F1-21D5-47CC-94FB-83305C40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AF3185-D623-49CE-A6C0-85CF3757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9F963-1716-4D16-9DD3-69B0D778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9D1C44-A4D3-415B-8B9A-627B928D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CD0C2-5C4E-44B5-BA36-7ED224327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02635E-0AA2-485D-B146-3CAB6446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364115-A877-48EC-A000-963B9297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0299-F382-4D66-8479-E7E693C4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E23B7-6AF9-49DF-BC9A-6D8A43D4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EEB158-04F4-49D6-BD5E-B6D965C2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0035C-0585-445F-AB37-FFD6857A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33CF7-DC1F-4556-85A8-0516A5CC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C0C36-5A91-4BC6-8E62-D9173542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FDC11-F470-4532-B04B-CD75C3ED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3EAC8-A529-4434-BD92-541E58B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AFE63C-722E-44D8-BC06-91C588BCD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62D5CC-7061-474A-823A-A5DD4658B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01A127-5738-439A-AA59-882B3737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49870-1D5F-4678-A0F4-674A2E78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C14531-7E83-4700-974D-4E69C25A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F58246-C64A-4583-BCC5-8F181C01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DDA5B7-A285-4C56-8731-C9F97CB9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88194-B729-46B0-ADE1-C3F90785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F9BE1-10BE-4DFA-B0E4-00646832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DC09CF-7202-457D-9B3A-EC23D158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F74BE0-D1C7-4F25-8E3A-89C32E0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3A8977-1244-4BB4-8F54-377659F5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E6BCF4-C9E7-4DC0-BE6D-35B12F29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6D524-293E-48C5-B7B5-03DE77F2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B16-3086-4FFB-BC75-9BC32608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CE00E-6B56-48F9-825F-70D03EA9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0F91D-47EB-4717-956A-9241C4D4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DF957-9846-43FD-951E-F557B8CF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FF3251-F811-4D68-8E8E-DBD55A89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90C6F-8EC9-40AA-8967-67D0FD7E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3A81B-8652-4671-BB6D-30450CBA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91AD0-B27E-4365-95EF-B2648966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8E175E-5187-4EDE-8A97-FDA712AF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58F22-892B-46F3-AAC6-24A98852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1B9913-83A0-42A8-BA09-9C9B63BB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E00B-ECD8-4352-B721-53E07C88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937C2-F248-498B-B436-8BE25CD8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9F9237-FF30-46D5-B808-F9141EF3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CDAB5-5749-4519-A872-AFE211A4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13E0C-D2CB-4A52-800B-966D7618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E39E0A-446D-4D94-9078-FA9B9DD3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D019A-6C3E-4E06-ABDF-D58EFEED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BB76AA-6C55-47FF-8D86-FF6E697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C8257-DEA7-4BC8-8193-650A0847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84CEF0-26C1-4AB4-81AB-ABB24440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31EAF7-064D-462C-BAF1-4662CB84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97A-1F6F-49E8-8720-872BB6D9F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024A-3E9A-41AA-AF12-45E73E3F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229D2-7D72-473B-A63F-EA671E05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D6EFD-9612-47ED-AFD9-3751EF8E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938119-FC83-4501-8478-C920E4FF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00082-9B38-46AD-A41A-75A4FD557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061C8-E97A-41B3-AD01-64329FA4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55CA-6DD3-4BE6-B5FB-26A27BF2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635D-06A4-40C6-B506-837BCE44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EBB-AB38-4D50-9D34-0C25626D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684E-BDC8-451D-A775-A01F70D7F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9074-50FE-4D57-8503-A46BF0D7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BAA2-B76E-4C2C-8FAC-CABF03C7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16C6C-B276-4AAD-8C4C-3D40E595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D9662-87A9-4A38-9A9C-D81289AE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9834-06A5-4B7E-BCBE-47A4FD61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48C-CA41-45EA-94D5-78189EC7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18F5-0546-4157-964C-893097CF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2D4FF-8FB0-4C85-B877-F15DFEE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3F3DC-43CF-4F98-AA6A-3B56CF7F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087C4-DF38-480F-BDA7-3C43528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D6765-82BF-4D40-8D2A-6720DBF4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8016-FF55-4703-A499-BFBA473F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550EF-A043-4136-B6DE-9F7AB1978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52BC3-5559-4CFE-B032-83263D4E1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98E44-7AC4-409B-B9A1-69CF8A4F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E2D5-09DA-4ECB-AE2F-B5F666A4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AB3-33BE-43C3-9A3A-07356AFF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AD380-E0B6-477C-9B74-C8318CF9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D6D75-050C-48D7-9D23-66EF7DF1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D20BB-21F4-4D5A-AAC3-602C6E1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16EFC-36A5-4BA1-BF9E-DB25BEA6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F02A3-D1EE-49D6-A976-D677DA60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1E48-C484-43A6-B073-4AD190DC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9DFF-9315-424D-ABEA-4BBF841DD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7D0B6-4C01-4219-94F0-CF699135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253BE-6AC8-47EA-A711-AD53C7AB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29879-7893-45D8-A1C0-5FE38310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93A-F9F1-4966-970A-CC04636E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8E5AA-0618-4974-B51E-2DE24933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EC4E9-4502-412F-ABAB-9EA2A825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C29B-7CD4-4558-8217-AB64BF72E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9155A-F1C9-4D4E-8B79-CCEFA7D5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E8C7-73BD-41FF-B399-C69F617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53BC8-2F41-4E22-8517-5ED52FB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C9C2D-9111-4583-A153-910FD18F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ACA25-771D-4F85-8B0D-26A8810C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499FA-5790-4D38-81C1-BD6189F5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8C6A-34E0-40DA-A5D9-51161E26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83B0-C489-4D4D-BD60-007F4E94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C471-7BC5-48F8-91F6-3E55D837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7A525-A3B1-4D9B-A0FB-107A2606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78999-F07C-427C-902F-4353F15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3B3AF-2EB1-4E52-9038-542E8619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E0C85-A7B3-4922-BC79-FD35A60C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B050F-1399-47D3-864B-DCCAC81C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19750-46E9-44BD-8A25-6D2642A6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08E7E-CE04-4E44-AD50-A6BDA126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E83CE-4DA2-4905-9939-C583A8A4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09965-7812-45D0-BD08-BA8DD884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06A-32FC-43C5-B19E-582DEFF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BB83C-13D9-45B2-9F1B-EC0A8973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7D72B-81E1-4A80-8809-9C77755E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CF891-5021-45D6-A8BB-DE82BAFBA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4F11E-9D89-4658-8CFA-88C4DDFA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279CE-EB54-41B1-B964-569336BA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EC805-6D13-4024-A8DB-3D1082CF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8CE0A-22C3-46C9-BFB8-D7746086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1252E-7FE4-4BD9-9460-108AF9E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A9569-7F54-4C9F-B622-70898CE4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768C0-BBE1-43A6-9B37-3D08196D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4A9-B21A-44FE-AA6B-2C73BA4D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48927-FEF1-4A81-9FFE-ED0D23DE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B9A5-9BA6-4805-978F-76E7BCD7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2D988-6432-47BE-91AD-B4855D0B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A65F2-151B-4F69-B989-6A89EADF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EF678-F2A6-44A2-91B6-05083ABD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5A63A-D54C-4F49-87FD-B5893922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E1FA7-4755-4AC1-BE88-2F4B4976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739ED-B843-448C-B7A4-526461EB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7A683-C308-40BC-AA1D-5430B3BC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E84B0-4092-4652-ACE2-A8A5B2FB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D8F4-F228-43AC-9C2A-26254C5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24AFC-9499-4C2E-A017-3DF66580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6FE8A-3D2E-43EF-92E7-6E25BC6B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E3A90-32A5-4104-A5F5-DBAA57C2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5F814-AB44-4991-906A-DD140861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058BD-E55A-4C84-863E-F9686C9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B69BC-8B9D-4029-B591-30C37F54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03655A-3339-4751-815E-F39A89795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3697A-8EDC-49E4-87BF-1A364100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52367-9F1B-44BE-9FF1-ACB5E1D5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8BB1F-7A6E-4A5F-93A1-EA2809C5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CFA6-DBCD-4E03-B5CE-3AD77FF0DC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825A-2C86-4523-AF64-748E7F4F346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CA84-E1ED-423C-A88A-700D57C9B5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ADF-7EFE-44C2-BD77-D4F439C9E64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110-3B81-4B95-88CA-21685C916C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DDDE-E4BF-44CE-A4FF-35B83EA778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DD46-BFCB-4866-81F5-47AF043C41F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DA6-5C0C-4562-84C7-11072E172B7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C62D-D932-48A5-ACB2-C33171B86AF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ADC7-F806-4045-85A1-749921E417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BD73-9CF0-49C3-9FF2-33DD0FFF32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9E01-20CE-47CE-B034-4B864CECA49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DEF8-AC4A-408E-98F3-8747485792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E8B5-E1BF-4583-B27A-D327A6BB196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1D5B-C422-468C-BD24-50F0E513AF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2C07-61AD-4582-9CA8-7B12185AF7C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4804-36AE-47A0-8BAD-DC7C53E76E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slideLayout" Target="../slideLayouts/slideLayout85.xml"/><Relationship Id="rId1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12.xml"/><Relationship Id="rId4" Type="http://schemas.openxmlformats.org/officeDocument/2006/relationships/image" Target="../media/image7.png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23"/>
          <p:cNvSpPr/>
          <p:nvPr/>
        </p:nvSpPr>
        <p:spPr>
          <a:xfrm>
            <a:off x="714240" y="284040"/>
            <a:ext cx="774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бюджетное образовательное учрежд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етский сад №21 Калининского район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. Санкт-Петербург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2"/>
          <p:cNvSpPr/>
          <p:nvPr/>
        </p:nvSpPr>
        <p:spPr>
          <a:xfrm>
            <a:off x="655560" y="1935000"/>
            <a:ext cx="7035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441360" y="890640"/>
            <a:ext cx="8299440" cy="49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УЧАЮЩАЯ ПРЕЗЕНТАЦ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ОВОЩИ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первая младшая группа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: Спирина Е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 Санкт-Петербург-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6" name="Рисунок 2" descr=""/>
          <p:cNvPicPr/>
          <p:nvPr/>
        </p:nvPicPr>
        <p:blipFill>
          <a:blip r:embed="rId2"/>
          <a:stretch/>
        </p:blipFill>
        <p:spPr>
          <a:xfrm>
            <a:off x="927000" y="4373640"/>
            <a:ext cx="1544760" cy="2193840"/>
          </a:xfrm>
          <a:prstGeom prst="rect">
            <a:avLst/>
          </a:prstGeom>
          <a:ln w="0">
            <a:noFill/>
          </a:ln>
        </p:spPr>
      </p:pic>
      <p:pic>
        <p:nvPicPr>
          <p:cNvPr id="1187" name="Рисунок 3" descr=""/>
          <p:cNvPicPr/>
          <p:nvPr/>
        </p:nvPicPr>
        <p:blipFill>
          <a:blip r:embed="rId3"/>
          <a:stretch/>
        </p:blipFill>
        <p:spPr>
          <a:xfrm>
            <a:off x="7016760" y="399960"/>
            <a:ext cx="186696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77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8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80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2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ПУ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3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84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елась барыня на грядк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ета в шумные шел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для неё готовим кад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крупной соли пол меш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DB51-0670-4245-8509-1A19123D19A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91320" y="3697200"/>
            <a:ext cx="2274840" cy="22748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" dur="2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88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91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3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ОШ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4" name="Рисунок 14" descr=""/>
          <p:cNvPicPr/>
          <p:nvPr/>
        </p:nvPicPr>
        <p:blipFill>
          <a:blip r:embed="rId3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95" name="TextBox 15"/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копали из зем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арим, вари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в золе мы испек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ли да хвали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906-A354-421B-B680-3830A108234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Рисунок 3" descr=""/>
          <p:cNvPicPr/>
          <p:nvPr/>
        </p:nvPicPr>
        <p:blipFill>
          <a:blip r:embed="rId4"/>
          <a:stretch/>
        </p:blipFill>
        <p:spPr>
          <a:xfrm>
            <a:off x="5019840" y="2982960"/>
            <a:ext cx="3016080" cy="30146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53" dur="20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8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99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0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302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ТОРЕНИЕ ИЗУЧЕННОГО МАТЕРИ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5" name="Рисунок 14" descr=""/>
          <p:cNvPicPr/>
          <p:nvPr/>
        </p:nvPicPr>
        <p:blipFill>
          <a:blip r:embed="rId3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306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DEA3-CC7E-4337-911E-506EE128B0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Рисунок 1" descr=""/>
          <p:cNvPicPr/>
          <p:nvPr/>
        </p:nvPicPr>
        <p:blipFill>
          <a:blip r:embed="rId4"/>
          <a:stretch/>
        </p:blipFill>
        <p:spPr>
          <a:xfrm>
            <a:off x="3924360" y="1839960"/>
            <a:ext cx="893880" cy="1079280"/>
          </a:xfrm>
          <a:prstGeom prst="rect">
            <a:avLst/>
          </a:prstGeom>
          <a:ln w="0">
            <a:noFill/>
          </a:ln>
        </p:spPr>
      </p:pic>
      <p:pic>
        <p:nvPicPr>
          <p:cNvPr id="1308" name="Рисунок 3" descr=""/>
          <p:cNvPicPr/>
          <p:nvPr/>
        </p:nvPicPr>
        <p:blipFill>
          <a:blip r:embed="rId5"/>
          <a:stretch/>
        </p:blipFill>
        <p:spPr>
          <a:xfrm>
            <a:off x="5502240" y="2230560"/>
            <a:ext cx="787320" cy="1028520"/>
          </a:xfrm>
          <a:prstGeom prst="rect">
            <a:avLst/>
          </a:prstGeom>
          <a:ln w="0">
            <a:noFill/>
          </a:ln>
        </p:spPr>
      </p:pic>
      <p:sp>
        <p:nvSpPr>
          <p:cNvPr id="1309" name="Улыбающееся лицо 4">
            <a:hlinkClick r:id="" action="ppaction://hlinkshowjump?jump=lastslide"/>
          </p:cNvPr>
          <p:cNvSpPr/>
          <p:nvPr/>
        </p:nvSpPr>
        <p:spPr>
          <a:xfrm>
            <a:off x="8088480" y="6129360"/>
            <a:ext cx="358560" cy="347760"/>
          </a:xfrm>
          <a:prstGeom prst="smileyFace">
            <a:avLst>
              <a:gd name="adj" fmla="val 9282"/>
            </a:avLst>
          </a:prstGeom>
          <a:solidFill>
            <a:srgbClr val="a53010"/>
          </a:solidFill>
          <a:ln cap="rnd" w="15840">
            <a:solidFill>
              <a:srgbClr val="7820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0" name="Рисунок 5" descr=""/>
          <p:cNvPicPr/>
          <p:nvPr/>
        </p:nvPicPr>
        <p:blipFill>
          <a:blip r:embed="rId6"/>
          <a:stretch/>
        </p:blipFill>
        <p:spPr>
          <a:xfrm>
            <a:off x="6878520" y="1973160"/>
            <a:ext cx="920880" cy="1028880"/>
          </a:xfrm>
          <a:prstGeom prst="rect">
            <a:avLst/>
          </a:prstGeom>
          <a:ln w="0">
            <a:noFill/>
          </a:ln>
        </p:spPr>
      </p:pic>
      <p:pic>
        <p:nvPicPr>
          <p:cNvPr id="1311" name="Рисунок 8" descr=""/>
          <p:cNvPicPr/>
          <p:nvPr/>
        </p:nvPicPr>
        <p:blipFill>
          <a:blip r:embed="rId7"/>
          <a:stretch/>
        </p:blipFill>
        <p:spPr>
          <a:xfrm>
            <a:off x="4519440" y="3990960"/>
            <a:ext cx="9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312" name="Рисунок 9" descr=""/>
          <p:cNvPicPr/>
          <p:nvPr/>
        </p:nvPicPr>
        <p:blipFill>
          <a:blip r:embed="rId8"/>
          <a:stretch/>
        </p:blipFill>
        <p:spPr>
          <a:xfrm>
            <a:off x="1481040" y="3821040"/>
            <a:ext cx="1209600" cy="1366920"/>
          </a:xfrm>
          <a:prstGeom prst="rect">
            <a:avLst/>
          </a:prstGeom>
          <a:ln w="0">
            <a:noFill/>
          </a:ln>
        </p:spPr>
      </p:pic>
      <p:pic>
        <p:nvPicPr>
          <p:cNvPr id="1313" name="Рисунок 10" descr=""/>
          <p:cNvPicPr/>
          <p:nvPr/>
        </p:nvPicPr>
        <p:blipFill>
          <a:blip r:embed="rId9"/>
          <a:stretch/>
        </p:blipFill>
        <p:spPr>
          <a:xfrm>
            <a:off x="2916360" y="4246560"/>
            <a:ext cx="938160" cy="1354320"/>
          </a:xfrm>
          <a:prstGeom prst="rect">
            <a:avLst/>
          </a:prstGeom>
          <a:ln w="0">
            <a:noFill/>
          </a:ln>
        </p:spPr>
      </p:pic>
      <p:pic>
        <p:nvPicPr>
          <p:cNvPr id="1314" name="Рисунок 16" descr=""/>
          <p:cNvPicPr/>
          <p:nvPr/>
        </p:nvPicPr>
        <p:blipFill>
          <a:blip r:embed="rId10"/>
          <a:stretch/>
        </p:blipFill>
        <p:spPr>
          <a:xfrm>
            <a:off x="1606680" y="1839960"/>
            <a:ext cx="1633320" cy="1635120"/>
          </a:xfrm>
          <a:prstGeom prst="rect">
            <a:avLst/>
          </a:prstGeom>
          <a:ln w="0">
            <a:noFill/>
          </a:ln>
        </p:spPr>
      </p:pic>
      <p:pic>
        <p:nvPicPr>
          <p:cNvPr id="1315" name="Рисунок 17" descr=""/>
          <p:cNvPicPr/>
          <p:nvPr/>
        </p:nvPicPr>
        <p:blipFill>
          <a:blip r:embed="rId11"/>
          <a:stretch/>
        </p:blipFill>
        <p:spPr>
          <a:xfrm>
            <a:off x="3441600" y="3002040"/>
            <a:ext cx="1276560" cy="1276200"/>
          </a:xfrm>
          <a:prstGeom prst="rect">
            <a:avLst/>
          </a:prstGeom>
          <a:ln w="0">
            <a:noFill/>
          </a:ln>
        </p:spPr>
      </p:pic>
      <p:pic>
        <p:nvPicPr>
          <p:cNvPr id="1316" name="Рисунок 18" descr=""/>
          <p:cNvPicPr/>
          <p:nvPr/>
        </p:nvPicPr>
        <p:blipFill>
          <a:blip r:embed="rId12"/>
          <a:stretch/>
        </p:blipFill>
        <p:spPr>
          <a:xfrm>
            <a:off x="6113520" y="3360600"/>
            <a:ext cx="752400" cy="1562400"/>
          </a:xfrm>
          <a:prstGeom prst="rect">
            <a:avLst/>
          </a:prstGeom>
          <a:ln w="0">
            <a:noFill/>
          </a:ln>
        </p:spPr>
      </p:pic>
      <p:pic>
        <p:nvPicPr>
          <p:cNvPr id="1317" name="Рисунок 19" descr=""/>
          <p:cNvPicPr/>
          <p:nvPr/>
        </p:nvPicPr>
        <p:blipFill>
          <a:blip r:embed="rId13"/>
          <a:stretch/>
        </p:blipFill>
        <p:spPr>
          <a:xfrm>
            <a:off x="6805440" y="4929120"/>
            <a:ext cx="1065240" cy="10652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319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322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3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4" name="Рисунок 14" descr="">
            <a:hlinkClick r:id="" action="ppaction://hlinkshowjump?jump=endshow"/>
          </p:cNvPr>
          <p:cNvPicPr/>
          <p:nvPr/>
        </p:nvPicPr>
        <p:blipFill>
          <a:blip r:embed="rId3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325" name="TextBox 15">
            <a:hlinkClick r:id="" action="ppaction://hlinkshowjump?jump=endshow"/>
          </p:cNvPr>
          <p:cNvSpPr/>
          <p:nvPr/>
        </p:nvSpPr>
        <p:spPr>
          <a:xfrm>
            <a:off x="1360440" y="3692520"/>
            <a:ext cx="730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E25E-8D4A-43E1-A3C6-E6F71A12A6E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Рисунок 1" descr=""/>
          <p:cNvPicPr/>
          <p:nvPr/>
        </p:nvPicPr>
        <p:blipFill>
          <a:blip r:embed="rId4"/>
          <a:stretch/>
        </p:blipFill>
        <p:spPr>
          <a:xfrm>
            <a:off x="4834080" y="4275000"/>
            <a:ext cx="3716280" cy="233532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189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0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192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4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МИД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5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196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4191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городе выраста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когда я созреваю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рят из меня том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щи кладут и так едя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02520" y="4276800"/>
            <a:ext cx="1969920" cy="1939680"/>
          </a:xfrm>
          <a:prstGeom prst="rect">
            <a:avLst/>
          </a:prstGeom>
          <a:ln w="0">
            <a:noFill/>
          </a:ln>
        </p:spPr>
      </p:pic>
      <p:sp>
        <p:nvSpPr>
          <p:cNvPr id="1198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B569-13D8-4DDA-A927-1E7DC34F981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6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00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2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03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КОВ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07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ешок оранжевый под землей сиди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адезь витаминов он в себе храни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могает деткам здоровее ст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это за овощ, можете сказат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8" name="Рисунок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80320" y="2862360"/>
            <a:ext cx="914400" cy="3200400"/>
          </a:xfrm>
          <a:prstGeom prst="rect">
            <a:avLst/>
          </a:prstGeom>
          <a:ln w="0">
            <a:noFill/>
          </a:ln>
        </p:spPr>
      </p:pic>
      <p:sp>
        <p:nvSpPr>
          <p:cNvPr id="1209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C808-8535-4057-9317-DD83DB57DEF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6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0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11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2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14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5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ГУР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7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18" name="TextBox 15">
            <a:hlinkClick r:id="rId5" action="ppaction://hlinksldjump"/>
          </p:cNvPr>
          <p:cNvSpPr/>
          <p:nvPr/>
        </p:nvSpPr>
        <p:spPr>
          <a:xfrm>
            <a:off x="1525680" y="1533600"/>
            <a:ext cx="6237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 грядке под лис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атился чурбачок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енец удаленьк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усный овощ малень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D93E-B14A-42D3-8C7A-229781AB63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283440" y="3002040"/>
            <a:ext cx="1795320" cy="287820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" dur="2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1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22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3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25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6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ЛАЖ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8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29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зу этот овощ по цвету узнаю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им господином все его зову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ожурой блестящий и продолгова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стить он взрослых и детишек ра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3468-E29F-4BA9-A005-38EA625255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1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710320" y="3382920"/>
            <a:ext cx="2522520" cy="281484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33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36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7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8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ЕК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9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40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д землёй трав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 землёй бордовая го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91F-DDEE-4D13-A3DC-C4FB70B0D7F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13240" y="2622600"/>
            <a:ext cx="2667240" cy="338616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3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44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5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47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9" name="TextBox 29"/>
          <p:cNvSpPr/>
          <p:nvPr/>
        </p:nvSpPr>
        <p:spPr>
          <a:xfrm>
            <a:off x="-10800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51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 никогда и ник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ижал на све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го же плачут от не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взрослые и де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355D-DD52-4045-9A2C-2D96CDF38C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3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77000" y="2082960"/>
            <a:ext cx="1898640" cy="395280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55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7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58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0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1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62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99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ркие фонарики на кустах висят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но здесь проходит праздничный пар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лёные, красные, желтые пл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то они такие, узнаешь их т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D7E9-7878-4A5C-A6F0-0D7A94E430D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4" name="Рисунок 1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888160" y="3021120"/>
            <a:ext cx="2265120" cy="283500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Прямоугольник 27"/>
          <p:cNvGrpSpPr/>
          <p:nvPr/>
        </p:nvGrpSpPr>
        <p:grpSpPr>
          <a:xfrm>
            <a:off x="268200" y="60480"/>
            <a:ext cx="8753400" cy="645840"/>
            <a:chOff x="268200" y="60480"/>
            <a:chExt cx="8753400" cy="645840"/>
          </a:xfrm>
        </p:grpSpPr>
        <p:pic>
          <p:nvPicPr>
            <p:cNvPr id="1266" name="Прямоугольник 27" descr=""/>
            <p:cNvPicPr/>
            <p:nvPr/>
          </p:nvPicPr>
          <p:blipFill>
            <a:blip r:embed="rId1"/>
            <a:stretch/>
          </p:blipFill>
          <p:spPr>
            <a:xfrm>
              <a:off x="268200" y="60480"/>
              <a:ext cx="875340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>
              <a:off x="328680" y="93600"/>
              <a:ext cx="863100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8" name="TextBox 21"/>
          <p:cNvGrpSpPr/>
          <p:nvPr/>
        </p:nvGrpSpPr>
        <p:grpSpPr>
          <a:xfrm>
            <a:off x="792000" y="1298520"/>
            <a:ext cx="8285400" cy="5578560"/>
            <a:chOff x="792000" y="1298520"/>
            <a:chExt cx="8285400" cy="5578560"/>
          </a:xfrm>
        </p:grpSpPr>
        <p:pic>
          <p:nvPicPr>
            <p:cNvPr id="1269" name="TextBox 21" descr=""/>
            <p:cNvPicPr/>
            <p:nvPr/>
          </p:nvPicPr>
          <p:blipFill>
            <a:blip r:embed="rId2"/>
            <a:stretch/>
          </p:blipFill>
          <p:spPr>
            <a:xfrm>
              <a:off x="792000" y="1298520"/>
              <a:ext cx="8285400" cy="557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0" name=""/>
            <p:cNvSpPr/>
            <p:nvPr/>
          </p:nvSpPr>
          <p:spPr>
            <a:xfrm>
              <a:off x="990720" y="1467000"/>
              <a:ext cx="788184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4618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TextBox 29"/>
          <p:cNvSpPr/>
          <p:nvPr/>
        </p:nvSpPr>
        <p:spPr>
          <a:xfrm>
            <a:off x="30240" y="93600"/>
            <a:ext cx="89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ЕС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2" name="Рисунок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990720" y="1467000"/>
            <a:ext cx="7881840" cy="5184720"/>
          </a:xfrm>
          <a:prstGeom prst="rect">
            <a:avLst/>
          </a:prstGeom>
          <a:ln w="0">
            <a:noFill/>
          </a:ln>
        </p:spPr>
      </p:pic>
      <p:sp>
        <p:nvSpPr>
          <p:cNvPr id="1273" name="TextBox 15">
            <a:hlinkClick r:id="rId5" action="ppaction://hlinksldjump"/>
          </p:cNvPr>
          <p:cNvSpPr/>
          <p:nvPr/>
        </p:nvSpPr>
        <p:spPr>
          <a:xfrm>
            <a:off x="1395360" y="1566720"/>
            <a:ext cx="62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ловой на лук похож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олько пожуё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же маленькую доль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пахнуть очень долг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Номер слайда 2"/>
          <p:cNvSpPr/>
          <p:nvPr/>
        </p:nvSpPr>
        <p:spPr>
          <a:xfrm>
            <a:off x="511200" y="787320"/>
            <a:ext cx="585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EBB7-5EA9-4E15-ADF6-15B7E2D5565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5" name="Рисунок 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300560" y="2709720"/>
            <a:ext cx="4146480" cy="4148280"/>
          </a:xfrm>
          <a:prstGeom prst="rect">
            <a:avLst/>
          </a:prstGeom>
          <a:ln w="0">
            <a:noFill/>
          </a:ln>
        </p:spPr>
      </p:pic>
    </p:spTree>
  </p:cSld>
  <p:transition spd="slow" advTm="56000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0:54:44Z</dcterms:created>
  <dc:creator>Масло</dc:creator>
  <dc:description/>
  <dc:language>en-US</dc:language>
  <cp:lastModifiedBy>Екатерина Спринина</cp:lastModifiedBy>
  <dcterms:modified xsi:type="dcterms:W3CDTF">2015-02-05T18:57:22Z</dcterms:modified>
  <cp:revision>1146</cp:revision>
  <dc:subject>Система связи армии в ОО. Войска связи армии.</dc:subject>
  <dc:title>Лекция 10</dc:title>
</cp:coreProperties>
</file>