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/>
          <p:nvPr/>
        </p:nvSpPr>
        <p:spPr>
          <a:xfrm>
            <a:off x="0" y="0"/>
            <a:ext cx="6814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dt" idx="52"/>
          </p:nvPr>
        </p:nvSpPr>
        <p:spPr>
          <a:xfrm>
            <a:off x="386244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sldImg"/>
          </p:nvPr>
        </p:nvSpPr>
        <p:spPr>
          <a:xfrm>
            <a:off x="923400" y="746280"/>
            <a:ext cx="497052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body"/>
          </p:nvPr>
        </p:nvSpPr>
        <p:spPr>
          <a:xfrm>
            <a:off x="907560" y="4722480"/>
            <a:ext cx="499932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 type="ftr" idx="53"/>
          </p:nvPr>
        </p:nvSpPr>
        <p:spPr>
          <a:xfrm>
            <a:off x="0" y="944568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6"/>
          <p:cNvSpPr>
            <a:spLocks noGrp="1"/>
          </p:cNvSpPr>
          <p:nvPr>
            <p:ph type="sldNum" idx="54"/>
          </p:nvPr>
        </p:nvSpPr>
        <p:spPr>
          <a:xfrm>
            <a:off x="3862440" y="944568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434F3-B144-4990-8043-E07D77D45C0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907560" y="4722480"/>
            <a:ext cx="49993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Номер слайда 3"/>
          <p:cNvSpPr/>
          <p:nvPr/>
        </p:nvSpPr>
        <p:spPr>
          <a:xfrm>
            <a:off x="3862440" y="9445680"/>
            <a:ext cx="29527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84BCF-F578-44FA-B6C2-03B0FF41385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907560" y="4722480"/>
            <a:ext cx="49993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Номер слайда 3"/>
          <p:cNvSpPr/>
          <p:nvPr/>
        </p:nvSpPr>
        <p:spPr>
          <a:xfrm>
            <a:off x="3862440" y="9445680"/>
            <a:ext cx="29527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79796-2C7B-4F89-92CB-DA57040C197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1359" name="PlaceHolder 2"/>
          <p:cNvSpPr>
            <a:spLocks noGrp="1"/>
          </p:cNvSpPr>
          <p:nvPr>
            <p:ph type="body"/>
          </p:nvPr>
        </p:nvSpPr>
        <p:spPr>
          <a:xfrm>
            <a:off x="907560" y="4722480"/>
            <a:ext cx="49993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Номер слайда 3"/>
          <p:cNvSpPr/>
          <p:nvPr/>
        </p:nvSpPr>
        <p:spPr>
          <a:xfrm>
            <a:off x="3862440" y="9445680"/>
            <a:ext cx="29527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DC955-75D6-49B7-9BFF-3F76834DC7A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1362" name="PlaceHolder 2"/>
          <p:cNvSpPr>
            <a:spLocks noGrp="1"/>
          </p:cNvSpPr>
          <p:nvPr>
            <p:ph type="body"/>
          </p:nvPr>
        </p:nvSpPr>
        <p:spPr>
          <a:xfrm>
            <a:off x="907560" y="4722480"/>
            <a:ext cx="49993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Номер слайда 3"/>
          <p:cNvSpPr/>
          <p:nvPr/>
        </p:nvSpPr>
        <p:spPr>
          <a:xfrm>
            <a:off x="3862440" y="9445680"/>
            <a:ext cx="29527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8E8F4-558B-4CC3-80AF-08DAB6889BC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907560" y="4722480"/>
            <a:ext cx="49993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Номер слайда 3"/>
          <p:cNvSpPr/>
          <p:nvPr/>
        </p:nvSpPr>
        <p:spPr>
          <a:xfrm>
            <a:off x="3862440" y="9445680"/>
            <a:ext cx="29527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C383-32E4-414C-BD73-1B93D3A2BF8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1332" name="PlaceHolder 2"/>
          <p:cNvSpPr>
            <a:spLocks noGrp="1"/>
          </p:cNvSpPr>
          <p:nvPr>
            <p:ph type="body"/>
          </p:nvPr>
        </p:nvSpPr>
        <p:spPr>
          <a:xfrm>
            <a:off x="907560" y="4722480"/>
            <a:ext cx="49993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Номер слайда 3"/>
          <p:cNvSpPr/>
          <p:nvPr/>
        </p:nvSpPr>
        <p:spPr>
          <a:xfrm>
            <a:off x="3862440" y="9445680"/>
            <a:ext cx="29527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BD899-92B9-4590-9399-FE872CA2CA7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1335" name="PlaceHolder 2"/>
          <p:cNvSpPr>
            <a:spLocks noGrp="1"/>
          </p:cNvSpPr>
          <p:nvPr>
            <p:ph type="body"/>
          </p:nvPr>
        </p:nvSpPr>
        <p:spPr>
          <a:xfrm>
            <a:off x="907560" y="4722480"/>
            <a:ext cx="49993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Номер слайда 3"/>
          <p:cNvSpPr/>
          <p:nvPr/>
        </p:nvSpPr>
        <p:spPr>
          <a:xfrm>
            <a:off x="3862440" y="9445680"/>
            <a:ext cx="29527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FA35-0343-42E2-A4A2-34AEB3637FB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1338" name="PlaceHolder 2"/>
          <p:cNvSpPr>
            <a:spLocks noGrp="1"/>
          </p:cNvSpPr>
          <p:nvPr>
            <p:ph type="body"/>
          </p:nvPr>
        </p:nvSpPr>
        <p:spPr>
          <a:xfrm>
            <a:off x="907560" y="4722480"/>
            <a:ext cx="49993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Номер слайда 3"/>
          <p:cNvSpPr/>
          <p:nvPr/>
        </p:nvSpPr>
        <p:spPr>
          <a:xfrm>
            <a:off x="3862440" y="9445680"/>
            <a:ext cx="29527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D80C0-BBCB-4923-8D4B-C16D740654D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1341" name="PlaceHolder 2"/>
          <p:cNvSpPr>
            <a:spLocks noGrp="1"/>
          </p:cNvSpPr>
          <p:nvPr>
            <p:ph type="body"/>
          </p:nvPr>
        </p:nvSpPr>
        <p:spPr>
          <a:xfrm>
            <a:off x="907560" y="4722480"/>
            <a:ext cx="49993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Номер слайда 3"/>
          <p:cNvSpPr/>
          <p:nvPr/>
        </p:nvSpPr>
        <p:spPr>
          <a:xfrm>
            <a:off x="3862440" y="9445680"/>
            <a:ext cx="29527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1821B-DEF2-4613-BEAB-D13F3A20F48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1344" name="PlaceHolder 2"/>
          <p:cNvSpPr>
            <a:spLocks noGrp="1"/>
          </p:cNvSpPr>
          <p:nvPr>
            <p:ph type="body"/>
          </p:nvPr>
        </p:nvSpPr>
        <p:spPr>
          <a:xfrm>
            <a:off x="907560" y="4722480"/>
            <a:ext cx="49993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Номер слайда 3"/>
          <p:cNvSpPr/>
          <p:nvPr/>
        </p:nvSpPr>
        <p:spPr>
          <a:xfrm>
            <a:off x="3862440" y="9445680"/>
            <a:ext cx="29527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D820B-C8C1-4E88-A5BB-289859232E7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1347" name="PlaceHolder 2"/>
          <p:cNvSpPr>
            <a:spLocks noGrp="1"/>
          </p:cNvSpPr>
          <p:nvPr>
            <p:ph type="body"/>
          </p:nvPr>
        </p:nvSpPr>
        <p:spPr>
          <a:xfrm>
            <a:off x="907560" y="4722480"/>
            <a:ext cx="49993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Номер слайда 3"/>
          <p:cNvSpPr/>
          <p:nvPr/>
        </p:nvSpPr>
        <p:spPr>
          <a:xfrm>
            <a:off x="3862440" y="9445680"/>
            <a:ext cx="29527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E37F9-4861-40E6-8F08-8DED9BAAAEE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1350" name="PlaceHolder 2"/>
          <p:cNvSpPr>
            <a:spLocks noGrp="1"/>
          </p:cNvSpPr>
          <p:nvPr>
            <p:ph type="body"/>
          </p:nvPr>
        </p:nvSpPr>
        <p:spPr>
          <a:xfrm>
            <a:off x="907560" y="4722480"/>
            <a:ext cx="49993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Номер слайда 3"/>
          <p:cNvSpPr/>
          <p:nvPr/>
        </p:nvSpPr>
        <p:spPr>
          <a:xfrm>
            <a:off x="3862440" y="9445680"/>
            <a:ext cx="29527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2FE30-DB4C-4713-9ACA-E63848009F0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091E-9C44-404C-9AD4-C93912178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62D5-5E71-40D7-A8F7-DD66B9380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971FDB-9909-4B46-AD5B-313BD2217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A8BBFE-8117-40B1-8357-D55CB833E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8DFA2E-CA0A-4363-8500-60C1500E4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13C915-EEDD-449F-BFE6-D0640DA6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EE5282-7F69-4D7E-9C44-8038D419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CC2D9A-65D7-4C02-8788-637194E5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29112A-A1A0-4F47-B6A9-D6B8E2E1D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38EBED-9D92-477E-8C4E-97173D8D9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4914AC-2142-4961-A6B5-AD8AE002D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261256-126A-49D2-B70E-D0CEA75CF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FE46-822C-4290-80D9-9BF1F5760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77F96E-58E4-4991-89E5-AAD00BC51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0E9CD5-5473-45D7-A144-7F46E492D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2D4204-B1E5-4E28-87D6-95B97042D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5189A8-6813-4087-A424-E5E6F2C2A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2B1ECB-47F9-4D17-A3CA-FF0CC2E2E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A2E7C1-64A6-4704-B4E7-B8CF2ED3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74F84F-AE67-4517-A030-D215DC0F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36B04F-628E-4178-8259-DA03AA0D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74C194-BDA6-46CC-8A0F-A43986F9B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C171B5-8915-4ECC-8514-D69B44C61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5530-9343-4D54-8860-DC3B42DB1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645048-6B01-4399-8A08-BEE64C905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365A97-5DC3-452C-BACC-E5A747B7A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CF61FB-F985-478C-B8C2-62C0C5022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7F9C12-F86D-4AF6-A4E0-639716147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31AF8B-CAEF-4EE0-A6B3-4DC5A166C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E15B2D-C04E-4958-89A9-07FDF7B02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765962-4998-4DFA-99FD-C56DA2256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D457D4-218F-4E14-B6E0-9E9E8266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F8A994-1DD5-4148-A82B-A9845CAA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2D5D16-51F6-4454-9F20-44C16EBE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F65A5-B304-41C8-9D7C-80FD517BB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F8D0A5-E12A-4BBF-A075-E2506F456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CF4414-16F0-454E-9F75-4E70661E5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A7103A-3455-4FD2-B5F9-181D819E7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7FB86B-BC90-4A02-A9B4-73CDCFD9B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EC5ABB-CCB8-484C-8FAE-B2102C1E0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259A61-D89D-407B-9D04-312329204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4107FF-7C61-4D2E-95C1-FF639681E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F81405-A771-4810-B0C6-825C9EF18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395E38-DF5E-4407-8B9D-F0EA288F4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BB6A31-38D8-4ED2-9403-7ADF226A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F136A-9433-4F7C-BBE1-A1C5D792F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8E5BBB-E21F-466F-90CB-FB4CE303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FFCA61-C970-4BEE-8528-ECFE3A89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71BB36-7467-4D21-8DEA-84347FDFF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5C2807-030F-41C6-8451-04029E03A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7EB778-E9C2-4B38-8D4B-259058E8C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2A310E-9E3A-4CFE-93A7-F45D27873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AA2EFB-FCFA-4FD3-834C-988403AEE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7CE8A6-48DC-4098-9229-D21902572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9903D2-CA56-4182-95B8-9E7575383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DE2D47-3FEC-47B1-822D-D3BD34F5F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F7E22-AD6A-4E6B-99B9-022E9A92E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7F623B-F45D-4F30-B732-F94459B9D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F7FBA4-C64B-4B86-803C-2F697D33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A2896A-9F8B-4501-ADBD-29785992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C21DE2-3A55-4951-ACBD-15F90EC6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EA3F3B-31DE-49AF-80EB-DC3CA5DBF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6F303D-A01E-472F-8421-89927FDB6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F4EDB4-09B0-4B03-B728-CCB3AF6A1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B0F707-F80B-4FE7-9CEA-95D940A36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F9C36B-449B-450A-B93D-7CE40BB93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152032-0B11-443E-9086-940908F31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BAAA8-27CB-4CE6-A181-64C7213FB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05A604-5CF6-46A1-807A-9A802B3A4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B6D44D-B2A9-47A5-99B6-5681B44CF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40B41F-21A3-4AA5-9070-402C96CD2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15C58B-BC63-4FC6-AD78-9FE7E99B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EA01B2-4F62-4BD0-8F30-DD2E0105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382A31-7716-4406-B885-0D5B9B5A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D2A3D3-A200-446C-9A6F-966385336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F9C2B4-400D-47DA-849F-3B759F4F6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06DB3C-F915-45D5-903B-F4E0E63EA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91FC41-9FD7-4792-837F-635B4719E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E76C1-9933-4486-AC75-74F440ED4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372730-533E-4892-A85E-9260E05C8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ACD1D2-2A3C-43AC-85FE-6ED37EDFE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27EF6F-1EB8-4757-80F7-8561456B3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FEE06D-BC19-46F9-B601-CA986720B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F0DF30-89AD-4CFF-8FA8-967E0E33B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31C6F4-8837-4E1D-BC3F-260F820E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289ADA-9BCF-4325-B900-995E4749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493870-D02E-427F-A353-4B690D87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CB5F48-549B-49B4-A04A-64CBC6AEC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27E7C0-6594-4F9A-ADB1-FD5D4ED7C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41C9A-5EEE-4C5E-BEF5-3BFEB1042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24EF90-6DD0-4687-8CDD-D2980A651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AC2AB3-638F-49D5-86BE-E06913581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B85FFE-6B7A-4578-9BA0-F80D8A54E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F76E95-63A9-4E24-9CB8-AB4077993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3C9941-2789-46EF-AF03-AE9A2DAD7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FCD478-680F-40DB-B882-6D030F1E2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80C5A2-9AA1-4106-B021-B879C2D50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85416A-7274-4CC1-9FB4-D0B57A06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C4A571-AEF4-41B5-BBFA-CC9E72A7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46226C-307F-4D9A-BD53-DDDC0BFE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0DC7A-26E9-4E0A-9953-6AFE9835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18832A-2277-49FF-8200-37F94D7CB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20E526-357D-49FC-9961-0DC7AA48D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AB52BF-362E-4CE8-8711-9DFBA96BE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15DEFE-2E95-4148-9E76-2A5CBF8AE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5AABF1-3F00-46D6-9C71-33A3CC1FE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3F86AD-14EB-4B08-A2A8-0458B4A82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254447-F539-4D24-99B8-CF031DB92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3F7A22-9076-4A93-92FC-D50325EA1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8E2A25-B606-43E6-BC1F-9C1A7755C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63E7B1-04E1-449B-BE16-81C791D0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38FF-61CF-44B0-83F0-DD6667A8A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1F3F9-FFBF-4A06-A661-AC3C1CEF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D32A5F-E560-4E4F-8C0B-A01BAF6A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97E676-24BD-4E63-9D2D-CD23B4BF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ED7572-9221-4650-B1CE-09901BDF7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F8805B-D8E9-4D6D-8A02-0B54A02DB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878034-1FCE-43E1-8BAE-B3C061DA2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96F67-25DA-46CF-A426-48BFE90A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27198-30F9-4F05-9A61-8E2DD8F7F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A51AE-6B7E-45AA-8237-C52175560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7D211-1B55-46C8-8763-50E8A5B85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7D8E2-B06B-4C95-B37A-FA14086B4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BE483-4FA8-4936-8138-4621BD76F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A508A-B0CC-4FE9-AB3C-E165ABD77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E4F61-A614-4773-8601-479D1FD81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56A0E-2266-46D2-8673-7E392D396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F82B-350F-4D80-AC8F-F0FFB6D1C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7DCF6-800A-4015-BCD1-23C008077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619F8-682D-48A0-90C3-8650C017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0507D-D64D-449B-85ED-B02F82BE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3F359-1CFC-43F0-ADEB-B08FBF94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EBFAB-8D1F-40DE-BDA8-2256E56D6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4DD37-4F36-4264-A935-1CF5E65AA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56B7E-130E-4E79-9602-F3CC74B6D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87ABA-9B63-4127-B29B-1163822E8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2CE9F-C7FC-4323-A9F1-8D633D7B8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5A0E0-9DAC-4134-80AF-A2CD18DBF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1954-86FE-4D80-BF69-7CEEBFDD4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8433C-FCD4-4378-BE9A-2A9B56B93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DFCFB-B74B-4C60-BC72-B662268BE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13C32-5C86-42C3-B13F-70CBA3934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B72F4-AB84-4EE4-8A71-74A06DBB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8FC4F-5084-4328-BCD4-C2F08DD6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4BA5D-38EA-48B6-A60E-6062A284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3FC4E-EC4E-4ECD-9527-A439A8629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39D7B-1FA5-45A9-A774-5B8E13CE4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D86FC-D7D5-412B-B7CD-EAA0FB074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FAEB7-B984-4AF6-9D52-F12A0D22C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821B-3109-48F9-A861-4305C9602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B636C-4043-453A-A593-8F37B082F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021FC-5B17-4C45-8C5C-7BE6BCB06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9F54B-5C70-4618-95FD-730CEC2B8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DB0DF-01EF-441D-96A7-27DCAA190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A8216-CABE-4F19-B327-4F636F04E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44956-4A99-4B5A-A5CE-1633B23A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FF49D-E5D2-492C-9CB1-7DB87C82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B11AA-AE19-4C6D-846C-7BAE46EE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C2817-9B40-4088-9EBB-9385ACB87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61A13-D9E9-4966-91A2-EF7F80EDA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C03E-03F2-43BA-82F6-058AC2446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1E2A5-89EF-46BD-B068-064A1DFEF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454630-66D9-4590-9735-4B02EEFC2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C4AE9-8FA5-46E3-8512-7DEBD5D13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39237-7315-483F-8736-531F5BD36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F4612-D5F1-48CB-8819-758E2CFD6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0270CD-C2F0-4760-9FB6-1B463C463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23FD24-E958-4E13-A75B-D64114FA9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35795-F493-4979-9A3E-01A93BB58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F8E56-5112-4A2E-AAF1-47F605B8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489752-2191-4E39-87CF-3FF1A0A9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68DC-3879-4404-921F-42E19C175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F88C0-CFC7-4026-B7A0-44CB0092F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8E54A-AB63-4F32-8626-B55BE890E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1F0D6-6464-4375-8FD5-A9AF4C569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3D9E30-DE4D-482D-B979-0D8C10BFD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228854-584D-4B4B-B1A8-F3B937241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43BC1A-2DBF-44CC-B6CA-71F2ED0E2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6EB721-94F4-4026-AC98-087D72F6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181496-86C8-482F-AE9B-E093116AA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770BB7-BCB2-42AC-B276-548393E94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CF32EA-96B0-4F9F-96E5-38EA0E66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2575-7CD2-4877-8F60-8C56EA4C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51FE64-481D-49B2-8562-293B4D03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9AF93-86B9-4D31-BF86-938F98EA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33E8A1-4442-4F35-B120-F1C7AB653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430E14-0673-4F71-A992-289E66AB4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97E7C-CD17-48AB-B53E-9F7A71EB3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5A001E-197C-4751-9B6E-0303AC894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0428D0-6280-4D8C-A5D9-1C8D74AFA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444FAB-23CE-4748-A594-6A5526DCC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D14932-03E7-4E2D-97DC-CE176FB1A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C84E85-7A1F-4125-886E-35BB75EA5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0834-AAFB-41D9-A7AB-DE326CD7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133DC9-B592-4164-BE8B-E7277C090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425229-19C4-43E4-AD61-41A48144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EE9DA9-0CD1-4F55-A68F-E05D88F1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BCF9DC-975E-4A41-B505-93755225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0A7067-E71B-4DF4-A245-31FDA440D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D84E62-C358-4D10-9DDF-1895C6FA2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A55201-4778-43F3-9113-88133C364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5FA7D6-B4DD-410C-AF7B-93EC6012E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5FBFA8-FDE8-4454-B9F4-A76B7EDBD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F4BF4D-EF53-4580-8ABA-FAE6E0BB5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6C3E2-4C3B-4910-83CD-AEBCF388170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7A150-2857-4DFD-9CBF-6BD11E63529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B0FCC-B916-4958-95F8-659A632B366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674A7-70E8-45F1-AD46-08A175BAEC3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800EC-EA5A-4344-917E-931A5E52150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401AA-8B48-4632-9D18-A546740B256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08CFD-5FED-4D01-972B-CE350833FD9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08D97-A91B-4A21-BEC9-7205B195BB8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6427E-E35E-44AA-AA93-FCCECC21DEA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68A81-F002-4529-A769-29CBA216710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07F40-60DB-47A1-A088-4006DD995FF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57326-195C-4473-A3E6-B9DA39A3069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3C273-6809-45DC-9C98-401589F46AD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145D4-B95F-4089-B5E7-75B7623739C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1DDAD-A035-499C-8DD9-CCB79ED27A0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6AA4B-66D8-4B5F-88DD-B2D7476A71D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080FA-231A-4DE2-AED9-62A054DF872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" Target="slide12.xml"/><Relationship Id="rId4" Type="http://schemas.openxmlformats.org/officeDocument/2006/relationships/image" Target="../media/image7.png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85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slideLayout" Target="../slideLayouts/slideLayout85.xml"/><Relationship Id="rId1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" Target="slide12.xml"/><Relationship Id="rId4" Type="http://schemas.openxmlformats.org/officeDocument/2006/relationships/image" Target="../media/image7.png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85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" Target="slide12.xml"/><Relationship Id="rId4" Type="http://schemas.openxmlformats.org/officeDocument/2006/relationships/image" Target="../media/image7.png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85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" Target="slide12.xml"/><Relationship Id="rId4" Type="http://schemas.openxmlformats.org/officeDocument/2006/relationships/image" Target="../media/image7.png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85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" Target="slide12.xml"/><Relationship Id="rId4" Type="http://schemas.openxmlformats.org/officeDocument/2006/relationships/image" Target="../media/image7.png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85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" Target="slide12.xml"/><Relationship Id="rId4" Type="http://schemas.openxmlformats.org/officeDocument/2006/relationships/image" Target="../media/image7.png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85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" Target="slide12.xml"/><Relationship Id="rId4" Type="http://schemas.openxmlformats.org/officeDocument/2006/relationships/image" Target="../media/image7.png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85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" Target="slide12.xml"/><Relationship Id="rId4" Type="http://schemas.openxmlformats.org/officeDocument/2006/relationships/image" Target="../media/image7.png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85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" Target="slide12.xml"/><Relationship Id="rId4" Type="http://schemas.openxmlformats.org/officeDocument/2006/relationships/image" Target="../media/image7.png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85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Text Box 23"/>
          <p:cNvSpPr/>
          <p:nvPr/>
        </p:nvSpPr>
        <p:spPr>
          <a:xfrm>
            <a:off x="714240" y="284040"/>
            <a:ext cx="774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осударственное бюджетное образовательное учрежд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етский сад №21 Калининского район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. Санкт-Петербург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2"/>
          <p:cNvSpPr/>
          <p:nvPr/>
        </p:nvSpPr>
        <p:spPr>
          <a:xfrm>
            <a:off x="655560" y="1935000"/>
            <a:ext cx="7035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3"/>
          <p:cNvSpPr/>
          <p:nvPr/>
        </p:nvSpPr>
        <p:spPr>
          <a:xfrm>
            <a:off x="441360" y="890640"/>
            <a:ext cx="8299440" cy="49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УЧАЮЩАЯ ПРЕЗЕНТАЦ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«ОВОЩИ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(первая младшая группа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спитатель: Спирина Е.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. Санкт-Петербург-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6" name="Рисунок 2" descr=""/>
          <p:cNvPicPr/>
          <p:nvPr/>
        </p:nvPicPr>
        <p:blipFill>
          <a:blip r:embed="rId2"/>
          <a:stretch/>
        </p:blipFill>
        <p:spPr>
          <a:xfrm>
            <a:off x="927000" y="4373640"/>
            <a:ext cx="1544760" cy="2193840"/>
          </a:xfrm>
          <a:prstGeom prst="rect">
            <a:avLst/>
          </a:prstGeom>
          <a:ln w="0">
            <a:noFill/>
          </a:ln>
        </p:spPr>
      </p:pic>
      <p:pic>
        <p:nvPicPr>
          <p:cNvPr id="1187" name="Рисунок 3" descr=""/>
          <p:cNvPicPr/>
          <p:nvPr/>
        </p:nvPicPr>
        <p:blipFill>
          <a:blip r:embed="rId3"/>
          <a:stretch/>
        </p:blipFill>
        <p:spPr>
          <a:xfrm>
            <a:off x="7016760" y="399960"/>
            <a:ext cx="1866960" cy="225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6" name="Прямоугольник 27"/>
          <p:cNvGrpSpPr/>
          <p:nvPr/>
        </p:nvGrpSpPr>
        <p:grpSpPr>
          <a:xfrm>
            <a:off x="268200" y="60480"/>
            <a:ext cx="8753400" cy="645840"/>
            <a:chOff x="268200" y="60480"/>
            <a:chExt cx="8753400" cy="645840"/>
          </a:xfrm>
        </p:grpSpPr>
        <p:pic>
          <p:nvPicPr>
            <p:cNvPr id="1277" name="Прямоугольник 27" descr=""/>
            <p:cNvPicPr/>
            <p:nvPr/>
          </p:nvPicPr>
          <p:blipFill>
            <a:blip r:embed="rId1"/>
            <a:stretch/>
          </p:blipFill>
          <p:spPr>
            <a:xfrm>
              <a:off x="268200" y="60480"/>
              <a:ext cx="875340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8" name=""/>
            <p:cNvSpPr/>
            <p:nvPr/>
          </p:nvSpPr>
          <p:spPr>
            <a:xfrm>
              <a:off x="328680" y="93600"/>
              <a:ext cx="863100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9" name="TextBox 21"/>
          <p:cNvGrpSpPr/>
          <p:nvPr/>
        </p:nvGrpSpPr>
        <p:grpSpPr>
          <a:xfrm>
            <a:off x="792000" y="1298520"/>
            <a:ext cx="8285400" cy="5578560"/>
            <a:chOff x="792000" y="1298520"/>
            <a:chExt cx="8285400" cy="5578560"/>
          </a:xfrm>
        </p:grpSpPr>
        <p:pic>
          <p:nvPicPr>
            <p:cNvPr id="1280" name="TextBox 21" descr=""/>
            <p:cNvPicPr/>
            <p:nvPr/>
          </p:nvPicPr>
          <p:blipFill>
            <a:blip r:embed="rId2"/>
            <a:stretch/>
          </p:blipFill>
          <p:spPr>
            <a:xfrm>
              <a:off x="792000" y="1298520"/>
              <a:ext cx="8285400" cy="557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1" name=""/>
            <p:cNvSpPr/>
            <p:nvPr/>
          </p:nvSpPr>
          <p:spPr>
            <a:xfrm>
              <a:off x="990720" y="1467000"/>
              <a:ext cx="7881840" cy="51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61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2" name="TextBox 29"/>
          <p:cNvSpPr/>
          <p:nvPr/>
        </p:nvSpPr>
        <p:spPr>
          <a:xfrm>
            <a:off x="30240" y="93600"/>
            <a:ext cx="898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ПУС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3" name="Рисунок 1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990720" y="1467000"/>
            <a:ext cx="7881840" cy="5184720"/>
          </a:xfrm>
          <a:prstGeom prst="rect">
            <a:avLst/>
          </a:prstGeom>
          <a:ln w="0">
            <a:noFill/>
          </a:ln>
        </p:spPr>
      </p:pic>
      <p:sp>
        <p:nvSpPr>
          <p:cNvPr id="1284" name="TextBox 15">
            <a:hlinkClick r:id="rId5" action="ppaction://hlinksldjump"/>
          </p:cNvPr>
          <p:cNvSpPr/>
          <p:nvPr/>
        </p:nvSpPr>
        <p:spPr>
          <a:xfrm>
            <a:off x="1395360" y="1566720"/>
            <a:ext cx="6235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елась барыня на грядке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дета в шумные шел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ы для неё готовим кад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крупной соли пол меш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Номер слайда 2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4B743-ECEF-4640-91C3-4B080ECCCB5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6" name="Рисунок 1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791320" y="3697200"/>
            <a:ext cx="2274840" cy="2274840"/>
          </a:xfrm>
          <a:prstGeom prst="rect">
            <a:avLst/>
          </a:prstGeom>
          <a:ln w="0">
            <a:noFill/>
          </a:ln>
        </p:spPr>
      </p:pic>
    </p:spTree>
  </p:cSld>
  <p:transition spd="slow" advTm="56000">
    <p:fad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6" dur="20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7" name="Прямоугольник 27"/>
          <p:cNvGrpSpPr/>
          <p:nvPr/>
        </p:nvGrpSpPr>
        <p:grpSpPr>
          <a:xfrm>
            <a:off x="268200" y="60480"/>
            <a:ext cx="8753400" cy="645840"/>
            <a:chOff x="268200" y="60480"/>
            <a:chExt cx="8753400" cy="645840"/>
          </a:xfrm>
        </p:grpSpPr>
        <p:pic>
          <p:nvPicPr>
            <p:cNvPr id="1288" name="Прямоугольник 27" descr=""/>
            <p:cNvPicPr/>
            <p:nvPr/>
          </p:nvPicPr>
          <p:blipFill>
            <a:blip r:embed="rId1"/>
            <a:stretch/>
          </p:blipFill>
          <p:spPr>
            <a:xfrm>
              <a:off x="268200" y="60480"/>
              <a:ext cx="875340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9" name=""/>
            <p:cNvSpPr/>
            <p:nvPr/>
          </p:nvSpPr>
          <p:spPr>
            <a:xfrm>
              <a:off x="328680" y="93600"/>
              <a:ext cx="863100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0" name="TextBox 21"/>
          <p:cNvGrpSpPr/>
          <p:nvPr/>
        </p:nvGrpSpPr>
        <p:grpSpPr>
          <a:xfrm>
            <a:off x="792000" y="1298520"/>
            <a:ext cx="8285400" cy="5578560"/>
            <a:chOff x="792000" y="1298520"/>
            <a:chExt cx="8285400" cy="5578560"/>
          </a:xfrm>
        </p:grpSpPr>
        <p:pic>
          <p:nvPicPr>
            <p:cNvPr id="1291" name="TextBox 21" descr=""/>
            <p:cNvPicPr/>
            <p:nvPr/>
          </p:nvPicPr>
          <p:blipFill>
            <a:blip r:embed="rId2"/>
            <a:stretch/>
          </p:blipFill>
          <p:spPr>
            <a:xfrm>
              <a:off x="792000" y="1298520"/>
              <a:ext cx="8285400" cy="557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2" name=""/>
            <p:cNvSpPr/>
            <p:nvPr/>
          </p:nvSpPr>
          <p:spPr>
            <a:xfrm>
              <a:off x="990720" y="1467000"/>
              <a:ext cx="7881840" cy="51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61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3" name="TextBox 29"/>
          <p:cNvSpPr/>
          <p:nvPr/>
        </p:nvSpPr>
        <p:spPr>
          <a:xfrm>
            <a:off x="30240" y="93600"/>
            <a:ext cx="898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РТОШ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4" name="Рисунок 14" descr=""/>
          <p:cNvPicPr/>
          <p:nvPr/>
        </p:nvPicPr>
        <p:blipFill>
          <a:blip r:embed="rId3"/>
          <a:stretch/>
        </p:blipFill>
        <p:spPr>
          <a:xfrm>
            <a:off x="990720" y="1467000"/>
            <a:ext cx="7881840" cy="5184720"/>
          </a:xfrm>
          <a:prstGeom prst="rect">
            <a:avLst/>
          </a:prstGeom>
          <a:ln w="0">
            <a:noFill/>
          </a:ln>
        </p:spPr>
      </p:pic>
      <p:sp>
        <p:nvSpPr>
          <p:cNvPr id="1295" name="TextBox 15"/>
          <p:cNvSpPr/>
          <p:nvPr/>
        </p:nvSpPr>
        <p:spPr>
          <a:xfrm>
            <a:off x="1395360" y="1566720"/>
            <a:ext cx="6235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о копали из зем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Жарим, варим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о в золе мы испек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ли да хвалил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Номер слайда 2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35223-09E6-47F5-AE04-3472803A096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7" name="Рисунок 3" descr=""/>
          <p:cNvPicPr/>
          <p:nvPr/>
        </p:nvPicPr>
        <p:blipFill>
          <a:blip r:embed="rId4"/>
          <a:stretch/>
        </p:blipFill>
        <p:spPr>
          <a:xfrm>
            <a:off x="5019840" y="2982960"/>
            <a:ext cx="3016080" cy="3014640"/>
          </a:xfrm>
          <a:prstGeom prst="rect">
            <a:avLst/>
          </a:prstGeom>
          <a:ln w="0">
            <a:noFill/>
          </a:ln>
        </p:spPr>
      </p:pic>
    </p:spTree>
  </p:cSld>
  <p:transition spd="slow" advTm="56000"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53" dur="20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8" dur="5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8" name="Прямоугольник 27"/>
          <p:cNvGrpSpPr/>
          <p:nvPr/>
        </p:nvGrpSpPr>
        <p:grpSpPr>
          <a:xfrm>
            <a:off x="268200" y="60480"/>
            <a:ext cx="8753400" cy="645840"/>
            <a:chOff x="268200" y="60480"/>
            <a:chExt cx="8753400" cy="645840"/>
          </a:xfrm>
        </p:grpSpPr>
        <p:pic>
          <p:nvPicPr>
            <p:cNvPr id="1299" name="Прямоугольник 27" descr=""/>
            <p:cNvPicPr/>
            <p:nvPr/>
          </p:nvPicPr>
          <p:blipFill>
            <a:blip r:embed="rId1"/>
            <a:stretch/>
          </p:blipFill>
          <p:spPr>
            <a:xfrm>
              <a:off x="268200" y="60480"/>
              <a:ext cx="875340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0" name=""/>
            <p:cNvSpPr/>
            <p:nvPr/>
          </p:nvSpPr>
          <p:spPr>
            <a:xfrm>
              <a:off x="328680" y="93600"/>
              <a:ext cx="863100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1" name="TextBox 21"/>
          <p:cNvGrpSpPr/>
          <p:nvPr/>
        </p:nvGrpSpPr>
        <p:grpSpPr>
          <a:xfrm>
            <a:off x="792000" y="1298520"/>
            <a:ext cx="8285400" cy="5578560"/>
            <a:chOff x="792000" y="1298520"/>
            <a:chExt cx="8285400" cy="5578560"/>
          </a:xfrm>
        </p:grpSpPr>
        <p:pic>
          <p:nvPicPr>
            <p:cNvPr id="1302" name="TextBox 21" descr=""/>
            <p:cNvPicPr/>
            <p:nvPr/>
          </p:nvPicPr>
          <p:blipFill>
            <a:blip r:embed="rId2"/>
            <a:stretch/>
          </p:blipFill>
          <p:spPr>
            <a:xfrm>
              <a:off x="792000" y="1298520"/>
              <a:ext cx="8285400" cy="557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3" name=""/>
            <p:cNvSpPr/>
            <p:nvPr/>
          </p:nvSpPr>
          <p:spPr>
            <a:xfrm>
              <a:off x="990720" y="1467000"/>
              <a:ext cx="7881840" cy="51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61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4" name="TextBox 29"/>
          <p:cNvSpPr/>
          <p:nvPr/>
        </p:nvSpPr>
        <p:spPr>
          <a:xfrm>
            <a:off x="30240" y="93600"/>
            <a:ext cx="898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ВТОРЕНИЕ ИЗУЧЕННОГО МАТЕРИА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5" name="Рисунок 14" descr=""/>
          <p:cNvPicPr/>
          <p:nvPr/>
        </p:nvPicPr>
        <p:blipFill>
          <a:blip r:embed="rId3"/>
          <a:stretch/>
        </p:blipFill>
        <p:spPr>
          <a:xfrm>
            <a:off x="990720" y="1467000"/>
            <a:ext cx="7881840" cy="5184720"/>
          </a:xfrm>
          <a:prstGeom prst="rect">
            <a:avLst/>
          </a:prstGeom>
          <a:ln w="0">
            <a:noFill/>
          </a:ln>
        </p:spPr>
      </p:pic>
      <p:sp>
        <p:nvSpPr>
          <p:cNvPr id="1306" name="Номер слайда 2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E4534-180E-4DBA-8685-2C18462812E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7" name="Рисунок 1" descr=""/>
          <p:cNvPicPr/>
          <p:nvPr/>
        </p:nvPicPr>
        <p:blipFill>
          <a:blip r:embed="rId4"/>
          <a:stretch/>
        </p:blipFill>
        <p:spPr>
          <a:xfrm>
            <a:off x="3924360" y="1839960"/>
            <a:ext cx="893880" cy="1079280"/>
          </a:xfrm>
          <a:prstGeom prst="rect">
            <a:avLst/>
          </a:prstGeom>
          <a:ln w="0">
            <a:noFill/>
          </a:ln>
        </p:spPr>
      </p:pic>
      <p:pic>
        <p:nvPicPr>
          <p:cNvPr id="1308" name="Рисунок 3" descr=""/>
          <p:cNvPicPr/>
          <p:nvPr/>
        </p:nvPicPr>
        <p:blipFill>
          <a:blip r:embed="rId5"/>
          <a:stretch/>
        </p:blipFill>
        <p:spPr>
          <a:xfrm>
            <a:off x="5502240" y="2230560"/>
            <a:ext cx="787320" cy="1028520"/>
          </a:xfrm>
          <a:prstGeom prst="rect">
            <a:avLst/>
          </a:prstGeom>
          <a:ln w="0">
            <a:noFill/>
          </a:ln>
        </p:spPr>
      </p:pic>
      <p:sp>
        <p:nvSpPr>
          <p:cNvPr id="1309" name="Улыбающееся лицо 4">
            <a:hlinkClick r:id="" action="ppaction://hlinkshowjump?jump=lastslide"/>
          </p:cNvPr>
          <p:cNvSpPr/>
          <p:nvPr/>
        </p:nvSpPr>
        <p:spPr>
          <a:xfrm>
            <a:off x="8088480" y="6129360"/>
            <a:ext cx="358560" cy="347760"/>
          </a:xfrm>
          <a:prstGeom prst="smileyFace">
            <a:avLst>
              <a:gd name="adj" fmla="val 9282"/>
            </a:avLst>
          </a:prstGeom>
          <a:solidFill>
            <a:srgbClr val="a53010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0" name="Рисунок 5" descr=""/>
          <p:cNvPicPr/>
          <p:nvPr/>
        </p:nvPicPr>
        <p:blipFill>
          <a:blip r:embed="rId6"/>
          <a:stretch/>
        </p:blipFill>
        <p:spPr>
          <a:xfrm>
            <a:off x="6878520" y="1973160"/>
            <a:ext cx="920880" cy="1028880"/>
          </a:xfrm>
          <a:prstGeom prst="rect">
            <a:avLst/>
          </a:prstGeom>
          <a:ln w="0">
            <a:noFill/>
          </a:ln>
        </p:spPr>
      </p:pic>
      <p:pic>
        <p:nvPicPr>
          <p:cNvPr id="1311" name="Рисунок 8" descr=""/>
          <p:cNvPicPr/>
          <p:nvPr/>
        </p:nvPicPr>
        <p:blipFill>
          <a:blip r:embed="rId7"/>
          <a:stretch/>
        </p:blipFill>
        <p:spPr>
          <a:xfrm>
            <a:off x="4519440" y="3990960"/>
            <a:ext cx="995400" cy="1895400"/>
          </a:xfrm>
          <a:prstGeom prst="rect">
            <a:avLst/>
          </a:prstGeom>
          <a:ln w="0">
            <a:noFill/>
          </a:ln>
        </p:spPr>
      </p:pic>
      <p:pic>
        <p:nvPicPr>
          <p:cNvPr id="1312" name="Рисунок 9" descr=""/>
          <p:cNvPicPr/>
          <p:nvPr/>
        </p:nvPicPr>
        <p:blipFill>
          <a:blip r:embed="rId8"/>
          <a:stretch/>
        </p:blipFill>
        <p:spPr>
          <a:xfrm>
            <a:off x="1481040" y="3821040"/>
            <a:ext cx="1209600" cy="1366920"/>
          </a:xfrm>
          <a:prstGeom prst="rect">
            <a:avLst/>
          </a:prstGeom>
          <a:ln w="0">
            <a:noFill/>
          </a:ln>
        </p:spPr>
      </p:pic>
      <p:pic>
        <p:nvPicPr>
          <p:cNvPr id="1313" name="Рисунок 10" descr=""/>
          <p:cNvPicPr/>
          <p:nvPr/>
        </p:nvPicPr>
        <p:blipFill>
          <a:blip r:embed="rId9"/>
          <a:stretch/>
        </p:blipFill>
        <p:spPr>
          <a:xfrm>
            <a:off x="2916360" y="4246560"/>
            <a:ext cx="938160" cy="1354320"/>
          </a:xfrm>
          <a:prstGeom prst="rect">
            <a:avLst/>
          </a:prstGeom>
          <a:ln w="0">
            <a:noFill/>
          </a:ln>
        </p:spPr>
      </p:pic>
      <p:pic>
        <p:nvPicPr>
          <p:cNvPr id="1314" name="Рисунок 16" descr=""/>
          <p:cNvPicPr/>
          <p:nvPr/>
        </p:nvPicPr>
        <p:blipFill>
          <a:blip r:embed="rId10"/>
          <a:stretch/>
        </p:blipFill>
        <p:spPr>
          <a:xfrm>
            <a:off x="1606680" y="1839960"/>
            <a:ext cx="1633320" cy="1635120"/>
          </a:xfrm>
          <a:prstGeom prst="rect">
            <a:avLst/>
          </a:prstGeom>
          <a:ln w="0">
            <a:noFill/>
          </a:ln>
        </p:spPr>
      </p:pic>
      <p:pic>
        <p:nvPicPr>
          <p:cNvPr id="1315" name="Рисунок 17" descr=""/>
          <p:cNvPicPr/>
          <p:nvPr/>
        </p:nvPicPr>
        <p:blipFill>
          <a:blip r:embed="rId11"/>
          <a:stretch/>
        </p:blipFill>
        <p:spPr>
          <a:xfrm>
            <a:off x="3441600" y="3002040"/>
            <a:ext cx="1276560" cy="1276200"/>
          </a:xfrm>
          <a:prstGeom prst="rect">
            <a:avLst/>
          </a:prstGeom>
          <a:ln w="0">
            <a:noFill/>
          </a:ln>
        </p:spPr>
      </p:pic>
      <p:pic>
        <p:nvPicPr>
          <p:cNvPr id="1316" name="Рисунок 18" descr=""/>
          <p:cNvPicPr/>
          <p:nvPr/>
        </p:nvPicPr>
        <p:blipFill>
          <a:blip r:embed="rId12"/>
          <a:stretch/>
        </p:blipFill>
        <p:spPr>
          <a:xfrm>
            <a:off x="6113520" y="3360600"/>
            <a:ext cx="752400" cy="1562400"/>
          </a:xfrm>
          <a:prstGeom prst="rect">
            <a:avLst/>
          </a:prstGeom>
          <a:ln w="0">
            <a:noFill/>
          </a:ln>
        </p:spPr>
      </p:pic>
      <p:pic>
        <p:nvPicPr>
          <p:cNvPr id="1317" name="Рисунок 19" descr=""/>
          <p:cNvPicPr/>
          <p:nvPr/>
        </p:nvPicPr>
        <p:blipFill>
          <a:blip r:embed="rId13"/>
          <a:stretch/>
        </p:blipFill>
        <p:spPr>
          <a:xfrm>
            <a:off x="6805440" y="4929120"/>
            <a:ext cx="1065240" cy="1065240"/>
          </a:xfrm>
          <a:prstGeom prst="rect">
            <a:avLst/>
          </a:prstGeom>
          <a:ln w="0">
            <a:noFill/>
          </a:ln>
        </p:spPr>
      </p:pic>
    </p:spTree>
  </p:cSld>
  <p:transition spd="slow" advTm="56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8" name="Прямоугольник 27"/>
          <p:cNvGrpSpPr/>
          <p:nvPr/>
        </p:nvGrpSpPr>
        <p:grpSpPr>
          <a:xfrm>
            <a:off x="268200" y="60480"/>
            <a:ext cx="8753400" cy="645840"/>
            <a:chOff x="268200" y="60480"/>
            <a:chExt cx="8753400" cy="645840"/>
          </a:xfrm>
        </p:grpSpPr>
        <p:pic>
          <p:nvPicPr>
            <p:cNvPr id="1319" name="Прямоугольник 27" descr=""/>
            <p:cNvPicPr/>
            <p:nvPr/>
          </p:nvPicPr>
          <p:blipFill>
            <a:blip r:embed="rId1"/>
            <a:stretch/>
          </p:blipFill>
          <p:spPr>
            <a:xfrm>
              <a:off x="268200" y="60480"/>
              <a:ext cx="875340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0" name=""/>
            <p:cNvSpPr/>
            <p:nvPr/>
          </p:nvSpPr>
          <p:spPr>
            <a:xfrm>
              <a:off x="328680" y="93600"/>
              <a:ext cx="863100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1" name="TextBox 21"/>
          <p:cNvGrpSpPr/>
          <p:nvPr/>
        </p:nvGrpSpPr>
        <p:grpSpPr>
          <a:xfrm>
            <a:off x="792000" y="1298520"/>
            <a:ext cx="8285400" cy="5578560"/>
            <a:chOff x="792000" y="1298520"/>
            <a:chExt cx="8285400" cy="5578560"/>
          </a:xfrm>
        </p:grpSpPr>
        <p:pic>
          <p:nvPicPr>
            <p:cNvPr id="1322" name="TextBox 21" descr=""/>
            <p:cNvPicPr/>
            <p:nvPr/>
          </p:nvPicPr>
          <p:blipFill>
            <a:blip r:embed="rId2"/>
            <a:stretch/>
          </p:blipFill>
          <p:spPr>
            <a:xfrm>
              <a:off x="792000" y="1298520"/>
              <a:ext cx="8285400" cy="557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3" name=""/>
            <p:cNvSpPr/>
            <p:nvPr/>
          </p:nvSpPr>
          <p:spPr>
            <a:xfrm>
              <a:off x="990720" y="1467000"/>
              <a:ext cx="7881840" cy="51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61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24" name="Рисунок 14" descr="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990720" y="1467000"/>
            <a:ext cx="7881840" cy="5184720"/>
          </a:xfrm>
          <a:prstGeom prst="rect">
            <a:avLst/>
          </a:prstGeom>
          <a:ln w="0">
            <a:noFill/>
          </a:ln>
        </p:spPr>
      </p:pic>
      <p:sp>
        <p:nvSpPr>
          <p:cNvPr id="1325" name="TextBox 15">
            <a:hlinkClick r:id="" action="ppaction://hlinkshowjump?jump=endshow"/>
          </p:cNvPr>
          <p:cNvSpPr/>
          <p:nvPr/>
        </p:nvSpPr>
        <p:spPr>
          <a:xfrm>
            <a:off x="1360440" y="3692520"/>
            <a:ext cx="730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АСИБО ЗА ВНИМАНИЕ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Номер слайда 2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BE316-C8C7-4B50-AA9A-463DA3B4952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7" name="Рисунок 1" descr=""/>
          <p:cNvPicPr/>
          <p:nvPr/>
        </p:nvPicPr>
        <p:blipFill>
          <a:blip r:embed="rId4"/>
          <a:stretch/>
        </p:blipFill>
        <p:spPr>
          <a:xfrm>
            <a:off x="4834080" y="4275000"/>
            <a:ext cx="3716280" cy="2335320"/>
          </a:xfrm>
          <a:prstGeom prst="rect">
            <a:avLst/>
          </a:prstGeom>
          <a:ln w="0">
            <a:noFill/>
          </a:ln>
        </p:spPr>
      </p:pic>
    </p:spTree>
  </p:cSld>
  <p:transition spd="slow" advTm="56000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Прямоугольник 27"/>
          <p:cNvGrpSpPr/>
          <p:nvPr/>
        </p:nvGrpSpPr>
        <p:grpSpPr>
          <a:xfrm>
            <a:off x="268200" y="60480"/>
            <a:ext cx="8753400" cy="645840"/>
            <a:chOff x="268200" y="60480"/>
            <a:chExt cx="8753400" cy="645840"/>
          </a:xfrm>
        </p:grpSpPr>
        <p:pic>
          <p:nvPicPr>
            <p:cNvPr id="1189" name="Прямоугольник 27" descr=""/>
            <p:cNvPicPr/>
            <p:nvPr/>
          </p:nvPicPr>
          <p:blipFill>
            <a:blip r:embed="rId1"/>
            <a:stretch/>
          </p:blipFill>
          <p:spPr>
            <a:xfrm>
              <a:off x="268200" y="60480"/>
              <a:ext cx="875340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0" name=""/>
            <p:cNvSpPr/>
            <p:nvPr/>
          </p:nvSpPr>
          <p:spPr>
            <a:xfrm>
              <a:off x="328680" y="93600"/>
              <a:ext cx="863100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1" name="TextBox 21"/>
          <p:cNvGrpSpPr/>
          <p:nvPr/>
        </p:nvGrpSpPr>
        <p:grpSpPr>
          <a:xfrm>
            <a:off x="792000" y="1298520"/>
            <a:ext cx="8285400" cy="5578560"/>
            <a:chOff x="792000" y="1298520"/>
            <a:chExt cx="8285400" cy="5578560"/>
          </a:xfrm>
        </p:grpSpPr>
        <p:pic>
          <p:nvPicPr>
            <p:cNvPr id="1192" name="TextBox 21" descr=""/>
            <p:cNvPicPr/>
            <p:nvPr/>
          </p:nvPicPr>
          <p:blipFill>
            <a:blip r:embed="rId2"/>
            <a:stretch/>
          </p:blipFill>
          <p:spPr>
            <a:xfrm>
              <a:off x="792000" y="1298520"/>
              <a:ext cx="8285400" cy="557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3" name=""/>
            <p:cNvSpPr/>
            <p:nvPr/>
          </p:nvSpPr>
          <p:spPr>
            <a:xfrm>
              <a:off x="990720" y="1467000"/>
              <a:ext cx="7881840" cy="51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61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4" name="TextBox 29"/>
          <p:cNvSpPr/>
          <p:nvPr/>
        </p:nvSpPr>
        <p:spPr>
          <a:xfrm>
            <a:off x="30240" y="93600"/>
            <a:ext cx="898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МИДО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5" name="Рисунок 1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990720" y="1467000"/>
            <a:ext cx="7881840" cy="5184720"/>
          </a:xfrm>
          <a:prstGeom prst="rect">
            <a:avLst/>
          </a:prstGeom>
          <a:ln w="0">
            <a:noFill/>
          </a:ln>
        </p:spPr>
      </p:pic>
      <p:sp>
        <p:nvSpPr>
          <p:cNvPr id="1196" name="TextBox 15">
            <a:hlinkClick r:id="rId5" action="ppaction://hlinksldjump"/>
          </p:cNvPr>
          <p:cNvSpPr/>
          <p:nvPr/>
        </p:nvSpPr>
        <p:spPr>
          <a:xfrm>
            <a:off x="1395360" y="1566720"/>
            <a:ext cx="4191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огороде выраста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 когда я созреваю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арят из меня тома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щи кладут и так едя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7" name="Рисунок 1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302520" y="4276800"/>
            <a:ext cx="1969920" cy="1939680"/>
          </a:xfrm>
          <a:prstGeom prst="rect">
            <a:avLst/>
          </a:prstGeom>
          <a:ln w="0">
            <a:noFill/>
          </a:ln>
        </p:spPr>
      </p:pic>
      <p:sp>
        <p:nvSpPr>
          <p:cNvPr id="1198" name="Номер слайда 2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4F4AF-5B5A-4DE7-A522-7315A90194F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6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9" name="Прямоугольник 27"/>
          <p:cNvGrpSpPr/>
          <p:nvPr/>
        </p:nvGrpSpPr>
        <p:grpSpPr>
          <a:xfrm>
            <a:off x="268200" y="60480"/>
            <a:ext cx="8753400" cy="645840"/>
            <a:chOff x="268200" y="60480"/>
            <a:chExt cx="8753400" cy="645840"/>
          </a:xfrm>
        </p:grpSpPr>
        <p:pic>
          <p:nvPicPr>
            <p:cNvPr id="1200" name="Прямоугольник 27" descr=""/>
            <p:cNvPicPr/>
            <p:nvPr/>
          </p:nvPicPr>
          <p:blipFill>
            <a:blip r:embed="rId1"/>
            <a:stretch/>
          </p:blipFill>
          <p:spPr>
            <a:xfrm>
              <a:off x="268200" y="60480"/>
              <a:ext cx="875340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1" name=""/>
            <p:cNvSpPr/>
            <p:nvPr/>
          </p:nvSpPr>
          <p:spPr>
            <a:xfrm>
              <a:off x="328680" y="93600"/>
              <a:ext cx="863100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2" name="TextBox 21"/>
          <p:cNvGrpSpPr/>
          <p:nvPr/>
        </p:nvGrpSpPr>
        <p:grpSpPr>
          <a:xfrm>
            <a:off x="792000" y="1298520"/>
            <a:ext cx="8285400" cy="5578560"/>
            <a:chOff x="792000" y="1298520"/>
            <a:chExt cx="8285400" cy="5578560"/>
          </a:xfrm>
        </p:grpSpPr>
        <p:pic>
          <p:nvPicPr>
            <p:cNvPr id="1203" name="TextBox 21" descr=""/>
            <p:cNvPicPr/>
            <p:nvPr/>
          </p:nvPicPr>
          <p:blipFill>
            <a:blip r:embed="rId2"/>
            <a:stretch/>
          </p:blipFill>
          <p:spPr>
            <a:xfrm>
              <a:off x="792000" y="1298520"/>
              <a:ext cx="8285400" cy="557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4" name=""/>
            <p:cNvSpPr/>
            <p:nvPr/>
          </p:nvSpPr>
          <p:spPr>
            <a:xfrm>
              <a:off x="990720" y="1467000"/>
              <a:ext cx="7881840" cy="51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61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5" name="TextBox 29"/>
          <p:cNvSpPr/>
          <p:nvPr/>
        </p:nvSpPr>
        <p:spPr>
          <a:xfrm>
            <a:off x="30240" y="93600"/>
            <a:ext cx="898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ОРКОВ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6" name="Рисунок 1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990720" y="1467000"/>
            <a:ext cx="7881840" cy="5184720"/>
          </a:xfrm>
          <a:prstGeom prst="rect">
            <a:avLst/>
          </a:prstGeom>
          <a:ln w="0">
            <a:noFill/>
          </a:ln>
        </p:spPr>
      </p:pic>
      <p:sp>
        <p:nvSpPr>
          <p:cNvPr id="1207" name="TextBox 15">
            <a:hlinkClick r:id="rId5" action="ppaction://hlinksldjump"/>
          </p:cNvPr>
          <p:cNvSpPr/>
          <p:nvPr/>
        </p:nvSpPr>
        <p:spPr>
          <a:xfrm>
            <a:off x="1395360" y="1566720"/>
            <a:ext cx="6235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решок оранжевый под землей сидит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ладезь витаминов он в себе храни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могает деткам здоровее ста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о это за овощ, можете сказать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8" name="Рисунок 7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880320" y="2862360"/>
            <a:ext cx="914400" cy="3200400"/>
          </a:xfrm>
          <a:prstGeom prst="rect">
            <a:avLst/>
          </a:prstGeom>
          <a:ln w="0">
            <a:noFill/>
          </a:ln>
        </p:spPr>
      </p:pic>
      <p:sp>
        <p:nvSpPr>
          <p:cNvPr id="1209" name="Номер слайда 2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84448-9D9D-42DA-865F-F3DAEF2D3B9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6000"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0" name="Прямоугольник 27"/>
          <p:cNvGrpSpPr/>
          <p:nvPr/>
        </p:nvGrpSpPr>
        <p:grpSpPr>
          <a:xfrm>
            <a:off x="268200" y="60480"/>
            <a:ext cx="8753400" cy="645840"/>
            <a:chOff x="268200" y="60480"/>
            <a:chExt cx="8753400" cy="645840"/>
          </a:xfrm>
        </p:grpSpPr>
        <p:pic>
          <p:nvPicPr>
            <p:cNvPr id="1211" name="Прямоугольник 27" descr=""/>
            <p:cNvPicPr/>
            <p:nvPr/>
          </p:nvPicPr>
          <p:blipFill>
            <a:blip r:embed="rId1"/>
            <a:stretch/>
          </p:blipFill>
          <p:spPr>
            <a:xfrm>
              <a:off x="268200" y="60480"/>
              <a:ext cx="875340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2" name=""/>
            <p:cNvSpPr/>
            <p:nvPr/>
          </p:nvSpPr>
          <p:spPr>
            <a:xfrm>
              <a:off x="328680" y="93600"/>
              <a:ext cx="863100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3" name="TextBox 21"/>
          <p:cNvGrpSpPr/>
          <p:nvPr/>
        </p:nvGrpSpPr>
        <p:grpSpPr>
          <a:xfrm>
            <a:off x="792000" y="1298520"/>
            <a:ext cx="8285400" cy="5578560"/>
            <a:chOff x="792000" y="1298520"/>
            <a:chExt cx="8285400" cy="5578560"/>
          </a:xfrm>
        </p:grpSpPr>
        <p:pic>
          <p:nvPicPr>
            <p:cNvPr id="1214" name="TextBox 21" descr=""/>
            <p:cNvPicPr/>
            <p:nvPr/>
          </p:nvPicPr>
          <p:blipFill>
            <a:blip r:embed="rId2"/>
            <a:stretch/>
          </p:blipFill>
          <p:spPr>
            <a:xfrm>
              <a:off x="792000" y="1298520"/>
              <a:ext cx="8285400" cy="557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5" name=""/>
            <p:cNvSpPr/>
            <p:nvPr/>
          </p:nvSpPr>
          <p:spPr>
            <a:xfrm>
              <a:off x="990720" y="1467000"/>
              <a:ext cx="7881840" cy="51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61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6" name="TextBox 29"/>
          <p:cNvSpPr/>
          <p:nvPr/>
        </p:nvSpPr>
        <p:spPr>
          <a:xfrm>
            <a:off x="30240" y="93600"/>
            <a:ext cx="898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ГУРЕ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7" name="Рисунок 1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990720" y="1467000"/>
            <a:ext cx="7881840" cy="5184720"/>
          </a:xfrm>
          <a:prstGeom prst="rect">
            <a:avLst/>
          </a:prstGeom>
          <a:ln w="0">
            <a:noFill/>
          </a:ln>
        </p:spPr>
      </p:pic>
      <p:sp>
        <p:nvSpPr>
          <p:cNvPr id="1218" name="TextBox 15">
            <a:hlinkClick r:id="rId5" action="ppaction://hlinksldjump"/>
          </p:cNvPr>
          <p:cNvSpPr/>
          <p:nvPr/>
        </p:nvSpPr>
        <p:spPr>
          <a:xfrm>
            <a:off x="1525680" y="1533600"/>
            <a:ext cx="6237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на грядке под лист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катился чурбачок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еленец удаленьк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кусный овощ маленьк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Номер слайда 2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6B9FA-A4B7-4B06-8DA9-949616DAC49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0" name="Рисунок 1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283440" y="3002040"/>
            <a:ext cx="1795320" cy="2878200"/>
          </a:xfrm>
          <a:prstGeom prst="rect">
            <a:avLst/>
          </a:prstGeom>
          <a:ln w="0">
            <a:noFill/>
          </a:ln>
        </p:spPr>
      </p:pic>
    </p:spTree>
  </p:cSld>
  <p:transition spd="slow" advTm="56000"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4" dur="20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1" name="Прямоугольник 27"/>
          <p:cNvGrpSpPr/>
          <p:nvPr/>
        </p:nvGrpSpPr>
        <p:grpSpPr>
          <a:xfrm>
            <a:off x="268200" y="60480"/>
            <a:ext cx="8753400" cy="645840"/>
            <a:chOff x="268200" y="60480"/>
            <a:chExt cx="8753400" cy="645840"/>
          </a:xfrm>
        </p:grpSpPr>
        <p:pic>
          <p:nvPicPr>
            <p:cNvPr id="1222" name="Прямоугольник 27" descr=""/>
            <p:cNvPicPr/>
            <p:nvPr/>
          </p:nvPicPr>
          <p:blipFill>
            <a:blip r:embed="rId1"/>
            <a:stretch/>
          </p:blipFill>
          <p:spPr>
            <a:xfrm>
              <a:off x="268200" y="60480"/>
              <a:ext cx="875340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3" name=""/>
            <p:cNvSpPr/>
            <p:nvPr/>
          </p:nvSpPr>
          <p:spPr>
            <a:xfrm>
              <a:off x="328680" y="93600"/>
              <a:ext cx="863100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4" name="TextBox 21"/>
          <p:cNvGrpSpPr/>
          <p:nvPr/>
        </p:nvGrpSpPr>
        <p:grpSpPr>
          <a:xfrm>
            <a:off x="792000" y="1298520"/>
            <a:ext cx="8285400" cy="5578560"/>
            <a:chOff x="792000" y="1298520"/>
            <a:chExt cx="8285400" cy="5578560"/>
          </a:xfrm>
        </p:grpSpPr>
        <p:pic>
          <p:nvPicPr>
            <p:cNvPr id="1225" name="TextBox 21" descr=""/>
            <p:cNvPicPr/>
            <p:nvPr/>
          </p:nvPicPr>
          <p:blipFill>
            <a:blip r:embed="rId2"/>
            <a:stretch/>
          </p:blipFill>
          <p:spPr>
            <a:xfrm>
              <a:off x="792000" y="1298520"/>
              <a:ext cx="8285400" cy="557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6" name=""/>
            <p:cNvSpPr/>
            <p:nvPr/>
          </p:nvSpPr>
          <p:spPr>
            <a:xfrm>
              <a:off x="990720" y="1467000"/>
              <a:ext cx="7881840" cy="51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61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7" name="TextBox 29"/>
          <p:cNvSpPr/>
          <p:nvPr/>
        </p:nvSpPr>
        <p:spPr>
          <a:xfrm>
            <a:off x="30240" y="93600"/>
            <a:ext cx="898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АКЛАЖА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8" name="Рисунок 1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990720" y="1467000"/>
            <a:ext cx="7881840" cy="5184720"/>
          </a:xfrm>
          <a:prstGeom prst="rect">
            <a:avLst/>
          </a:prstGeom>
          <a:ln w="0">
            <a:noFill/>
          </a:ln>
        </p:spPr>
      </p:pic>
      <p:sp>
        <p:nvSpPr>
          <p:cNvPr id="1229" name="TextBox 15">
            <a:hlinkClick r:id="rId5" action="ppaction://hlinksldjump"/>
          </p:cNvPr>
          <p:cNvSpPr/>
          <p:nvPr/>
        </p:nvSpPr>
        <p:spPr>
          <a:xfrm>
            <a:off x="1395360" y="1566720"/>
            <a:ext cx="6235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разу этот овощ по цвету узнают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ним господином все его зову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кожурой блестящий и продолговат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гостить он взрослых и детишек рад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Номер слайда 2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223F5-4872-4EE9-8039-7F15B90BFB8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1" name="Рисунок 1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710320" y="3382920"/>
            <a:ext cx="2522520" cy="2814840"/>
          </a:xfrm>
          <a:prstGeom prst="rect">
            <a:avLst/>
          </a:prstGeom>
          <a:ln w="0">
            <a:noFill/>
          </a:ln>
        </p:spPr>
      </p:pic>
    </p:spTree>
  </p:cSld>
  <p:transition spd="slow" advTm="56000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2" name="Прямоугольник 27"/>
          <p:cNvGrpSpPr/>
          <p:nvPr/>
        </p:nvGrpSpPr>
        <p:grpSpPr>
          <a:xfrm>
            <a:off x="268200" y="60480"/>
            <a:ext cx="8753400" cy="645840"/>
            <a:chOff x="268200" y="60480"/>
            <a:chExt cx="8753400" cy="645840"/>
          </a:xfrm>
        </p:grpSpPr>
        <p:pic>
          <p:nvPicPr>
            <p:cNvPr id="1233" name="Прямоугольник 27" descr=""/>
            <p:cNvPicPr/>
            <p:nvPr/>
          </p:nvPicPr>
          <p:blipFill>
            <a:blip r:embed="rId1"/>
            <a:stretch/>
          </p:blipFill>
          <p:spPr>
            <a:xfrm>
              <a:off x="268200" y="60480"/>
              <a:ext cx="875340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4" name=""/>
            <p:cNvSpPr/>
            <p:nvPr/>
          </p:nvSpPr>
          <p:spPr>
            <a:xfrm>
              <a:off x="328680" y="93600"/>
              <a:ext cx="863100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5" name="TextBox 21"/>
          <p:cNvGrpSpPr/>
          <p:nvPr/>
        </p:nvGrpSpPr>
        <p:grpSpPr>
          <a:xfrm>
            <a:off x="792000" y="1298520"/>
            <a:ext cx="8285400" cy="5578560"/>
            <a:chOff x="792000" y="1298520"/>
            <a:chExt cx="8285400" cy="5578560"/>
          </a:xfrm>
        </p:grpSpPr>
        <p:pic>
          <p:nvPicPr>
            <p:cNvPr id="1236" name="TextBox 21" descr=""/>
            <p:cNvPicPr/>
            <p:nvPr/>
          </p:nvPicPr>
          <p:blipFill>
            <a:blip r:embed="rId2"/>
            <a:stretch/>
          </p:blipFill>
          <p:spPr>
            <a:xfrm>
              <a:off x="792000" y="1298520"/>
              <a:ext cx="8285400" cy="557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7" name=""/>
            <p:cNvSpPr/>
            <p:nvPr/>
          </p:nvSpPr>
          <p:spPr>
            <a:xfrm>
              <a:off x="990720" y="1467000"/>
              <a:ext cx="7881840" cy="51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61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8" name="TextBox 29"/>
          <p:cNvSpPr/>
          <p:nvPr/>
        </p:nvSpPr>
        <p:spPr>
          <a:xfrm>
            <a:off x="30240" y="93600"/>
            <a:ext cx="898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ВЕК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9" name="Рисунок 1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990720" y="1467000"/>
            <a:ext cx="7881840" cy="5184720"/>
          </a:xfrm>
          <a:prstGeom prst="rect">
            <a:avLst/>
          </a:prstGeom>
          <a:ln w="0">
            <a:noFill/>
          </a:ln>
        </p:spPr>
      </p:pic>
      <p:sp>
        <p:nvSpPr>
          <p:cNvPr id="1240" name="TextBox 15">
            <a:hlinkClick r:id="rId5" action="ppaction://hlinksldjump"/>
          </p:cNvPr>
          <p:cNvSpPr/>
          <p:nvPr/>
        </p:nvSpPr>
        <p:spPr>
          <a:xfrm>
            <a:off x="1395360" y="1566720"/>
            <a:ext cx="623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д землёй трав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 землёй бордовая голо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Номер слайда 2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32692-DF31-4768-996A-3CFBE61D8E4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2" name="Рисунок 1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313240" y="2622600"/>
            <a:ext cx="2667240" cy="3386160"/>
          </a:xfrm>
          <a:prstGeom prst="rect">
            <a:avLst/>
          </a:prstGeom>
          <a:ln w="0">
            <a:noFill/>
          </a:ln>
        </p:spPr>
      </p:pic>
    </p:spTree>
  </p:cSld>
  <p:transition spd="slow" advTm="56000"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" dur="20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3" name="Прямоугольник 27"/>
          <p:cNvGrpSpPr/>
          <p:nvPr/>
        </p:nvGrpSpPr>
        <p:grpSpPr>
          <a:xfrm>
            <a:off x="268200" y="60480"/>
            <a:ext cx="8753400" cy="645840"/>
            <a:chOff x="268200" y="60480"/>
            <a:chExt cx="8753400" cy="645840"/>
          </a:xfrm>
        </p:grpSpPr>
        <p:pic>
          <p:nvPicPr>
            <p:cNvPr id="1244" name="Прямоугольник 27" descr=""/>
            <p:cNvPicPr/>
            <p:nvPr/>
          </p:nvPicPr>
          <p:blipFill>
            <a:blip r:embed="rId1"/>
            <a:stretch/>
          </p:blipFill>
          <p:spPr>
            <a:xfrm>
              <a:off x="268200" y="60480"/>
              <a:ext cx="875340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5" name=""/>
            <p:cNvSpPr/>
            <p:nvPr/>
          </p:nvSpPr>
          <p:spPr>
            <a:xfrm>
              <a:off x="328680" y="93600"/>
              <a:ext cx="863100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6" name="TextBox 21"/>
          <p:cNvGrpSpPr/>
          <p:nvPr/>
        </p:nvGrpSpPr>
        <p:grpSpPr>
          <a:xfrm>
            <a:off x="792000" y="1298520"/>
            <a:ext cx="8285400" cy="5578560"/>
            <a:chOff x="792000" y="1298520"/>
            <a:chExt cx="8285400" cy="5578560"/>
          </a:xfrm>
        </p:grpSpPr>
        <p:pic>
          <p:nvPicPr>
            <p:cNvPr id="1247" name="TextBox 21" descr=""/>
            <p:cNvPicPr/>
            <p:nvPr/>
          </p:nvPicPr>
          <p:blipFill>
            <a:blip r:embed="rId2"/>
            <a:stretch/>
          </p:blipFill>
          <p:spPr>
            <a:xfrm>
              <a:off x="792000" y="1298520"/>
              <a:ext cx="8285400" cy="557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8" name=""/>
            <p:cNvSpPr/>
            <p:nvPr/>
          </p:nvSpPr>
          <p:spPr>
            <a:xfrm>
              <a:off x="990720" y="1467000"/>
              <a:ext cx="7881840" cy="51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61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9" name="TextBox 29"/>
          <p:cNvSpPr/>
          <p:nvPr/>
        </p:nvSpPr>
        <p:spPr>
          <a:xfrm>
            <a:off x="-108000" y="93600"/>
            <a:ext cx="898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У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0" name="Рисунок 1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990720" y="1467000"/>
            <a:ext cx="7881840" cy="5184720"/>
          </a:xfrm>
          <a:prstGeom prst="rect">
            <a:avLst/>
          </a:prstGeom>
          <a:ln w="0">
            <a:noFill/>
          </a:ln>
        </p:spPr>
      </p:pic>
      <p:sp>
        <p:nvSpPr>
          <p:cNvPr id="1251" name="TextBox 15">
            <a:hlinkClick r:id="rId5" action="ppaction://hlinksldjump"/>
          </p:cNvPr>
          <p:cNvSpPr/>
          <p:nvPr/>
        </p:nvSpPr>
        <p:spPr>
          <a:xfrm>
            <a:off x="1395360" y="1566720"/>
            <a:ext cx="6235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н никогда и никог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 обижал на свет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его же плачут от нег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взрослые и де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Номер слайда 2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0C5CD-140E-483F-B9CA-B769419D0DC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3" name="Рисунок 1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877000" y="2082960"/>
            <a:ext cx="1898640" cy="3952800"/>
          </a:xfrm>
          <a:prstGeom prst="rect">
            <a:avLst/>
          </a:prstGeom>
          <a:ln w="0">
            <a:noFill/>
          </a:ln>
        </p:spPr>
      </p:pic>
    </p:spTree>
  </p:cSld>
  <p:transition spd="slow" advTm="56000"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4" name="Прямоугольник 27"/>
          <p:cNvGrpSpPr/>
          <p:nvPr/>
        </p:nvGrpSpPr>
        <p:grpSpPr>
          <a:xfrm>
            <a:off x="268200" y="60480"/>
            <a:ext cx="8753400" cy="645840"/>
            <a:chOff x="268200" y="60480"/>
            <a:chExt cx="8753400" cy="645840"/>
          </a:xfrm>
        </p:grpSpPr>
        <p:pic>
          <p:nvPicPr>
            <p:cNvPr id="1255" name="Прямоугольник 27" descr=""/>
            <p:cNvPicPr/>
            <p:nvPr/>
          </p:nvPicPr>
          <p:blipFill>
            <a:blip r:embed="rId1"/>
            <a:stretch/>
          </p:blipFill>
          <p:spPr>
            <a:xfrm>
              <a:off x="268200" y="60480"/>
              <a:ext cx="875340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6" name=""/>
            <p:cNvSpPr/>
            <p:nvPr/>
          </p:nvSpPr>
          <p:spPr>
            <a:xfrm>
              <a:off x="328680" y="93600"/>
              <a:ext cx="863100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7" name="TextBox 21"/>
          <p:cNvGrpSpPr/>
          <p:nvPr/>
        </p:nvGrpSpPr>
        <p:grpSpPr>
          <a:xfrm>
            <a:off x="792000" y="1298520"/>
            <a:ext cx="8285400" cy="5578560"/>
            <a:chOff x="792000" y="1298520"/>
            <a:chExt cx="8285400" cy="5578560"/>
          </a:xfrm>
        </p:grpSpPr>
        <p:pic>
          <p:nvPicPr>
            <p:cNvPr id="1258" name="TextBox 21" descr=""/>
            <p:cNvPicPr/>
            <p:nvPr/>
          </p:nvPicPr>
          <p:blipFill>
            <a:blip r:embed="rId2"/>
            <a:stretch/>
          </p:blipFill>
          <p:spPr>
            <a:xfrm>
              <a:off x="792000" y="1298520"/>
              <a:ext cx="8285400" cy="557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9" name=""/>
            <p:cNvSpPr/>
            <p:nvPr/>
          </p:nvSpPr>
          <p:spPr>
            <a:xfrm>
              <a:off x="990720" y="1467000"/>
              <a:ext cx="7881840" cy="51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61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0" name="TextBox 29"/>
          <p:cNvSpPr/>
          <p:nvPr/>
        </p:nvSpPr>
        <p:spPr>
          <a:xfrm>
            <a:off x="30240" y="93600"/>
            <a:ext cx="898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ЕРЕ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1" name="Рисунок 1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990720" y="1467000"/>
            <a:ext cx="7881840" cy="5184720"/>
          </a:xfrm>
          <a:prstGeom prst="rect">
            <a:avLst/>
          </a:prstGeom>
          <a:ln w="0">
            <a:noFill/>
          </a:ln>
        </p:spPr>
      </p:pic>
      <p:sp>
        <p:nvSpPr>
          <p:cNvPr id="1262" name="TextBox 15">
            <a:hlinkClick r:id="rId5" action="ppaction://hlinksldjump"/>
          </p:cNvPr>
          <p:cNvSpPr/>
          <p:nvPr/>
        </p:nvSpPr>
        <p:spPr>
          <a:xfrm>
            <a:off x="1395360" y="1566720"/>
            <a:ext cx="6997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ркие фонарики на кустах висят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овно здесь проходит праздничный пара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елёные, красные, желтые плод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то они такие, узнаешь их ты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Номер слайда 2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7E7DE-05A7-464D-8A94-A57B3369CB3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4" name="Рисунок 1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888160" y="3021120"/>
            <a:ext cx="2265120" cy="2835000"/>
          </a:xfrm>
          <a:prstGeom prst="rect">
            <a:avLst/>
          </a:prstGeom>
          <a:ln w="0">
            <a:noFill/>
          </a:ln>
        </p:spPr>
      </p:pic>
    </p:spTree>
  </p:cSld>
  <p:transition spd="slow" advTm="56000">
    <p:fad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" dur="20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5" name="Прямоугольник 27"/>
          <p:cNvGrpSpPr/>
          <p:nvPr/>
        </p:nvGrpSpPr>
        <p:grpSpPr>
          <a:xfrm>
            <a:off x="268200" y="60480"/>
            <a:ext cx="8753400" cy="645840"/>
            <a:chOff x="268200" y="60480"/>
            <a:chExt cx="8753400" cy="645840"/>
          </a:xfrm>
        </p:grpSpPr>
        <p:pic>
          <p:nvPicPr>
            <p:cNvPr id="1266" name="Прямоугольник 27" descr=""/>
            <p:cNvPicPr/>
            <p:nvPr/>
          </p:nvPicPr>
          <p:blipFill>
            <a:blip r:embed="rId1"/>
            <a:stretch/>
          </p:blipFill>
          <p:spPr>
            <a:xfrm>
              <a:off x="268200" y="60480"/>
              <a:ext cx="875340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7" name=""/>
            <p:cNvSpPr/>
            <p:nvPr/>
          </p:nvSpPr>
          <p:spPr>
            <a:xfrm>
              <a:off x="328680" y="93600"/>
              <a:ext cx="863100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8" name="TextBox 21"/>
          <p:cNvGrpSpPr/>
          <p:nvPr/>
        </p:nvGrpSpPr>
        <p:grpSpPr>
          <a:xfrm>
            <a:off x="792000" y="1298520"/>
            <a:ext cx="8285400" cy="5578560"/>
            <a:chOff x="792000" y="1298520"/>
            <a:chExt cx="8285400" cy="5578560"/>
          </a:xfrm>
        </p:grpSpPr>
        <p:pic>
          <p:nvPicPr>
            <p:cNvPr id="1269" name="TextBox 21" descr=""/>
            <p:cNvPicPr/>
            <p:nvPr/>
          </p:nvPicPr>
          <p:blipFill>
            <a:blip r:embed="rId2"/>
            <a:stretch/>
          </p:blipFill>
          <p:spPr>
            <a:xfrm>
              <a:off x="792000" y="1298520"/>
              <a:ext cx="8285400" cy="557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0" name=""/>
            <p:cNvSpPr/>
            <p:nvPr/>
          </p:nvSpPr>
          <p:spPr>
            <a:xfrm>
              <a:off x="990720" y="1467000"/>
              <a:ext cx="7881840" cy="51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61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1" name="TextBox 29"/>
          <p:cNvSpPr/>
          <p:nvPr/>
        </p:nvSpPr>
        <p:spPr>
          <a:xfrm>
            <a:off x="30240" y="93600"/>
            <a:ext cx="898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ЕСН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2" name="Рисунок 1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990720" y="1467000"/>
            <a:ext cx="7881840" cy="5184720"/>
          </a:xfrm>
          <a:prstGeom prst="rect">
            <a:avLst/>
          </a:prstGeom>
          <a:ln w="0">
            <a:noFill/>
          </a:ln>
        </p:spPr>
      </p:pic>
      <p:sp>
        <p:nvSpPr>
          <p:cNvPr id="1273" name="TextBox 15">
            <a:hlinkClick r:id="rId5" action="ppaction://hlinksldjump"/>
          </p:cNvPr>
          <p:cNvSpPr/>
          <p:nvPr/>
        </p:nvSpPr>
        <p:spPr>
          <a:xfrm>
            <a:off x="1395360" y="1566720"/>
            <a:ext cx="6235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ловой на лук похож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только пожуёш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аже маленькую дольк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удет пахнуть очень долг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Номер слайда 2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3825B-FF06-4E83-B8E5-707760044C6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5" name="Рисунок 3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300560" y="2709720"/>
            <a:ext cx="4146480" cy="4148280"/>
          </a:xfrm>
          <a:prstGeom prst="rect">
            <a:avLst/>
          </a:prstGeom>
          <a:ln w="0">
            <a:noFill/>
          </a:ln>
        </p:spPr>
      </p:pic>
    </p:spTree>
  </p:cSld>
  <p:transition spd="slow" advTm="56000"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4T10:54:44Z</dcterms:created>
  <dc:creator>Масло</dc:creator>
  <dc:description/>
  <dc:language>en-US</dc:language>
  <cp:lastModifiedBy>Екатерина Спринина</cp:lastModifiedBy>
  <dcterms:modified xsi:type="dcterms:W3CDTF">2015-02-05T18:57:22Z</dcterms:modified>
  <cp:revision>1146</cp:revision>
  <dc:subject>Система связи армии в ОО. Войска связи армии.</dc:subject>
  <dc:title>Лекция 10</dc:title>
</cp:coreProperties>
</file>