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7.gif" ContentType="image/gif"/>
  <Override PartName="/ppt/media/image18.wmf" ContentType="image/x-wmf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2.wmf" ContentType="image/x-wmf"/>
  <Override PartName="/ppt/media/image2.gif" ContentType="image/gif"/>
  <Override PartName="/ppt/media/image21.png" ContentType="image/png"/>
  <Override PartName="/ppt/media/image20.gif" ContentType="image/gif"/>
  <Override PartName="/ppt/media/image3.gif" ContentType="image/gif"/>
  <Override PartName="/ppt/media/image19.gif" ContentType="image/gif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B0AF-2CEA-4929-86A8-0F0EB428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80B0-C504-40EF-9AD3-59F770F8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AC7-6574-4C47-B4ED-6FD1E1A7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925-C910-431E-BC4F-84AD6874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EEE-6137-4C4D-A856-C1AFC199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EB7-752F-475A-802E-FFAD09A8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447D-DFE2-42E3-A144-75CDE39E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2ACA-B8D3-42CF-AFF6-8DE6AAD7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35B-0207-4401-B2E8-0A97769BA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2D7-5728-43D8-A8AC-2F0F5110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B48-27DC-4EB1-A6D6-F70F3618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D2A-8549-414E-85C1-A0FEF005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F6A9-F24C-4C51-B894-954731FC70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33"/>
          <p:cNvPicPr/>
          <p:nvPr/>
        </p:nvPicPr>
        <p:blipFill>
          <a:blip r:embed="rId1"/>
          <a:stretch/>
        </p:blipFill>
        <p:spPr>
          <a:xfrm>
            <a:off x="6588000" y="-171360"/>
            <a:ext cx="2808360" cy="190476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826920" y="981000"/>
            <a:ext cx="691200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Математику, друзья, 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Не любить никак нельзя.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чень точная наука,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Очень строгая наука,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Интересная наука - 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0000"/>
                </a:solidFill>
                <a:latin typeface="Monotype Corsiva"/>
              </a:rPr>
              <a:t>Это математика!</a:t>
            </a:r>
            <a:endParaRPr b="1" i="1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ff0000"/>
              </a:solidFill>
              <a:latin typeface="Monotype Corsiva"/>
              <a:ea typeface="Monotype Corsiva"/>
            </a:endParaRPr>
          </a:p>
        </p:txBody>
      </p:sp>
      <p:pic>
        <p:nvPicPr>
          <p:cNvPr id="43" name="Рисунок 18" descr="arg-4-50-trans.gif"/>
          <p:cNvPicPr/>
          <p:nvPr/>
        </p:nvPicPr>
        <p:blipFill>
          <a:blip r:embed="rId2"/>
          <a:stretch/>
        </p:blipFill>
        <p:spPr>
          <a:xfrm>
            <a:off x="2987640" y="5084640"/>
            <a:ext cx="2479680" cy="1609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0" descr="arg-5-50-trans.gif"/>
          <p:cNvPicPr/>
          <p:nvPr/>
        </p:nvPicPr>
        <p:blipFill>
          <a:blip r:embed="rId3"/>
          <a:stretch/>
        </p:blipFill>
        <p:spPr>
          <a:xfrm>
            <a:off x="6948360" y="4508640"/>
            <a:ext cx="1500480" cy="1685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7" descr="arg-3-50-trans.gif"/>
          <p:cNvPicPr/>
          <p:nvPr/>
        </p:nvPicPr>
        <p:blipFill>
          <a:blip r:embed="rId4"/>
          <a:stretch/>
        </p:blipFill>
        <p:spPr>
          <a:xfrm rot="21301800">
            <a:off x="539640" y="472392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6" descr="arg-2-50-trans.gif"/>
          <p:cNvPicPr/>
          <p:nvPr/>
        </p:nvPicPr>
        <p:blipFill>
          <a:blip r:embed="rId5"/>
          <a:stretch/>
        </p:blipFill>
        <p:spPr>
          <a:xfrm rot="21219000">
            <a:off x="7235640" y="2421000"/>
            <a:ext cx="171432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9" descr="arg-8-50-trans.gif"/>
          <p:cNvPicPr/>
          <p:nvPr/>
        </p:nvPicPr>
        <p:blipFill>
          <a:blip r:embed="rId6"/>
          <a:stretch/>
        </p:blipFill>
        <p:spPr>
          <a:xfrm>
            <a:off x="0" y="2781360"/>
            <a:ext cx="1727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Облако 1"/>
          <p:cNvSpPr/>
          <p:nvPr/>
        </p:nvSpPr>
        <p:spPr>
          <a:xfrm>
            <a:off x="1692360" y="836640"/>
            <a:ext cx="5040360" cy="1440000"/>
          </a:xfrm>
          <a:prstGeom prst="pie">
            <a:avLst/>
          </a:prstGeom>
          <a:solidFill>
            <a:srgbClr val="ff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Решите 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ус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Горизонтальный свиток 3"/>
          <p:cNvSpPr/>
          <p:nvPr/>
        </p:nvSpPr>
        <p:spPr>
          <a:xfrm>
            <a:off x="0" y="1989000"/>
            <a:ext cx="3529080" cy="2519640"/>
          </a:xfrm>
          <a:prstGeom prst="horizontalScroll">
            <a:avLst>
              <a:gd name="adj" fmla="val 12500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я пробежала 30 м за 6 с. С какой скоростью она бежа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Вертикальный свиток 5"/>
          <p:cNvSpPr/>
          <p:nvPr/>
        </p:nvSpPr>
        <p:spPr>
          <a:xfrm>
            <a:off x="5940360" y="1916280"/>
            <a:ext cx="3490920" cy="2736720"/>
          </a:xfrm>
          <a:prstGeom prst="verticalScroll">
            <a:avLst>
              <a:gd name="adj" fmla="val 12500"/>
            </a:avLst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варный поезд прошёл 120 км за 3 ч, проходя за каждый  час одинаковое расстояние. С какой  скоростью он двигал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8" descr="Рисунок6"/>
          <p:cNvPicPr/>
          <p:nvPr/>
        </p:nvPicPr>
        <p:blipFill>
          <a:blip r:embed="rId1"/>
          <a:stretch/>
        </p:blipFill>
        <p:spPr>
          <a:xfrm>
            <a:off x="5724360" y="5778360"/>
            <a:ext cx="2584440" cy="1079640"/>
          </a:xfrm>
          <a:prstGeom prst="rect">
            <a:avLst/>
          </a:prstGeom>
          <a:ln w="0">
            <a:noFill/>
          </a:ln>
        </p:spPr>
      </p:pic>
      <p:sp>
        <p:nvSpPr>
          <p:cNvPr id="125" name="Пятно 1 7"/>
          <p:cNvSpPr/>
          <p:nvPr/>
        </p:nvSpPr>
        <p:spPr>
          <a:xfrm>
            <a:off x="7991640" y="4005360"/>
            <a:ext cx="1152360" cy="936360"/>
          </a:xfrm>
          <a:prstGeom prst="irregularSeal1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0 км/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ятно 1 10"/>
          <p:cNvSpPr/>
          <p:nvPr/>
        </p:nvSpPr>
        <p:spPr>
          <a:xfrm>
            <a:off x="2195640" y="3573360"/>
            <a:ext cx="1296720" cy="792360"/>
          </a:xfrm>
          <a:prstGeom prst="irregularSeal1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5м/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туристёнок"/>
          <p:cNvPicPr/>
          <p:nvPr/>
        </p:nvPicPr>
        <p:blipFill>
          <a:blip r:embed="rId2"/>
          <a:stretch/>
        </p:blipFill>
        <p:spPr>
          <a:xfrm>
            <a:off x="611280" y="4653000"/>
            <a:ext cx="131112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33333E-006 C 0.44636 0.03704 0.89271 0.07431 1.01094 0.09746 C 1.12917 0.12061 0.87986 0.14283 0.70955 0.13889 C 0.53924 0.13496 0.1092 0.08473 -0.01076 0.07385 E">
                                      <p:cBhvr>
                                        <p:cTn id="20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0 L 0.82691 -0.10509 E">
                                      <p:cBhvr>
                                        <p:cTn id="211" dur="5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1476360" y="189000"/>
            <a:ext cx="6264360" cy="863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ешите задачу стр.17 №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0" y="1484280"/>
            <a:ext cx="9144000" cy="4176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ил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? в     раза больше                  2000 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? бил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4"/>
          <p:cNvSpPr/>
          <p:nvPr/>
        </p:nvSpPr>
        <p:spPr>
          <a:xfrm>
            <a:off x="1187280" y="3284640"/>
            <a:ext cx="22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11"/>
          <p:cNvSpPr/>
          <p:nvPr/>
        </p:nvSpPr>
        <p:spPr>
          <a:xfrm>
            <a:off x="395280" y="3860640"/>
            <a:ext cx="561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17"/>
          <p:cNvSpPr/>
          <p:nvPr/>
        </p:nvSpPr>
        <p:spPr>
          <a:xfrm>
            <a:off x="395280" y="458136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авая фигурная скобка 24"/>
          <p:cNvSpPr/>
          <p:nvPr/>
        </p:nvSpPr>
        <p:spPr>
          <a:xfrm flipV="1">
            <a:off x="6372360" y="2707560"/>
            <a:ext cx="360360" cy="18730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873080"/>
              <a:gd name="textAreaBottom" fmla="*/ 186372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3"/>
                  <a:pt x="10800" y="346"/>
                </a:cubicBezTo>
                <a:lnTo>
                  <a:pt x="10800" y="10454"/>
                </a:lnTo>
                <a:cubicBezTo>
                  <a:pt x="10800" y="10627"/>
                  <a:pt x="16200" y="10800"/>
                  <a:pt x="21600" y="10800"/>
                </a:cubicBezTo>
                <a:cubicBezTo>
                  <a:pt x="16200" y="10800"/>
                  <a:pt x="10800" y="10973"/>
                  <a:pt x="10800" y="11146"/>
                </a:cubicBezTo>
                <a:lnTo>
                  <a:pt x="10800" y="21254"/>
                </a:lnTo>
                <a:cubicBezTo>
                  <a:pt x="10800" y="2142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5"/>
          <p:cNvSpPr/>
          <p:nvPr/>
        </p:nvSpPr>
        <p:spPr>
          <a:xfrm>
            <a:off x="179280" y="2708280"/>
            <a:ext cx="9367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6"/>
          <p:cNvSpPr/>
          <p:nvPr/>
        </p:nvSpPr>
        <p:spPr>
          <a:xfrm>
            <a:off x="1116000" y="3357720"/>
            <a:ext cx="503280" cy="4809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250920" y="404640"/>
            <a:ext cx="8642160" cy="525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98 х Х =98000         78 х Х =7800           Х : 100 =3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56000 : у =456       у: 1000 =708           у : 1000=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250920" y="333360"/>
            <a:ext cx="8353440" cy="5111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1979640" y="1916280"/>
            <a:ext cx="3384360" cy="1657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6012000" y="2565360"/>
            <a:ext cx="1944720" cy="194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1506600" y="644400"/>
            <a:ext cx="60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йдите     площадь фи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3132000" y="1413000"/>
            <a:ext cx="914400" cy="360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 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900000" y="2492280"/>
            <a:ext cx="1008000" cy="5050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5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6659640" y="1916280"/>
            <a:ext cx="865080" cy="5047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 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omic Sans MS"/>
              </a:rPr>
              <a:t>Определи своё настро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smile18"/>
          <p:cNvPicPr/>
          <p:nvPr/>
        </p:nvPicPr>
        <p:blipFill>
          <a:blip r:embed="rId1"/>
          <a:stretch/>
        </p:blipFill>
        <p:spPr>
          <a:xfrm>
            <a:off x="1908000" y="5229360"/>
            <a:ext cx="789120" cy="788760"/>
          </a:xfrm>
          <a:prstGeom prst="rect">
            <a:avLst/>
          </a:prstGeom>
          <a:ln w="0">
            <a:noFill/>
          </a:ln>
        </p:spPr>
      </p:pic>
      <p:sp>
        <p:nvSpPr>
          <p:cNvPr id="147" name="Line 6"/>
          <p:cNvSpPr/>
          <p:nvPr/>
        </p:nvSpPr>
        <p:spPr>
          <a:xfrm>
            <a:off x="4356000" y="4292640"/>
            <a:ext cx="12956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6934320" y="2438280"/>
            <a:ext cx="12952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>
            <a:off x="5651640" y="3357720"/>
            <a:ext cx="129528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3048120" y="5157720"/>
            <a:ext cx="1307880" cy="237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>
            <a:off x="6934320" y="2438280"/>
            <a:ext cx="0" cy="9144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>
            <a:off x="5651640" y="3357720"/>
            <a:ext cx="0" cy="934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"/>
          <p:cNvSpPr/>
          <p:nvPr/>
        </p:nvSpPr>
        <p:spPr>
          <a:xfrm>
            <a:off x="4356000" y="4292640"/>
            <a:ext cx="12960" cy="890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3"/>
          <p:cNvSpPr/>
          <p:nvPr/>
        </p:nvSpPr>
        <p:spPr>
          <a:xfrm>
            <a:off x="3059280" y="5157720"/>
            <a:ext cx="0" cy="9144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7010280" y="25909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отлич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691600" y="3763800"/>
            <a:ext cx="347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я был(а) уверен(а) в се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4419360" y="45813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мне было тру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3321000" y="5302080"/>
            <a:ext cx="145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я устал(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5255 C 0.00208 -0.07986 0.00746 -0.10301 0.01458 -0.12847 C 0.0177 -0.13935 0.01875 -0.15139 0.02395 -0.16111 C 0.02569 -0.16875 0.02795 -0.17732 0.03211 -0.18287 C 0.03316 -0.18588 0.03489 -0.19097 0.03663 -0.19375 C 0.03836 -0.19653 0.04097 -0.19838 0.04253 -0.20139 C 0.04878 -0.21435 0.0592 -0.22847 0.07048 -0.23241 C 0.08177 -0.24213 0.10017 -0.23611 0.11111 -0.23542 C 0.11614 -0.23334 0.12152 -0.22662 0.125 -0.22153 C 0.12847 -0.20834 0.13437 -0.19676 0.13663 -0.18287 C 0.13593 -0.16412 0.13802 -0.15718 0.13316 -0.14398 E">
                                      <p:cBhvr>
                                        <p:cTn id="27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16 -0.14398 C 0.13351 -0.14884 0.13421 -0.15347 0.13438 -0.1581 C 0.1349 -0.17338 0.13473 -0.18843 0.13542 -0.20347 C 0.13577 -0.21204 0.13889 -0.22176 0.14011 -0.23033 C 0.14115 -0.2382 0.1415 -0.24514 0.14619 -0.2507 C 0.14827 -0.26019 0.15139 -0.2706 0.15556 -0.27894 C 0.15955 -0.29676 0.16945 -0.32523 0.17917 -0.33843 C 0.18542 -0.34699 0.1941 -0.35046 0.20174 -0.35579 C 0.22014 -0.35509 0.25712 -0.3625 0.27414 -0.33843 C 0.27709 -0.32732 0.28403 -0.32037 0.28716 -0.3088 C 0.29028 -0.29746 0.28716 -0.28472 0.28716 -0.27269 E">
                                      <p:cBhvr>
                                        <p:cTn id="276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437 -0.27269 C 0.28541 -0.31135 0.28402 -0.30903 0.29253 -0.33611 C 0.29444 -0.35047 0.30121 -0.36366 0.30642 -0.37639 C 0.30764 -0.38264 0.30833 -0.38658 0.31111 -0.3919 C 0.31354 -0.40347 0.31614 -0.40857 0.32031 -0.41991 C 0.32152 -0.42315 0.32482 -0.42454 0.32621 -0.42755 C 0.32934 -0.43426 0.33437 -0.44074 0.3401 -0.44306 C 0.34809 -0.45047 0.35781 -0.45023 0.36684 -0.45394 C 0.37829 -0.45347 0.39965 -0.4551 0.41215 -0.44931 C 0.41788 -0.44213 0.41076 -0.45023 0.41805 -0.44468 C 0.42916 -0.43635 0.421 -0.44005 0.42847 -0.43704 C 0.4375 -0.425 0.43663 -0.41875 0.43663 -0.40139 E">
                                      <p:cBhvr>
                                        <p:cTn id="28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663 -0.40139 C 0.43628 -0.40648 0.43541 -0.41181 0.43541 -0.4169 C 0.43541 -0.44815 0.43489 -0.46088 0.4401 -0.48519 C 0.44166 -0.49213 0.44201 -0.50162 0.446 -0.50695 C 0.44739 -0.5169 0.45347 -0.53218 0.45764 -0.54097 C 0.46284 -0.55208 0.46788 -0.56875 0.475 -0.57824 C 0.47864 -0.5831 0.48298 -0.58727 0.48663 -0.59213 C 0.49045 -0.59722 0.49288 -0.60301 0.49826 -0.60602 C 0.50399 -0.60926 0.51909 -0.61435 0.525 -0.61528 C 0.52725 -0.61505 0.54427 -0.6132 0.54704 -0.61227 C 0.55191 -0.61088 0.55121 -0.60857 0.5552 -0.60602 C 0.56527 -0.59931 0.55208 -0.60996 0.56215 -0.60301 C 0.56718 -0.59954 0.57066 -0.59607 0.57621 -0.59375 C 0.57864 -0.58866 0.58055 -0.58611 0.58437 -0.58287 C 0.58576 -0.54815 0.58541 -0.56644 0.58541 -0.52847 E">
                                      <p:cBhvr>
                                        <p:cTn id="284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4"/>
          <p:cNvSpPr/>
          <p:nvPr/>
        </p:nvSpPr>
        <p:spPr>
          <a:xfrm>
            <a:off x="4356000" y="5445000"/>
            <a:ext cx="720720" cy="72864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28640"/>
              <a:gd name="textAreaBottom" fmla="*/ 682200 h 728640"/>
            </a:gdLst>
            <a:ahLst/>
            <a:rect l="textAreaLeft" t="textAreaTop" r="textAreaRight" b="textAreaBottom"/>
            <a:pathLst>
              <a:path w="21600" h="21837">
                <a:moveTo>
                  <a:pt x="0" y="0"/>
                </a:moveTo>
                <a:lnTo>
                  <a:pt x="21600" y="0"/>
                </a:lnTo>
                <a:lnTo>
                  <a:pt x="21600" y="21837"/>
                </a:lnTo>
                <a:lnTo>
                  <a:pt x="0" y="21837"/>
                </a:lnTo>
                <a:close/>
              </a:path>
              <a:path fill="lightenLess" w="21600" h="218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37">
                <a:moveTo>
                  <a:pt x="21600" y="0"/>
                </a:moveTo>
                <a:lnTo>
                  <a:pt x="21600" y="21837"/>
                </a:lnTo>
                <a:lnTo>
                  <a:pt x="20200" y="20437"/>
                </a:lnTo>
                <a:lnTo>
                  <a:pt x="20200" y="1400"/>
                </a:lnTo>
                <a:close/>
              </a:path>
              <a:path fill="darkenLess" w="21600" h="21837">
                <a:moveTo>
                  <a:pt x="21600" y="21837"/>
                </a:moveTo>
                <a:lnTo>
                  <a:pt x="0" y="21837"/>
                </a:lnTo>
                <a:lnTo>
                  <a:pt x="1400" y="20437"/>
                </a:lnTo>
                <a:lnTo>
                  <a:pt x="20200" y="20437"/>
                </a:lnTo>
                <a:close/>
              </a:path>
              <a:path fill="lighten" w="21600" h="21837">
                <a:moveTo>
                  <a:pt x="0" y="218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37"/>
                </a:lnTo>
                <a:close/>
              </a:path>
              <a:path fill="darken" w="21600" h="21837">
                <a:moveTo>
                  <a:pt x="10800" y="3956"/>
                </a:moveTo>
                <a:lnTo>
                  <a:pt x="13376" y="6567"/>
                </a:ln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lnTo>
                  <a:pt x="17763" y="10919"/>
                </a:lnTo>
                <a:lnTo>
                  <a:pt x="16109" y="10919"/>
                </a:lnTo>
                <a:lnTo>
                  <a:pt x="16109" y="18108"/>
                </a:lnTo>
                <a:lnTo>
                  <a:pt x="5491" y="18108"/>
                </a:lnTo>
                <a:lnTo>
                  <a:pt x="5491" y="10919"/>
                </a:lnTo>
                <a:lnTo>
                  <a:pt x="3837" y="10919"/>
                </a:lnTo>
                <a:close/>
              </a:path>
              <a:path fill="darkenLess" w="21600" h="21837">
                <a:moveTo>
                  <a:pt x="13376" y="6567"/>
                </a:moveTo>
                <a:lnTo>
                  <a:pt x="13376" y="4826"/>
                </a:lnTo>
                <a:lnTo>
                  <a:pt x="15152" y="4826"/>
                </a:lnTo>
                <a:lnTo>
                  <a:pt x="15152" y="8342"/>
                </a:lnTo>
                <a:close/>
              </a:path>
              <a:path fill="darkenLess" w="21600" h="21837">
                <a:moveTo>
                  <a:pt x="9877" y="14418"/>
                </a:moveTo>
                <a:lnTo>
                  <a:pt x="11723" y="14418"/>
                </a:lnTo>
                <a:lnTo>
                  <a:pt x="11723" y="18108"/>
                </a:lnTo>
                <a:lnTo>
                  <a:pt x="16109" y="18108"/>
                </a:lnTo>
                <a:lnTo>
                  <a:pt x="16109" y="10919"/>
                </a:lnTo>
                <a:lnTo>
                  <a:pt x="5491" y="10919"/>
                </a:lnTo>
                <a:lnTo>
                  <a:pt x="5491" y="18108"/>
                </a:lnTo>
                <a:lnTo>
                  <a:pt x="9877" y="18108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WordArt 5"/>
          <p:cNvSpPr txBox="1"/>
          <p:nvPr/>
        </p:nvSpPr>
        <p:spPr>
          <a:xfrm>
            <a:off x="1403280" y="1700280"/>
            <a:ext cx="6121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Домашнее задание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276720" y="335772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Стр.16 № 2 (3 и 4 ст.) Стр.17 №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dama"/>
          <p:cNvPicPr/>
          <p:nvPr/>
        </p:nvPicPr>
        <p:blipFill>
          <a:blip r:embed="rId1"/>
          <a:stretch/>
        </p:blipFill>
        <p:spPr>
          <a:xfrm>
            <a:off x="1042920" y="2852640"/>
            <a:ext cx="20876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C41-07"/>
          <p:cNvPicPr/>
          <p:nvPr/>
        </p:nvPicPr>
        <p:blipFill>
          <a:blip r:embed="rId1"/>
          <a:stretch/>
        </p:blipFill>
        <p:spPr>
          <a:xfrm>
            <a:off x="2195640" y="981000"/>
            <a:ext cx="4608360" cy="45752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 rot="11008800">
            <a:off x="4855680" y="2440080"/>
            <a:ext cx="367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128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 rot="1800">
            <a:off x="324000" y="189360"/>
            <a:ext cx="84945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99"/>
                </a:solidFill>
                <a:latin typeface="Comic Sans MS"/>
              </a:rPr>
              <a:t>Молодц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895560" cy="411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236000" y="260280"/>
            <a:ext cx="1604880" cy="167184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4859280" y="2276640"/>
            <a:ext cx="388944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Проверка 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домашнего 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задания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reeform 16"/>
          <p:cNvSpPr/>
          <p:nvPr/>
        </p:nvSpPr>
        <p:spPr>
          <a:xfrm>
            <a:off x="826920" y="1773360"/>
            <a:ext cx="6661440" cy="3119400"/>
          </a:xfrm>
          <a:custGeom>
            <a:avLst/>
            <a:gdLst>
              <a:gd name="textAreaLeft" fmla="*/ 0 w 6661440"/>
              <a:gd name="textAreaRight" fmla="*/ 6661800 w 6661440"/>
              <a:gd name="textAreaTop" fmla="*/ 0 h 3119400"/>
              <a:gd name="textAreaBottom" fmla="*/ 3119760 h 3119400"/>
            </a:gdLst>
            <a:ahLst/>
            <a:rect l="textAreaLeft" t="textAreaTop" r="textAreaRight" b="textAreaBottom"/>
            <a:pathLst>
              <a:path w="4196" h="1965">
                <a:moveTo>
                  <a:pt x="0" y="1950"/>
                </a:moveTo>
                <a:cubicBezTo>
                  <a:pt x="23" y="1821"/>
                  <a:pt x="46" y="1693"/>
                  <a:pt x="182" y="1678"/>
                </a:cubicBezTo>
                <a:cubicBezTo>
                  <a:pt x="318" y="1663"/>
                  <a:pt x="673" y="1897"/>
                  <a:pt x="817" y="1859"/>
                </a:cubicBezTo>
                <a:cubicBezTo>
                  <a:pt x="961" y="1821"/>
                  <a:pt x="1105" y="1557"/>
                  <a:pt x="1044" y="1451"/>
                </a:cubicBezTo>
                <a:cubicBezTo>
                  <a:pt x="983" y="1345"/>
                  <a:pt x="484" y="1330"/>
                  <a:pt x="454" y="1224"/>
                </a:cubicBezTo>
                <a:cubicBezTo>
                  <a:pt x="424" y="1118"/>
                  <a:pt x="764" y="952"/>
                  <a:pt x="862" y="816"/>
                </a:cubicBezTo>
                <a:cubicBezTo>
                  <a:pt x="960" y="680"/>
                  <a:pt x="984" y="544"/>
                  <a:pt x="1044" y="408"/>
                </a:cubicBezTo>
                <a:cubicBezTo>
                  <a:pt x="1104" y="272"/>
                  <a:pt x="1089" y="0"/>
                  <a:pt x="1225" y="0"/>
                </a:cubicBezTo>
                <a:cubicBezTo>
                  <a:pt x="1361" y="0"/>
                  <a:pt x="1664" y="378"/>
                  <a:pt x="1860" y="408"/>
                </a:cubicBezTo>
                <a:cubicBezTo>
                  <a:pt x="2056" y="438"/>
                  <a:pt x="2238" y="188"/>
                  <a:pt x="2404" y="181"/>
                </a:cubicBezTo>
                <a:cubicBezTo>
                  <a:pt x="2570" y="174"/>
                  <a:pt x="2850" y="265"/>
                  <a:pt x="2858" y="363"/>
                </a:cubicBezTo>
                <a:cubicBezTo>
                  <a:pt x="2866" y="461"/>
                  <a:pt x="2427" y="673"/>
                  <a:pt x="2450" y="771"/>
                </a:cubicBezTo>
                <a:cubicBezTo>
                  <a:pt x="2473" y="869"/>
                  <a:pt x="2888" y="884"/>
                  <a:pt x="2994" y="952"/>
                </a:cubicBezTo>
                <a:cubicBezTo>
                  <a:pt x="3100" y="1020"/>
                  <a:pt x="3062" y="1051"/>
                  <a:pt x="3085" y="1179"/>
                </a:cubicBezTo>
                <a:cubicBezTo>
                  <a:pt x="3108" y="1307"/>
                  <a:pt x="3039" y="1594"/>
                  <a:pt x="3130" y="1723"/>
                </a:cubicBezTo>
                <a:cubicBezTo>
                  <a:pt x="3221" y="1852"/>
                  <a:pt x="3478" y="1965"/>
                  <a:pt x="3629" y="1950"/>
                </a:cubicBezTo>
                <a:cubicBezTo>
                  <a:pt x="3780" y="1935"/>
                  <a:pt x="3946" y="1777"/>
                  <a:pt x="4037" y="1633"/>
                </a:cubicBezTo>
                <a:cubicBezTo>
                  <a:pt x="4128" y="1489"/>
                  <a:pt x="4196" y="1216"/>
                  <a:pt x="4173" y="1088"/>
                </a:cubicBezTo>
                <a:cubicBezTo>
                  <a:pt x="4150" y="960"/>
                  <a:pt x="3946" y="900"/>
                  <a:pt x="3901" y="86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2268360" y="260280"/>
            <a:ext cx="46818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latin typeface="Comic Sans MS"/>
              </a:rPr>
              <a:t>Устный счёт</a:t>
            </a:r>
            <a:endParaRPr b="1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latin typeface="Comic Sans MS"/>
              <a:ea typeface="Comic Sans MS"/>
            </a:endParaRPr>
          </a:p>
        </p:txBody>
      </p:sp>
      <p:pic>
        <p:nvPicPr>
          <p:cNvPr id="54" name="Picture 5" descr="1170014-738dc94766fd08c7"/>
          <p:cNvPicPr/>
          <p:nvPr/>
        </p:nvPicPr>
        <p:blipFill>
          <a:blip r:embed="rId1"/>
          <a:stretch/>
        </p:blipFill>
        <p:spPr>
          <a:xfrm>
            <a:off x="6227640" y="1268280"/>
            <a:ext cx="270360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345"/>
          <p:cNvPicPr/>
          <p:nvPr/>
        </p:nvPicPr>
        <p:blipFill>
          <a:blip r:embed="rId2"/>
          <a:stretch/>
        </p:blipFill>
        <p:spPr>
          <a:xfrm>
            <a:off x="3276720" y="3429000"/>
            <a:ext cx="1492200" cy="2262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123"/>
          <p:cNvPicPr/>
          <p:nvPr/>
        </p:nvPicPr>
        <p:blipFill>
          <a:blip r:embed="rId3"/>
          <a:stretch/>
        </p:blipFill>
        <p:spPr>
          <a:xfrm>
            <a:off x="179280" y="2852640"/>
            <a:ext cx="1013040" cy="1071720"/>
          </a:xfrm>
          <a:prstGeom prst="rect">
            <a:avLst/>
          </a:prstGeom>
          <a:ln w="0">
            <a:noFill/>
          </a:ln>
        </p:spPr>
      </p:pic>
      <p:sp>
        <p:nvSpPr>
          <p:cNvPr id="57" name="Oval 8"/>
          <p:cNvSpPr/>
          <p:nvPr/>
        </p:nvSpPr>
        <p:spPr>
          <a:xfrm>
            <a:off x="324000" y="4869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219640" y="3645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10"/>
          <p:cNvSpPr/>
          <p:nvPr/>
        </p:nvSpPr>
        <p:spPr>
          <a:xfrm>
            <a:off x="3708360" y="177336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050920" y="407664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2"/>
          <p:cNvSpPr/>
          <p:nvPr/>
        </p:nvSpPr>
        <p:spPr>
          <a:xfrm>
            <a:off x="1619280" y="220500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3"/>
          <p:cNvSpPr/>
          <p:nvPr/>
        </p:nvSpPr>
        <p:spPr>
          <a:xfrm>
            <a:off x="7020000" y="3500280"/>
            <a:ext cx="914400" cy="914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1116000" y="4724280"/>
            <a:ext cx="7128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4" name="WordArt 18"/>
          <p:cNvSpPr txBox="1"/>
          <p:nvPr/>
        </p:nvSpPr>
        <p:spPr>
          <a:xfrm>
            <a:off x="1332000" y="4581360"/>
            <a:ext cx="5144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5" name="WordArt 19"/>
          <p:cNvSpPr txBox="1"/>
          <p:nvPr/>
        </p:nvSpPr>
        <p:spPr>
          <a:xfrm>
            <a:off x="2050920" y="342900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WordArt 20"/>
          <p:cNvSpPr txBox="1"/>
          <p:nvPr/>
        </p:nvSpPr>
        <p:spPr>
          <a:xfrm>
            <a:off x="2050920" y="328464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WordArt 21"/>
          <p:cNvSpPr txBox="1"/>
          <p:nvPr/>
        </p:nvSpPr>
        <p:spPr>
          <a:xfrm>
            <a:off x="2268360" y="3141720"/>
            <a:ext cx="5144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2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WordArt 22"/>
          <p:cNvSpPr txBox="1"/>
          <p:nvPr/>
        </p:nvSpPr>
        <p:spPr>
          <a:xfrm>
            <a:off x="2484360" y="177336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9" name="WordArt 23"/>
          <p:cNvSpPr txBox="1"/>
          <p:nvPr/>
        </p:nvSpPr>
        <p:spPr>
          <a:xfrm>
            <a:off x="2700360" y="1628640"/>
            <a:ext cx="7192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3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0" name="WordArt 24"/>
          <p:cNvSpPr txBox="1"/>
          <p:nvPr/>
        </p:nvSpPr>
        <p:spPr>
          <a:xfrm>
            <a:off x="5219640" y="285264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5219640" y="2708280"/>
            <a:ext cx="71640" cy="69840"/>
          </a:xfrm>
          <a:prstGeom prst="rect">
            <a:avLst/>
          </a:prstGeom>
        </p:spPr>
        <p:txBody>
          <a:bodyPr wrap="none" lIns="90000" rIns="90000" tIns="23040" bIns="230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2" name="WordArt 26"/>
          <p:cNvSpPr txBox="1"/>
          <p:nvPr/>
        </p:nvSpPr>
        <p:spPr>
          <a:xfrm>
            <a:off x="5435640" y="2637000"/>
            <a:ext cx="288720" cy="40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WordArt 27"/>
          <p:cNvSpPr txBox="1"/>
          <p:nvPr/>
        </p:nvSpPr>
        <p:spPr>
          <a:xfrm>
            <a:off x="6516720" y="4365720"/>
            <a:ext cx="79200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4" name="WordArt 28"/>
          <p:cNvSpPr txBox="1"/>
          <p:nvPr/>
        </p:nvSpPr>
        <p:spPr>
          <a:xfrm>
            <a:off x="6156360" y="443700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+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75" name="WordArt 5"/>
          <p:cNvSpPr txBox="1"/>
          <p:nvPr/>
        </p:nvSpPr>
        <p:spPr>
          <a:xfrm>
            <a:off x="1835280" y="1052640"/>
            <a:ext cx="4681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80008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игра "Колобок"</a:t>
            </a:r>
            <a:endParaRPr b="1" lang="en-US" sz="1800" spc="1" strike="noStrike">
              <a:ln w="38160">
                <a:solidFill>
                  <a:srgbClr val="80008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76" name="WordArt 30"/>
          <p:cNvSpPr txBox="1"/>
          <p:nvPr/>
        </p:nvSpPr>
        <p:spPr>
          <a:xfrm>
            <a:off x="2195640" y="4292640"/>
            <a:ext cx="6476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54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7" name="WordArt 31"/>
          <p:cNvSpPr txBox="1"/>
          <p:nvPr/>
        </p:nvSpPr>
        <p:spPr>
          <a:xfrm>
            <a:off x="1835280" y="2492280"/>
            <a:ext cx="51408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2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8" name="WordArt 32"/>
          <p:cNvSpPr txBox="1"/>
          <p:nvPr/>
        </p:nvSpPr>
        <p:spPr>
          <a:xfrm>
            <a:off x="3780000" y="2060640"/>
            <a:ext cx="7207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8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" name="WordArt 33"/>
          <p:cNvSpPr txBox="1"/>
          <p:nvPr/>
        </p:nvSpPr>
        <p:spPr>
          <a:xfrm>
            <a:off x="5364000" y="3933720"/>
            <a:ext cx="64800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9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WordArt 34"/>
          <p:cNvSpPr txBox="1"/>
          <p:nvPr/>
        </p:nvSpPr>
        <p:spPr>
          <a:xfrm>
            <a:off x="7093080" y="3716280"/>
            <a:ext cx="71892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10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1" name="WordArt 35"/>
          <p:cNvSpPr txBox="1"/>
          <p:nvPr/>
        </p:nvSpPr>
        <p:spPr>
          <a:xfrm>
            <a:off x="6300720" y="4869000"/>
            <a:ext cx="224784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16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Ура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Молодцы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mic Sans MS"/>
              </a:rPr>
              <a:t>На уроке мы буд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24000" y="1341360"/>
            <a:ext cx="3313080" cy="13464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2340000" y="2997360"/>
            <a:ext cx="3313080" cy="1346040"/>
          </a:xfrm>
          <a:prstGeom prst="roundRect">
            <a:avLst>
              <a:gd name="adj" fmla="val 16667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364000" y="4508640"/>
            <a:ext cx="3313440" cy="13460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8"/>
          <p:cNvSpPr txBox="1"/>
          <p:nvPr/>
        </p:nvSpPr>
        <p:spPr>
          <a:xfrm>
            <a:off x="826920" y="1700280"/>
            <a:ext cx="2305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умнож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7" name="WordArt 9"/>
          <p:cNvSpPr txBox="1"/>
          <p:nvPr/>
        </p:nvSpPr>
        <p:spPr>
          <a:xfrm>
            <a:off x="2771640" y="3357720"/>
            <a:ext cx="2521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дели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8" name="WordArt 10"/>
          <p:cNvSpPr txBox="1"/>
          <p:nvPr/>
        </p:nvSpPr>
        <p:spPr>
          <a:xfrm>
            <a:off x="5508720" y="4941720"/>
            <a:ext cx="2808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дум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89" name="AutoShape 12"/>
          <p:cNvSpPr/>
          <p:nvPr/>
        </p:nvSpPr>
        <p:spPr>
          <a:xfrm>
            <a:off x="3780000" y="198900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7349" y="13907"/>
                </a:moveTo>
                <a:cubicBezTo>
                  <a:pt x="17809" y="12936"/>
                  <a:pt x="18049" y="11874"/>
                  <a:pt x="18049" y="10800"/>
                </a:cubicBezTo>
                <a:cubicBezTo>
                  <a:pt x="18049" y="6796"/>
                  <a:pt x="14803" y="3551"/>
                  <a:pt x="10800" y="3551"/>
                </a:cubicBezTo>
                <a:cubicBezTo>
                  <a:pt x="8688" y="3550"/>
                  <a:pt x="6681" y="4472"/>
                  <a:pt x="5304" y="6073"/>
                </a:cubicBezTo>
                <a:lnTo>
                  <a:pt x="2611" y="3757"/>
                </a:lnTo>
                <a:cubicBezTo>
                  <a:pt x="4663" y="1372"/>
                  <a:pt x="765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1"/>
                  <a:pt x="21243" y="13982"/>
                  <a:pt x="20557" y="15429"/>
                </a:cubicBezTo>
                <a:lnTo>
                  <a:pt x="22996" y="16587"/>
                </a:lnTo>
                <a:lnTo>
                  <a:pt x="17035" y="18712"/>
                </a:lnTo>
                <a:lnTo>
                  <a:pt x="14909" y="12750"/>
                </a:lnTo>
                <a:lnTo>
                  <a:pt x="17349" y="1390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5651640" y="3500280"/>
            <a:ext cx="976320" cy="976320"/>
          </a:xfrm>
          <a:custGeom>
            <a:avLst/>
            <a:gdLst>
              <a:gd name="textAreaLeft" fmla="*/ 142920 w 976320"/>
              <a:gd name="textAreaRight" fmla="*/ 833400 w 976320"/>
              <a:gd name="textAreaTop" fmla="*/ 142920 h 976320"/>
              <a:gd name="textAreaBottom" fmla="*/ 833400 h 976320"/>
            </a:gdLst>
            <a:ahLst/>
            <a:rect l="textAreaLeft" t="textAreaTop" r="textAreaRight" b="textAreaBottom"/>
            <a:pathLst>
              <a:path w="21600" h="21600">
                <a:moveTo>
                  <a:pt x="17349" y="13907"/>
                </a:moveTo>
                <a:cubicBezTo>
                  <a:pt x="17809" y="12936"/>
                  <a:pt x="18049" y="11874"/>
                  <a:pt x="18049" y="10800"/>
                </a:cubicBezTo>
                <a:cubicBezTo>
                  <a:pt x="18049" y="6796"/>
                  <a:pt x="14803" y="3551"/>
                  <a:pt x="10800" y="3551"/>
                </a:cubicBezTo>
                <a:cubicBezTo>
                  <a:pt x="8688" y="3550"/>
                  <a:pt x="6681" y="4472"/>
                  <a:pt x="5304" y="6073"/>
                </a:cubicBezTo>
                <a:lnTo>
                  <a:pt x="2611" y="3757"/>
                </a:lnTo>
                <a:cubicBezTo>
                  <a:pt x="4663" y="1372"/>
                  <a:pt x="765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1"/>
                  <a:pt x="21243" y="13982"/>
                  <a:pt x="20557" y="15429"/>
                </a:cubicBezTo>
                <a:lnTo>
                  <a:pt x="22996" y="16587"/>
                </a:lnTo>
                <a:lnTo>
                  <a:pt x="17035" y="18712"/>
                </a:lnTo>
                <a:lnTo>
                  <a:pt x="14909" y="12750"/>
                </a:lnTo>
                <a:lnTo>
                  <a:pt x="17349" y="1390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Comic Sans MS"/>
              </a:rPr>
              <a:t>Тема нашего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4"/>
          <p:cNvSpPr txBox="1"/>
          <p:nvPr/>
        </p:nvSpPr>
        <p:spPr>
          <a:xfrm>
            <a:off x="1547640" y="1628640"/>
            <a:ext cx="6409080" cy="273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лгоритм умножения и делен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на двузначно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числ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539640" y="1700280"/>
            <a:ext cx="5472360" cy="9874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5000  6783  4106  5631  2025  9006  3504  7800</a:t>
            </a:r>
            <a:br>
              <a:rPr sz="9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d2d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Arial"/>
              </a:rPr>
              <a:t>Четные числ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5000,4106,9006,3504,7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575d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575d1"/>
                </a:solidFill>
                <a:latin typeface="Arial"/>
              </a:rPr>
              <a:t>Нечетные числа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783,5631,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b50"/>
                </a:solidFill>
                <a:latin typeface="Arial"/>
              </a:rPr>
              <a:t>Числа, которые делятся на 5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5000,2025,7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4b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24b50"/>
                </a:solidFill>
                <a:latin typeface="Arial"/>
              </a:rPr>
              <a:t>Числа, которые делятся на 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6783,5631,2025,9006,3504,7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539640" y="2781360"/>
            <a:ext cx="6624720" cy="5763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539640" y="3357720"/>
            <a:ext cx="6264360" cy="9856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539640" y="4437000"/>
            <a:ext cx="6264360" cy="1008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24000" y="1197000"/>
          <a:ext cx="8496000" cy="3687840"/>
        </p:xfrm>
        <a:graphic>
          <a:graphicData uri="http://schemas.openxmlformats.org/drawingml/2006/table">
            <a:tbl>
              <a:tblPr/>
              <a:tblGrid>
                <a:gridCol w="3887640"/>
                <a:gridCol w="4321080"/>
                <a:gridCol w="287280"/>
              </a:tblGrid>
              <a:tr h="1432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8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00500   8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6         45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4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93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50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100" name="WordArt 60"/>
          <p:cNvSpPr txBox="1"/>
          <p:nvPr/>
        </p:nvSpPr>
        <p:spPr>
          <a:xfrm>
            <a:off x="1187280" y="1557360"/>
            <a:ext cx="1152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1" name="WordArt 62"/>
          <p:cNvSpPr txBox="1"/>
          <p:nvPr/>
        </p:nvSpPr>
        <p:spPr>
          <a:xfrm>
            <a:off x="3564000" y="1557360"/>
            <a:ext cx="2087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2" name="WordArt 63"/>
          <p:cNvSpPr txBox="1"/>
          <p:nvPr/>
        </p:nvSpPr>
        <p:spPr>
          <a:xfrm>
            <a:off x="6659640" y="1557360"/>
            <a:ext cx="115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3" name="WordArt 64"/>
          <p:cNvSpPr txBox="1"/>
          <p:nvPr/>
        </p:nvSpPr>
        <p:spPr>
          <a:xfrm>
            <a:off x="1763640" y="314172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6"/>
          <p:cNvSpPr txBox="1"/>
          <p:nvPr/>
        </p:nvSpPr>
        <p:spPr>
          <a:xfrm>
            <a:off x="611280" y="4581360"/>
            <a:ext cx="21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71"/>
          <p:cNvSpPr txBox="1"/>
          <p:nvPr/>
        </p:nvSpPr>
        <p:spPr>
          <a:xfrm>
            <a:off x="3780000" y="4437000"/>
            <a:ext cx="1742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"/>
              <a:ea typeface="Arial"/>
            </a:endParaRPr>
          </a:p>
        </p:txBody>
      </p:sp>
      <p:sp>
        <p:nvSpPr>
          <p:cNvPr id="106" name="WordArt 72"/>
          <p:cNvSpPr txBox="1"/>
          <p:nvPr/>
        </p:nvSpPr>
        <p:spPr>
          <a:xfrm>
            <a:off x="7093080" y="4437000"/>
            <a:ext cx="276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sp>
        <p:nvSpPr>
          <p:cNvPr id="107" name="WordArt 73"/>
          <p:cNvSpPr txBox="1"/>
          <p:nvPr/>
        </p:nvSpPr>
        <p:spPr>
          <a:xfrm>
            <a:off x="6659640" y="3141720"/>
            <a:ext cx="1028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99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99"/>
              </a:solidFill>
              <a:latin typeface="Arial"/>
              <a:ea typeface="Arial"/>
            </a:endParaRPr>
          </a:p>
        </p:txBody>
      </p:sp>
      <p:pic>
        <p:nvPicPr>
          <p:cNvPr id="108" name="Picture 80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1584000" cy="1338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1" descr=""/>
          <p:cNvPicPr/>
          <p:nvPr/>
        </p:nvPicPr>
        <p:blipFill>
          <a:blip r:embed="rId2"/>
          <a:stretch/>
        </p:blipFill>
        <p:spPr>
          <a:xfrm>
            <a:off x="1908000" y="5084640"/>
            <a:ext cx="1589400" cy="1449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2" descr=""/>
          <p:cNvPicPr/>
          <p:nvPr/>
        </p:nvPicPr>
        <p:blipFill>
          <a:blip r:embed="rId3"/>
          <a:stretch/>
        </p:blipFill>
        <p:spPr>
          <a:xfrm>
            <a:off x="3492360" y="5445000"/>
            <a:ext cx="1440000" cy="1123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3" descr=""/>
          <p:cNvPicPr/>
          <p:nvPr/>
        </p:nvPicPr>
        <p:blipFill>
          <a:blip r:embed="rId4"/>
          <a:stretch/>
        </p:blipFill>
        <p:spPr>
          <a:xfrm>
            <a:off x="4932360" y="5229360"/>
            <a:ext cx="1949400" cy="135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4" descr=""/>
          <p:cNvPicPr/>
          <p:nvPr/>
        </p:nvPicPr>
        <p:blipFill>
          <a:blip r:embed="rId5"/>
          <a:stretch/>
        </p:blipFill>
        <p:spPr>
          <a:xfrm>
            <a:off x="6877080" y="5157720"/>
            <a:ext cx="194292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ая соединительная линия 19"/>
          <p:cNvSpPr/>
          <p:nvPr/>
        </p:nvSpPr>
        <p:spPr>
          <a:xfrm>
            <a:off x="1187280" y="2565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24"/>
          <p:cNvSpPr/>
          <p:nvPr/>
        </p:nvSpPr>
        <p:spPr>
          <a:xfrm>
            <a:off x="755640" y="4076640"/>
            <a:ext cx="23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27"/>
          <p:cNvSpPr/>
          <p:nvPr/>
        </p:nvSpPr>
        <p:spPr>
          <a:xfrm>
            <a:off x="6732720" y="134136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33"/>
          <p:cNvSpPr/>
          <p:nvPr/>
        </p:nvSpPr>
        <p:spPr>
          <a:xfrm>
            <a:off x="6732720" y="1916280"/>
            <a:ext cx="10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43"/>
          <p:cNvSpPr/>
          <p:nvPr/>
        </p:nvSpPr>
        <p:spPr>
          <a:xfrm>
            <a:off x="4572000" y="242100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46"/>
          <p:cNvSpPr/>
          <p:nvPr/>
        </p:nvSpPr>
        <p:spPr>
          <a:xfrm>
            <a:off x="4932360" y="4076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611280" y="1700280"/>
            <a:ext cx="7777080" cy="295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Закреп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Решение примеров № 2 стр.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Вычисли с проверк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1 и 2 столб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611280" y="1413000"/>
            <a:ext cx="7848360" cy="3887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5150:14                  740160: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921570:51               888860: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5440:43                  813400:2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3:44:18Z</dcterms:created>
  <dc:creator>1</dc:creator>
  <dc:description/>
  <dc:language>en-US</dc:language>
  <cp:lastModifiedBy>user</cp:lastModifiedBy>
  <dcterms:modified xsi:type="dcterms:W3CDTF">2015-01-21T18:52:43Z</dcterms:modified>
  <cp:revision>13</cp:revision>
  <dc:subject/>
  <dc:title>Календарь</dc:title>
</cp:coreProperties>
</file>