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2.wmf" ContentType="image/x-wmf"/>
  <Override PartName="/ppt/media/image2.gif" ContentType="image/gif"/>
  <Override PartName="/ppt/media/image21.png" ContentType="image/png"/>
  <Override PartName="/ppt/media/image20.gif" ContentType="image/gif"/>
  <Override PartName="/ppt/media/image3.gif" ContentType="image/gif"/>
  <Override PartName="/ppt/media/image19.gif" ContentType="image/gif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B51-96F6-4910-8DE6-AAE007F2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4A1-2905-467B-BED6-20D4C19C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1C3-EAB8-407C-9CDE-CD4F11B3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29B-2D9C-4CC3-9EE4-B16A4408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620-F338-4C4D-BFD4-6D27592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746-C3C6-4059-AE40-BFFDDC6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821-9486-4D50-B361-BF5587D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7AC-7593-4BCE-9CD0-DCC16B37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9F9-6571-4E98-B19B-AA06801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43A-F035-4285-AF13-AE14ABF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175-482C-41EC-8DF4-40D0B899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1CC-4755-4734-8EA5-78F4EDA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027-4C08-4DD4-BB88-1EC0248E7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3"/>
          <p:cNvPicPr/>
          <p:nvPr/>
        </p:nvPicPr>
        <p:blipFill>
          <a:blip r:embed="rId1"/>
          <a:stretch/>
        </p:blipFill>
        <p:spPr>
          <a:xfrm>
            <a:off x="6588000" y="-171360"/>
            <a:ext cx="2808360" cy="1904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826920" y="981000"/>
            <a:ext cx="6912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Математику, друзья, 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Не любить никак нельзя.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чень точная наука,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чень строгая наука,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нтересная наука - 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Это математика!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Рисунок 18" descr="arg-4-50-trans.gif"/>
          <p:cNvPicPr/>
          <p:nvPr/>
        </p:nvPicPr>
        <p:blipFill>
          <a:blip r:embed="rId2"/>
          <a:stretch/>
        </p:blipFill>
        <p:spPr>
          <a:xfrm>
            <a:off x="2987640" y="5084640"/>
            <a:ext cx="247968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0" descr="arg-5-50-trans.gif"/>
          <p:cNvPicPr/>
          <p:nvPr/>
        </p:nvPicPr>
        <p:blipFill>
          <a:blip r:embed="rId3"/>
          <a:stretch/>
        </p:blipFill>
        <p:spPr>
          <a:xfrm>
            <a:off x="6948360" y="4508640"/>
            <a:ext cx="1500480" cy="1685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7" descr="arg-3-50-trans.gif"/>
          <p:cNvPicPr/>
          <p:nvPr/>
        </p:nvPicPr>
        <p:blipFill>
          <a:blip r:embed="rId4"/>
          <a:stretch/>
        </p:blipFill>
        <p:spPr>
          <a:xfrm rot="21301800">
            <a:off x="539640" y="472392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6" descr="arg-2-50-trans.gif"/>
          <p:cNvPicPr/>
          <p:nvPr/>
        </p:nvPicPr>
        <p:blipFill>
          <a:blip r:embed="rId5"/>
          <a:stretch/>
        </p:blipFill>
        <p:spPr>
          <a:xfrm rot="21219000">
            <a:off x="7235640" y="2421000"/>
            <a:ext cx="171432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9" descr="arg-8-50-trans.gif"/>
          <p:cNvPicPr/>
          <p:nvPr/>
        </p:nvPicPr>
        <p:blipFill>
          <a:blip r:embed="rId6"/>
          <a:stretch/>
        </p:blipFill>
        <p:spPr>
          <a:xfrm>
            <a:off x="0" y="2781360"/>
            <a:ext cx="1727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блако 1"/>
          <p:cNvSpPr/>
          <p:nvPr/>
        </p:nvSpPr>
        <p:spPr>
          <a:xfrm>
            <a:off x="1692360" y="836640"/>
            <a:ext cx="5040360" cy="1440000"/>
          </a:xfrm>
          <a:prstGeom prst="pie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ешит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Горизонтальный свиток 3"/>
          <p:cNvSpPr/>
          <p:nvPr/>
        </p:nvSpPr>
        <p:spPr>
          <a:xfrm>
            <a:off x="0" y="1989000"/>
            <a:ext cx="3529080" cy="251964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я пробежала 30 м за 6 с. С какой скоростью она беж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ертикальный свиток 5"/>
          <p:cNvSpPr/>
          <p:nvPr/>
        </p:nvSpPr>
        <p:spPr>
          <a:xfrm>
            <a:off x="5940360" y="1916280"/>
            <a:ext cx="3490920" cy="27367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ный поезд прошёл 120 км за 3 ч, проходя за каждый  час одинаковое расстояние. С какой  скоростью он двигал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Рисунок6"/>
          <p:cNvPicPr/>
          <p:nvPr/>
        </p:nvPicPr>
        <p:blipFill>
          <a:blip r:embed="rId1"/>
          <a:stretch/>
        </p:blipFill>
        <p:spPr>
          <a:xfrm>
            <a:off x="5724360" y="5778360"/>
            <a:ext cx="2584440" cy="1079640"/>
          </a:xfrm>
          <a:prstGeom prst="rect">
            <a:avLst/>
          </a:prstGeom>
          <a:ln w="0">
            <a:noFill/>
          </a:ln>
        </p:spPr>
      </p:pic>
      <p:sp>
        <p:nvSpPr>
          <p:cNvPr id="125" name="Пятно 1 7"/>
          <p:cNvSpPr/>
          <p:nvPr/>
        </p:nvSpPr>
        <p:spPr>
          <a:xfrm>
            <a:off x="7991640" y="4005360"/>
            <a:ext cx="1152360" cy="936360"/>
          </a:xfrm>
          <a:prstGeom prst="irregularSeal1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0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но 1 10"/>
          <p:cNvSpPr/>
          <p:nvPr/>
        </p:nvSpPr>
        <p:spPr>
          <a:xfrm>
            <a:off x="2195640" y="3573360"/>
            <a:ext cx="1296720" cy="792360"/>
          </a:xfrm>
          <a:prstGeom prst="irregularSeal1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туристёнок"/>
          <p:cNvPicPr/>
          <p:nvPr/>
        </p:nvPicPr>
        <p:blipFill>
          <a:blip r:embed="rId2"/>
          <a:stretch/>
        </p:blipFill>
        <p:spPr>
          <a:xfrm>
            <a:off x="611280" y="4653000"/>
            <a:ext cx="13111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C 0.44636 0.03704 0.89271 0.07431 1.01094 0.09746 C 1.12917 0.12061 0.87986 0.14283 0.70955 0.13889 C 0.53924 0.13496 0.1092 0.08473 -0.01076 0.07385 E">
                                      <p:cBhvr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476360" y="189000"/>
            <a:ext cx="6264360" cy="863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шите задачу стр.17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0" y="1484280"/>
            <a:ext cx="9144000" cy="4176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ил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? в     раза больше                  2000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? бил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1187280" y="3284640"/>
            <a:ext cx="22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>
            <a:off x="395280" y="386064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7"/>
          <p:cNvSpPr/>
          <p:nvPr/>
        </p:nvSpPr>
        <p:spPr>
          <a:xfrm>
            <a:off x="395280" y="458136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авая фигурная скобка 24"/>
          <p:cNvSpPr/>
          <p:nvPr/>
        </p:nvSpPr>
        <p:spPr>
          <a:xfrm flipV="1">
            <a:off x="6372360" y="2707560"/>
            <a:ext cx="360360" cy="1873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873080"/>
              <a:gd name="textAreaBottom" fmla="*/ 186372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5"/>
          <p:cNvSpPr/>
          <p:nvPr/>
        </p:nvSpPr>
        <p:spPr>
          <a:xfrm>
            <a:off x="179280" y="2708280"/>
            <a:ext cx="936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6"/>
          <p:cNvSpPr/>
          <p:nvPr/>
        </p:nvSpPr>
        <p:spPr>
          <a:xfrm>
            <a:off x="1116000" y="3357720"/>
            <a:ext cx="503280" cy="480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50920" y="404640"/>
            <a:ext cx="8642160" cy="525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8 х Х =98000         78 х Х =7800           Х : 100 =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56000 : у =456       у: 1000 =708           у : 1000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50920" y="333360"/>
            <a:ext cx="8353440" cy="5111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979640" y="1916280"/>
            <a:ext cx="3384360" cy="1657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6012000" y="2565360"/>
            <a:ext cx="1944720" cy="194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1506600" y="644400"/>
            <a:ext cx="60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    площадь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132000" y="1413000"/>
            <a:ext cx="914400" cy="360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900000" y="2492280"/>
            <a:ext cx="1008000" cy="505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6659640" y="1916280"/>
            <a:ext cx="865080" cy="504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Определи своё на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mile18"/>
          <p:cNvPicPr/>
          <p:nvPr/>
        </p:nvPicPr>
        <p:blipFill>
          <a:blip r:embed="rId1"/>
          <a:stretch/>
        </p:blipFill>
        <p:spPr>
          <a:xfrm>
            <a:off x="1908000" y="5229360"/>
            <a:ext cx="789120" cy="788760"/>
          </a:xfrm>
          <a:prstGeom prst="rect">
            <a:avLst/>
          </a:prstGeom>
          <a:ln w="0">
            <a:noFill/>
          </a:ln>
        </p:spPr>
      </p:pic>
      <p:sp>
        <p:nvSpPr>
          <p:cNvPr id="147" name="Line 6"/>
          <p:cNvSpPr/>
          <p:nvPr/>
        </p:nvSpPr>
        <p:spPr>
          <a:xfrm>
            <a:off x="4356000" y="429264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6934320" y="243828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651640" y="335772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3048120" y="5157720"/>
            <a:ext cx="1307880" cy="237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6934320" y="243828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5651640" y="3357720"/>
            <a:ext cx="0" cy="934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4356000" y="4292640"/>
            <a:ext cx="12960" cy="890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059280" y="515772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010280" y="2590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тл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691600" y="3763800"/>
            <a:ext cx="34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был(а) уверен(а) в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419360" y="45813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не было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321000" y="530208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устал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5255 C 0.00208 -0.07986 0.00746 -0.10301 0.01458 -0.12847 C 0.0177 -0.13935 0.01875 -0.15139 0.02395 -0.16111 C 0.02569 -0.16875 0.02795 -0.17732 0.03211 -0.18287 C 0.03316 -0.18588 0.03489 -0.19097 0.03663 -0.19375 C 0.03836 -0.19653 0.04097 -0.19838 0.04253 -0.20139 C 0.04878 -0.21435 0.0592 -0.22847 0.07048 -0.23241 C 0.08177 -0.24213 0.10017 -0.23611 0.11111 -0.23542 C 0.11614 -0.23334 0.12152 -0.22662 0.125 -0.22153 C 0.12847 -0.20834 0.13437 -0.19676 0.13663 -0.18287 C 0.13593 -0.16412 0.13802 -0.15718 0.13316 -0.14398 E">
                                      <p:cBhvr>
                                        <p:cTn id="27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16 -0.14398 C 0.13351 -0.14884 0.13421 -0.15347 0.13438 -0.1581 C 0.1349 -0.17338 0.13473 -0.18843 0.13542 -0.20347 C 0.13577 -0.21204 0.13889 -0.22176 0.14011 -0.23033 C 0.14115 -0.2382 0.1415 -0.24514 0.14619 -0.2507 C 0.14827 -0.26019 0.15139 -0.2706 0.15556 -0.27894 C 0.15955 -0.29676 0.16945 -0.32523 0.17917 -0.33843 C 0.18542 -0.34699 0.1941 -0.35046 0.20174 -0.35579 C 0.22014 -0.35509 0.25712 -0.3625 0.27414 -0.33843 C 0.27709 -0.32732 0.28403 -0.32037 0.28716 -0.3088 C 0.29028 -0.29746 0.28716 -0.28472 0.28716 -0.27269 E">
                                      <p:cBhvr>
                                        <p:cTn id="27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37 -0.27269 C 0.28541 -0.31135 0.28402 -0.30903 0.29253 -0.33611 C 0.29444 -0.35047 0.30121 -0.36366 0.30642 -0.37639 C 0.30764 -0.38264 0.30833 -0.38658 0.31111 -0.3919 C 0.31354 -0.40347 0.31614 -0.40857 0.32031 -0.41991 C 0.32152 -0.42315 0.32482 -0.42454 0.32621 -0.42755 C 0.32934 -0.43426 0.33437 -0.44074 0.3401 -0.44306 C 0.34809 -0.45047 0.35781 -0.45023 0.36684 -0.45394 C 0.37829 -0.45347 0.39965 -0.4551 0.41215 -0.44931 C 0.41788 -0.44213 0.41076 -0.45023 0.41805 -0.44468 C 0.42916 -0.43635 0.421 -0.44005 0.42847 -0.43704 C 0.4375 -0.425 0.43663 -0.41875 0.43663 -0.40139 E">
                                      <p:cBhvr>
                                        <p:cTn id="2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663 -0.40139 C 0.43628 -0.40648 0.43541 -0.41181 0.43541 -0.4169 C 0.43541 -0.44815 0.43489 -0.46088 0.4401 -0.48519 C 0.44166 -0.49213 0.44201 -0.50162 0.446 -0.50695 C 0.44739 -0.5169 0.45347 -0.53218 0.45764 -0.54097 C 0.46284 -0.55208 0.46788 -0.56875 0.475 -0.57824 C 0.47864 -0.5831 0.48298 -0.58727 0.48663 -0.59213 C 0.49045 -0.59722 0.49288 -0.60301 0.49826 -0.60602 C 0.50399 -0.60926 0.51909 -0.61435 0.525 -0.61528 C 0.52725 -0.61505 0.54427 -0.6132 0.54704 -0.61227 C 0.55191 -0.61088 0.55121 -0.60857 0.5552 -0.60602 C 0.56527 -0.59931 0.55208 -0.60996 0.56215 -0.60301 C 0.56718 -0.59954 0.57066 -0.59607 0.57621 -0.59375 C 0.57864 -0.58866 0.58055 -0.58611 0.58437 -0.58287 C 0.58576 -0.54815 0.58541 -0.56644 0.58541 -0.52847 E">
                                      <p:cBhvr>
                                        <p:cTn id="28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4356000" y="5445000"/>
            <a:ext cx="720720" cy="728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8640"/>
              <a:gd name="textAreaBottom" fmla="*/ 682200 h 728640"/>
            </a:gdLst>
            <a:ahLst/>
            <a:rect l="textAreaLeft" t="textAreaTop" r="textAreaRight" b="textAreaBottom"/>
            <a:pathLst>
              <a:path w="21600" h="21837">
                <a:moveTo>
                  <a:pt x="0" y="0"/>
                </a:moveTo>
                <a:lnTo>
                  <a:pt x="21600" y="0"/>
                </a:lnTo>
                <a:lnTo>
                  <a:pt x="21600" y="21837"/>
                </a:lnTo>
                <a:lnTo>
                  <a:pt x="0" y="21837"/>
                </a:lnTo>
                <a:close/>
              </a:path>
              <a:path fill="lightenLess" w="21600" h="218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37">
                <a:moveTo>
                  <a:pt x="21600" y="0"/>
                </a:moveTo>
                <a:lnTo>
                  <a:pt x="21600" y="21837"/>
                </a:lnTo>
                <a:lnTo>
                  <a:pt x="20200" y="20437"/>
                </a:lnTo>
                <a:lnTo>
                  <a:pt x="20200" y="1400"/>
                </a:lnTo>
                <a:close/>
              </a:path>
              <a:path fill="darkenLess" w="21600" h="21837">
                <a:moveTo>
                  <a:pt x="21600" y="21837"/>
                </a:moveTo>
                <a:lnTo>
                  <a:pt x="0" y="21837"/>
                </a:lnTo>
                <a:lnTo>
                  <a:pt x="1400" y="20437"/>
                </a:lnTo>
                <a:lnTo>
                  <a:pt x="20200" y="20437"/>
                </a:lnTo>
                <a:close/>
              </a:path>
              <a:path fill="lighten" w="21600" h="21837">
                <a:moveTo>
                  <a:pt x="0" y="218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37"/>
                </a:lnTo>
                <a:close/>
              </a:path>
              <a:path fill="darken" w="21600" h="21837">
                <a:moveTo>
                  <a:pt x="10800" y="3956"/>
                </a:moveTo>
                <a:lnTo>
                  <a:pt x="13376" y="6567"/>
                </a:ln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lnTo>
                  <a:pt x="17763" y="10919"/>
                </a:lnTo>
                <a:lnTo>
                  <a:pt x="16109" y="10919"/>
                </a:lnTo>
                <a:lnTo>
                  <a:pt x="16109" y="18108"/>
                </a:lnTo>
                <a:lnTo>
                  <a:pt x="5491" y="18108"/>
                </a:lnTo>
                <a:lnTo>
                  <a:pt x="5491" y="10919"/>
                </a:lnTo>
                <a:lnTo>
                  <a:pt x="3837" y="10919"/>
                </a:lnTo>
                <a:close/>
              </a:path>
              <a:path fill="darkenLess" w="21600" h="21837">
                <a:moveTo>
                  <a:pt x="13376" y="6567"/>
                </a:move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close/>
              </a:path>
              <a:path fill="darkenLess" w="21600" h="21837">
                <a:moveTo>
                  <a:pt x="9877" y="14418"/>
                </a:moveTo>
                <a:lnTo>
                  <a:pt x="11723" y="14418"/>
                </a:lnTo>
                <a:lnTo>
                  <a:pt x="11723" y="18108"/>
                </a:lnTo>
                <a:lnTo>
                  <a:pt x="16109" y="18108"/>
                </a:lnTo>
                <a:lnTo>
                  <a:pt x="16109" y="10919"/>
                </a:lnTo>
                <a:lnTo>
                  <a:pt x="5491" y="10919"/>
                </a:lnTo>
                <a:lnTo>
                  <a:pt x="5491" y="18108"/>
                </a:lnTo>
                <a:lnTo>
                  <a:pt x="9877" y="18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403280" y="170028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276720" y="335772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тр.16 № 2 (3 и 4 ст.) Стр.17 №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dama"/>
          <p:cNvPicPr/>
          <p:nvPr/>
        </p:nvPicPr>
        <p:blipFill>
          <a:blip r:embed="rId1"/>
          <a:stretch/>
        </p:blipFill>
        <p:spPr>
          <a:xfrm>
            <a:off x="1042920" y="2852640"/>
            <a:ext cx="2087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41-07"/>
          <p:cNvPicPr/>
          <p:nvPr/>
        </p:nvPicPr>
        <p:blipFill>
          <a:blip r:embed="rId1"/>
          <a:stretch/>
        </p:blipFill>
        <p:spPr>
          <a:xfrm>
            <a:off x="2195640" y="981000"/>
            <a:ext cx="4608360" cy="4575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 rot="11008800">
            <a:off x="4855680" y="2440080"/>
            <a:ext cx="367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 rot="1800">
            <a:off x="324000" y="189360"/>
            <a:ext cx="84945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95560" cy="411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604880" cy="1671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4859280" y="2276640"/>
            <a:ext cx="388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Проверка 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домашнего 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задания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16"/>
          <p:cNvSpPr/>
          <p:nvPr/>
        </p:nvSpPr>
        <p:spPr>
          <a:xfrm>
            <a:off x="826920" y="1773360"/>
            <a:ext cx="6661440" cy="3119400"/>
          </a:xfrm>
          <a:custGeom>
            <a:avLst/>
            <a:gdLst>
              <a:gd name="textAreaLeft" fmla="*/ 0 w 6661440"/>
              <a:gd name="textAreaRight" fmla="*/ 6661800 w 6661440"/>
              <a:gd name="textAreaTop" fmla="*/ 0 h 3119400"/>
              <a:gd name="textAreaBottom" fmla="*/ 3119760 h 3119400"/>
            </a:gdLst>
            <a:ahLst/>
            <a:rect l="textAreaLeft" t="textAreaTop" r="textAreaRight" b="textAreaBottom"/>
            <a:pathLst>
              <a:path w="4196" h="1965">
                <a:moveTo>
                  <a:pt x="0" y="1950"/>
                </a:moveTo>
                <a:cubicBezTo>
                  <a:pt x="23" y="1821"/>
                  <a:pt x="46" y="1693"/>
                  <a:pt x="182" y="1678"/>
                </a:cubicBezTo>
                <a:cubicBezTo>
                  <a:pt x="318" y="1663"/>
                  <a:pt x="673" y="1897"/>
                  <a:pt x="817" y="1859"/>
                </a:cubicBezTo>
                <a:cubicBezTo>
                  <a:pt x="961" y="1821"/>
                  <a:pt x="1105" y="1557"/>
                  <a:pt x="1044" y="1451"/>
                </a:cubicBezTo>
                <a:cubicBezTo>
                  <a:pt x="983" y="1345"/>
                  <a:pt x="484" y="1330"/>
                  <a:pt x="454" y="1224"/>
                </a:cubicBezTo>
                <a:cubicBezTo>
                  <a:pt x="424" y="1118"/>
                  <a:pt x="764" y="952"/>
                  <a:pt x="862" y="816"/>
                </a:cubicBezTo>
                <a:cubicBezTo>
                  <a:pt x="960" y="680"/>
                  <a:pt x="984" y="544"/>
                  <a:pt x="1044" y="408"/>
                </a:cubicBezTo>
                <a:cubicBezTo>
                  <a:pt x="1104" y="272"/>
                  <a:pt x="1089" y="0"/>
                  <a:pt x="1225" y="0"/>
                </a:cubicBezTo>
                <a:cubicBezTo>
                  <a:pt x="1361" y="0"/>
                  <a:pt x="1664" y="378"/>
                  <a:pt x="1860" y="408"/>
                </a:cubicBezTo>
                <a:cubicBezTo>
                  <a:pt x="2056" y="438"/>
                  <a:pt x="2238" y="188"/>
                  <a:pt x="2404" y="181"/>
                </a:cubicBezTo>
                <a:cubicBezTo>
                  <a:pt x="2570" y="174"/>
                  <a:pt x="2850" y="265"/>
                  <a:pt x="2858" y="363"/>
                </a:cubicBezTo>
                <a:cubicBezTo>
                  <a:pt x="2866" y="461"/>
                  <a:pt x="2427" y="673"/>
                  <a:pt x="2450" y="771"/>
                </a:cubicBezTo>
                <a:cubicBezTo>
                  <a:pt x="2473" y="869"/>
                  <a:pt x="2888" y="884"/>
                  <a:pt x="2994" y="952"/>
                </a:cubicBezTo>
                <a:cubicBezTo>
                  <a:pt x="3100" y="1020"/>
                  <a:pt x="3062" y="1051"/>
                  <a:pt x="3085" y="1179"/>
                </a:cubicBezTo>
                <a:cubicBezTo>
                  <a:pt x="3108" y="1307"/>
                  <a:pt x="3039" y="1594"/>
                  <a:pt x="3130" y="1723"/>
                </a:cubicBezTo>
                <a:cubicBezTo>
                  <a:pt x="3221" y="1852"/>
                  <a:pt x="3478" y="1965"/>
                  <a:pt x="3629" y="1950"/>
                </a:cubicBezTo>
                <a:cubicBezTo>
                  <a:pt x="3780" y="1935"/>
                  <a:pt x="3946" y="1777"/>
                  <a:pt x="4037" y="1633"/>
                </a:cubicBezTo>
                <a:cubicBezTo>
                  <a:pt x="4128" y="1489"/>
                  <a:pt x="4196" y="1216"/>
                  <a:pt x="4173" y="1088"/>
                </a:cubicBezTo>
                <a:cubicBezTo>
                  <a:pt x="4150" y="960"/>
                  <a:pt x="3946" y="900"/>
                  <a:pt x="3901" y="8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268360" y="260280"/>
            <a:ext cx="46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Устный счёт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54" name="Picture 5" descr="1170014-738dc94766fd08c7"/>
          <p:cNvPicPr/>
          <p:nvPr/>
        </p:nvPicPr>
        <p:blipFill>
          <a:blip r:embed="rId1"/>
          <a:stretch/>
        </p:blipFill>
        <p:spPr>
          <a:xfrm>
            <a:off x="6227640" y="1268280"/>
            <a:ext cx="270360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45"/>
          <p:cNvPicPr/>
          <p:nvPr/>
        </p:nvPicPr>
        <p:blipFill>
          <a:blip r:embed="rId2"/>
          <a:stretch/>
        </p:blipFill>
        <p:spPr>
          <a:xfrm>
            <a:off x="3276720" y="3429000"/>
            <a:ext cx="1492200" cy="22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23"/>
          <p:cNvPicPr/>
          <p:nvPr/>
        </p:nvPicPr>
        <p:blipFill>
          <a:blip r:embed="rId3"/>
          <a:stretch/>
        </p:blipFill>
        <p:spPr>
          <a:xfrm>
            <a:off x="179280" y="2852640"/>
            <a:ext cx="1013040" cy="1071720"/>
          </a:xfrm>
          <a:prstGeom prst="rect">
            <a:avLst/>
          </a:prstGeom>
          <a:ln w="0">
            <a:noFill/>
          </a:ln>
        </p:spPr>
      </p:pic>
      <p:sp>
        <p:nvSpPr>
          <p:cNvPr id="57" name="Oval 8"/>
          <p:cNvSpPr/>
          <p:nvPr/>
        </p:nvSpPr>
        <p:spPr>
          <a:xfrm>
            <a:off x="324000" y="4869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219640" y="364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708360" y="177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050920" y="4076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1619280" y="220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7020000" y="3500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1116000" y="4724280"/>
            <a:ext cx="7128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18"/>
          <p:cNvSpPr txBox="1"/>
          <p:nvPr/>
        </p:nvSpPr>
        <p:spPr>
          <a:xfrm>
            <a:off x="1332000" y="4581360"/>
            <a:ext cx="514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19"/>
          <p:cNvSpPr txBox="1"/>
          <p:nvPr/>
        </p:nvSpPr>
        <p:spPr>
          <a:xfrm>
            <a:off x="2050920" y="342900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20"/>
          <p:cNvSpPr txBox="1"/>
          <p:nvPr/>
        </p:nvSpPr>
        <p:spPr>
          <a:xfrm>
            <a:off x="2050920" y="328464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WordArt 21"/>
          <p:cNvSpPr txBox="1"/>
          <p:nvPr/>
        </p:nvSpPr>
        <p:spPr>
          <a:xfrm>
            <a:off x="2268360" y="3141720"/>
            <a:ext cx="514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2484360" y="177336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2700360" y="1628640"/>
            <a:ext cx="7192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5219640" y="285264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5219640" y="270828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26"/>
          <p:cNvSpPr txBox="1"/>
          <p:nvPr/>
        </p:nvSpPr>
        <p:spPr>
          <a:xfrm>
            <a:off x="5435640" y="2637000"/>
            <a:ext cx="28872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27"/>
          <p:cNvSpPr txBox="1"/>
          <p:nvPr/>
        </p:nvSpPr>
        <p:spPr>
          <a:xfrm>
            <a:off x="6516720" y="4365720"/>
            <a:ext cx="792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28"/>
          <p:cNvSpPr txBox="1"/>
          <p:nvPr/>
        </p:nvSpPr>
        <p:spPr>
          <a:xfrm>
            <a:off x="6156360" y="443700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1835280" y="1052640"/>
            <a:ext cx="468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игра "Колобок"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6" name="WordArt 30"/>
          <p:cNvSpPr txBox="1"/>
          <p:nvPr/>
        </p:nvSpPr>
        <p:spPr>
          <a:xfrm>
            <a:off x="2195640" y="4292640"/>
            <a:ext cx="647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31"/>
          <p:cNvSpPr txBox="1"/>
          <p:nvPr/>
        </p:nvSpPr>
        <p:spPr>
          <a:xfrm>
            <a:off x="1835280" y="2492280"/>
            <a:ext cx="514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32"/>
          <p:cNvSpPr txBox="1"/>
          <p:nvPr/>
        </p:nvSpPr>
        <p:spPr>
          <a:xfrm>
            <a:off x="3780000" y="2060640"/>
            <a:ext cx="7207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33"/>
          <p:cNvSpPr txBox="1"/>
          <p:nvPr/>
        </p:nvSpPr>
        <p:spPr>
          <a:xfrm>
            <a:off x="5364000" y="3933720"/>
            <a:ext cx="648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34"/>
          <p:cNvSpPr txBox="1"/>
          <p:nvPr/>
        </p:nvSpPr>
        <p:spPr>
          <a:xfrm>
            <a:off x="7093080" y="3716280"/>
            <a:ext cx="718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35"/>
          <p:cNvSpPr txBox="1"/>
          <p:nvPr/>
        </p:nvSpPr>
        <p:spPr>
          <a:xfrm>
            <a:off x="6300720" y="4869000"/>
            <a:ext cx="224784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ра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На уроке мы буд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24000" y="1341360"/>
            <a:ext cx="3313080" cy="1346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340000" y="2997360"/>
            <a:ext cx="3313080" cy="134604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364000" y="4508640"/>
            <a:ext cx="3313440" cy="1346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826920" y="1700280"/>
            <a:ext cx="2305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множ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2771640" y="3357720"/>
            <a:ext cx="252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дели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5508720" y="4941720"/>
            <a:ext cx="280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дум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3780000" y="19890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7349" y="13907"/>
                </a:moveTo>
                <a:cubicBezTo>
                  <a:pt x="17809" y="12936"/>
                  <a:pt x="18049" y="11874"/>
                  <a:pt x="18049" y="10800"/>
                </a:cubicBezTo>
                <a:cubicBezTo>
                  <a:pt x="18049" y="6796"/>
                  <a:pt x="14803" y="3551"/>
                  <a:pt x="10800" y="3551"/>
                </a:cubicBezTo>
                <a:cubicBezTo>
                  <a:pt x="8688" y="3550"/>
                  <a:pt x="6681" y="4472"/>
                  <a:pt x="5304" y="6073"/>
                </a:cubicBezTo>
                <a:lnTo>
                  <a:pt x="2611" y="3757"/>
                </a:lnTo>
                <a:cubicBezTo>
                  <a:pt x="4663" y="1372"/>
                  <a:pt x="765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1"/>
                  <a:pt x="21243" y="13982"/>
                  <a:pt x="20557" y="15429"/>
                </a:cubicBezTo>
                <a:lnTo>
                  <a:pt x="22996" y="16587"/>
                </a:lnTo>
                <a:lnTo>
                  <a:pt x="17035" y="18712"/>
                </a:lnTo>
                <a:lnTo>
                  <a:pt x="14909" y="12750"/>
                </a:lnTo>
                <a:lnTo>
                  <a:pt x="17349" y="139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5651640" y="350028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7349" y="13907"/>
                </a:moveTo>
                <a:cubicBezTo>
                  <a:pt x="17809" y="12936"/>
                  <a:pt x="18049" y="11874"/>
                  <a:pt x="18049" y="10800"/>
                </a:cubicBezTo>
                <a:cubicBezTo>
                  <a:pt x="18049" y="6796"/>
                  <a:pt x="14803" y="3551"/>
                  <a:pt x="10800" y="3551"/>
                </a:cubicBezTo>
                <a:cubicBezTo>
                  <a:pt x="8688" y="3550"/>
                  <a:pt x="6681" y="4472"/>
                  <a:pt x="5304" y="6073"/>
                </a:cubicBezTo>
                <a:lnTo>
                  <a:pt x="2611" y="3757"/>
                </a:lnTo>
                <a:cubicBezTo>
                  <a:pt x="4663" y="1372"/>
                  <a:pt x="765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1"/>
                  <a:pt x="21243" y="13982"/>
                  <a:pt x="20557" y="15429"/>
                </a:cubicBezTo>
                <a:lnTo>
                  <a:pt x="22996" y="16587"/>
                </a:lnTo>
                <a:lnTo>
                  <a:pt x="17035" y="18712"/>
                </a:lnTo>
                <a:lnTo>
                  <a:pt x="14909" y="12750"/>
                </a:lnTo>
                <a:lnTo>
                  <a:pt x="17349" y="139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Тема нашего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547640" y="1628640"/>
            <a:ext cx="6409080" cy="273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лгоритм умножения и дел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а двузнач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числ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539640" y="1700280"/>
            <a:ext cx="5472360" cy="98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5000  6783  4106  5631  2025  9006  3504  7800</a:t>
            </a:r>
            <a:br>
              <a:rPr sz="9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Чет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5000,4106,9006,3504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Нечетные числа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783,5631,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Числа, которые делятся на 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5000,2025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Числа, которые делятся на 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6783,5631,2025,9006,3504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39640" y="2781360"/>
            <a:ext cx="6624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539640" y="3357720"/>
            <a:ext cx="6264360" cy="9856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39640" y="4437000"/>
            <a:ext cx="6264360" cy="1008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24000" y="1197000"/>
          <a:ext cx="8496000" cy="3687840"/>
        </p:xfrm>
        <a:graphic>
          <a:graphicData uri="http://schemas.openxmlformats.org/drawingml/2006/table">
            <a:tbl>
              <a:tblPr/>
              <a:tblGrid>
                <a:gridCol w="3887640"/>
                <a:gridCol w="4321080"/>
                <a:gridCol w="28728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500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6         4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9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100" name="WordArt 60"/>
          <p:cNvSpPr txBox="1"/>
          <p:nvPr/>
        </p:nvSpPr>
        <p:spPr>
          <a:xfrm>
            <a:off x="1187280" y="1557360"/>
            <a:ext cx="11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62"/>
          <p:cNvSpPr txBox="1"/>
          <p:nvPr/>
        </p:nvSpPr>
        <p:spPr>
          <a:xfrm>
            <a:off x="3564000" y="1557360"/>
            <a:ext cx="208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63"/>
          <p:cNvSpPr txBox="1"/>
          <p:nvPr/>
        </p:nvSpPr>
        <p:spPr>
          <a:xfrm>
            <a:off x="6659640" y="155736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64"/>
          <p:cNvSpPr txBox="1"/>
          <p:nvPr/>
        </p:nvSpPr>
        <p:spPr>
          <a:xfrm>
            <a:off x="1763640" y="314172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6"/>
          <p:cNvSpPr txBox="1"/>
          <p:nvPr/>
        </p:nvSpPr>
        <p:spPr>
          <a:xfrm>
            <a:off x="611280" y="4581360"/>
            <a:ext cx="21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71"/>
          <p:cNvSpPr txBox="1"/>
          <p:nvPr/>
        </p:nvSpPr>
        <p:spPr>
          <a:xfrm>
            <a:off x="3780000" y="4437000"/>
            <a:ext cx="1742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sp>
        <p:nvSpPr>
          <p:cNvPr id="106" name="WordArt 72"/>
          <p:cNvSpPr txBox="1"/>
          <p:nvPr/>
        </p:nvSpPr>
        <p:spPr>
          <a:xfrm>
            <a:off x="70930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107" name="WordArt 73"/>
          <p:cNvSpPr txBox="1"/>
          <p:nvPr/>
        </p:nvSpPr>
        <p:spPr>
          <a:xfrm>
            <a:off x="6659640" y="3141720"/>
            <a:ext cx="102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108" name="Picture 80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1584000" cy="133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1" descr=""/>
          <p:cNvPicPr/>
          <p:nvPr/>
        </p:nvPicPr>
        <p:blipFill>
          <a:blip r:embed="rId2"/>
          <a:stretch/>
        </p:blipFill>
        <p:spPr>
          <a:xfrm>
            <a:off x="1908000" y="5084640"/>
            <a:ext cx="1589400" cy="144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2" descr=""/>
          <p:cNvPicPr/>
          <p:nvPr/>
        </p:nvPicPr>
        <p:blipFill>
          <a:blip r:embed="rId3"/>
          <a:stretch/>
        </p:blipFill>
        <p:spPr>
          <a:xfrm>
            <a:off x="3492360" y="544500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3" descr=""/>
          <p:cNvPicPr/>
          <p:nvPr/>
        </p:nvPicPr>
        <p:blipFill>
          <a:blip r:embed="rId4"/>
          <a:stretch/>
        </p:blipFill>
        <p:spPr>
          <a:xfrm>
            <a:off x="4932360" y="5229360"/>
            <a:ext cx="194940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4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194292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9"/>
          <p:cNvSpPr/>
          <p:nvPr/>
        </p:nvSpPr>
        <p:spPr>
          <a:xfrm>
            <a:off x="1187280" y="2565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4"/>
          <p:cNvSpPr/>
          <p:nvPr/>
        </p:nvSpPr>
        <p:spPr>
          <a:xfrm>
            <a:off x="755640" y="4076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7"/>
          <p:cNvSpPr/>
          <p:nvPr/>
        </p:nvSpPr>
        <p:spPr>
          <a:xfrm>
            <a:off x="6732720" y="1341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3"/>
          <p:cNvSpPr/>
          <p:nvPr/>
        </p:nvSpPr>
        <p:spPr>
          <a:xfrm>
            <a:off x="6732720" y="1916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43"/>
          <p:cNvSpPr/>
          <p:nvPr/>
        </p:nvSpPr>
        <p:spPr>
          <a:xfrm>
            <a:off x="4572000" y="2421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46"/>
          <p:cNvSpPr/>
          <p:nvPr/>
        </p:nvSpPr>
        <p:spPr>
          <a:xfrm>
            <a:off x="4932360" y="4076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11280" y="1700280"/>
            <a:ext cx="7777080" cy="295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ешение примеров № 2 стр.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Вычисли с провер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1 и 2 столб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150:14                  740160: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21570:51               888860: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5440:43                  813400: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3:44:18Z</dcterms:created>
  <dc:creator>1</dc:creator>
  <dc:description/>
  <dc:language>en-US</dc:language>
  <cp:lastModifiedBy>user</cp:lastModifiedBy>
  <dcterms:modified xsi:type="dcterms:W3CDTF">2015-01-21T18:52:43Z</dcterms:modified>
  <cp:revision>13</cp:revision>
  <dc:subject/>
  <dc:title>Календарь</dc:title>
</cp:coreProperties>
</file>