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6.wmf" ContentType="image/x-wmf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C938E-238D-40C6-869E-A0AC3A850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14550-B712-4EE1-B835-546401560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E940F-D0F8-4405-9DF4-FFC7F050E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AB352-1AAF-4523-B14E-EFA3C20F2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E80EE-AAAF-49BC-ACEB-F07373283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A4944-907C-414D-AE8C-CCB89D573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C1FAE-4214-4246-BD66-B6481C31C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43722-8F3C-4351-8915-E6B0FA6D6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62C5F-5F4B-437D-987B-CE3AA4872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BE4F0-085A-4E5F-A0C6-6EC29B222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37BFD-13AB-4AB8-94D4-AF16A10EC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C301D-71BE-4060-A14B-BD4781934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C4015-AB63-4EEC-BEE3-2B1B192DC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02182-7E43-4BAE-89F2-EBFA1E3FA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1C164-55F3-448A-A0BB-EC6BBBD66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BC654-970D-4AE9-9C83-B9558C9E6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E83CE-0A9A-4602-9720-432288BA3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04E479-2A30-4A70-BCC9-D73EE7BAF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867F00-6038-436C-8A78-74AA85497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158975-F4FE-4615-9F29-A67515BE7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4C563E-E4AC-4A55-A9FF-D3A7C6CA0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BB5D7D-29DC-4D13-8E91-44E47CF13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A443B-50E9-4894-9088-4B4AA8B9E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5755C1-35C2-4BD5-A2E8-331624CDB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B37DB6-FEB0-4193-80A1-5BE2F9EBE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CE1415-5179-4E3E-ACFA-52F808F73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602DE7-AF9C-43C6-92B0-D4C4CC1AB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DE6E93-9634-4299-9FE6-845661B8C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56D529-6295-418C-82C8-282CB8F25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8F268B-95AB-4F56-9AD9-B72C124C2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8800C77-FC63-4304-A243-5FEA2E5DE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356AD4E-39C1-4B5E-B630-41D498B0C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A78B765-67A3-4518-960B-CBC4DE676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62B35-6EFE-4476-BD23-4C4C3E387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F47D7A6-339A-468C-A5FD-8DBC77969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929C5A0-4922-4397-8D07-02EB726CC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13F3036-C0C4-4439-85CD-95FD48A9C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8DCEE74-5D32-4860-B77B-0E123C188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A76FFA1-40FD-4B5F-A931-6561F3B2D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681F9EA-923C-4CA6-9006-15CCEAC45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BAEC68B-4C3F-4974-AA3B-0A29D6D26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23C1B30-7687-4ABE-ABA1-278FB8A83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879A751-1705-478D-A778-161AC5042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11FE2C-8954-4F12-A442-C274C965D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FF4F4-0012-4AC4-A384-96379F2A0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5DFF19-03BC-470C-B3DC-6A3444349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A0052C-5A60-4B83-A701-9A0E27ABB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3D0DF9-5B31-4D94-87C1-99EDADF5C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723232-3352-4E84-B8CF-82DB7B3B3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EEA153-FD4B-45D1-9760-2A3A21497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586F46-412E-4003-A4F8-8F7A69CBB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1397F8-BAAC-49BE-8543-A88690961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7EC169-F851-4958-B07E-246461106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ACBAEE-D738-44FA-96A0-45E819BAD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C5DFD9-227F-4017-AB3F-4CBF147A7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2827D-48F2-4EA9-B88E-3005FB44E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1DA661-FEE6-4854-B828-903004D7B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BBBD5C-497D-4D44-A792-3C20AD4A8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28D5C2-AB11-4BE8-9089-ACD46FB39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801C2D-A186-42D6-B78D-FFB91B19A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D7ACB6-58A4-44AB-BA29-8555A5C8C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CF5790-E52A-4533-9117-69A73160A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81A8D1-B839-4718-8B5A-8A760B157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0FAAF9-7EEF-40DE-840F-A2A445472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1E2872-2AD4-41E3-88F2-491A87510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57005E-58ED-4719-B42E-B83C88068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777CD-D59B-4741-B2F9-E7D0BEF21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3C1A05-6A31-41A5-9BF5-69F17C3DC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386248-419D-4DFE-A950-F34EBF339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A07001-7C44-44D2-A6B1-C6893FB80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E02D93-7436-4525-BA3D-5BFA3E083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F2682A-D326-418F-8DC2-BD639C8CC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10395B-CF59-4AEA-9BD9-0372A1834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497CFE-5E24-40A6-BDA2-54DC3169C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24C4C9-526C-4CCC-AA42-DFB899DFB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B2AF81-8D13-4ED5-8538-26AA1B4E9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8A5D4C-3BFD-4101-9746-E50BB687C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34866-7E89-45C7-BA72-A803061E2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1067E9-663F-4B1C-B909-EC8322F5B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98EDAA-C2A2-4A2A-963A-E18D867BA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B58BC9-CDC9-48D4-9865-2F1BC0667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1CF797-E428-4E4D-B8ED-63C623B5D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34B038-D5BA-4CC3-8E71-BDA22C1ED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BC3DED-03DD-4F8F-B523-58A296BE8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A8CD67-F669-4481-8ECC-90336ED49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A70BFB-F51D-43BF-BE06-7FE4C862A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7A5E68-F3CA-4015-BBDE-328E72262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67C196-88F5-4CB1-8627-B4BC55A1E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27739-3260-483A-BF5E-B3FC66388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5B7DE4-4A3F-4600-B65B-D23D2BAAA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2D6E4F-C364-468D-BDC8-53FB28390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4D32BC-6AA9-4647-9DED-AEC73CBDC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A57EEF-8A13-4C50-8135-EF26F888B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137FD0-99F1-47A6-8A89-74C636E00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D9D0C7-EF80-4FFF-B011-2C6714D8F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E3D578-A9BF-433C-8D86-448EEAF1B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47F41-0301-4EDA-81E3-7EDD1A97AC4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30371-09C1-4CD2-9695-1A57B2D3069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565EA-2943-48FA-9FD5-387F356500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ftr" idx="1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 type="sldNum" idx="1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BDD76-A42E-4416-B257-DDC873AD46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 type="dt" idx="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49804-A940-4D93-8C3A-8042DC88689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7DFB3-D93F-4A4C-912E-9DDE06A8332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8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279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004FB-78B0-4188-B524-70E797E03AB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3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324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dt" idx="22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ftr" idx="23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3200C-82B6-49DE-BEC9-382CB3B905D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6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&#1069;&#1082;&#1089;&#1087;&#1086;&#1088;&#1090;%20&#1086;&#1073;&#1098;&#1077;&#1082;&#1090;&#1072;%2048183.swf" TargetMode="External"/><Relationship Id="rId2" Type="http://schemas.openxmlformats.org/officeDocument/2006/relationships/hyperlink" Target="file:///&#1069;&#1082;&#1089;&#1087;&#1086;&#1088;&#1090;%20&#1086;&#1073;&#1098;&#1077;&#1082;&#1090;&#1072;%2048183.swf" TargetMode="External"/><Relationship Id="rId3" Type="http://schemas.openxmlformats.org/officeDocument/2006/relationships/hyperlink" Target="file:///&#1069;&#1082;&#1089;&#1087;&#1086;&#1088;&#1090;%20&#1086;&#1073;&#1098;&#1077;&#1082;&#1090;&#1072;%2048183.swf" TargetMode="External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71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дготовила: учитель английского языка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Галимова В.Г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2438280" y="1600200"/>
            <a:ext cx="42386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My plans for the Future</a:t>
            </a:r>
            <a:endParaRPr b="0" i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" dur="2000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9900"/>
                </a:solidFill>
                <a:latin typeface="Tahoma"/>
              </a:rPr>
              <a:t>Цели урока</a:t>
            </a:r>
            <a:r>
              <a:rPr b="0" lang="en-US" sz="4400" spc="-1" strike="noStrike">
                <a:solidFill>
                  <a:srgbClr val="ff9900"/>
                </a:solidFill>
                <a:latin typeface="Tahoma"/>
              </a:rPr>
              <a:t>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1600200" y="3809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ahoma"/>
              </a:rPr>
              <a:t>1 Повторить лексику по теме:»Выбор профессий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ahoma"/>
              </a:rPr>
              <a:t>2.Практиковать учащихся в обсуждении вопросов по тем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ahoma"/>
              </a:rPr>
              <a:t>3.Развивать диалогическую речь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ahoma"/>
              </a:rPr>
              <a:t>4.Контролировать понимание и обсудить текст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ahoma"/>
              </a:rPr>
              <a:t>5.Научить заполнять автобиографию в табличной форм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72" name="" descr=""/>
          <p:cNvPicPr/>
          <p:nvPr/>
        </p:nvPicPr>
        <p:blipFill>
          <a:blip r:embed="rId2"/>
          <a:stretch/>
        </p:blipFill>
        <p:spPr>
          <a:xfrm>
            <a:off x="6934320" y="762120"/>
            <a:ext cx="1830240" cy="1565280"/>
          </a:xfrm>
          <a:prstGeom prst="rect">
            <a:avLst/>
          </a:prstGeom>
          <a:ln w="0">
            <a:noFill/>
          </a:ln>
        </p:spPr>
      </p:pic>
      <p:pic>
        <p:nvPicPr>
          <p:cNvPr id="373" name="" descr=""/>
          <p:cNvPicPr/>
          <p:nvPr/>
        </p:nvPicPr>
        <p:blipFill>
          <a:blip r:embed="rId3"/>
          <a:stretch/>
        </p:blipFill>
        <p:spPr>
          <a:xfrm>
            <a:off x="380880" y="914400"/>
            <a:ext cx="1808280" cy="1914480"/>
          </a:xfrm>
          <a:prstGeom prst="rect">
            <a:avLst/>
          </a:prstGeom>
          <a:ln w="0">
            <a:noFill/>
          </a:ln>
        </p:spPr>
      </p:pic>
      <p:pic>
        <p:nvPicPr>
          <p:cNvPr id="374" name="" descr=""/>
          <p:cNvPicPr/>
          <p:nvPr/>
        </p:nvPicPr>
        <p:blipFill>
          <a:blip r:embed="rId4"/>
          <a:stretch/>
        </p:blipFill>
        <p:spPr>
          <a:xfrm>
            <a:off x="228600" y="4419720"/>
            <a:ext cx="1163520" cy="1827000"/>
          </a:xfrm>
          <a:prstGeom prst="rect">
            <a:avLst/>
          </a:prstGeom>
          <a:ln w="0">
            <a:noFill/>
          </a:ln>
        </p:spPr>
      </p:pic>
      <p:pic>
        <p:nvPicPr>
          <p:cNvPr id="375" name="" descr=""/>
          <p:cNvPicPr/>
          <p:nvPr/>
        </p:nvPicPr>
        <p:blipFill>
          <a:blip r:embed="rId5"/>
          <a:stretch/>
        </p:blipFill>
        <p:spPr>
          <a:xfrm>
            <a:off x="3429000" y="609480"/>
            <a:ext cx="1825560" cy="14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3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3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3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3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9" dur="2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Повторение лексики по теме </a:t>
            </a:r>
            <a:r>
              <a:rPr b="0" lang="ru-RU" sz="4000" spc="-1" strike="noStrike" u="sng">
                <a:solidFill>
                  <a:srgbClr val="eec85e"/>
                </a:solidFill>
                <a:uFillTx/>
                <a:latin typeface="Arial"/>
                <a:hlinkClick r:id="rId1"/>
              </a:rPr>
              <a:t>«</a:t>
            </a:r>
            <a:r>
              <a:rPr b="0" lang="en-US" sz="4000" spc="-1" strike="noStrike" u="sng">
                <a:solidFill>
                  <a:srgbClr val="eec85e"/>
                </a:solidFill>
                <a:uFillTx/>
                <a:latin typeface="Arial"/>
                <a:hlinkClick r:id="rId2"/>
              </a:rPr>
              <a:t>PROFESSION</a:t>
            </a:r>
            <a:r>
              <a:rPr b="0" lang="ru-RU" sz="4000" spc="-1" strike="noStrike" u="sng">
                <a:solidFill>
                  <a:srgbClr val="eec85e"/>
                </a:solidFill>
                <a:uFillTx/>
                <a:latin typeface="Arial"/>
                <a:hlinkClick r:id="rId3"/>
              </a:rPr>
              <a:t>»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/>
          <p:nvPr/>
        </p:nvSpPr>
        <p:spPr>
          <a:xfrm>
            <a:off x="762120" y="171360"/>
            <a:ext cx="7619760" cy="606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aeaea"/>
                </a:solidFill>
                <a:latin typeface="Verdana"/>
              </a:rPr>
              <a:t>My Plans for The Future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aeaea"/>
                </a:solidFill>
                <a:latin typeface="Verdana"/>
              </a:rPr>
              <a:t>I have asked myself a lot of times: "What do I want to be when I leave school?" A few years ago it was difficult for me to give a definite answer. As the years passed I changed my mind a lot of times about which science or field of industry to specialize in. It was difficult to make up my mind and choose one of the hundreds jobs to which I might be better suited.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aeaea"/>
                </a:solidFill>
                <a:latin typeface="Verdana"/>
              </a:rPr>
              <a:t>I wanted to become a doctor. I thought it was a very noble profession. I was good at biology and chemistry. I wanted to help people who had problems with health. I knew that a doctor should be noble in work and life, kind and attentive to people, responsible and reasonable, honest and prudent. A doctor, who is selfish, dishonest can't be good at his profession. I tried to do my best to develop good traits in myself.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aeaea"/>
                </a:solidFill>
                <a:latin typeface="Verdana"/>
              </a:rPr>
              <a:t>Now it seems to me I have already decided what to do. I'd like to be a teacher. I know that it's very difficult to become a good teacher. You should know perfectly the subject you teach, you must be well-educated and well-informed. An ignorant teacher teaches ignorance, a fearful teacher teaches fear, a bored teacher teaches boredom. But a good teacher develops in his pupils the burning desire to know and love for the truth and beauty. As John Steinbeck once said, a great teacher is a great artist and you know how few great artists there are in the world. Teaching might even be the greatest of the arts. It's a great responsibility to bring up children. I think that's the reason why teachers are deeply respected. But I'm not sure yet if I am going to become a teacher, because they are not well-paid enough.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aeaea"/>
                </a:solidFill>
                <a:latin typeface="Verdana"/>
              </a:rPr>
              <a:t>When you leave school you understand that the time to choose your future profession has come. It's not an easy task to make the right choice of a job. I have known for a long time that leaving school is the beginning of my independent life, the beginning of a far more serious examination of my abilities and character.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aeaea"/>
                </a:solidFill>
                <a:latin typeface="Verdana"/>
              </a:rPr>
              <a:t>More and more people realize that every educated person should know a foreign language. No matter what I am to be in the future I know quite well just now </a:t>
            </a:r>
            <a:r>
              <a:rPr b="0" lang="en-US" sz="1400" spc="-1" strike="noStrike">
                <a:solidFill>
                  <a:srgbClr val="eaeaea"/>
                </a:solidFill>
                <a:latin typeface="Verdana"/>
              </a:rPr>
              <a:t>I</a:t>
            </a:r>
            <a:r>
              <a:rPr b="0" lang="en-GB" sz="1400" spc="-1" strike="noStrike">
                <a:solidFill>
                  <a:srgbClr val="eaeaea"/>
                </a:solidFill>
                <a:latin typeface="Verdana"/>
              </a:rPr>
              <a:t> must know English perfectly.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378" name="" descr=""/>
          <p:cNvPicPr/>
          <p:nvPr/>
        </p:nvPicPr>
        <p:blipFill>
          <a:blip r:embed="rId1"/>
          <a:stretch/>
        </p:blipFill>
        <p:spPr>
          <a:xfrm>
            <a:off x="8458200" y="6324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restart="whenNotActive" nodeType="interactiveSeq" fill="hold">
                <p:stCondLst>
                  <p:cond evt="onClick">
                    <p:tgtEl>
                      <p:spTgt spid="378"/>
                    </p:tgtEl>
                  </p:cond>
                </p:stCondLst>
                <p:childTnLst>
                  <p:par>
                    <p:cTn id="92" fill="hold">
                      <p:stCondLst>
                        <p:cond evt="onClick">
                          <p:tgtEl>
                            <p:spTgt spid="378"/>
                          </p:tgtEl>
                        </p:cond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5" dur="175491" fill="hold"/>
                                        <p:tgtEl>
                                          <p:spTgt spid="3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" descr=""/>
          <p:cNvPicPr/>
          <p:nvPr/>
        </p:nvPicPr>
        <p:blipFill>
          <a:blip r:embed="rId1"/>
          <a:stretch/>
        </p:blipFill>
        <p:spPr>
          <a:xfrm>
            <a:off x="1143000" y="-45720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381" name=""/>
          <p:cNvSpPr/>
          <p:nvPr/>
        </p:nvSpPr>
        <p:spPr>
          <a:xfrm>
            <a:off x="3352680" y="533520"/>
            <a:ext cx="6629400" cy="5029200"/>
          </a:xfrm>
          <a:prstGeom prst="rect">
            <a:avLst/>
          </a:prstGeom>
          <a:solidFill>
            <a:srgbClr val="ffff9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1905120" y="0"/>
            <a:ext cx="8001000" cy="533520"/>
          </a:xfrm>
          <a:prstGeom prst="rect">
            <a:avLst/>
          </a:prstGeom>
          <a:solidFill>
            <a:srgbClr val="ffff9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1981080" y="0"/>
            <a:ext cx="75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10f2d"/>
                </a:solidFill>
                <a:latin typeface="Verdana"/>
              </a:rPr>
              <a:t>Составь</a:t>
            </a: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310f2d"/>
                </a:solidFill>
                <a:latin typeface="Verdana"/>
              </a:rPr>
              <a:t>своё резюме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NSWER THE QUESTIONS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Do you think about you your future professio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What kind of professions do you like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ve you got any traditions in your family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What are your parent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Have you already decided what you want to be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What do you know about your future professio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.Why do you think your future profession is important today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Вадим</cp:lastModifiedBy>
  <dcterms:modified xsi:type="dcterms:W3CDTF">2015-02-05T15:41:55Z</dcterms:modified>
  <cp:revision>1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