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260-CFDF-463F-A9BC-370F5464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0E40-36FB-4970-936D-B47CDC0E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B19B-A1B2-4774-A1C5-A0288655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386-EBE4-48D1-BC54-EF681980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5F95-045C-433B-B3DA-2BC3F098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1C4E-9CCB-4876-902F-F49C29B3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621C-C033-4BFE-9317-E7F98858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2268-9C33-4B08-9C27-DA903989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999C-5ACA-4962-9F97-42435E91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292C-664B-45FE-BEA4-397817AF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DAC1-F07A-4022-B9A3-2A974FFF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FE90-9733-433C-9D11-D7C25071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6F18-A059-42E8-9284-E862DE71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89C9-38A3-41BD-B0FC-643410ED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07D5-822C-4738-ADEB-3DE0DB91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D899-840C-48B5-B79E-A3B618E7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354C-DD91-4FAD-8605-7F33B16A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D97A6-0DD2-4B93-BE1E-2048D0D7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E6D9B-3274-4AF7-92D3-7142A833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362F0-3EDE-44EF-9436-5B35020D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FBE7A-C16B-49F2-989F-3F076A60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9BE71-3415-4F21-9E73-305495FE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8441-951F-42CB-8904-AFDAC4CB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FC4F5-44F4-4E78-B186-40CE0F97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422EC-FBD6-4C59-BBE8-E28A4FF1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776AA-D7BB-4B52-8521-34E1D714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5A12F-1D73-4EAE-8BA3-A3D120DA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192E3-C8EA-4AEF-B389-27A1F78E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114C3-7FB9-4F87-A23D-1A962118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34EDB-36DD-4F65-8940-5D09AC98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DD7E92-43A5-4400-B89B-963F82BF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155C3F-06D6-446B-BCCA-D274DE39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6FD441-DC8B-4821-A7C0-E029DF67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86A-757A-451F-A626-A9081DB1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B20773-E068-452F-A957-F1800388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326FD4-D3C8-4CC3-BC67-4E1F4D30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BC2098-0322-4F21-A903-2CC6AA23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49BC48-16AA-47C2-AF78-1A1DF027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605B6B-B6AC-4AF1-9F71-D103CA9D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A06477-64EF-4AFD-BFD9-2D414212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09DEAC-EE55-411D-BC6E-EC8A1E3C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9CD4EF-9142-492C-A951-744768D7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D4A778-85C3-4914-9767-852DD5E6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6B3E4-EB8A-49ED-B28C-85A8363B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1A0E-1933-430F-B355-177EDB5F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57879-ADEB-47F9-9AEA-2A4CF389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2FE84-D2AD-462C-ABBF-A005157D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080BE-0C1C-4A05-B730-550A0C27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41270-ED63-4999-A289-49BCF1F9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00E9C-877A-4C01-8100-4B273AAD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2A37D-D690-4AEF-8C4F-34306B0C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EA1CD-4DA9-4201-80BE-F5D024F5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3151A-7D54-44A2-B801-51879176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72AE7-C039-40F7-BEB4-FC4416EB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7C8AE-AF4C-4BDA-9CA5-F159905A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0FF-46DA-4601-BE50-509E14D0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4738B-3FE7-4E7A-B424-68F804C2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37937-9840-4DE4-B964-0D028C10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9D832-8A9E-4F10-90F3-15951DF9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57D8E-A286-4F6A-A88A-547EDC8A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4AEFC-8686-4867-A249-0DCB6C89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F1A96-CD23-4B8C-93D4-9F597D25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DD70A-D1B1-4657-98A5-9F6920A4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AE2CD-1860-45F5-A5D0-9B12FD80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7BBC5-C821-45FD-956E-406C67AE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F4DDC-A7F5-47CD-B8B3-0F298049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C14-3CEA-4063-B887-10941CB4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712AA-9EF5-4AE3-A783-A8E520F5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F5119-69D0-4337-BF6D-E5CE5864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DCD12-EF88-452E-ACAF-35996215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C6B28-48A6-41BF-BD8D-A43DA5B6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F7771-CDE0-4A80-948F-AF2A3D15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0FA95-EEA1-40A7-BC18-5946F04D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D468B-256A-4B19-99F3-8020703C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A3BCE-C2D2-4342-A18F-4020C6BA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DD10C-E069-4242-B8CC-D12C7717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6FBCB-1012-4FC0-BAC6-B6179FBD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30EE-19A4-42FF-88E6-8C97CB2F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7E9FF-0F8C-4F5E-9898-40CA6026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EE03C-5170-4F25-BD33-71AF2A75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0A17B-5955-4D18-82DD-DFDA1B8A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9F74A-C8E5-4858-B132-4E76E5E8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2BFF7-6F86-4067-BBCA-B324BC16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94295-6461-45BE-AF28-DB547171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A43F4-2590-45B2-847C-A1C20AD4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9752A-CEF1-4BB7-80F3-7FD695A8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9731A-7E40-4E3F-A36E-8891F062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F8D17-075F-4738-AADE-2F7E716C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8A91-943D-47BC-B1AA-17DB5D09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D2102-35E9-41B8-958B-83AA43C8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26F29-A2DA-415A-96CD-1FF1A098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06CD2-A194-4C0E-8EF4-DC13F5C1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40198-EC0E-4D34-A7BB-CB9EFCC0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A820A-18E5-40E0-BAD2-BC20995E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4E55B-E8F5-4957-B468-8DAC0D93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105F4-7D91-41F1-A405-B5783458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E076-B0A9-4B7F-9079-D23E20B866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C639-2A2C-4005-8BBA-BCC056BCBE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32E6-A963-4CDF-829B-470701378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6532-8A86-4FB0-A9FE-C14CCEA1E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48ED-0518-4E3C-BE64-244FF2518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7493-CC28-4AEB-A462-80021231E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79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7F60-30BF-433B-A347-BB914C7941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24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8FA1-8228-4A6F-BAE6-DB54845669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69;&#1082;&#1089;&#1087;&#1086;&#1088;&#1090;%20&#1086;&#1073;&#1098;&#1077;&#1082;&#1090;&#1072;%2048183.swf" TargetMode="External"/><Relationship Id="rId2" Type="http://schemas.openxmlformats.org/officeDocument/2006/relationships/hyperlink" Target="file:///&#1069;&#1082;&#1089;&#1087;&#1086;&#1088;&#1090;%20&#1086;&#1073;&#1098;&#1077;&#1082;&#1090;&#1072;%2048183.swf" TargetMode="External"/><Relationship Id="rId3" Type="http://schemas.openxmlformats.org/officeDocument/2006/relationships/hyperlink" Target="file:///&#1069;&#1082;&#1089;&#1087;&#1086;&#1088;&#1090;%20&#1086;&#1073;&#1098;&#1077;&#1082;&#1090;&#1072;%2048183.swf" TargetMode="External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готовила: учитель английского язык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алимова В.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438280" y="1600200"/>
            <a:ext cx="4238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y plans for the Future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ahoma"/>
              </a:rPr>
              <a:t>Цели урока</a:t>
            </a: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6002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1 Повторить лексику по теме:»Выбор професси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2.Практиковать учащихся в обсуждении вопросов по тем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3.Развивать диалогическую реч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4.Контролировать понимание и обсудить тек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5.Научить заполнять автобиографию в табличной форм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6934320" y="76212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80880" y="914400"/>
            <a:ext cx="1808280" cy="19144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228600" y="4419720"/>
            <a:ext cx="1163520" cy="18270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3429000" y="609480"/>
            <a:ext cx="182556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овторение лексики по теме </a:t>
            </a:r>
            <a:r>
              <a:rPr b="0" lang="ru-RU" sz="40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«</a:t>
            </a:r>
            <a:r>
              <a:rPr b="0" lang="en-US" sz="4000" spc="-1" strike="noStrike" u="sng">
                <a:solidFill>
                  <a:srgbClr val="eec85e"/>
                </a:solidFill>
                <a:uFillTx/>
                <a:latin typeface="Arial"/>
                <a:hlinkClick r:id="rId2"/>
              </a:rPr>
              <a:t>PROFESSION</a:t>
            </a:r>
            <a:r>
              <a:rPr b="0" lang="ru-RU" sz="4000" spc="-1" strike="noStrike" u="sng">
                <a:solidFill>
                  <a:srgbClr val="eec85e"/>
                </a:solidFill>
                <a:uFillTx/>
                <a:latin typeface="Arial"/>
                <a:hlinkClick r:id="rId3"/>
              </a:rPr>
              <a:t>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762120" y="171360"/>
            <a:ext cx="761976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Verdana"/>
              </a:rPr>
              <a:t>My Plans for The Futur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Verdana"/>
              </a:rPr>
              <a:t>I have asked myself a lot of times: "What do I want to be when I leave school?" A few years ago it was difficult for me to give a definite answer. As the years passed I changed my mind a lot of times about which science or field of industry to specialize in. It was difficult to make up my mind and choose one of the hundreds jobs to which I might be better suited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Verdana"/>
              </a:rPr>
              <a:t>I wanted to become a doctor. I thought it was a very noble profession. I was good at biology and chemistry. I wanted to help people who had problems with health. I knew that a doctor should be noble in work and life, kind and attentive to people, responsible and reasonable, honest and prudent. A doctor, who is selfish, dishonest can't be good at his profession. I tried to do my best to develop good traits in myself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Verdana"/>
              </a:rPr>
              <a:t>Now it seems to me I have already decided what to do. I'd like to be a teacher. I know that it's very difficult to become a good teacher. You should know perfectly the subject you teach, you must be well-educated and well-informed. An ignorant teacher teaches ignorance, a fearful teacher teaches fear, a bored teacher teaches boredom. But a good teacher develops in his pupils the burning desire to know and love for the truth and beauty. As John Steinbeck once said, a great teacher is a great artist and you know how few great artists there are in the world. Teaching might even be the greatest of the arts. It's a great responsibility to bring up children. I think that's the reason why teachers are deeply respected. But I'm not sure yet if I am going to become a teacher, because they are not well-paid enough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Verdana"/>
              </a:rPr>
              <a:t>When you leave school you understand that the time to choose your future profession has come. It's not an easy task to make the right choice of a job. I have known for a long time that leaving school is the beginning of my independent life, the beginning of a far more serious examination of my abilities and character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Verdana"/>
              </a:rPr>
              <a:t>More and more people realize that every educated person should know a foreign language. No matter what I am to be in the future I know quite well just now 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I</a:t>
            </a:r>
            <a:r>
              <a:rPr b="0" lang="en-GB" sz="1400" spc="-1" strike="noStrike">
                <a:solidFill>
                  <a:srgbClr val="eaeaea"/>
                </a:solidFill>
                <a:latin typeface="Verdana"/>
              </a:rPr>
              <a:t> must know English perfectly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7549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14300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352680" y="533520"/>
            <a:ext cx="6629400" cy="502920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905120" y="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981080" y="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0f2d"/>
                </a:solidFill>
                <a:latin typeface="Verdana"/>
              </a:rPr>
              <a:t>Составь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310f2d"/>
                </a:solidFill>
                <a:latin typeface="Verdana"/>
              </a:rPr>
              <a:t>своё резюм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SWER THE QUESTION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Do you think about you your future profess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What kind of professions do you lik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you got any traditions in your famil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What are your paren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Have you already decided what you want to b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What do you know about your future profess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Why do you think your future profession is important toda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дим</cp:lastModifiedBy>
  <dcterms:modified xsi:type="dcterms:W3CDTF">2015-02-05T15:41:5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