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86D-E038-43CE-9710-76A79E2F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77A-6978-4A46-8CED-7B1E8394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373-CDBF-46FF-AF83-E16765CE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835-C709-4FFA-B3D3-F0430611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60CD-60DC-4BA8-A76C-1B4CC7EC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0C7F-73CC-491E-97B1-74EF7FFF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BE48-0FAB-4D5B-BCC4-4D64BE46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C5BE-7690-4A0C-BC45-C2ADC518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4706-C45A-4B8C-9EBD-CADB8487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8107-C46A-4FDF-84D6-CDB354EC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C19C-BF65-47BB-ADBA-089D1854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C64-1E8A-4472-B4F6-088C64D0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77F-7267-42B1-A26A-DD42A7EA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D716-7611-41C1-B60F-00628FE7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6402-DC47-46A6-BBE0-C3DAD092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E7CC-89ED-4B15-BA7C-FEB23611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3790-E5F5-42F4-AC69-5997B2A5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57B-E71B-4287-8BAF-A0DFE576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A5A-D317-499C-9745-87203AE0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C4A-CC5F-4D30-81CC-7D9D055C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D59-1352-456F-AA70-AC177E61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6C1-E7D7-4761-8031-C400EA57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40F-2366-4D47-9BE0-C9BE82C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181-4253-4D46-A1F8-8AFBB50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9E3C-36CA-49A5-99F3-2B436CD864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59CB-A88E-4E0D-9C09-3901C6A990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72680"/>
            <a:ext cx="86868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рроризм- проблема всего мира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ля террора используют даже животны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7656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зорвавшийся террорис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асти тела взорвавшейся террористк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движение условий террориста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оследствия терро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1 сентябр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0072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333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дрывные действия террорист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1160" y="2100240"/>
            <a:ext cx="69454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Устрашающие акци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400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здевательства террористов над заложника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85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Школьники Беслан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102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3429000" cy="1886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частники террористических акт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295800" cy="254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66880" y="1828800"/>
            <a:ext cx="22860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сле террористического акта в метр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Жертвы терро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Горе отца безгранично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2578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следствия террора могут быть непредсказуем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еррористы празднуют побед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свобождая других, погибали работники правоохранительных органов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8769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867280" y="1967040"/>
            <a:ext cx="2895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полковник Васильев Константин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первый день захвата сам прош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здание театра на Дубровке с предложени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менять себя на заложник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пасение заложник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иквидация террорист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ра их настигл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Зло наказуемо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2840" y="2100240"/>
            <a:ext cx="7021440" cy="3478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7086600" cy="389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7086600" cy="3897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143000" y="1905120"/>
            <a:ext cx="7086600" cy="3897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143000" y="1905120"/>
            <a:ext cx="70866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 террору привлекают даже женщин и дете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0292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Мы против смерти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лякова Любовь Николаевн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подаватель –организатор основ безопасности жизнедеятельности Куликовской СОШ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ти втянуты во взрослые игр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6201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ррорист №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411480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5905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Известные террористы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7242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оружение террорист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810240" cy="341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8098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У терроризма выросли крыль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Смертник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419360" cy="360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3065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34:59Z</dcterms:created>
  <dc:creator>Люба</dc:creator>
  <dc:description/>
  <dc:language>en-US</dc:language>
  <cp:lastModifiedBy>Люба</cp:lastModifiedBy>
  <dcterms:modified xsi:type="dcterms:W3CDTF">2015-02-04T18:14:0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