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D44-5E58-4970-8565-ECB59954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D2A-CDCC-48DA-B627-DFDBED26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436-BC9B-4F3B-91E0-52DBE297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526-CAE6-41EC-A683-76138899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64F4-069B-41BA-B7FD-23096C32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852A-A3B1-48E5-9AE3-6CA15471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0EAB-8836-4842-8544-28D5BD62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84F4-CC63-4D4F-AFFD-537849BB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A670-3324-44CC-8C05-054EEFFA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01EE-91CB-4A71-AD78-7516F737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352E-13B0-4A3B-8E8C-6B26B534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5CF-73A0-4614-AE8E-9248932F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693B-FE2A-431F-83A3-6E2A3D4A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6B8A-CB2C-4D15-ABCD-E794E989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1306-491C-4CA5-B9B7-78BEA70B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DEC6-C774-42EE-929C-F3B949B0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1364-0DE3-40B9-A325-168A0A51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6D9-CC1B-4D55-AE57-8A63FF5C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BA1-446B-41E4-B8F3-32481D96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9AB-287D-4013-A034-5D5BD8EA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7D5-2257-4354-8BBF-3DC57AD2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BBC-0A20-46EB-9866-353A16C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8D5-EA01-4A9E-B1C9-389DF1B5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79F-F1DE-464E-8070-60B35893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80EA-CAEC-4AC5-9049-7A9EA53823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19F0-87E4-4EC5-BB87-778BB82918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72680"/>
            <a:ext cx="86868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Терроризм- проблема всего мира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ля террора используют даже животны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7656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зорвавшийся террорис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асти тела взорвавшейся террористк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движение условий террористам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оследствия терро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1 сентябр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0072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333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дрывные действия террорист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11160" y="2100240"/>
            <a:ext cx="69454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Устрашающие акци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4008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здевательства террористов над заложникам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858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Школьники Беслан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102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3429000" cy="1886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Участники террористических акт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295800" cy="2549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66880" y="1828800"/>
            <a:ext cx="22860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сле террористического акта в метр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Жертвы терро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Горе отца безгранично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2578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следствия террора могут быть непредсказуем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еррористы празднуют побед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01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свобождая других, погибали работники правоохранительных органов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8769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867280" y="1967040"/>
            <a:ext cx="2895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дполковник Васильев Константин Ив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первый день захвата сам прош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здание театра на Дубровке с предложени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менять себя на заложник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пасение заложник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Ликвидация террорист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ра их настигл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ло наказуемо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2840" y="2100240"/>
            <a:ext cx="7021440" cy="3478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7086600" cy="389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7086600" cy="3897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143000" y="1905120"/>
            <a:ext cx="7086600" cy="3897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143000" y="1905120"/>
            <a:ext cx="70866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 террору привлекают даже женщин и дете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0292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Мы против смерти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елякова Любовь Николаевн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подаватель –организатор основ безопасности жизнедеятельности Куликовской СОШ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ти втянуты во взрослые игр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6201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еррорист №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411480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25905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Известные террористы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7242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оружение террорист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810240" cy="341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38098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У терроризма выросли крыль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мертник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419360" cy="360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5000" y="2057400"/>
            <a:ext cx="3065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34:59Z</dcterms:created>
  <dc:creator>Люба</dc:creator>
  <dc:description/>
  <dc:language>en-US</dc:language>
  <cp:lastModifiedBy>Люба</cp:lastModifiedBy>
  <dcterms:modified xsi:type="dcterms:W3CDTF">2015-02-04T18:14:0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