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6E34-F6BE-424C-8753-C0A4B9DC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6E4A-67D9-4FEA-81A5-BFC397D1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8C67-D51B-42E7-A00D-371708E9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9F7E-0128-4886-8DC0-347B4D6D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9790-0F26-4C6E-B594-705FBD79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311F-4CD5-4212-BC54-744DE59C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BE98-54A0-4678-9A2D-10317DE2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CFC6-76C9-4834-9D07-CE48A064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95D8-D0AC-4517-A0C6-E450A1C5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B554-71FB-4F64-A98C-67CFABAF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D9CA-1510-4613-AA1C-F4576153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C5BB-047D-4D33-A7C2-7FC00695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A11E-F837-4B16-B74B-E41658CA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DD41-CFDF-42F2-AD52-A5571998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F7B8-FEDD-4793-B88C-2C4CD9B7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970B-0CB1-4C7A-B853-2F3FC455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C13B-D68D-4AFC-8733-0AB14D3B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4A86-5B56-472A-8325-C70FF386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6677-8A18-42D0-8886-124634FE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3FD8-A624-4258-8B7F-B40BEAA9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ECB7-11C2-4D19-9356-67351D04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0240-5795-4D9F-ACD8-D0AC3553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9A6F-DB7F-4B8B-B742-E12C479C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F792-D8B1-4F85-955A-82858531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AC47-6FC3-40A9-95BE-29BAB55A95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625F-78FE-402D-9278-951A67C06E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476360" y="1268280"/>
            <a:ext cx="6912000" cy="367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МОТИВАЦИЯ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28 0.011 0.08657 0.028 0.1132 C 0.028 0.11453 0.055 0.15049 0.055 0.14916 C 0.07 0.16914 0.079 0.19711 0.079 0.2264 C 0.079 0.285 0.044 0.33162 0 0.33295 C -0.044 0.33162 -0.079 0.285 -0.079 0.2264 C -0.079 0.19711 -0.07 0.16914 -0.055 0.14916 C -0.055 0.15049 -0.028 0.11453 -0.028 0.1132 C -0.011 0.08657 -0.001 0.04528 0 0 Z"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258920" y="692280"/>
            <a:ext cx="758016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жет быть проблемой отдельных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чин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ниженный интеллект. Они с трудом выполняют задания. У них очень низкая самооценка. Такие дети чаще других получают замечания от учителя. Состояние неудовлетворённости своим положением в школе толкает их на ничем не мотивированные нарушения дисциплины: выкрикивание с места, бегание по коридору, драчливос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чностные особенности (повышенная тревожность, заниженная самооценка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циальная ситуация развития (межличностные отношения, школьная адаптация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рушения в развитии волевых процесс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сформированность мотивации уч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Уровни мотивации уче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 уровен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продуктивная мотивация. Дети отличаются наличием высоких познавательных мотивов, стремлением успешно выполнить все предъявленные школой треб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уровен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хорошая школьная мотивация, позитивное отношение к учению, соответствие социальному норматив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768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768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0" dur="76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2" dur="76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15640" y="189000"/>
            <a:ext cx="772308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уровен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средний, с несколько  сниженной познавательной мотиваци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чебный процесс их мало волну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уровен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низкая мотивация. Переживание «школьной скуки», отрицательное эмоциональное отношение к учен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уровен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резко отрицательное отношение к учен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асто у таких детей отмечаются нарушения психического здоровь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Результаты обследования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от общего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количества)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476360" y="1557360"/>
          <a:ext cx="6508440" cy="5084640"/>
        </p:xfrm>
        <a:graphic>
          <a:graphicData uri="http://schemas.openxmlformats.org/drawingml/2006/table">
            <a:tbl>
              <a:tblPr/>
              <a:tblGrid>
                <a:gridCol w="3267000"/>
                <a:gridCol w="3241440"/>
              </a:tblGrid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1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уровень – 1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уровень – 3,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уровень -  1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уровень -  16,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уровень -  2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уровень -  29,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уровень -   3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уровень -   41,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уровень -   6,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уровень -     9,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6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Результаты обследования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5-8 класс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24000" y="1916280"/>
          <a:ext cx="7696080" cy="470196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0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1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уровень –   4,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уровень –    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уровень -    4,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уровень -    13,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уровень -   32,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уровень -      2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уровень -   37,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уровень -     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уровень -       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уровень -       8,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Уровни развития школьной мотивации в возрастных    параллелях (январь 2011)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11280" y="1989000"/>
          <a:ext cx="8064360" cy="4114800"/>
        </p:xfrm>
        <a:graphic>
          <a:graphicData uri="http://schemas.openxmlformats.org/drawingml/2006/table">
            <a:tbl>
              <a:tblPr/>
              <a:tblGrid>
                <a:gridCol w="896760"/>
                <a:gridCol w="893880"/>
                <a:gridCol w="896760"/>
                <a:gridCol w="897120"/>
                <a:gridCol w="895320"/>
                <a:gridCol w="896760"/>
                <a:gridCol w="897120"/>
                <a:gridCol w="893880"/>
                <a:gridCol w="8967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клас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у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у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,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у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,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у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7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у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4159080" y="32464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Как заинтересовать ребёнка учебой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усть задание представляется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бёнку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существимым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пределите цель, что нужно сделать, разделите задание на маленькие части, приготовьте все необходимое для работы и приступайте к выполнени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делайте задание интересным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оревнуйся сам с собой», «чередуем чтение трудного текста с чтением веселой, интересной книги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пробуйте показать ребёнку прикладно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характер задани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акая польза от знакомства с новым законом физики и т.д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Основные профилактические и коррекционные мероприятия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7280" y="1197000"/>
            <a:ext cx="7777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Сбор данных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иагностика психического развития учащихся и выявление возможных путей компенсации недостатков психического развит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наблюдение за взаимодействием учителя и учени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Коррекционная и развивающая работ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коррекционные и развивающие заня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86920" y="260280"/>
            <a:ext cx="76518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роенные по принципу постепенного усложнения материала(развитие отдельных качеств и свойств) и т.д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Профилактик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просветительские семинары и собра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разработка совместно со школой, учителями путей создания устойчивой учебной мотивац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d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Вывод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обходимо создание благоприятного психологического клима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ятельность школы по предупреждению неуспеваемости должна быть проникнута духом гуманизма, уважения к личности, веры в её возможности. Такое отношение требует от педагога высоких моральных качеств, профессиональных знаний, педагогической компетент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Мотив – это то, Ради чего человек действует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885080" cy="1447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Мотивационная сфе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вокупность мотивов-побудителей деятельности, связанных с удовлетворением потребност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 6-7 годам возникает иерархия, соподчинение мотив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тивам, имеющим наибольшую значимость для ребёнка, подчиняются все остальны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Виды мотивов обучения в 7л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чебно-познавательный моти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ирокие социальные мотивы, основанные на понимании общественной необходимости уч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позитивный мотив, связанный со стремлением занять новое положение в отношениях с окружающи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гровой моти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тив получения высокой отмет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Учебная мотивация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Это процесс, который запускает, направляет и поддерживает усилия, направленные на выполнение учебной деятельнос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Возможные отклонения развития мотивационной сферы и их последств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6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 имеют подлинно учебной мотив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гровая мотивация может быть        продолжительным явление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 слабом развитии учебной мотивации, школьник не будет принимать поставленной учебной задач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ебная успешность – под угроз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6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Застревание» на получение высоких отмето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водит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 тревожности, понижению самооценки, эмоциональным срывам, перегрузкам, утомляем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9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98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8000" y="226800"/>
            <a:ext cx="693288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Три кита учебной мотивации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1640" y="2060640"/>
            <a:ext cx="76518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Кит 1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.Ощущение самостоятельности процесса поиска знаний,т.е. «Мы это поняли, узнали, придумали сами!»+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Кит 2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. Ощущение свободы выбора, т.е.«Мы можем выбирать»+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Кит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.Ощущение успешности (компетентности), т.е. «У меня это получится, я понял, я умею!»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Правила позитивной обратной связи (ПОС)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58920" y="1844280"/>
            <a:ext cx="7580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 д.б. ясной, конкретной и содержательной, имеющей   прямое отношение к данной работ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 даётся за проявленные усилия, достижение конкретных цел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 должна быть индивидуально ориентированн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хвала д.б. искренней, честной, и спонтанн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а поддержки, жесты одобрения нужно находить для всех дет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948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Проблема низкой успеваемост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7280" y="980640"/>
            <a:ext cx="7777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жет носить глобальный характер ( когда неуспевают  20-50% учащихся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чин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спропорция интеллектуального развития (память соответствует норме, речевое развитие снижено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растной кризис (например, в 10-11 ле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 детей наблюдается снижение интереса к учебе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достаточная сформированность приёмов и способ учебной деятельности (переключение с одного материала на другой)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кретный метод преподав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ичность преподавател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правильная форма подачи материала ( преподаватель не учитывает возрастные особенности учащихся, делает ставку на ещё несформированные у них способы и приёмы усвоения знаний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фликт с учителе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5:16:37Z</dcterms:created>
  <dc:creator>Смолев Владимир</dc:creator>
  <dc:description/>
  <dc:language>en-US</dc:language>
  <cp:lastModifiedBy>Admin</cp:lastModifiedBy>
  <dcterms:modified xsi:type="dcterms:W3CDTF">2013-01-17T09:38:32Z</dcterms:modified>
  <cp:revision>15</cp:revision>
  <dc:subject/>
  <dc:title>Слайд 1</dc:title>
</cp:coreProperties>
</file>