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B2F-CBE5-4123-9960-A236D96D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C93-D3A3-469B-BF9C-0F7BEC67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721-CBAB-4294-874F-FBF121CF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5E0-7889-4E79-94B8-C5EFDBFE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A75B-2174-4111-8060-5727DE0C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3A55-68EB-4F1B-BD8A-E243A1FE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204D-A3E3-48F8-AB8C-D5658C2D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B0D1-77C5-4554-A0D9-ED66EAB2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4B74-9F9E-4627-BB7D-2DB7A3EB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2AEC-8B56-4978-B953-EDDE7AF3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7716-8AC1-43BA-89CD-B7114E7D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DA9-C8ED-4FB9-9CFE-55742C39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AE30-6EF4-4E1B-A5F5-0148236A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85B4-93B9-4ACF-A7D5-631C3BA9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69A0-EB62-48D1-958D-51B0BC77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8243-D0C0-4912-B200-5C0DBED8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4069-57BB-4EDE-9675-F9480BB6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673-6132-41E7-8240-E02ECB90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0D9-B02E-4175-9EFA-DA284997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44E-42FD-48A4-A719-718C6111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EB4-1935-4348-B2F1-0793C941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343-3D6E-4AFF-9DF1-069C0D8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665-5C39-4590-92B9-498EFD8F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700-2CA2-4F50-B8DE-F2FDD4D8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41D9-2F48-43AB-B91F-124EB45D3D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80C5-6F48-42FF-A049-D61F819C02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476360" y="1268280"/>
            <a:ext cx="6912000" cy="36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МОТИВАЦИЯ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58920" y="692280"/>
            <a:ext cx="75801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жет быть проблемой отдельных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ниженный интеллект. Они с трудом выполняют задания. У них очень низкая самооценка. Такие дети чаще других получают замечания от учителя. Состояние неудовлетворённости своим положением в школе толкает их на ничем не мотивированные нарушения дисциплины: выкрикивание с места, бегание по коридору, драчлив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ные особенности (повышенная тревожность, заниженная самооценка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циальная ситуация развития (межличностные отношения, школьная адаптаци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рушения в развитии волевых процесс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сформированность мотивации 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Уровни мотивации уче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уровен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продуктивная мотивация. Дети отличаются наличием высоких познавательных мотивов, стремлением успешно выполнить все предъявленные школой треб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уровен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хорошая школьная мотивация, позитивное отношение к учению, соответствие социальному норматив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68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68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15640" y="189000"/>
            <a:ext cx="77230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уровен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средний, с несколько  сниженной познавательной мотиваци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ый процесс их мало волн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низкая мотивация. Переживание «школьной скуки», отрицательное эмоциональное отношение к у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уровен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резко отрицательное отношение к у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асто у таких детей отмечаются нарушения психического здоровь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Результаты обследования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от общего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количества)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76360" y="1557360"/>
          <a:ext cx="6508440" cy="5084640"/>
        </p:xfrm>
        <a:graphic>
          <a:graphicData uri="http://schemas.openxmlformats.org/drawingml/2006/table">
            <a:tbl>
              <a:tblPr/>
              <a:tblGrid>
                <a:gridCol w="3267000"/>
                <a:gridCol w="324144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уровень – 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уровень – 3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ровень -  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ровень -  16,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уровень -  2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уровень -  29,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ровень -   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ровень -   41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уровень -   6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уровень -     9,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6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Результаты обследования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5-8 класс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4000" y="1916280"/>
          <a:ext cx="7696080" cy="47019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уровень –   4,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уровень –    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ровень -    4,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ровень -    13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уровень -   32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уровень -      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ровень -   37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ровень -     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уровень -       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уровень -       8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Уровни развития школьной мотивации в возрастных    параллелях (январь 2011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11280" y="1989000"/>
          <a:ext cx="8064360" cy="4114800"/>
        </p:xfrm>
        <a:graphic>
          <a:graphicData uri="http://schemas.openxmlformats.org/drawingml/2006/table">
            <a:tbl>
              <a:tblPr/>
              <a:tblGrid>
                <a:gridCol w="896760"/>
                <a:gridCol w="893880"/>
                <a:gridCol w="896760"/>
                <a:gridCol w="897120"/>
                <a:gridCol w="895320"/>
                <a:gridCol w="896760"/>
                <a:gridCol w="897120"/>
                <a:gridCol w="893880"/>
                <a:gridCol w="896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клас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у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у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у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у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у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4159080" y="32464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Как заинтересовать ребёнка учебой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усть задание представляетс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бёнк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уществимым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ределите цель, что нужно сделать, разделите задание на маленькие части, приготовьте все необходимое для работы и приступайте к выполне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делайте задание интересным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оревнуйся сам с собой», «чередуем чтение трудного текста с чтением веселой, интересной книги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пробуйте показать ребёнку прикладно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характер зада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кая польза от знакомства с новым законом физики и т.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Основные профилактические и коррекционные мероприяти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7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Сбор данны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агностика психического развития учащихся и выявление возможных путей компенсации недостатков психического развит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наблюдение за взаимодействием учителя и учен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Коррекционная и развивающая работ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коррекционные и развивающие заня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6920" y="260280"/>
            <a:ext cx="76518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роенные по принципу постепенного усложнения материала(развитие отдельных качеств и свойств)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Профилактик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просветительские семинары и собр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разработка совместно со школой, учителями путей создания устойчивой учебной мотива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бходимо создание благоприятного психологического клима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ятельность школы по предупреждению неуспеваемости должна быть проникнута духом гуманизма, уважения к личности, веры в её возможности. Такое отношение требует от педагога высоких моральных качеств, профессиональных знаний, педагогической компетент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Мотив – это то, Ради чего человек действует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885080" cy="1447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Мотивационная сфе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вокупность мотивов-побудителей деятельности, связанных с удовлетворением потребнос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 6-7 годам возникает иерархия, соподчинение мотив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тивам, имеющим наибольшую значимость для ребёнка, подчиняются все осталь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Виды мотивов обучения в 7л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ебно-познавательный моти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ирокие социальные мотивы, основанные на понимании общественной необходимости 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позитивный мотив, связанный со стремлением занять новое положение в отношениях с окружающи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гровой моти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тив получения высокой отмет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Учебная мотиваци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то процесс, который запускает, направляет и поддерживает усилия, направленные на выполнение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Возможные отклонения развития мотивационной сферы и их последств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имеют подлинно учебной мотив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гровая мотивация может быть        продолжительным явл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слабом развитии учебной мотивации, школьник не будет принимать поставленной учебной задач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ебная успешность – под угроз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Застревание» на получение высоких отмет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води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тревожности, понижению самооценки, эмоциональным срывам, перегрузкам, утомляем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8000" y="226800"/>
            <a:ext cx="693288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Три кита учебной мотиваци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2060640"/>
            <a:ext cx="76518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Кит 1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Ощущение самостоятельности процесса поиска знаний,т.е. «Мы это поняли, узнали, придумали сами!»+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Кит 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Ощущение свободы выбора, т.е.«Мы можем выбирать»+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Кит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Ощущение успешности (компетентности), т.е. «У меня это получится, я понял, я умею!»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Правила позитивной обратной связи (ПОС)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580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 д.б. ясной, конкретной и содержательной, имеющей   прямое отношение к данной работ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 даётся за проявленные усилия, достижение конкретных це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 должна быть индивидуально ориентирован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хвала д.б. искренней, честной, и спонтан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поддержки, жесты одобрения нужно находить для всех де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948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роблема низкой успеваемос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98064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жет носить глобальный характер ( когда неуспевают  20-50% учащихс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спропорция интеллектуального развития (память соответствует норме, речевое развитие снижено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растной кризис (например, в 10-11 л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детей наблюдается снижение интереса к учебе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достаточная сформированность приёмов и способ учебной деятельности (переключение с одного материала на другой)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кретный метод препода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чность преподавате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равильная форма подачи материала ( преподаватель не учитывает возрастные особенности учащихся, делает ставку на ещё несформированные у них способы и приёмы усвоения знани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фликт с учителе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16:37Z</dcterms:created>
  <dc:creator>Смолев Владимир</dc:creator>
  <dc:description/>
  <dc:language>en-US</dc:language>
  <cp:lastModifiedBy>Admin</cp:lastModifiedBy>
  <dcterms:modified xsi:type="dcterms:W3CDTF">2013-01-17T09:38:32Z</dcterms:modified>
  <cp:revision>15</cp:revision>
  <dc:subject/>
  <dc:title>Слайд 1</dc:title>
</cp:coreProperties>
</file>