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4CE-D578-4420-8EB2-428E4777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F280-6398-43F5-9CB0-947BBA1D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741A-5744-49AB-B00F-0C9A3F6F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3CA-AE62-4B6B-B0CB-5501BDB4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CA9A-7BC6-413C-8ABC-CC5C3610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8C9C-EFAC-4BCD-8D97-73F71832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C03-ED0E-417E-8BB7-E5839491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199-045F-4EE2-81FD-D35893BB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F28C-2771-4556-AFC5-BAD200BC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917E-03CA-48B7-AF1C-C30DEDDD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B30-502D-4A80-AFCA-865D038B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215-78A7-4161-89FA-763CB64F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9F5F-D9C1-4C9A-9B9C-ECEFE5B9C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7960" y="260280"/>
            <a:ext cx="61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Развивающая предметно – пространственная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00" y="6922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Музыкальный и театральный уго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960720" cy="2303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40320" y="69228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Уголок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932360" y="1125360"/>
            <a:ext cx="4032360" cy="2303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42520" y="3500280"/>
            <a:ext cx="43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Уголок для сюжетно – ролевой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50920" y="3933720"/>
            <a:ext cx="3960720" cy="237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932360" y="3933720"/>
            <a:ext cx="3960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Уголок природы и уголок для игр с водой и пе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960720" cy="2303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59280" y="0"/>
            <a:ext cx="36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Уголок книги и речевой уго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32360" y="765000"/>
            <a:ext cx="3960720" cy="230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7240" y="31417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Уголок констру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50920" y="3789360"/>
            <a:ext cx="3735360" cy="25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10160" y="314172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Уголок    ПД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960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5T07:33:31Z</dcterms:created>
  <dc:creator>*</dc:creator>
  <dc:description/>
  <dc:language>en-US</dc:language>
  <cp:lastModifiedBy>*</cp:lastModifiedBy>
  <dcterms:modified xsi:type="dcterms:W3CDTF">2015-02-05T08:06:10Z</dcterms:modified>
  <cp:revision>3</cp:revision>
  <dc:subject/>
  <dc:title>Слайд 1</dc:title>
</cp:coreProperties>
</file>