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D37-A262-4551-B48F-3C9DA406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8BD-EC68-4B25-94E1-219486C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7A9-CAFA-4663-A518-BC1FCA2F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6C1-2CFD-4814-B228-43F6ACC5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2AA-FFF2-4454-A751-0E264212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C6A-EE37-4767-9E6F-B548041B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053-C185-43A1-933A-BBB099B2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6E9-76B7-4030-BFD8-0F23BD08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156-9E54-4E1B-BE4F-227F26C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AEC-0EFC-4701-B0E1-49911D9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15F-693E-49F6-823F-ED1D729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23A-2C89-4A1F-9182-1D9BA8D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EAD-EA36-4D95-8653-6748CA94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7960" y="260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Развивающая предметно – пространственн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00" y="6922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Музыкальный и театральны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40320" y="6922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403236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2520" y="3500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для сюжетно – ролевой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960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природы и уголок для игр с водой и п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книги и речево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240" y="31417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73536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10160" y="31417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   П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96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07:33:31Z</dcterms:created>
  <dc:creator>*</dc:creator>
  <dc:description/>
  <dc:language>en-US</dc:language>
  <cp:lastModifiedBy>*</cp:lastModifiedBy>
  <dcterms:modified xsi:type="dcterms:W3CDTF">2015-02-05T08:06:10Z</dcterms:modified>
  <cp:revision>3</cp:revision>
  <dc:subject/>
  <dc:title>Слайд 1</dc:title>
</cp:coreProperties>
</file>