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CFC-0081-4ECD-9D25-CBBAFA00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4E0-066E-4703-ABA6-D6D7B6E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23F-97E0-49CD-BF66-2E7CF917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F24-D74E-465C-9173-7745596F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5EF-F5E5-4D8A-A803-EF48D07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FB4-268F-464B-A7BF-6D09ECFB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A65-4827-41F6-9EC9-78BD1DC1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1D9-506C-4734-9ACD-9685D47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F7A-CE84-4225-A1A4-15B6E7DC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E50-14DB-442F-8456-973F769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EA7-5FD9-40DC-998D-39594B2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485-4FE8-41E4-B8C9-B397F70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2B86-6126-4F92-ABB9-6DB23195AD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Смотрю я…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полную горя войну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1240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и ученицы 8 «в» класса «СОШ № 12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няева Зо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фанасьева Юл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данёва Анастас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Одинцова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ыктывкар 2010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1010871"/>
          <p:cNvPicPr/>
          <p:nvPr/>
        </p:nvPicPr>
        <p:blipFill>
          <a:blip r:embed="rId1"/>
          <a:stretch/>
        </p:blipFill>
        <p:spPr>
          <a:xfrm>
            <a:off x="1905120" y="762120"/>
            <a:ext cx="596088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00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гарита Прилуцкая и авторы презентации и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следить традиции поэзии      Вероники Тушновой в творчестве коми поэтессы Маргариты Прилуц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2880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М.Прилуцка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10229082"/>
          <p:cNvPicPr/>
          <p:nvPr/>
        </p:nvPicPr>
        <p:blipFill>
          <a:blip r:embed="rId1"/>
          <a:stretch/>
        </p:blipFill>
        <p:spPr>
          <a:xfrm>
            <a:off x="5715000" y="2819520"/>
            <a:ext cx="2425680" cy="29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1010870"/>
          <p:cNvPicPr/>
          <p:nvPr/>
        </p:nvPicPr>
        <p:blipFill>
          <a:blip r:embed="rId2"/>
          <a:stretch/>
        </p:blipFill>
        <p:spPr>
          <a:xfrm>
            <a:off x="1066680" y="2819520"/>
            <a:ext cx="236232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143000" y="60948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предполагаем, что в творчестве М.Прилуцкой прослеживается преемственность традиций поэзии В.Тушнов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5880" y="5943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 Туш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Зелёная ламп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819-1820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_27988"/>
          <p:cNvPicPr/>
          <p:nvPr/>
        </p:nvPicPr>
        <p:blipFill>
          <a:blip r:embed="rId1"/>
          <a:stretch/>
        </p:blipFill>
        <p:spPr>
          <a:xfrm>
            <a:off x="838080" y="2438280"/>
            <a:ext cx="160524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"/>
          <p:cNvPicPr/>
          <p:nvPr/>
        </p:nvPicPr>
        <p:blipFill>
          <a:blip r:embed="rId2"/>
          <a:stretch/>
        </p:blipFill>
        <p:spPr>
          <a:xfrm>
            <a:off x="3505320" y="3733920"/>
            <a:ext cx="1904760" cy="213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"/>
          <p:cNvPicPr/>
          <p:nvPr/>
        </p:nvPicPr>
        <p:blipFill>
          <a:blip r:embed="rId3"/>
          <a:stretch/>
        </p:blipFill>
        <p:spPr>
          <a:xfrm>
            <a:off x="6400800" y="266688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У камелька» (2000г.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P1010866"/>
          <p:cNvPicPr/>
          <p:nvPr/>
        </p:nvPicPr>
        <p:blipFill>
          <a:blip r:embed="rId1"/>
          <a:stretch/>
        </p:blipFill>
        <p:spPr>
          <a:xfrm>
            <a:off x="228600" y="1600200"/>
            <a:ext cx="40752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P1010878"/>
          <p:cNvPicPr/>
          <p:nvPr/>
        </p:nvPicPr>
        <p:blipFill>
          <a:blip r:embed="rId2"/>
          <a:stretch/>
        </p:blipFill>
        <p:spPr>
          <a:xfrm>
            <a:off x="4876920" y="12952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1010877"/>
          <p:cNvPicPr/>
          <p:nvPr/>
        </p:nvPicPr>
        <p:blipFill>
          <a:blip r:embed="rId3"/>
          <a:stretch/>
        </p:blipFill>
        <p:spPr>
          <a:xfrm>
            <a:off x="2895480" y="4114800"/>
            <a:ext cx="32004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лдетства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времени потерян счё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ранство здесь неощутим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детства унесла во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и бесконечные - полдет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ая стынь бомбоубежи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енья грозного пол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страшен был сирены в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ещами, собранными в узе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с мамой в подземелья стуж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ускались осенью сырой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руку мамину держа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чонкой детскою худо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сё ждала сигнал отбо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долог был налёта час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Ночная трево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времени потерян сч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транство здесь неощутим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будто жизнь, не глядя, м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ей дорогою теч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ячий мрак, и бормотан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олголоса. И только р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корня вздрагивает зда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то-то шепотом: "Не в нас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друг неясно голуб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 в углу, на месте двер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Тревога кончилась. Отбой!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голосу не сразу верим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ойна и природ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Жарким летом в жизнь вошла во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клась холодной серой стужей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пахнет резедой и лет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 до войны, как год назад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казалось, солнца яркий св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овь не засияет в этом мире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шумно ссорятся ребя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ща осколки по примят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есой утренней траве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C:\Users\Максим\Desktop\0019w656"/>
          <p:cNvPicPr/>
          <p:nvPr/>
        </p:nvPicPr>
        <p:blipFill>
          <a:blip r:embed="rId1"/>
          <a:stretch/>
        </p:blipFill>
        <p:spPr>
          <a:xfrm>
            <a:off x="5486400" y="2286000"/>
            <a:ext cx="33321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зобразительные средств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Свил аист гнездо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тволе обгорелом…»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И снова поиски ключ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верь с задвижкою тугою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По выжженным нив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илась весна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лу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До корня вздрагивает зда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то-то шепотом: "Не в нас"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шн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794482"/>
          <p:cNvPicPr/>
          <p:nvPr/>
        </p:nvPicPr>
        <p:blipFill>
          <a:blip r:embed="rId1"/>
          <a:stretch/>
        </p:blipFill>
        <p:spPr>
          <a:xfrm>
            <a:off x="6477120" y="1219320"/>
            <a:ext cx="128268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ead7d98dde76f7bbd0b66ac4b31056f4_big"/>
          <p:cNvPicPr/>
          <p:nvPr/>
        </p:nvPicPr>
        <p:blipFill>
          <a:blip r:embed="rId2"/>
          <a:stretch/>
        </p:blipFill>
        <p:spPr>
          <a:xfrm>
            <a:off x="6019920" y="3886200"/>
            <a:ext cx="2209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лологи</cp:lastModifiedBy>
  <dcterms:modified xsi:type="dcterms:W3CDTF">2010-04-13T10:02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