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848-EE4B-4EF7-A912-BE1955E0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320-A7AC-4EF0-8A40-58CDB4FA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48E-BE98-40CA-AEAD-5B7F72A7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D56-3F24-4685-B817-7074A39C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38E-E1D7-4A19-9B4A-5FD5D754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6AC-8D2D-404D-95FB-CBD02AB1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3EB-C42F-451F-AE49-4C7D984E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78E-1013-4187-A42E-8DD2DB99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038-AEAC-49E4-9EC3-B49AB491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50D-1983-4221-B429-8AFB6856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B90-7A11-4F41-9AD3-6BB18C1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B74-5F85-4123-808B-2725CA7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1302-8B4D-4E87-902B-AF5F9B9845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Смотрю я…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 полную горя войну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124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и ученицы 8 «в» класса «СОШ № 12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няева Зо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фанасьева Юл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данёва Анастас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Одинцова О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ыктывкар 2010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1010871"/>
          <p:cNvPicPr/>
          <p:nvPr/>
        </p:nvPicPr>
        <p:blipFill>
          <a:blip r:embed="rId1"/>
          <a:stretch/>
        </p:blipFill>
        <p:spPr>
          <a:xfrm>
            <a:off x="1905120" y="762120"/>
            <a:ext cx="596088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600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гарита Прилуцкая и авторы презентации и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следить традиции поэзии      Вероники Тушновой в творчестве коми поэтессы Маргариты Прилуц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28800" y="4800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М.Прилуцка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4" descr="10229082"/>
          <p:cNvPicPr/>
          <p:nvPr/>
        </p:nvPicPr>
        <p:blipFill>
          <a:blip r:embed="rId1"/>
          <a:stretch/>
        </p:blipFill>
        <p:spPr>
          <a:xfrm>
            <a:off x="5715000" y="2819520"/>
            <a:ext cx="2425680" cy="29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1010870"/>
          <p:cNvPicPr/>
          <p:nvPr/>
        </p:nvPicPr>
        <p:blipFill>
          <a:blip r:embed="rId2"/>
          <a:stretch/>
        </p:blipFill>
        <p:spPr>
          <a:xfrm>
            <a:off x="1066680" y="2819520"/>
            <a:ext cx="2362320" cy="2928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1143000" y="609480"/>
            <a:ext cx="693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предполагаем, что в творчестве М.Прилуцкой прослеживается преемственность традиций поэзии В.Тушнов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95880" y="5943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. Тушн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Зелёная ламп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819-1820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m_27988"/>
          <p:cNvPicPr/>
          <p:nvPr/>
        </p:nvPicPr>
        <p:blipFill>
          <a:blip r:embed="rId1"/>
          <a:stretch/>
        </p:blipFill>
        <p:spPr>
          <a:xfrm>
            <a:off x="838080" y="2438280"/>
            <a:ext cx="160524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i"/>
          <p:cNvPicPr/>
          <p:nvPr/>
        </p:nvPicPr>
        <p:blipFill>
          <a:blip r:embed="rId2"/>
          <a:stretch/>
        </p:blipFill>
        <p:spPr>
          <a:xfrm>
            <a:off x="3505320" y="3733920"/>
            <a:ext cx="1904760" cy="2138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"/>
          <p:cNvPicPr/>
          <p:nvPr/>
        </p:nvPicPr>
        <p:blipFill>
          <a:blip r:embed="rId3"/>
          <a:stretch/>
        </p:blipFill>
        <p:spPr>
          <a:xfrm>
            <a:off x="6400800" y="266688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У камелька» (2000г.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P1010866"/>
          <p:cNvPicPr/>
          <p:nvPr/>
        </p:nvPicPr>
        <p:blipFill>
          <a:blip r:embed="rId1"/>
          <a:stretch/>
        </p:blipFill>
        <p:spPr>
          <a:xfrm>
            <a:off x="228600" y="1600200"/>
            <a:ext cx="40752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P1010878"/>
          <p:cNvPicPr/>
          <p:nvPr/>
        </p:nvPicPr>
        <p:blipFill>
          <a:blip r:embed="rId2"/>
          <a:stretch/>
        </p:blipFill>
        <p:spPr>
          <a:xfrm>
            <a:off x="4876920" y="12952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P1010877"/>
          <p:cNvPicPr/>
          <p:nvPr/>
        </p:nvPicPr>
        <p:blipFill>
          <a:blip r:embed="rId3"/>
          <a:stretch/>
        </p:blipFill>
        <p:spPr>
          <a:xfrm>
            <a:off x="2895480" y="4114800"/>
            <a:ext cx="320040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олдетства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времени потерян счё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транство здесь неощутим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детства унесла вой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ни бесконечные - полдет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ая стынь бомбоубежи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ченья грозного пол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страшен был сирены во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ещами, собранными в узе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с мамой в подземелья стуж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ускались осенью сырой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 руку мамину держа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чонкой детскою худою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всё ждала сигнал отбо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долог был налёта час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Прилуц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очная трево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времени потерян сч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транство здесь неощутим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будто жизнь, не глядя, мим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ей дорогою теч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ячий мрак, и бормотань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полголоса. И только р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корня вздрагивает здан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то-то шепотом: "Не в нас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друг неясно голуб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драт в углу, на месте двер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"Тревога кончилась. Отбой!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голосу не сразу верим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ойна и природ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Жарким летом в жизнь вошла вой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еклась холодной серой стужей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луцк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И пахнет резедой и лет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 до войны, как год назад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шно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И казалось, солнца яркий св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овь не засияет в этом мире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луц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И шумно ссорятся ребят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ща осколки по примят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лесой утренней траве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C:\Users\Максим\Desktop\0019w656"/>
          <p:cNvPicPr/>
          <p:nvPr/>
        </p:nvPicPr>
        <p:blipFill>
          <a:blip r:embed="rId1"/>
          <a:stretch/>
        </p:blipFill>
        <p:spPr>
          <a:xfrm>
            <a:off x="5486400" y="2286000"/>
            <a:ext cx="33321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зобразительные средств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Свил аист гнездо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тволе обгорелом…»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луцка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И снова поиски ключ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дверь с задвижкою тугою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По выжженным нив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илась весна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луц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До корня вздрагивает здан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то-то шепотом: "Не в нас"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794482"/>
          <p:cNvPicPr/>
          <p:nvPr/>
        </p:nvPicPr>
        <p:blipFill>
          <a:blip r:embed="rId1"/>
          <a:stretch/>
        </p:blipFill>
        <p:spPr>
          <a:xfrm>
            <a:off x="6477120" y="1219320"/>
            <a:ext cx="1282680" cy="1752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ead7d98dde76f7bbd0b66ac4b31056f4_big"/>
          <p:cNvPicPr/>
          <p:nvPr/>
        </p:nvPicPr>
        <p:blipFill>
          <a:blip r:embed="rId2"/>
          <a:stretch/>
        </p:blipFill>
        <p:spPr>
          <a:xfrm>
            <a:off x="6019920" y="3886200"/>
            <a:ext cx="2209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илологи</cp:lastModifiedBy>
  <dcterms:modified xsi:type="dcterms:W3CDTF">2010-04-13T10:02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