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612-54B2-40EC-8332-DC4E4849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4C6-0D00-4937-84EC-784EC9EE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B3D-68E0-43EF-A0CD-170E5033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CAC-09E1-4CAE-BBFC-B06463AE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8816-5363-4967-B58E-238EBA77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E189-D1AF-49CC-9B23-56E6C934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5535-1DA3-4307-8D22-759F9110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1FAC-8DFC-434D-BA2E-530F93D5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6C60-F481-432A-874C-53369C54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6476-21B2-4B90-B20A-24EE93D8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61ED-875D-4824-8B2B-AAE8BAFF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E10-9713-445E-9369-45D5B7EF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9F70-E91C-460E-850F-C9681CAC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B8F8-973D-4766-9C97-759406C2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066E-FD9E-4264-BF9D-E0598CC9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5267-EBC6-4551-A4D8-E312CF36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61B1-11BF-44D9-B6BF-A28F5068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C71-7178-4189-B3E5-2DA393D6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AE9-5018-474E-9231-22CDABB8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EC4-B13E-466C-991F-587963FF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C30-A8C1-4A36-AD5E-7D1B1693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D7B-0FD1-4FED-9C27-D722AE69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2F6-621E-4220-A37A-815683A0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165-3588-4834-8D34-B54A6F51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3838-27AE-4E6C-AFCF-B6179098B71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18A4-4A73-45AF-AC29-F909033494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&#1050;&#1040;&#1041;&#1048;&#1053;&#1045;&#1058;%202%20&#1089;&#1077;&#1085;&#1090;/&#1088;&#1072;&#1073;&#1086;&#1095;&#1080;&#1081;%20&#1082;&#1086;&#1084;&#1087;/333%20&#1050;&#1072;&#1090;&#1086;&#1088;&#1075;&#1072;%20&#1057;&#1072;&#1093;&#1072;&#1083;&#1080;&#1085;&#1072;%202.ppt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../2009-20010%206%20&#1089;&#1077;&#1085;&#1090;&#1103;&#1073;&#1088;&#1103;/&#1059;&#1052;&#1050;%20&#1054;&#1089;&#1085;&#1086;&#1074;&#1099;%20&#1080;&#1085;&#1092;&#1086;&#1088;&#1084;&#1072;&#1090;&#1080;&#1082;&#1080;/&#1057;&#1088;&#1077;&#1076;&#1089;&#1090;&#1074;&#1072;%20&#1082;&#1086;&#1085;&#1090;&#1088;&#1086;&#1083;&#1103;/&#1090;&#1077;&#1089;&#1090;%20&#1087;&#1086;%20&#1090;&#1077;&#1084;&#1077;%20&#1080;&#1085;&#1092;&#1086;&#1088;&#1084;&#1072;&#1094;&#1080;&#1103;%20&#1080;&#1085;&#1092;&#1086;&#1088;&#1084;&#1072;&#1090;&#1080;&#1082;&#1072;.ppt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2009-20010%206%20&#1089;&#1077;&#1085;&#1090;&#1103;&#1073;&#1088;&#1103;/&#1050;&#1083;&#1072;&#1089;&#1089;&#1085;&#1099;&#1081;%20&#1088;&#1091;&#1082;&#1086;&#1074;&#1086;&#1076;&#1080;&#1090;&#1077;&#1083;&#1100;/&#1055;&#1088;&#1077;&#1079;&#1077;&#1085;&#1090;&#1072;&#1094;&#1080;&#1103;%20&#1047;&#1076;&#1086;&#1088;&#1086;&#1074;&#1072;&#1103;%20&#1087;&#1080;&#1097;&#1072;.ppt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Применение ИКТ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в учебном процесс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58770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одготовила: С.Н. Стёп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404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ГБПОУ «Сахалинский промышленно-экономический техникум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16855" b="8314"/>
          <a:stretch/>
        </p:blipFill>
        <p:spPr>
          <a:xfrm rot="432000">
            <a:off x="5940360" y="2420640"/>
            <a:ext cx="2878200" cy="2127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МБОУ &quot;СОШ 17&quot; &quot; 2012 &quot; Ноябрь"/>
          <p:cNvPicPr/>
          <p:nvPr/>
        </p:nvPicPr>
        <p:blipFill>
          <a:blip r:embed="rId2"/>
          <a:stretch/>
        </p:blipFill>
        <p:spPr>
          <a:xfrm rot="20697000">
            <a:off x="826920" y="3573360"/>
            <a:ext cx="2516400" cy="26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1971-0099-4171-AF8B-B12B048129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ИФРОВЫЕ ОБРАЗОВАТЕЛЬНЫЕ РЕСУРС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Ро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общая истор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ософская энциклопед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философ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ы философии (курс лекций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ка. Базовый кур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кетин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ая теор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3C5-208F-42C0-8E23-006F4D92FC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ИФРОВЫЕ ОБРАЗОВАТЕЛЬНЫЕ РЕСУРС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-622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мбрандт и золотой век голландской живопис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622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ая литература от Нестора до Маяковског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622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. Базовый кур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622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и физики Кирилла и Мефодия (10 класс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622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и физики Кирилла и Мефодия (11 класс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622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ки социолог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622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нциклопедия пользователя 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98E-D3B6-438A-9A0C-B54B9F4DFC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пособы использования ИКТ в учебном процесс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6920" y="2421000"/>
            <a:ext cx="7191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объяснительно-иллюстративн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ля демонстраци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хе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аграм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ыт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еофрагментов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443700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531" h="21600">
                <a:moveTo>
                  <a:pt x="7239" y="3985"/>
                </a:moveTo>
                <a:lnTo>
                  <a:pt x="14237" y="3985"/>
                </a:lnTo>
                <a:lnTo>
                  <a:pt x="18292" y="7484"/>
                </a:lnTo>
                <a:lnTo>
                  <a:pt x="18292" y="17615"/>
                </a:lnTo>
                <a:lnTo>
                  <a:pt x="7239" y="17615"/>
                </a:lnTo>
                <a:close/>
              </a:path>
              <a:path fill="darken" w="25531" h="21600">
                <a:moveTo>
                  <a:pt x="14237" y="3985"/>
                </a:moveTo>
                <a:lnTo>
                  <a:pt x="18292" y="7484"/>
                </a:lnTo>
                <a:lnTo>
                  <a:pt x="14237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еофрагмен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328464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531" h="21600">
                <a:moveTo>
                  <a:pt x="7239" y="3985"/>
                </a:moveTo>
                <a:lnTo>
                  <a:pt x="14237" y="3985"/>
                </a:lnTo>
                <a:lnTo>
                  <a:pt x="18292" y="7484"/>
                </a:lnTo>
                <a:lnTo>
                  <a:pt x="18292" y="17615"/>
                </a:lnTo>
                <a:lnTo>
                  <a:pt x="7239" y="17615"/>
                </a:lnTo>
                <a:close/>
              </a:path>
              <a:path fill="darken" w="25531" h="21600">
                <a:moveTo>
                  <a:pt x="14237" y="3985"/>
                </a:moveTo>
                <a:lnTo>
                  <a:pt x="18292" y="7484"/>
                </a:lnTo>
                <a:lnTo>
                  <a:pt x="14237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3357720"/>
            <a:ext cx="18000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екци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форматика. Информация. Основные термин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48F-1DDD-4217-9093-DDC90ACC66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пособы использования ИКТ в учебном процесс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692360" y="2420640"/>
            <a:ext cx="719136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как инструмент исслед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зволяющий обучающимся самостоятельно проводить исследования и эксперимен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450864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531" h="21600">
                <a:moveTo>
                  <a:pt x="7239" y="3985"/>
                </a:moveTo>
                <a:lnTo>
                  <a:pt x="14237" y="3985"/>
                </a:lnTo>
                <a:lnTo>
                  <a:pt x="18292" y="7484"/>
                </a:lnTo>
                <a:lnTo>
                  <a:pt x="18292" y="17615"/>
                </a:lnTo>
                <a:lnTo>
                  <a:pt x="7239" y="17615"/>
                </a:lnTo>
                <a:close/>
              </a:path>
              <a:path fill="darken" w="25531" h="21600">
                <a:moveTo>
                  <a:pt x="14237" y="3985"/>
                </a:moveTo>
                <a:lnTo>
                  <a:pt x="18292" y="7484"/>
                </a:lnTo>
                <a:lnTo>
                  <a:pt x="14237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>
            <a:hlinkClick r:id="rId1"/>
          </p:cNvPr>
          <p:cNvSpPr/>
          <p:nvPr/>
        </p:nvSpPr>
        <p:spPr>
          <a:xfrm>
            <a:off x="5292720" y="443700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531" h="21600">
                <a:moveTo>
                  <a:pt x="7239" y="3985"/>
                </a:moveTo>
                <a:lnTo>
                  <a:pt x="14237" y="3985"/>
                </a:lnTo>
                <a:lnTo>
                  <a:pt x="18292" y="7484"/>
                </a:lnTo>
                <a:lnTo>
                  <a:pt x="18292" y="17615"/>
                </a:lnTo>
                <a:lnTo>
                  <a:pt x="7239" y="17615"/>
                </a:lnTo>
                <a:close/>
              </a:path>
              <a:path fill="darken" w="25531" h="21600">
                <a:moveTo>
                  <a:pt x="14237" y="3985"/>
                </a:moveTo>
                <a:lnTo>
                  <a:pt x="18292" y="7484"/>
                </a:lnTo>
                <a:lnTo>
                  <a:pt x="14237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486900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ферат, курсовая рабо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4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3E7-F756-4C76-A954-89D24CC557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пособы использования ИКТ в учебном процесс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7280" y="2421000"/>
            <a:ext cx="718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контролирующ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для проведения самостоятельных работ, ОКР, зачетов и экзаменов в виде тестирования с применением различных технологий, в том числе для самоконтро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472428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>
            <a:hlinkClick r:id="rId1"/>
          </p:cNvPr>
          <p:cNvSpPr/>
          <p:nvPr/>
        </p:nvSpPr>
        <p:spPr>
          <a:xfrm>
            <a:off x="3851280" y="472428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5157720"/>
            <a:ext cx="187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 №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ы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95640" y="4869000"/>
            <a:ext cx="194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. рабо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лек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ы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88000" y="472428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04000" y="4869000"/>
            <a:ext cx="18003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ст по правовой информатик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1B0-AC11-4242-866B-557A7456FB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пособы использования ИКТ во внеурочной деятельност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692000" y="2349000"/>
            <a:ext cx="53276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ассные час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ные декад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>
            <a:hlinkClick r:id="rId1"/>
          </p:cNvPr>
          <p:cNvSpPr/>
          <p:nvPr/>
        </p:nvSpPr>
        <p:spPr>
          <a:xfrm>
            <a:off x="1547640" y="407664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531" h="21600">
                <a:moveTo>
                  <a:pt x="7239" y="3985"/>
                </a:moveTo>
                <a:lnTo>
                  <a:pt x="14237" y="3985"/>
                </a:lnTo>
                <a:lnTo>
                  <a:pt x="18292" y="7484"/>
                </a:lnTo>
                <a:lnTo>
                  <a:pt x="18292" y="17615"/>
                </a:lnTo>
                <a:lnTo>
                  <a:pt x="7239" y="17615"/>
                </a:lnTo>
                <a:close/>
              </a:path>
              <a:path fill="darken" w="25531" h="21600">
                <a:moveTo>
                  <a:pt x="14237" y="3985"/>
                </a:moveTo>
                <a:lnTo>
                  <a:pt x="18292" y="7484"/>
                </a:lnTo>
                <a:lnTo>
                  <a:pt x="14237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11640" y="400536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531" h="21600">
                <a:moveTo>
                  <a:pt x="7239" y="3985"/>
                </a:moveTo>
                <a:lnTo>
                  <a:pt x="14237" y="3985"/>
                </a:lnTo>
                <a:lnTo>
                  <a:pt x="18292" y="7484"/>
                </a:lnTo>
                <a:lnTo>
                  <a:pt x="18292" y="17615"/>
                </a:lnTo>
                <a:lnTo>
                  <a:pt x="7239" y="17615"/>
                </a:lnTo>
                <a:close/>
              </a:path>
              <a:path fill="darken" w="25531" h="21600">
                <a:moveTo>
                  <a:pt x="14237" y="3985"/>
                </a:moveTo>
                <a:lnTo>
                  <a:pt x="18292" y="7484"/>
                </a:lnTo>
                <a:lnTo>
                  <a:pt x="14237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479736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27640" y="4869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28D-DD50-4389-BCC5-C29101236F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42040" y="851400"/>
            <a:ext cx="7819560" cy="11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Требования, предъявляемые к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еподавателю, работающему с применением ИКТ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5300640"/>
            <a:ext cx="5616360" cy="82548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деть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основами работы</a:t>
            </a:r>
            <a:br>
              <a:rPr sz="2400"/>
            </a:b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в сети Интерн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95640" y="4005360"/>
            <a:ext cx="5545080" cy="82548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еть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навыки работы с мультимедийными программ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2708280"/>
            <a:ext cx="5184720" cy="82548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деть основными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навыками работы на компьюте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D42-3156-486F-9470-81A787EAB3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91000" y="900360"/>
            <a:ext cx="779688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еимущества использования ИКТ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ндивидуализация обуч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нтенсификация самостоятельной работы учащихс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ост объема выполненных на уроке задан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сширение информационных потоков при использовании Inter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e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ышение мотивации и познавательной активности за счет разнообразия форм рабо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592-F1B8-4138-91EA-65771282DC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14680" y="751320"/>
            <a:ext cx="7805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едостатки применения ИК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5950080"/>
            <a:ext cx="6480360" cy="67860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ает ненужными многие умения и навыки и  формы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5300640"/>
            <a:ext cx="5400720" cy="45972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тернет-зависим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4149720"/>
            <a:ext cx="6697800" cy="97092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 гарантии успешной адаптации к запросам и требованиям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ьной сре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421000"/>
            <a:ext cx="6551640" cy="45972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гкость получения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3141720"/>
            <a:ext cx="6048360" cy="82548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ение роли эмоциональных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ств общ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F78-D116-4C45-81B4-0EADDFB70D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адачи преподавател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4869000"/>
            <a:ext cx="5759280" cy="82548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проанализировать воздействия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личность обучаемог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2852640"/>
            <a:ext cx="6553440" cy="155700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равить усилия обучающихся на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самостоятельную выработку новых зна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представляющих собой результат познавательного процесс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7A1-D222-43DF-A375-85121E1420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5636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лучение информации по любой теме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3068280"/>
            <a:ext cx="37702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46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чер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60440" indent="-187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ебни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60440" indent="-187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равочная литерату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60440" indent="-187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кция учите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60440" indent="-187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спект заня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19280" y="2349360"/>
            <a:ext cx="41036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Сегодн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Новые методы подачи информации, например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7320" indent="-344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ронные учебни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7320" indent="-344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ронные энциклопедии и справочни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7320" indent="-344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зентации 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8720" y="2924280"/>
            <a:ext cx="1584360" cy="1368360"/>
          </a:xfrm>
          <a:custGeom>
            <a:avLst/>
            <a:gdLst>
              <a:gd name="textAreaLeft" fmla="*/ 88560 w 1584360"/>
              <a:gd name="textAreaRight" fmla="*/ 1495800 w 15843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009" h="21600">
                <a:moveTo>
                  <a:pt x="6978" y="3985"/>
                </a:moveTo>
                <a:lnTo>
                  <a:pt x="13975" y="3985"/>
                </a:lnTo>
                <a:lnTo>
                  <a:pt x="18031" y="7484"/>
                </a:lnTo>
                <a:lnTo>
                  <a:pt x="18031" y="17615"/>
                </a:lnTo>
                <a:lnTo>
                  <a:pt x="6978" y="17615"/>
                </a:lnTo>
                <a:close/>
              </a:path>
              <a:path fill="darken" w="25009" h="21600">
                <a:moveTo>
                  <a:pt x="13975" y="3985"/>
                </a:moveTo>
                <a:lnTo>
                  <a:pt x="18031" y="7484"/>
                </a:lnTo>
                <a:lnTo>
                  <a:pt x="13975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88000" y="4581360"/>
            <a:ext cx="2376720" cy="1293840"/>
          </a:xfrm>
          <a:custGeom>
            <a:avLst/>
            <a:gdLst>
              <a:gd name="textAreaLeft" fmla="*/ 83880 w 2376720"/>
              <a:gd name="textAreaRight" fmla="*/ 2292840 w 2376720"/>
              <a:gd name="textAreaTop" fmla="*/ 83880 h 1293840"/>
              <a:gd name="textAreaBottom" fmla="*/ 1209960 h 1293840"/>
            </a:gdLst>
            <a:ahLst/>
            <a:rect l="textAreaLeft" t="textAreaTop" r="textAreaRight" b="textAreaBottom"/>
            <a:pathLst>
              <a:path w="39673" h="21600">
                <a:moveTo>
                  <a:pt x="0" y="0"/>
                </a:moveTo>
                <a:lnTo>
                  <a:pt x="39673" y="0"/>
                </a:lnTo>
                <a:lnTo>
                  <a:pt x="39673" y="21600"/>
                </a:lnTo>
                <a:lnTo>
                  <a:pt x="0" y="21600"/>
                </a:lnTo>
                <a:close/>
              </a:path>
              <a:path fill="lightenLess" w="39673" h="21600">
                <a:moveTo>
                  <a:pt x="0" y="0"/>
                </a:moveTo>
                <a:lnTo>
                  <a:pt x="39673" y="0"/>
                </a:lnTo>
                <a:lnTo>
                  <a:pt x="38273" y="1400"/>
                </a:lnTo>
                <a:lnTo>
                  <a:pt x="1400" y="1400"/>
                </a:lnTo>
                <a:close/>
              </a:path>
              <a:path fill="darken" w="39673" h="21600">
                <a:moveTo>
                  <a:pt x="39673" y="0"/>
                </a:moveTo>
                <a:lnTo>
                  <a:pt x="39673" y="21600"/>
                </a:lnTo>
                <a:lnTo>
                  <a:pt x="38273" y="20200"/>
                </a:lnTo>
                <a:lnTo>
                  <a:pt x="38273" y="1400"/>
                </a:lnTo>
                <a:close/>
              </a:path>
              <a:path fill="darkenLess" w="39673" h="21600">
                <a:moveTo>
                  <a:pt x="39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73" y="20200"/>
                </a:lnTo>
                <a:close/>
              </a:path>
              <a:path fill="lighten" w="39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9673" h="21600">
                <a:moveTo>
                  <a:pt x="14310" y="3985"/>
                </a:moveTo>
                <a:lnTo>
                  <a:pt x="21307" y="3985"/>
                </a:lnTo>
                <a:lnTo>
                  <a:pt x="25363" y="7484"/>
                </a:lnTo>
                <a:lnTo>
                  <a:pt x="25363" y="17615"/>
                </a:lnTo>
                <a:lnTo>
                  <a:pt x="14310" y="17615"/>
                </a:lnTo>
                <a:close/>
              </a:path>
              <a:path fill="darken" w="39673" h="21600">
                <a:moveTo>
                  <a:pt x="21307" y="3985"/>
                </a:moveTo>
                <a:lnTo>
                  <a:pt x="25363" y="7484"/>
                </a:lnTo>
                <a:lnTo>
                  <a:pt x="21307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08720" y="3141720"/>
            <a:ext cx="13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Элементы высшей математик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486900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иртуальный учебник по информатик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A83-CEF3-40F9-A9F1-9B136B990B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аключе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2707920"/>
            <a:ext cx="7693200" cy="372420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грамотном применении ИКТ возможно наилучшим образом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подготовить выпускника к профессиональной деятельно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формировать в процессе профессионального образования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целостную личность, способную познавать и совершенствовать себя и окружающий ми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137-17E6-4DA3-ACEE-1B1211DB37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084c"/>
                </a:solidFill>
                <a:latin typeface="Arial"/>
              </a:rPr>
              <a:t>Что такое ИКТ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16000" y="2636640"/>
            <a:ext cx="7693200" cy="372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средствами информационных и коммуникационных технологий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К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будем понимать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ппаратные и программные сред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редназначенные для реализации информационных процессов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 основе использования вычислительной техники и сетевых технологий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9D0-B6BC-4DDA-8955-EBD8450198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Аппаратные средств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К, мультипроектор, колонки, принтер сканер, модем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Программные средств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исный пакет прилож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электронные учебники, обучающие программы, ЦОР, ЭОР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701-8CA2-4C7B-862F-178557039F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70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084c"/>
                </a:solidFill>
                <a:latin typeface="Arial"/>
              </a:rPr>
              <a:t>Цели применения ИКТ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781360"/>
            <a:ext cx="5113080" cy="1544040"/>
          </a:xfrm>
          <a:prstGeom prst="rect">
            <a:avLst/>
          </a:prstGeom>
          <a:solidFill>
            <a:srgbClr val="99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мышления студен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724280"/>
            <a:ext cx="6046560" cy="1544040"/>
          </a:xfrm>
          <a:prstGeom prst="rect">
            <a:avLst/>
          </a:prstGeom>
          <a:solidFill>
            <a:srgbClr val="99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приемов мыслительной деяте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987280" y="1413000"/>
            <a:ext cx="1366920" cy="1368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1413000"/>
            <a:ext cx="2376720" cy="32400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A39-E10F-49C1-A43C-2CE70A0B14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ИКТ необходимо внедрять в процесс обучения дл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708280"/>
            <a:ext cx="4967280" cy="45972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ожительной мотив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3500280"/>
            <a:ext cx="6264360" cy="45972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чшего понимания нового материа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4292640"/>
            <a:ext cx="7524720" cy="45972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чшего запоминания пройденного материа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941720"/>
            <a:ext cx="7095960" cy="119124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ышения интереса к учебным дисциплинам – это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основной мотив современных студен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1BA-E9FD-4650-B70F-8ACC15923A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рименение ИК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58560" y="2421000"/>
            <a:ext cx="7621560" cy="396072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ышает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качество    образ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огащает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содержание материа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ышает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наглядность, эффективн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ирует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ИК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ышает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информационную культур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мотивирует к использованию компьюте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учебной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AE5-38C3-4085-89B5-8243CA6933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рименение ИК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2852640"/>
            <a:ext cx="3888000" cy="119124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вает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творческие способнос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туден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4869000"/>
            <a:ext cx="5328000" cy="119124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вает навыки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использования И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 различных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источников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500280"/>
            <a:ext cx="3814560" cy="82548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ышает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актив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00360" y="1773360"/>
            <a:ext cx="1511280" cy="10062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1773360"/>
            <a:ext cx="1296720" cy="1655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773360"/>
            <a:ext cx="0" cy="3095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967-87A1-489E-ABE6-CB520F0AC2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спользование программ на занятия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объяснении, закреплении или контроле изученного материала и при проведении практических работ на занятиях можно использовать различные типы програм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обучающ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контролирующ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демонстрационны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E74-F48E-4A01-AD6B-54F4DB5EEE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4:24:43Z</dcterms:created>
  <dc:creator>Svetik</dc:creator>
  <dc:description/>
  <dc:language>en-US</dc:language>
  <cp:lastModifiedBy>dom</cp:lastModifiedBy>
  <dcterms:modified xsi:type="dcterms:W3CDTF">2015-02-05T14:34:32Z</dcterms:modified>
  <cp:revision>47</cp:revision>
  <dc:subject/>
  <dc:title>Слайд 1</dc:title>
</cp:coreProperties>
</file>