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E0A-C57D-4FB6-B7E7-D901F6D1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2AC-2509-465F-8471-1FD1BA7C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61F-2B2B-46BC-94A3-6E2342AB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D3D-DA32-498F-A566-433E8BBF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FA7F-FFB7-45B3-870A-C350BC39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279B-4449-4745-881D-A12A00A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29C1-D698-4ACC-88E8-383F5482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B53-A938-48DE-9F46-6469236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3682-2865-46AB-812E-58015D4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D29A-312B-493F-9A3D-7231FDDE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0263-812E-4E09-829C-B895476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63A-7C29-4C7B-B318-781415C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4095-F6D6-4BB8-8FC7-6F7EFC7D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6AE3-D4D0-40FD-B8FC-A75874B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5A1-FBC1-44D2-8413-2CBF7D23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D779-38CF-4859-AB0A-A82675D6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00A5-16FF-4F0C-A332-87223BCC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E1C-FA0B-469D-8E55-011549D0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CC8-B058-4E6F-815E-A4455EE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2E3-3336-44DC-9D51-34DF7895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E96-C59F-47D3-81E9-5DBCDC0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1A4-AAFB-4A03-8B85-2B6E857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138-5283-4F7D-B31A-73BC9B5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5DE-DF85-4CD2-9911-2ADE54D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BBD9-812B-4CF0-A2D4-BDF3E65564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1AE-6EDE-47A7-83CF-6962BC3063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0;&#1040;&#1041;&#1048;&#1053;&#1045;&#1058;%202%20&#1089;&#1077;&#1085;&#1090;/&#1088;&#1072;&#1073;&#1086;&#1095;&#1080;&#1081;%20&#1082;&#1086;&#1084;&#1087;/333%20&#1050;&#1072;&#1090;&#1086;&#1088;&#1075;&#1072;%20&#1057;&#1072;&#1093;&#1072;&#1083;&#1080;&#1085;&#1072;%202.ppt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2009-20010%206%20&#1089;&#1077;&#1085;&#1090;&#1103;&#1073;&#1088;&#1103;/&#1059;&#1052;&#1050;%20&#1054;&#1089;&#1085;&#1086;&#1074;&#1099;%20&#1080;&#1085;&#1092;&#1086;&#1088;&#1084;&#1072;&#1090;&#1080;&#1082;&#1080;/&#1057;&#1088;&#1077;&#1076;&#1089;&#1090;&#1074;&#1072;%20&#1082;&#1086;&#1085;&#1090;&#1088;&#1086;&#1083;&#1103;/&#1090;&#1077;&#1089;&#1090;%20&#1087;&#1086;%20&#1090;&#1077;&#1084;&#1077;%20&#1080;&#1085;&#1092;&#1086;&#1088;&#1084;&#1072;&#1094;&#1080;&#1103;%20&#1080;&#1085;&#1092;&#1086;&#1088;&#1084;&#1072;&#1090;&#1080;&#1082;&#1072;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2009-20010%206%20&#1089;&#1077;&#1085;&#1090;&#1103;&#1073;&#1088;&#1103;/&#1050;&#1083;&#1072;&#1089;&#1089;&#1085;&#1099;&#1081;%20&#1088;&#1091;&#1082;&#1086;&#1074;&#1086;&#1076;&#1080;&#1090;&#1077;&#1083;&#1100;/&#1055;&#1088;&#1077;&#1079;&#1077;&#1085;&#1090;&#1072;&#1094;&#1080;&#1103;%20&#1047;&#1076;&#1086;&#1088;&#1086;&#1074;&#1072;&#1103;%20&#1087;&#1080;&#1097;&#1072;.pp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Применение ИКТ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в учебном процесс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5877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одготовила: С.Н. Стёп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04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БПОУ «Сахалинский промышленно-экономический техникум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16855" b="8314"/>
          <a:stretch/>
        </p:blipFill>
        <p:spPr>
          <a:xfrm rot="432000">
            <a:off x="5940360" y="2420640"/>
            <a:ext cx="2878200" cy="212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МБОУ &quot;СОШ 17&quot; &quot; 2012 &quot; Ноябрь"/>
          <p:cNvPicPr/>
          <p:nvPr/>
        </p:nvPicPr>
        <p:blipFill>
          <a:blip r:embed="rId2"/>
          <a:stretch/>
        </p:blipFill>
        <p:spPr>
          <a:xfrm rot="20697000">
            <a:off x="826920" y="3573360"/>
            <a:ext cx="2516400" cy="26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89E-0DF1-457C-9738-AE5EB21F63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ИФРОВЫЕ ОБРАЗОВАТЕЛЬНЫЕ РЕСУРС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ая истор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ософская энциклопед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философ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 философии (курс лекций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ка. Базовый кур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444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 теор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F0D-5754-43DB-90DD-1F832CDF9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ИФРОВЫЕ ОБРАЗОВАТЕЛЬНЫЕ РЕСУРС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мбрандт и золотой век голландской живопис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литература от Нестора до Маяковског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. Базовый кур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и физики Кирилла и Мефодия (10 клас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и физики Кирилла и Мефодия (11 клас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ки соци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22440" indent="-622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циклопедия пользователя 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522-F43A-4B87-B74A-124B1F4CA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191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объяснительно-иллюстратив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демонстраци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хе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аграм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ы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еофрагментов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43700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еофрагмен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284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3357720"/>
            <a:ext cx="1800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форматика. Информация. Основные термин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3E1-11EF-4609-A3D4-63DE683B80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692360" y="2420640"/>
            <a:ext cx="719136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как инструмент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воляющий обучающимся самостоятельно проводить исследования и эксперимен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4508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1"/>
          </p:cNvPr>
          <p:cNvSpPr/>
          <p:nvPr/>
        </p:nvSpPr>
        <p:spPr>
          <a:xfrm>
            <a:off x="5292720" y="443700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86900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ерат, курсовая раб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4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78E-1F31-4FBC-B598-D4A01B91E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 учебном процесс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189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контролирующ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для проведения самостоятельных работ, ОКР, зачетов и экзаменов в виде тестирования с применением различных технологий, в том числе для самоконтро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>
            <a:hlinkClick r:id="rId1"/>
          </p:cNvPr>
          <p:cNvSpPr/>
          <p:nvPr/>
        </p:nvSpPr>
        <p:spPr>
          <a:xfrm>
            <a:off x="385128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515772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 №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ы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4869000"/>
            <a:ext cx="19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. рабо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лек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ы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472428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4869000"/>
            <a:ext cx="18003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 по правовой информати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4C3-ECAE-4ED1-B0FB-0CF751D64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пособы использования ИКТ во внеурочной деятель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92000" y="2349000"/>
            <a:ext cx="5327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ные час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е декад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rId1"/>
          </p:cNvPr>
          <p:cNvSpPr/>
          <p:nvPr/>
        </p:nvSpPr>
        <p:spPr>
          <a:xfrm>
            <a:off x="1547640" y="407664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4005360"/>
            <a:ext cx="2340000" cy="1979640"/>
          </a:xfrm>
          <a:custGeom>
            <a:avLst/>
            <a:gdLst>
              <a:gd name="textAreaLeft" fmla="*/ 128160 w 2340000"/>
              <a:gd name="textAreaRight" fmla="*/ 2211840 w 2340000"/>
              <a:gd name="textAreaTop" fmla="*/ 128160 h 1979640"/>
              <a:gd name="textAreaBottom" fmla="*/ 1851480 h 1979640"/>
            </a:gdLst>
            <a:ahLst/>
            <a:rect l="textAreaLeft" t="textAreaTop" r="textAreaRight" b="textAreaBottom"/>
            <a:pathLst>
              <a:path w="25531" h="21600">
                <a:moveTo>
                  <a:pt x="0" y="0"/>
                </a:moveTo>
                <a:lnTo>
                  <a:pt x="25531" y="0"/>
                </a:lnTo>
                <a:lnTo>
                  <a:pt x="25531" y="21600"/>
                </a:lnTo>
                <a:lnTo>
                  <a:pt x="0" y="21600"/>
                </a:lnTo>
                <a:close/>
              </a:path>
              <a:path fill="lightenLess" w="25531" h="21600">
                <a:moveTo>
                  <a:pt x="0" y="0"/>
                </a:moveTo>
                <a:lnTo>
                  <a:pt x="25531" y="0"/>
                </a:lnTo>
                <a:lnTo>
                  <a:pt x="24131" y="1400"/>
                </a:lnTo>
                <a:lnTo>
                  <a:pt x="1400" y="1400"/>
                </a:lnTo>
                <a:close/>
              </a:path>
              <a:path fill="darken" w="25531" h="21600">
                <a:moveTo>
                  <a:pt x="25531" y="0"/>
                </a:moveTo>
                <a:lnTo>
                  <a:pt x="25531" y="21600"/>
                </a:lnTo>
                <a:lnTo>
                  <a:pt x="24131" y="20200"/>
                </a:lnTo>
                <a:lnTo>
                  <a:pt x="24131" y="1400"/>
                </a:lnTo>
                <a:close/>
              </a:path>
              <a:path fill="darkenLess" w="25531" h="21600">
                <a:moveTo>
                  <a:pt x="25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1" y="20200"/>
                </a:lnTo>
                <a:close/>
              </a:path>
              <a:path fill="lighten" w="25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531" h="21600">
                <a:moveTo>
                  <a:pt x="7239" y="3985"/>
                </a:moveTo>
                <a:lnTo>
                  <a:pt x="14237" y="3985"/>
                </a:lnTo>
                <a:lnTo>
                  <a:pt x="18292" y="7484"/>
                </a:lnTo>
                <a:lnTo>
                  <a:pt x="18292" y="17615"/>
                </a:lnTo>
                <a:lnTo>
                  <a:pt x="7239" y="17615"/>
                </a:lnTo>
                <a:close/>
              </a:path>
              <a:path fill="darken" w="25531" h="21600">
                <a:moveTo>
                  <a:pt x="14237" y="3985"/>
                </a:moveTo>
                <a:lnTo>
                  <a:pt x="18292" y="7484"/>
                </a:lnTo>
                <a:lnTo>
                  <a:pt x="1423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797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486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420-18E8-4AEE-AC72-7F3CC1455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42040" y="851400"/>
            <a:ext cx="7819560" cy="11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ебования, предъявляемые к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еподавателю, работающему с применением ИКТ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300640"/>
            <a:ext cx="56163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деть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основами работы</a:t>
            </a:r>
            <a:br>
              <a:rPr sz="2400"/>
            </a:b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в сети Интерн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4005360"/>
            <a:ext cx="554508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ть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выки работы с мультимедийными программ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2708280"/>
            <a:ext cx="518472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деть основными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выками работы на компьют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D5B-B062-41C7-848A-966B7DC161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91000" y="900360"/>
            <a:ext cx="779688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имущества использования ИКТ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дивидуализация обу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тенсификация самостоятельной работы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ост объема выполненных на уроке зад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сширение информационных потоков при использовании Inter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ышение мотивации и познавательной активности за счет разнообразия форм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руго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ED3-F532-4638-B322-299D04CF7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14680" y="751320"/>
            <a:ext cx="7805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достатки применения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950080"/>
            <a:ext cx="6480360" cy="6786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ает ненужными многие умения и навыки и  формы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300640"/>
            <a:ext cx="540072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нет-зависим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4149720"/>
            <a:ext cx="6697800" cy="9709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гарантии успешной адаптации к запросам и требования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ьной сре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421000"/>
            <a:ext cx="655164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гкость получения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3141720"/>
            <a:ext cx="60483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роли эмоциональных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 общ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281-9E86-41EC-B823-CDE882EE0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и преподавател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869000"/>
            <a:ext cx="575928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проанализировать воздейств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ичность обучаемог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852640"/>
            <a:ext cx="6553440" cy="15570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авить усилия обучающихся н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амостоятельную выработку новых зн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представляющих собой результат познавательного процес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7EE-D08E-44AD-9F7E-50F1A27C2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56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лучение информации по любой тем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3068280"/>
            <a:ext cx="3770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6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Вчер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равочная литерату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ция уч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60440" indent="-187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пект заня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19280" y="2349360"/>
            <a:ext cx="4103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Сегодн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овые методы подачи информации, 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ные учеб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ные энциклопедии и справоч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-344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зентации 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2924280"/>
            <a:ext cx="1584360" cy="1368360"/>
          </a:xfrm>
          <a:custGeom>
            <a:avLst/>
            <a:gdLst>
              <a:gd name="textAreaLeft" fmla="*/ 88560 w 1584360"/>
              <a:gd name="textAreaRight" fmla="*/ 1495800 w 1584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009" h="21600">
                <a:moveTo>
                  <a:pt x="6978" y="3985"/>
                </a:moveTo>
                <a:lnTo>
                  <a:pt x="13975" y="3985"/>
                </a:lnTo>
                <a:lnTo>
                  <a:pt x="18031" y="7484"/>
                </a:lnTo>
                <a:lnTo>
                  <a:pt x="18031" y="17615"/>
                </a:lnTo>
                <a:lnTo>
                  <a:pt x="6978" y="17615"/>
                </a:lnTo>
                <a:close/>
              </a:path>
              <a:path fill="darken" w="25009" h="21600">
                <a:moveTo>
                  <a:pt x="13975" y="3985"/>
                </a:moveTo>
                <a:lnTo>
                  <a:pt x="18031" y="7484"/>
                </a:lnTo>
                <a:lnTo>
                  <a:pt x="13975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4581360"/>
            <a:ext cx="2376720" cy="129384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3840"/>
              <a:gd name="textAreaBottom" fmla="*/ 1209960 h 1293840"/>
            </a:gdLst>
            <a:ahLst/>
            <a:rect l="textAreaLeft" t="textAreaTop" r="textAreaRight" b="textAreaBottom"/>
            <a:pathLst>
              <a:path w="39673" h="21600">
                <a:moveTo>
                  <a:pt x="0" y="0"/>
                </a:moveTo>
                <a:lnTo>
                  <a:pt x="39673" y="0"/>
                </a:lnTo>
                <a:lnTo>
                  <a:pt x="39673" y="21600"/>
                </a:lnTo>
                <a:lnTo>
                  <a:pt x="0" y="21600"/>
                </a:lnTo>
                <a:close/>
              </a:path>
              <a:path fill="lightenLess" w="39673" h="21600">
                <a:moveTo>
                  <a:pt x="0" y="0"/>
                </a:moveTo>
                <a:lnTo>
                  <a:pt x="39673" y="0"/>
                </a:lnTo>
                <a:lnTo>
                  <a:pt x="38273" y="1400"/>
                </a:lnTo>
                <a:lnTo>
                  <a:pt x="1400" y="1400"/>
                </a:lnTo>
                <a:close/>
              </a:path>
              <a:path fill="darken" w="39673" h="21600">
                <a:moveTo>
                  <a:pt x="39673" y="0"/>
                </a:moveTo>
                <a:lnTo>
                  <a:pt x="39673" y="21600"/>
                </a:lnTo>
                <a:lnTo>
                  <a:pt x="38273" y="20200"/>
                </a:lnTo>
                <a:lnTo>
                  <a:pt x="38273" y="1400"/>
                </a:lnTo>
                <a:close/>
              </a:path>
              <a:path fill="darkenLess" w="39673" h="21600">
                <a:moveTo>
                  <a:pt x="39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73" y="20200"/>
                </a:lnTo>
                <a:close/>
              </a:path>
              <a:path fill="lighten" w="39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9673" h="21600">
                <a:moveTo>
                  <a:pt x="14310" y="3985"/>
                </a:moveTo>
                <a:lnTo>
                  <a:pt x="21307" y="3985"/>
                </a:lnTo>
                <a:lnTo>
                  <a:pt x="25363" y="7484"/>
                </a:lnTo>
                <a:lnTo>
                  <a:pt x="25363" y="17615"/>
                </a:lnTo>
                <a:lnTo>
                  <a:pt x="14310" y="17615"/>
                </a:lnTo>
                <a:close/>
              </a:path>
              <a:path fill="darken" w="39673" h="21600">
                <a:moveTo>
                  <a:pt x="21307" y="3985"/>
                </a:moveTo>
                <a:lnTo>
                  <a:pt x="25363" y="7484"/>
                </a:lnTo>
                <a:lnTo>
                  <a:pt x="21307" y="74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8720" y="314172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Элементы высшей математик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486900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иртуальный учебник по информатик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185-8BB9-4506-ABB6-A2F870453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ключ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2707920"/>
            <a:ext cx="7693200" cy="372420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грамотном применении ИКТ возможно наилучшим образом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подготовить выпускника к профессиональной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формировать в процессе профессионального образовани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целостную личность, способную познавать и совершенствовать себя и окружающий ми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DFA-EF24-4B43-8288-9C2ECC1444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084c"/>
                </a:solidFill>
                <a:latin typeface="Arial"/>
              </a:rPr>
              <a:t>Что такое ИКТ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2636640"/>
            <a:ext cx="7693200" cy="372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99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средствами информационных и коммуникационных технологи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будем понимать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ппаратные и программны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редназначенные для реализации информационных процессов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 основе использования вычислительной техники и сетевых технологий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C10-69FF-432C-A4F1-73138B03A7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Аппаратные средств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К, мультипроектор, колонки, принтер сканер, модем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Программные средств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сный пакет прилож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лектронные учебники, обучающие программы, ЦОР, ЭОР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C21-58FD-4C5F-9EDA-8908723AB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084c"/>
                </a:solidFill>
                <a:latin typeface="Arial"/>
              </a:rPr>
              <a:t>Цели применения ИКТ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781360"/>
            <a:ext cx="5113080" cy="1544040"/>
          </a:xfrm>
          <a:prstGeom prst="rect">
            <a:avLst/>
          </a:prstGeom>
          <a:solidFill>
            <a:srgbClr val="99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 студен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24280"/>
            <a:ext cx="6046560" cy="1544040"/>
          </a:xfrm>
          <a:prstGeom prst="rect">
            <a:avLst/>
          </a:prstGeom>
          <a:solidFill>
            <a:srgbClr val="99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риемов мыслительной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87280" y="1413000"/>
            <a:ext cx="1366920" cy="1368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1413000"/>
            <a:ext cx="2376720" cy="3240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D58-869B-47E3-A953-3A2503F03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ИКТ необходимо внедрять в процесс обучения дл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708280"/>
            <a:ext cx="496728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жительной мотив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500280"/>
            <a:ext cx="626436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чшего понимания нового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4292640"/>
            <a:ext cx="7524720" cy="459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чшего запоминания пройденного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941720"/>
            <a:ext cx="709596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ия интереса к учебным дисциплинам – эт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основной мотив современных 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FAF-3878-4031-BFEA-6CA25A81A3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менение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2421000"/>
            <a:ext cx="7621560" cy="396072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качество    образ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гащ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содержание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наглядность, эффектив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у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К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нформационную культур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мотивирует к использованию компьюте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учебн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79A-C1DA-4094-9BDC-2C9F0187E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именение ИК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852640"/>
            <a:ext cx="388800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творческие способ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869000"/>
            <a:ext cx="5328000" cy="119124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вает навыки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спользования 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различных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источников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500280"/>
            <a:ext cx="3814560" cy="825480"/>
          </a:xfrm>
          <a:prstGeom prst="rect">
            <a:avLst/>
          </a:prstGeom>
          <a:solidFill>
            <a:srgbClr val="99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актив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ден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360" y="1773360"/>
            <a:ext cx="1511280" cy="10062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1773360"/>
            <a:ext cx="1296720" cy="165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773360"/>
            <a:ext cx="0" cy="309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368-7048-42C5-8E36-960A330F9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пользование программ на занятия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объяснении, закреплении или контроле изученного материала и при проведении практических работ на занятиях можно использовать различные типы програм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обучающ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контролирующ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демонстрационны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660-C649-4064-A434-754A931B1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24:43Z</dcterms:created>
  <dc:creator>Svetik</dc:creator>
  <dc:description/>
  <dc:language>en-US</dc:language>
  <cp:lastModifiedBy>dom</cp:lastModifiedBy>
  <dcterms:modified xsi:type="dcterms:W3CDTF">2015-02-05T14:34:32Z</dcterms:modified>
  <cp:revision>47</cp:revision>
  <dc:subject/>
  <dc:title>Слайд 1</dc:title>
</cp:coreProperties>
</file>