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2BC-D40B-4920-BE40-2F7A23D5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390-DF52-4382-81A9-6AA8FB7D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794-B06E-4A62-9E89-5F2B895D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23C-5E12-4EB0-9B8B-5C81B47B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DEA-B30B-435D-AA2C-6C1F9D20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436-447B-4217-BDBD-D51CC099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38B-7F47-4931-B82C-4E3A2991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5568-182A-4D7C-8ABB-016AFFBE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D2C-D5EA-468B-BA7D-5AE260AE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98B-F4C1-4320-8C3A-4BA94D80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9F3-BEEF-4ECB-8AA9-9CC63181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FA7-9D4C-4D42-A0DD-1CCF24B8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668A-81F7-4DC5-A249-816711869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solidFill>
            <a:srgbClr val="f2ace5"/>
          </a:solidFill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Проект «Моя мама лучше все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ЕЛЬ: 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питывать чувство глубокой любви и привязанности к самому близкому и родному человеку – ма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: Углубить знания детей о роли мамы в их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интерес ребенка к своим близ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ывать доброе, заботливое отношение к ма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article996.jpg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13:34:41Z</dcterms:created>
  <dc:creator>buh04</dc:creator>
  <dc:description/>
  <dc:language>en-US</dc:language>
  <cp:lastModifiedBy>buh04</cp:lastModifiedBy>
  <dcterms:modified xsi:type="dcterms:W3CDTF">2015-01-22T13:37:30Z</dcterms:modified>
  <cp:revision>2</cp:revision>
  <dc:subject/>
  <dc:title>Проект «Моя мама лучше всех»</dc:title>
</cp:coreProperties>
</file>