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5FC53-8945-4DFA-8F06-1F5B47335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6B57B-1A3D-4C04-AA25-EEDDA8F52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0FE12-FB47-419C-8830-F450D1359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A2A46-948D-4EB6-87E9-79D2D958F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BF8AE-508F-482C-88FC-5F4339E41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833B8-C42E-4E8E-8849-FA14EBE29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318A5-B389-4B96-8E37-888B18FAA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957B4-36E9-4F23-84B6-DF2144FF5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A52B3-4979-4C96-8536-5A82ABD09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161B1-F63D-4F85-9538-396B54A62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6D914-9A4A-43A0-84FD-E64451314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BDFB0-35A5-4C5A-88CB-EEA6D2F28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1D957-C76F-4385-88A5-468B3A1DBB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993960"/>
          </a:xfrm>
          <a:prstGeom prst="rect">
            <a:avLst/>
          </a:prstGeom>
          <a:solidFill>
            <a:srgbClr val="f2ace5"/>
          </a:solidFill>
          <a:ln w="9360">
            <a:solidFill>
              <a:srgbClr val="ff006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 u="sng">
                <a:solidFill>
                  <a:srgbClr val="0000ff"/>
                </a:solidFill>
                <a:uFillTx/>
                <a:latin typeface="Arial"/>
              </a:rPr>
              <a:t>Проект «Моя мама лучше всех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482436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ЦЕЛЬ: 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спитывать чувство глубокой любви и привязанности к самому близкому и родному человеку – мам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АДАЧИ: Углубить знания детей о роли мамы в их жизн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звивать интерес ребенка к своим близк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оспитывать доброе, заботливое отношение к мам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Рисунок 1" descr="article996.jpg"/>
          <p:cNvPicPr/>
          <p:nvPr/>
        </p:nvPicPr>
        <p:blipFill>
          <a:blip r:embed="rId1"/>
          <a:stretch/>
        </p:blipFill>
        <p:spPr>
          <a:xfrm>
            <a:off x="324000" y="333360"/>
            <a:ext cx="842472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69960" y="274680"/>
            <a:ext cx="780264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669960" y="274680"/>
            <a:ext cx="780264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457200" y="3938760"/>
            <a:ext cx="4038480" cy="21873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4648320" y="3938760"/>
            <a:ext cx="403848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457200" y="3938760"/>
            <a:ext cx="4038480" cy="2187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4648320" y="3938760"/>
            <a:ext cx="403848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457200" y="3938760"/>
            <a:ext cx="4038480" cy="2187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4"/>
          <a:stretch/>
        </p:blipFill>
        <p:spPr>
          <a:xfrm>
            <a:off x="4648320" y="3938760"/>
            <a:ext cx="403848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22T13:34:41Z</dcterms:created>
  <dc:creator>buh04</dc:creator>
  <dc:description/>
  <dc:language>en-US</dc:language>
  <cp:lastModifiedBy>buh04</cp:lastModifiedBy>
  <dcterms:modified xsi:type="dcterms:W3CDTF">2015-01-22T13:37:30Z</dcterms:modified>
  <cp:revision>2</cp:revision>
  <dc:subject/>
  <dc:title>Проект «Моя мама лучше всех»</dc:title>
</cp:coreProperties>
</file>